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2.jpeg" ContentType="image/jpeg"/>
  <Override PartName="/ppt/media/image5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explode.wav" ContentType="audio/x-wav"/>
  <Override PartName="/ppt/media/image3.jpeg" ContentType="image/jpeg"/>
  <Override PartName="/ppt/media/image15.png" ContentType="image/png"/>
  <Override PartName="/ppt/media/image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35C3-F8C0-474E-977A-D87422ADA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4D4A-C7C0-44C2-ACC4-9EFF73F09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Times New Roman"/>
              </a:rPr>
              <a:t>Hyperlink page to right and wrong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B82C-4375-4DA5-95BB-1004462CF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Times New Roman"/>
              </a:rPr>
              <a:t>Hyperlink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6420-F1B9-4B79-8DFB-6D61853BE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   Direction of the magnetic field at point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49DB-A4E8-49BB-B541-86361D182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   Direction of the magnetic field at point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1A8D-1D2C-4D88-812D-B26AD884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69F1-1B2A-4356-BA51-37CFB934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04BA-D72A-4EF0-831C-07242236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A90-3FC0-4848-AA92-3FE4F184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8A9A-D421-4886-A864-66C30949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B707-2CA3-4F7A-B6C0-38EF605A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6A3E-4AFA-4FD4-A371-FC89C5B5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8F7-CD98-47E5-9B04-3052887C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D40A-229D-42B3-8BAE-6BBF027F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E77-FFDF-4E76-8A4C-978E72E1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C043-E20A-4048-B0F2-F43BCFF7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C070-0FCF-4C91-8776-11138FAF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70E5-F951-4FCB-91D6-14A847757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4.wmf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4.wmf"/><Relationship Id="rId3" Type="http://schemas.openxmlformats.org/officeDocument/2006/relationships/image" Target="../media/image20.png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27" descr="Copy (2) of fieldlines"/>
          <p:cNvPicPr/>
          <p:nvPr/>
        </p:nvPicPr>
        <p:blipFill>
          <a:blip r:embed="rId1"/>
          <a:stretch/>
        </p:blipFill>
        <p:spPr>
          <a:xfrm>
            <a:off x="304920" y="1844640"/>
            <a:ext cx="5968800" cy="5013360"/>
          </a:xfrm>
          <a:prstGeom prst="rect">
            <a:avLst/>
          </a:prstGeom>
          <a:ln w="0">
            <a:noFill/>
          </a:ln>
        </p:spPr>
      </p:pic>
      <p:sp>
        <p:nvSpPr>
          <p:cNvPr id="50" name="SMARTInkShape-1"/>
          <p:cNvSpPr/>
          <p:nvPr/>
        </p:nvSpPr>
        <p:spPr>
          <a:xfrm>
            <a:off x="3894120" y="3979800"/>
            <a:ext cx="592200" cy="754200"/>
          </a:xfrm>
          <a:custGeom>
            <a:avLst/>
            <a:gdLst>
              <a:gd name="textAreaLeft" fmla="*/ 0 w 592200"/>
              <a:gd name="textAreaRight" fmla="*/ 592560 w 59220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592231" h="754903">
                <a:moveTo>
                  <a:pt x="456997" y="170915"/>
                </a:moveTo>
                <a:lnTo>
                  <a:pt x="456997" y="153387"/>
                </a:lnTo>
                <a:lnTo>
                  <a:pt x="452763" y="143016"/>
                </a:lnTo>
                <a:lnTo>
                  <a:pt x="431588" y="111708"/>
                </a:lnTo>
                <a:lnTo>
                  <a:pt x="403662" y="76376"/>
                </a:lnTo>
                <a:lnTo>
                  <a:pt x="382456" y="58237"/>
                </a:lnTo>
                <a:lnTo>
                  <a:pt x="354431" y="41677"/>
                </a:lnTo>
                <a:lnTo>
                  <a:pt x="327212" y="29523"/>
                </a:lnTo>
                <a:lnTo>
                  <a:pt x="294011" y="15867"/>
                </a:lnTo>
                <a:lnTo>
                  <a:pt x="266623" y="5559"/>
                </a:lnTo>
                <a:lnTo>
                  <a:pt x="235842" y="1270"/>
                </a:lnTo>
                <a:lnTo>
                  <a:pt x="201587" y="0"/>
                </a:lnTo>
                <a:lnTo>
                  <a:pt x="166302" y="3416"/>
                </a:lnTo>
                <a:lnTo>
                  <a:pt x="134504" y="9455"/>
                </a:lnTo>
                <a:lnTo>
                  <a:pt x="104974" y="20064"/>
                </a:lnTo>
                <a:lnTo>
                  <a:pt x="74658" y="40415"/>
                </a:lnTo>
                <a:lnTo>
                  <a:pt x="49166" y="66182"/>
                </a:lnTo>
                <a:lnTo>
                  <a:pt x="28716" y="100426"/>
                </a:lnTo>
                <a:lnTo>
                  <a:pt x="13182" y="133972"/>
                </a:lnTo>
                <a:lnTo>
                  <a:pt x="4998" y="160057"/>
                </a:lnTo>
                <a:lnTo>
                  <a:pt x="1338" y="191687"/>
                </a:lnTo>
                <a:lnTo>
                  <a:pt x="482" y="216659"/>
                </a:lnTo>
                <a:lnTo>
                  <a:pt x="0" y="251144"/>
                </a:lnTo>
                <a:lnTo>
                  <a:pt x="1974" y="280676"/>
                </a:lnTo>
                <a:lnTo>
                  <a:pt x="7585" y="310328"/>
                </a:lnTo>
                <a:lnTo>
                  <a:pt x="14275" y="340545"/>
                </a:lnTo>
                <a:lnTo>
                  <a:pt x="21285" y="371194"/>
                </a:lnTo>
                <a:lnTo>
                  <a:pt x="33142" y="406692"/>
                </a:lnTo>
                <a:lnTo>
                  <a:pt x="44777" y="439474"/>
                </a:lnTo>
                <a:lnTo>
                  <a:pt x="57574" y="467975"/>
                </a:lnTo>
                <a:lnTo>
                  <a:pt x="72328" y="498939"/>
                </a:lnTo>
                <a:lnTo>
                  <a:pt x="87796" y="527986"/>
                </a:lnTo>
                <a:lnTo>
                  <a:pt x="101434" y="556654"/>
                </a:lnTo>
                <a:lnTo>
                  <a:pt x="122973" y="585248"/>
                </a:lnTo>
                <a:lnTo>
                  <a:pt x="145879" y="618854"/>
                </a:lnTo>
                <a:lnTo>
                  <a:pt x="178019" y="650208"/>
                </a:lnTo>
                <a:lnTo>
                  <a:pt x="208014" y="681560"/>
                </a:lnTo>
                <a:lnTo>
                  <a:pt x="242822" y="706522"/>
                </a:lnTo>
                <a:lnTo>
                  <a:pt x="278421" y="725576"/>
                </a:lnTo>
                <a:lnTo>
                  <a:pt x="314124" y="743676"/>
                </a:lnTo>
                <a:lnTo>
                  <a:pt x="339346" y="751608"/>
                </a:lnTo>
                <a:lnTo>
                  <a:pt x="363962" y="754438"/>
                </a:lnTo>
                <a:lnTo>
                  <a:pt x="390248" y="754902"/>
                </a:lnTo>
                <a:lnTo>
                  <a:pt x="418434" y="750701"/>
                </a:lnTo>
                <a:lnTo>
                  <a:pt x="449291" y="742170"/>
                </a:lnTo>
                <a:lnTo>
                  <a:pt x="478317" y="732842"/>
                </a:lnTo>
                <a:lnTo>
                  <a:pt x="490550" y="723872"/>
                </a:lnTo>
                <a:lnTo>
                  <a:pt x="521153" y="696758"/>
                </a:lnTo>
                <a:lnTo>
                  <a:pt x="536419" y="677293"/>
                </a:lnTo>
                <a:lnTo>
                  <a:pt x="551208" y="647266"/>
                </a:lnTo>
                <a:lnTo>
                  <a:pt x="562434" y="620295"/>
                </a:lnTo>
                <a:lnTo>
                  <a:pt x="570787" y="592196"/>
                </a:lnTo>
                <a:lnTo>
                  <a:pt x="578290" y="563762"/>
                </a:lnTo>
                <a:lnTo>
                  <a:pt x="583423" y="535229"/>
                </a:lnTo>
                <a:lnTo>
                  <a:pt x="587061" y="506666"/>
                </a:lnTo>
                <a:lnTo>
                  <a:pt x="591049" y="475978"/>
                </a:lnTo>
                <a:lnTo>
                  <a:pt x="592230" y="443866"/>
                </a:lnTo>
                <a:lnTo>
                  <a:pt x="590464" y="412127"/>
                </a:lnTo>
                <a:lnTo>
                  <a:pt x="584913" y="379704"/>
                </a:lnTo>
                <a:lnTo>
                  <a:pt x="578242" y="349989"/>
                </a:lnTo>
                <a:lnTo>
                  <a:pt x="571238" y="318959"/>
                </a:lnTo>
                <a:lnTo>
                  <a:pt x="564136" y="286746"/>
                </a:lnTo>
                <a:lnTo>
                  <a:pt x="554887" y="257094"/>
                </a:lnTo>
                <a:lnTo>
                  <a:pt x="537540" y="222422"/>
                </a:lnTo>
                <a:lnTo>
                  <a:pt x="518033" y="187733"/>
                </a:lnTo>
                <a:lnTo>
                  <a:pt x="488935" y="153609"/>
                </a:lnTo>
                <a:lnTo>
                  <a:pt x="463394" y="129044"/>
                </a:lnTo>
                <a:lnTo>
                  <a:pt x="433301" y="112785"/>
                </a:lnTo>
                <a:lnTo>
                  <a:pt x="400811" y="98313"/>
                </a:lnTo>
                <a:lnTo>
                  <a:pt x="365759" y="93514"/>
                </a:lnTo>
                <a:lnTo>
                  <a:pt x="337712" y="94271"/>
                </a:lnTo>
                <a:lnTo>
                  <a:pt x="309293" y="103050"/>
                </a:lnTo>
                <a:lnTo>
                  <a:pt x="280765" y="112618"/>
                </a:lnTo>
                <a:lnTo>
                  <a:pt x="251410" y="129829"/>
                </a:lnTo>
                <a:lnTo>
                  <a:pt x="218723" y="150010"/>
                </a:lnTo>
                <a:lnTo>
                  <a:pt x="189370" y="171865"/>
                </a:lnTo>
                <a:lnTo>
                  <a:pt x="159834" y="207292"/>
                </a:lnTo>
                <a:lnTo>
                  <a:pt x="141407" y="237520"/>
                </a:lnTo>
                <a:lnTo>
                  <a:pt x="125099" y="271612"/>
                </a:lnTo>
                <a:lnTo>
                  <a:pt x="117357" y="304732"/>
                </a:lnTo>
                <a:lnTo>
                  <a:pt x="117179" y="338887"/>
                </a:lnTo>
                <a:lnTo>
                  <a:pt x="120229" y="363838"/>
                </a:lnTo>
                <a:lnTo>
                  <a:pt x="126409" y="394941"/>
                </a:lnTo>
                <a:lnTo>
                  <a:pt x="135528" y="42809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MARTInkShape-2"/>
          <p:cNvSpPr/>
          <p:nvPr/>
        </p:nvSpPr>
        <p:spPr>
          <a:xfrm>
            <a:off x="4722840" y="3065400"/>
            <a:ext cx="114120" cy="262080"/>
          </a:xfrm>
          <a:custGeom>
            <a:avLst/>
            <a:gdLst>
              <a:gd name="textAreaLeft" fmla="*/ 0 w 114120"/>
              <a:gd name="textAreaRight" fmla="*/ 114480 w 1141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14007" h="263188">
                <a:moveTo>
                  <a:pt x="21137" y="57139"/>
                </a:moveTo>
                <a:lnTo>
                  <a:pt x="14986" y="57139"/>
                </a:lnTo>
                <a:lnTo>
                  <a:pt x="20231" y="63290"/>
                </a:lnTo>
                <a:lnTo>
                  <a:pt x="21057" y="70346"/>
                </a:lnTo>
                <a:lnTo>
                  <a:pt x="21135" y="88191"/>
                </a:lnTo>
                <a:lnTo>
                  <a:pt x="14434" y="121622"/>
                </a:lnTo>
                <a:lnTo>
                  <a:pt x="14019" y="154781"/>
                </a:lnTo>
                <a:lnTo>
                  <a:pt x="20477" y="188108"/>
                </a:lnTo>
                <a:lnTo>
                  <a:pt x="21098" y="221445"/>
                </a:lnTo>
                <a:lnTo>
                  <a:pt x="20326" y="230176"/>
                </a:lnTo>
                <a:lnTo>
                  <a:pt x="14984" y="244840"/>
                </a:lnTo>
                <a:lnTo>
                  <a:pt x="14001" y="263187"/>
                </a:lnTo>
                <a:lnTo>
                  <a:pt x="13993" y="230305"/>
                </a:lnTo>
                <a:lnTo>
                  <a:pt x="13993" y="195132"/>
                </a:lnTo>
                <a:lnTo>
                  <a:pt x="7511" y="161907"/>
                </a:lnTo>
                <a:lnTo>
                  <a:pt x="6875" y="127606"/>
                </a:lnTo>
                <a:lnTo>
                  <a:pt x="6057" y="102333"/>
                </a:lnTo>
                <a:lnTo>
                  <a:pt x="0" y="80304"/>
                </a:lnTo>
                <a:lnTo>
                  <a:pt x="1953" y="77224"/>
                </a:lnTo>
                <a:lnTo>
                  <a:pt x="6765" y="71527"/>
                </a:lnTo>
                <a:lnTo>
                  <a:pt x="6825" y="75248"/>
                </a:lnTo>
                <a:lnTo>
                  <a:pt x="8955" y="79210"/>
                </a:lnTo>
                <a:lnTo>
                  <a:pt x="11754" y="83617"/>
                </a:lnTo>
                <a:lnTo>
                  <a:pt x="14123" y="90561"/>
                </a:lnTo>
                <a:lnTo>
                  <a:pt x="25326" y="109681"/>
                </a:lnTo>
                <a:lnTo>
                  <a:pt x="38109" y="140814"/>
                </a:lnTo>
                <a:lnTo>
                  <a:pt x="43275" y="158804"/>
                </a:lnTo>
                <a:lnTo>
                  <a:pt x="58546" y="177203"/>
                </a:lnTo>
                <a:lnTo>
                  <a:pt x="67313" y="201072"/>
                </a:lnTo>
                <a:lnTo>
                  <a:pt x="92159" y="228167"/>
                </a:lnTo>
                <a:lnTo>
                  <a:pt x="98689" y="228552"/>
                </a:lnTo>
                <a:lnTo>
                  <a:pt x="99032" y="227771"/>
                </a:lnTo>
                <a:lnTo>
                  <a:pt x="99710" y="194796"/>
                </a:lnTo>
                <a:lnTo>
                  <a:pt x="99717" y="162844"/>
                </a:lnTo>
                <a:lnTo>
                  <a:pt x="101835" y="134039"/>
                </a:lnTo>
                <a:lnTo>
                  <a:pt x="106421" y="98364"/>
                </a:lnTo>
                <a:lnTo>
                  <a:pt x="106823" y="64766"/>
                </a:lnTo>
                <a:lnTo>
                  <a:pt x="106860" y="30973"/>
                </a:lnTo>
                <a:lnTo>
                  <a:pt x="106862" y="1437"/>
                </a:lnTo>
                <a:lnTo>
                  <a:pt x="107656" y="954"/>
                </a:lnTo>
                <a:lnTo>
                  <a:pt x="113919" y="0"/>
                </a:lnTo>
                <a:lnTo>
                  <a:pt x="114006" y="71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MARTInkShape-3"/>
          <p:cNvSpPr/>
          <p:nvPr/>
        </p:nvSpPr>
        <p:spPr>
          <a:xfrm>
            <a:off x="4694400" y="5072040"/>
            <a:ext cx="163440" cy="255600"/>
          </a:xfrm>
          <a:custGeom>
            <a:avLst/>
            <a:gdLst>
              <a:gd name="textAreaLeft" fmla="*/ 0 w 163440"/>
              <a:gd name="textAreaRight" fmla="*/ 163800 w 16344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64307" h="255777">
                <a:moveTo>
                  <a:pt x="164306" y="49702"/>
                </a:moveTo>
                <a:lnTo>
                  <a:pt x="164306" y="36433"/>
                </a:lnTo>
                <a:lnTo>
                  <a:pt x="147513" y="18648"/>
                </a:lnTo>
                <a:lnTo>
                  <a:pt x="136665" y="11573"/>
                </a:lnTo>
                <a:lnTo>
                  <a:pt x="123396" y="8241"/>
                </a:lnTo>
                <a:lnTo>
                  <a:pt x="105484" y="6322"/>
                </a:lnTo>
                <a:lnTo>
                  <a:pt x="91362" y="1240"/>
                </a:lnTo>
                <a:lnTo>
                  <a:pt x="73521" y="0"/>
                </a:lnTo>
                <a:lnTo>
                  <a:pt x="66278" y="1948"/>
                </a:lnTo>
                <a:lnTo>
                  <a:pt x="60413" y="4665"/>
                </a:lnTo>
                <a:lnTo>
                  <a:pt x="52648" y="6989"/>
                </a:lnTo>
                <a:lnTo>
                  <a:pt x="39498" y="17456"/>
                </a:lnTo>
                <a:lnTo>
                  <a:pt x="37398" y="21612"/>
                </a:lnTo>
                <a:lnTo>
                  <a:pt x="36050" y="30748"/>
                </a:lnTo>
                <a:lnTo>
                  <a:pt x="43013" y="53808"/>
                </a:lnTo>
                <a:lnTo>
                  <a:pt x="52623" y="65976"/>
                </a:lnTo>
                <a:lnTo>
                  <a:pt x="77346" y="97443"/>
                </a:lnTo>
                <a:lnTo>
                  <a:pt x="103123" y="130671"/>
                </a:lnTo>
                <a:lnTo>
                  <a:pt x="122510" y="154478"/>
                </a:lnTo>
                <a:lnTo>
                  <a:pt x="142824" y="186922"/>
                </a:lnTo>
                <a:lnTo>
                  <a:pt x="147887" y="198045"/>
                </a:lnTo>
                <a:lnTo>
                  <a:pt x="149894" y="226234"/>
                </a:lnTo>
                <a:lnTo>
                  <a:pt x="149982" y="236504"/>
                </a:lnTo>
                <a:lnTo>
                  <a:pt x="149200" y="238531"/>
                </a:lnTo>
                <a:lnTo>
                  <a:pt x="147885" y="239882"/>
                </a:lnTo>
                <a:lnTo>
                  <a:pt x="142243" y="243899"/>
                </a:lnTo>
                <a:lnTo>
                  <a:pt x="137831" y="247137"/>
                </a:lnTo>
                <a:lnTo>
                  <a:pt x="133225" y="248576"/>
                </a:lnTo>
                <a:lnTo>
                  <a:pt x="131679" y="249753"/>
                </a:lnTo>
                <a:lnTo>
                  <a:pt x="129961" y="253178"/>
                </a:lnTo>
                <a:lnTo>
                  <a:pt x="127916" y="254409"/>
                </a:lnTo>
                <a:lnTo>
                  <a:pt x="121410" y="255776"/>
                </a:lnTo>
                <a:lnTo>
                  <a:pt x="115343" y="254268"/>
                </a:lnTo>
                <a:lnTo>
                  <a:pt x="110001" y="251744"/>
                </a:lnTo>
                <a:lnTo>
                  <a:pt x="74797" y="240943"/>
                </a:lnTo>
                <a:lnTo>
                  <a:pt x="68915" y="239108"/>
                </a:lnTo>
                <a:lnTo>
                  <a:pt x="60262" y="232836"/>
                </a:lnTo>
                <a:lnTo>
                  <a:pt x="48811" y="222497"/>
                </a:lnTo>
                <a:lnTo>
                  <a:pt x="40744" y="216193"/>
                </a:lnTo>
                <a:lnTo>
                  <a:pt x="26980" y="201328"/>
                </a:lnTo>
                <a:lnTo>
                  <a:pt x="13002" y="190513"/>
                </a:lnTo>
                <a:lnTo>
                  <a:pt x="9747" y="185574"/>
                </a:lnTo>
                <a:lnTo>
                  <a:pt x="7507" y="180733"/>
                </a:lnTo>
                <a:lnTo>
                  <a:pt x="0" y="17114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SMARTInkShape-Group4"/>
          <p:cNvGrpSpPr/>
          <p:nvPr/>
        </p:nvGrpSpPr>
        <p:grpSpPr>
          <a:xfrm>
            <a:off x="3486240" y="4122720"/>
            <a:ext cx="108000" cy="192240"/>
            <a:chOff x="3486240" y="4122720"/>
            <a:chExt cx="108000" cy="192240"/>
          </a:xfrm>
        </p:grpSpPr>
        <p:sp>
          <p:nvSpPr>
            <p:cNvPr id="54" name="SMARTInkShape-4"/>
            <p:cNvSpPr/>
            <p:nvPr/>
          </p:nvSpPr>
          <p:spPr>
            <a:xfrm>
              <a:off x="3500640" y="4122720"/>
              <a:ext cx="93600" cy="1922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92843" h="192710">
                  <a:moveTo>
                    <a:pt x="35692" y="92742"/>
                  </a:moveTo>
                  <a:lnTo>
                    <a:pt x="35692" y="102684"/>
                  </a:lnTo>
                  <a:lnTo>
                    <a:pt x="33576" y="107215"/>
                  </a:lnTo>
                  <a:lnTo>
                    <a:pt x="23507" y="125457"/>
                  </a:lnTo>
                  <a:lnTo>
                    <a:pt x="16323" y="148593"/>
                  </a:lnTo>
                  <a:lnTo>
                    <a:pt x="14383" y="158046"/>
                  </a:lnTo>
                  <a:lnTo>
                    <a:pt x="8788" y="172698"/>
                  </a:lnTo>
                  <a:lnTo>
                    <a:pt x="7447" y="186852"/>
                  </a:lnTo>
                  <a:lnTo>
                    <a:pt x="6544" y="188819"/>
                  </a:lnTo>
                  <a:lnTo>
                    <a:pt x="5147" y="190131"/>
                  </a:lnTo>
                  <a:lnTo>
                    <a:pt x="63" y="192709"/>
                  </a:lnTo>
                  <a:lnTo>
                    <a:pt x="0" y="185156"/>
                  </a:lnTo>
                  <a:lnTo>
                    <a:pt x="2102" y="179323"/>
                  </a:lnTo>
                  <a:lnTo>
                    <a:pt x="3774" y="176656"/>
                  </a:lnTo>
                  <a:lnTo>
                    <a:pt x="6127" y="165318"/>
                  </a:lnTo>
                  <a:lnTo>
                    <a:pt x="7030" y="131726"/>
                  </a:lnTo>
                  <a:lnTo>
                    <a:pt x="13260" y="96193"/>
                  </a:lnTo>
                  <a:lnTo>
                    <a:pt x="24116" y="60491"/>
                  </a:lnTo>
                  <a:lnTo>
                    <a:pt x="33199" y="26924"/>
                  </a:lnTo>
                  <a:lnTo>
                    <a:pt x="35747" y="17501"/>
                  </a:lnTo>
                  <a:lnTo>
                    <a:pt x="41200" y="7206"/>
                  </a:lnTo>
                  <a:lnTo>
                    <a:pt x="42513" y="1321"/>
                  </a:lnTo>
                  <a:lnTo>
                    <a:pt x="43414" y="839"/>
                  </a:lnTo>
                  <a:lnTo>
                    <a:pt x="48958" y="0"/>
                  </a:lnTo>
                  <a:lnTo>
                    <a:pt x="49299" y="751"/>
                  </a:lnTo>
                  <a:lnTo>
                    <a:pt x="50756" y="23917"/>
                  </a:lnTo>
                  <a:lnTo>
                    <a:pt x="55631" y="37284"/>
                  </a:lnTo>
                  <a:lnTo>
                    <a:pt x="57036" y="69028"/>
                  </a:lnTo>
                  <a:lnTo>
                    <a:pt x="64394" y="101479"/>
                  </a:lnTo>
                  <a:lnTo>
                    <a:pt x="69790" y="115663"/>
                  </a:lnTo>
                  <a:lnTo>
                    <a:pt x="71484" y="123566"/>
                  </a:lnTo>
                  <a:lnTo>
                    <a:pt x="76923" y="135108"/>
                  </a:lnTo>
                  <a:lnTo>
                    <a:pt x="77467" y="137654"/>
                  </a:lnTo>
                  <a:lnTo>
                    <a:pt x="85767" y="153841"/>
                  </a:lnTo>
                  <a:lnTo>
                    <a:pt x="87331" y="154906"/>
                  </a:lnTo>
                  <a:lnTo>
                    <a:pt x="92842" y="1570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MARTInkShape-5"/>
            <p:cNvSpPr/>
            <p:nvPr/>
          </p:nvSpPr>
          <p:spPr>
            <a:xfrm>
              <a:off x="3486240" y="4215240"/>
              <a:ext cx="93600" cy="284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92870" h="28576">
                  <a:moveTo>
                    <a:pt x="0" y="0"/>
                  </a:moveTo>
                  <a:lnTo>
                    <a:pt x="0" y="6150"/>
                  </a:lnTo>
                  <a:lnTo>
                    <a:pt x="794" y="6481"/>
                  </a:lnTo>
                  <a:lnTo>
                    <a:pt x="3792" y="6849"/>
                  </a:lnTo>
                  <a:lnTo>
                    <a:pt x="7771" y="9129"/>
                  </a:lnTo>
                  <a:lnTo>
                    <a:pt x="9943" y="10848"/>
                  </a:lnTo>
                  <a:lnTo>
                    <a:pt x="16590" y="12759"/>
                  </a:lnTo>
                  <a:lnTo>
                    <a:pt x="50836" y="19807"/>
                  </a:lnTo>
                  <a:lnTo>
                    <a:pt x="69567" y="23066"/>
                  </a:lnTo>
                  <a:lnTo>
                    <a:pt x="92869" y="285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SMARTInkShape-6"/>
          <p:cNvSpPr/>
          <p:nvPr/>
        </p:nvSpPr>
        <p:spPr>
          <a:xfrm>
            <a:off x="4535640" y="4159080"/>
            <a:ext cx="136440" cy="204840"/>
          </a:xfrm>
          <a:custGeom>
            <a:avLst/>
            <a:gdLst>
              <a:gd name="textAreaLeft" fmla="*/ 0 w 136440"/>
              <a:gd name="textAreaRight" fmla="*/ 136440 w 1364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35696" h="205310">
                <a:moveTo>
                  <a:pt x="0" y="5703"/>
                </a:moveTo>
                <a:lnTo>
                  <a:pt x="0" y="9495"/>
                </a:lnTo>
                <a:lnTo>
                  <a:pt x="794" y="10613"/>
                </a:lnTo>
                <a:lnTo>
                  <a:pt x="2117" y="11358"/>
                </a:lnTo>
                <a:lnTo>
                  <a:pt x="3792" y="11854"/>
                </a:lnTo>
                <a:lnTo>
                  <a:pt x="4910" y="12979"/>
                </a:lnTo>
                <a:lnTo>
                  <a:pt x="12668" y="32936"/>
                </a:lnTo>
                <a:lnTo>
                  <a:pt x="15924" y="43141"/>
                </a:lnTo>
                <a:lnTo>
                  <a:pt x="18984" y="51711"/>
                </a:lnTo>
                <a:lnTo>
                  <a:pt x="26942" y="84329"/>
                </a:lnTo>
                <a:lnTo>
                  <a:pt x="30208" y="98585"/>
                </a:lnTo>
                <a:lnTo>
                  <a:pt x="34086" y="112863"/>
                </a:lnTo>
                <a:lnTo>
                  <a:pt x="35676" y="147951"/>
                </a:lnTo>
                <a:lnTo>
                  <a:pt x="35719" y="176035"/>
                </a:lnTo>
                <a:lnTo>
                  <a:pt x="35719" y="166483"/>
                </a:lnTo>
                <a:lnTo>
                  <a:pt x="33602" y="162356"/>
                </a:lnTo>
                <a:lnTo>
                  <a:pt x="31927" y="160145"/>
                </a:lnTo>
                <a:lnTo>
                  <a:pt x="30065" y="153454"/>
                </a:lnTo>
                <a:lnTo>
                  <a:pt x="28633" y="123221"/>
                </a:lnTo>
                <a:lnTo>
                  <a:pt x="29374" y="89643"/>
                </a:lnTo>
                <a:lnTo>
                  <a:pt x="35278" y="55744"/>
                </a:lnTo>
                <a:lnTo>
                  <a:pt x="36455" y="36811"/>
                </a:lnTo>
                <a:lnTo>
                  <a:pt x="41405" y="24887"/>
                </a:lnTo>
                <a:lnTo>
                  <a:pt x="59568" y="3420"/>
                </a:lnTo>
                <a:lnTo>
                  <a:pt x="64310" y="720"/>
                </a:lnTo>
                <a:lnTo>
                  <a:pt x="66686" y="0"/>
                </a:lnTo>
                <a:lnTo>
                  <a:pt x="69063" y="314"/>
                </a:lnTo>
                <a:lnTo>
                  <a:pt x="98523" y="13360"/>
                </a:lnTo>
                <a:lnTo>
                  <a:pt x="109244" y="22473"/>
                </a:lnTo>
                <a:lnTo>
                  <a:pt x="112053" y="29296"/>
                </a:lnTo>
                <a:lnTo>
                  <a:pt x="114095" y="36826"/>
                </a:lnTo>
                <a:lnTo>
                  <a:pt x="117648" y="42819"/>
                </a:lnTo>
                <a:lnTo>
                  <a:pt x="118120" y="45528"/>
                </a:lnTo>
                <a:lnTo>
                  <a:pt x="117640" y="48128"/>
                </a:lnTo>
                <a:lnTo>
                  <a:pt x="115290" y="55580"/>
                </a:lnTo>
                <a:lnTo>
                  <a:pt x="114960" y="58004"/>
                </a:lnTo>
                <a:lnTo>
                  <a:pt x="112477" y="62815"/>
                </a:lnTo>
                <a:lnTo>
                  <a:pt x="109521" y="67599"/>
                </a:lnTo>
                <a:lnTo>
                  <a:pt x="107063" y="74754"/>
                </a:lnTo>
                <a:lnTo>
                  <a:pt x="103676" y="79520"/>
                </a:lnTo>
                <a:lnTo>
                  <a:pt x="99524" y="82167"/>
                </a:lnTo>
                <a:lnTo>
                  <a:pt x="95033" y="84137"/>
                </a:lnTo>
                <a:lnTo>
                  <a:pt x="79696" y="97481"/>
                </a:lnTo>
                <a:lnTo>
                  <a:pt x="78680" y="104627"/>
                </a:lnTo>
                <a:lnTo>
                  <a:pt x="79440" y="104990"/>
                </a:lnTo>
                <a:lnTo>
                  <a:pt x="82403" y="105393"/>
                </a:lnTo>
                <a:lnTo>
                  <a:pt x="86366" y="107689"/>
                </a:lnTo>
                <a:lnTo>
                  <a:pt x="90772" y="110561"/>
                </a:lnTo>
                <a:lnTo>
                  <a:pt x="95377" y="111838"/>
                </a:lnTo>
                <a:lnTo>
                  <a:pt x="100069" y="116639"/>
                </a:lnTo>
                <a:lnTo>
                  <a:pt x="123826" y="149908"/>
                </a:lnTo>
                <a:lnTo>
                  <a:pt x="132557" y="165186"/>
                </a:lnTo>
                <a:lnTo>
                  <a:pt x="135104" y="176671"/>
                </a:lnTo>
                <a:lnTo>
                  <a:pt x="135695" y="193794"/>
                </a:lnTo>
                <a:lnTo>
                  <a:pt x="134120" y="196184"/>
                </a:lnTo>
                <a:lnTo>
                  <a:pt x="128136" y="200958"/>
                </a:lnTo>
                <a:lnTo>
                  <a:pt x="122301" y="203608"/>
                </a:lnTo>
                <a:lnTo>
                  <a:pt x="108296" y="205309"/>
                </a:lnTo>
                <a:lnTo>
                  <a:pt x="89449" y="204852"/>
                </a:lnTo>
                <a:lnTo>
                  <a:pt x="55409" y="194330"/>
                </a:lnTo>
                <a:lnTo>
                  <a:pt x="35719" y="19144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MARTInkShape-7"/>
          <p:cNvSpPr/>
          <p:nvPr/>
        </p:nvSpPr>
        <p:spPr>
          <a:xfrm>
            <a:off x="4022640" y="3486240"/>
            <a:ext cx="146160" cy="179280"/>
          </a:xfrm>
          <a:custGeom>
            <a:avLst/>
            <a:gdLst>
              <a:gd name="textAreaLeft" fmla="*/ 0 w 146160"/>
              <a:gd name="textAreaRight" fmla="*/ 146520 w 1461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45399" h="177833">
                <a:moveTo>
                  <a:pt x="134197" y="13526"/>
                </a:moveTo>
                <a:lnTo>
                  <a:pt x="134197" y="45210"/>
                </a:lnTo>
                <a:lnTo>
                  <a:pt x="136313" y="49568"/>
                </a:lnTo>
                <a:lnTo>
                  <a:pt x="141046" y="55989"/>
                </a:lnTo>
                <a:lnTo>
                  <a:pt x="145045" y="52477"/>
                </a:lnTo>
                <a:lnTo>
                  <a:pt x="145398" y="50606"/>
                </a:lnTo>
                <a:lnTo>
                  <a:pt x="144839" y="48564"/>
                </a:lnTo>
                <a:lnTo>
                  <a:pt x="142895" y="44180"/>
                </a:lnTo>
                <a:lnTo>
                  <a:pt x="141007" y="37248"/>
                </a:lnTo>
                <a:lnTo>
                  <a:pt x="136567" y="29374"/>
                </a:lnTo>
                <a:lnTo>
                  <a:pt x="135250" y="21628"/>
                </a:lnTo>
                <a:lnTo>
                  <a:pt x="133311" y="18133"/>
                </a:lnTo>
                <a:lnTo>
                  <a:pt x="126924" y="12134"/>
                </a:lnTo>
                <a:lnTo>
                  <a:pt x="120910" y="8938"/>
                </a:lnTo>
                <a:lnTo>
                  <a:pt x="88713" y="0"/>
                </a:lnTo>
                <a:lnTo>
                  <a:pt x="74594" y="257"/>
                </a:lnTo>
                <a:lnTo>
                  <a:pt x="41323" y="13724"/>
                </a:lnTo>
                <a:lnTo>
                  <a:pt x="27039" y="22845"/>
                </a:lnTo>
                <a:lnTo>
                  <a:pt x="14869" y="35601"/>
                </a:lnTo>
                <a:lnTo>
                  <a:pt x="3646" y="57926"/>
                </a:lnTo>
                <a:lnTo>
                  <a:pt x="0" y="74483"/>
                </a:lnTo>
                <a:lnTo>
                  <a:pt x="2713" y="93235"/>
                </a:lnTo>
                <a:lnTo>
                  <a:pt x="15298" y="128917"/>
                </a:lnTo>
                <a:lnTo>
                  <a:pt x="24203" y="140482"/>
                </a:lnTo>
                <a:lnTo>
                  <a:pt x="55615" y="17783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SMARTInkShape-Group7"/>
          <p:cNvGrpSpPr/>
          <p:nvPr/>
        </p:nvGrpSpPr>
        <p:grpSpPr>
          <a:xfrm>
            <a:off x="4214880" y="4886280"/>
            <a:ext cx="100080" cy="265320"/>
            <a:chOff x="4214880" y="4886280"/>
            <a:chExt cx="100080" cy="265320"/>
          </a:xfrm>
        </p:grpSpPr>
        <p:sp>
          <p:nvSpPr>
            <p:cNvPr id="59" name="SMARTInkShape-8"/>
            <p:cNvSpPr/>
            <p:nvPr/>
          </p:nvSpPr>
          <p:spPr>
            <a:xfrm>
              <a:off x="4250880" y="4965120"/>
              <a:ext cx="14040" cy="186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176" h="185739">
                  <a:moveTo>
                    <a:pt x="14175" y="0"/>
                  </a:moveTo>
                  <a:lnTo>
                    <a:pt x="14175" y="9943"/>
                  </a:lnTo>
                  <a:lnTo>
                    <a:pt x="4232" y="45170"/>
                  </a:lnTo>
                  <a:lnTo>
                    <a:pt x="745" y="77626"/>
                  </a:lnTo>
                  <a:lnTo>
                    <a:pt x="0" y="110382"/>
                  </a:lnTo>
                  <a:lnTo>
                    <a:pt x="5556" y="141183"/>
                  </a:lnTo>
                  <a:lnTo>
                    <a:pt x="6974" y="175206"/>
                  </a:lnTo>
                  <a:lnTo>
                    <a:pt x="7031" y="1857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SMARTInkShape-9"/>
            <p:cNvSpPr/>
            <p:nvPr/>
          </p:nvSpPr>
          <p:spPr>
            <a:xfrm>
              <a:off x="4214880" y="4886280"/>
              <a:ext cx="100080" cy="2145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99887" h="213734">
                  <a:moveTo>
                    <a:pt x="0" y="0"/>
                  </a:moveTo>
                  <a:lnTo>
                    <a:pt x="33792" y="33792"/>
                  </a:lnTo>
                  <a:lnTo>
                    <a:pt x="51683" y="58181"/>
                  </a:lnTo>
                  <a:lnTo>
                    <a:pt x="70061" y="93004"/>
                  </a:lnTo>
                  <a:lnTo>
                    <a:pt x="85230" y="128605"/>
                  </a:lnTo>
                  <a:lnTo>
                    <a:pt x="96772" y="164309"/>
                  </a:lnTo>
                  <a:lnTo>
                    <a:pt x="99585" y="196233"/>
                  </a:lnTo>
                  <a:lnTo>
                    <a:pt x="99886" y="207721"/>
                  </a:lnTo>
                  <a:lnTo>
                    <a:pt x="99134" y="209918"/>
                  </a:lnTo>
                  <a:lnTo>
                    <a:pt x="97839" y="211383"/>
                  </a:lnTo>
                  <a:lnTo>
                    <a:pt x="94284" y="213010"/>
                  </a:lnTo>
                  <a:lnTo>
                    <a:pt x="90058" y="213733"/>
                  </a:lnTo>
                  <a:lnTo>
                    <a:pt x="79424" y="210349"/>
                  </a:lnTo>
                  <a:lnTo>
                    <a:pt x="64718" y="201933"/>
                  </a:lnTo>
                  <a:lnTo>
                    <a:pt x="57150" y="2000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SMARTInkShape-Group8"/>
          <p:cNvGrpSpPr/>
          <p:nvPr/>
        </p:nvGrpSpPr>
        <p:grpSpPr>
          <a:xfrm>
            <a:off x="4351320" y="266760"/>
            <a:ext cx="3657600" cy="801720"/>
            <a:chOff x="4351320" y="266760"/>
            <a:chExt cx="3657600" cy="801720"/>
          </a:xfrm>
        </p:grpSpPr>
        <p:sp>
          <p:nvSpPr>
            <p:cNvPr id="62" name="SMARTInkShape-10"/>
            <p:cNvSpPr/>
            <p:nvPr/>
          </p:nvSpPr>
          <p:spPr>
            <a:xfrm>
              <a:off x="4351320" y="438120"/>
              <a:ext cx="770760" cy="502560"/>
            </a:xfrm>
            <a:custGeom>
              <a:avLst/>
              <a:gdLst>
                <a:gd name="textAreaLeft" fmla="*/ 0 w 770760"/>
                <a:gd name="textAreaRight" fmla="*/ 771120 w 77076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770876" h="502735">
                  <a:moveTo>
                    <a:pt x="249381" y="105068"/>
                  </a:moveTo>
                  <a:lnTo>
                    <a:pt x="245589" y="108860"/>
                  </a:lnTo>
                  <a:lnTo>
                    <a:pt x="239494" y="110722"/>
                  </a:lnTo>
                  <a:lnTo>
                    <a:pt x="235646" y="111219"/>
                  </a:lnTo>
                  <a:lnTo>
                    <a:pt x="227137" y="116004"/>
                  </a:lnTo>
                  <a:lnTo>
                    <a:pt x="192624" y="137317"/>
                  </a:lnTo>
                  <a:lnTo>
                    <a:pt x="165448" y="156957"/>
                  </a:lnTo>
                  <a:lnTo>
                    <a:pt x="137288" y="182531"/>
                  </a:lnTo>
                  <a:lnTo>
                    <a:pt x="108835" y="211805"/>
                  </a:lnTo>
                  <a:lnTo>
                    <a:pt x="89814" y="236644"/>
                  </a:lnTo>
                  <a:lnTo>
                    <a:pt x="70777" y="261442"/>
                  </a:lnTo>
                  <a:lnTo>
                    <a:pt x="53320" y="286486"/>
                  </a:lnTo>
                  <a:lnTo>
                    <a:pt x="40270" y="313492"/>
                  </a:lnTo>
                  <a:lnTo>
                    <a:pt x="27062" y="341370"/>
                  </a:lnTo>
                  <a:lnTo>
                    <a:pt x="14841" y="368841"/>
                  </a:lnTo>
                  <a:lnTo>
                    <a:pt x="6764" y="394280"/>
                  </a:lnTo>
                  <a:lnTo>
                    <a:pt x="1547" y="427121"/>
                  </a:lnTo>
                  <a:lnTo>
                    <a:pt x="0" y="456961"/>
                  </a:lnTo>
                  <a:lnTo>
                    <a:pt x="3335" y="482118"/>
                  </a:lnTo>
                  <a:lnTo>
                    <a:pt x="9323" y="493044"/>
                  </a:lnTo>
                  <a:lnTo>
                    <a:pt x="13143" y="497068"/>
                  </a:lnTo>
                  <a:lnTo>
                    <a:pt x="23736" y="501540"/>
                  </a:lnTo>
                  <a:lnTo>
                    <a:pt x="37176" y="502734"/>
                  </a:lnTo>
                  <a:lnTo>
                    <a:pt x="53732" y="500619"/>
                  </a:lnTo>
                  <a:lnTo>
                    <a:pt x="80904" y="487381"/>
                  </a:lnTo>
                  <a:lnTo>
                    <a:pt x="109062" y="468377"/>
                  </a:lnTo>
                  <a:lnTo>
                    <a:pt x="137514" y="443873"/>
                  </a:lnTo>
                  <a:lnTo>
                    <a:pt x="166053" y="412712"/>
                  </a:lnTo>
                  <a:lnTo>
                    <a:pt x="190824" y="382136"/>
                  </a:lnTo>
                  <a:lnTo>
                    <a:pt x="209453" y="349175"/>
                  </a:lnTo>
                  <a:lnTo>
                    <a:pt x="221235" y="314274"/>
                  </a:lnTo>
                  <a:lnTo>
                    <a:pt x="225960" y="282590"/>
                  </a:lnTo>
                  <a:lnTo>
                    <a:pt x="226763" y="248349"/>
                  </a:lnTo>
                  <a:lnTo>
                    <a:pt x="220101" y="216067"/>
                  </a:lnTo>
                  <a:lnTo>
                    <a:pt x="214937" y="204407"/>
                  </a:lnTo>
                  <a:lnTo>
                    <a:pt x="197945" y="182904"/>
                  </a:lnTo>
                  <a:lnTo>
                    <a:pt x="192654" y="179349"/>
                  </a:lnTo>
                  <a:lnTo>
                    <a:pt x="186863" y="177769"/>
                  </a:lnTo>
                  <a:lnTo>
                    <a:pt x="178997" y="177067"/>
                  </a:lnTo>
                  <a:lnTo>
                    <a:pt x="175471" y="178467"/>
                  </a:lnTo>
                  <a:lnTo>
                    <a:pt x="169436" y="184257"/>
                  </a:lnTo>
                  <a:lnTo>
                    <a:pt x="161576" y="196441"/>
                  </a:lnTo>
                  <a:lnTo>
                    <a:pt x="158013" y="210105"/>
                  </a:lnTo>
                  <a:lnTo>
                    <a:pt x="156644" y="242233"/>
                  </a:lnTo>
                  <a:lnTo>
                    <a:pt x="160343" y="258863"/>
                  </a:lnTo>
                  <a:lnTo>
                    <a:pt x="166417" y="266819"/>
                  </a:lnTo>
                  <a:lnTo>
                    <a:pt x="183251" y="278395"/>
                  </a:lnTo>
                  <a:lnTo>
                    <a:pt x="194590" y="279204"/>
                  </a:lnTo>
                  <a:lnTo>
                    <a:pt x="221272" y="273256"/>
                  </a:lnTo>
                  <a:lnTo>
                    <a:pt x="250267" y="258735"/>
                  </a:lnTo>
                  <a:lnTo>
                    <a:pt x="275749" y="243644"/>
                  </a:lnTo>
                  <a:lnTo>
                    <a:pt x="306095" y="213021"/>
                  </a:lnTo>
                  <a:lnTo>
                    <a:pt x="335020" y="183807"/>
                  </a:lnTo>
                  <a:lnTo>
                    <a:pt x="357167" y="150990"/>
                  </a:lnTo>
                  <a:lnTo>
                    <a:pt x="372662" y="118661"/>
                  </a:lnTo>
                  <a:lnTo>
                    <a:pt x="384680" y="92421"/>
                  </a:lnTo>
                  <a:lnTo>
                    <a:pt x="384824" y="92668"/>
                  </a:lnTo>
                  <a:lnTo>
                    <a:pt x="384984" y="95059"/>
                  </a:lnTo>
                  <a:lnTo>
                    <a:pt x="372920" y="127830"/>
                  </a:lnTo>
                  <a:lnTo>
                    <a:pt x="363624" y="159570"/>
                  </a:lnTo>
                  <a:lnTo>
                    <a:pt x="358637" y="190009"/>
                  </a:lnTo>
                  <a:lnTo>
                    <a:pt x="355043" y="221252"/>
                  </a:lnTo>
                  <a:lnTo>
                    <a:pt x="351067" y="253528"/>
                  </a:lnTo>
                  <a:lnTo>
                    <a:pt x="349890" y="283200"/>
                  </a:lnTo>
                  <a:lnTo>
                    <a:pt x="353284" y="317878"/>
                  </a:lnTo>
                  <a:lnTo>
                    <a:pt x="363880" y="350668"/>
                  </a:lnTo>
                  <a:lnTo>
                    <a:pt x="366195" y="354526"/>
                  </a:lnTo>
                  <a:lnTo>
                    <a:pt x="369326" y="357099"/>
                  </a:lnTo>
                  <a:lnTo>
                    <a:pt x="377038" y="359957"/>
                  </a:lnTo>
                  <a:lnTo>
                    <a:pt x="390304" y="361566"/>
                  </a:lnTo>
                  <a:lnTo>
                    <a:pt x="399591" y="357709"/>
                  </a:lnTo>
                  <a:lnTo>
                    <a:pt x="433646" y="331153"/>
                  </a:lnTo>
                  <a:lnTo>
                    <a:pt x="458737" y="297618"/>
                  </a:lnTo>
                  <a:lnTo>
                    <a:pt x="482718" y="262187"/>
                  </a:lnTo>
                  <a:lnTo>
                    <a:pt x="501373" y="229307"/>
                  </a:lnTo>
                  <a:lnTo>
                    <a:pt x="506421" y="212777"/>
                  </a:lnTo>
                  <a:lnTo>
                    <a:pt x="506551" y="243309"/>
                  </a:lnTo>
                  <a:lnTo>
                    <a:pt x="504438" y="262974"/>
                  </a:lnTo>
                  <a:lnTo>
                    <a:pt x="500405" y="294745"/>
                  </a:lnTo>
                  <a:lnTo>
                    <a:pt x="499608" y="325891"/>
                  </a:lnTo>
                  <a:lnTo>
                    <a:pt x="501568" y="354974"/>
                  </a:lnTo>
                  <a:lnTo>
                    <a:pt x="507195" y="372260"/>
                  </a:lnTo>
                  <a:lnTo>
                    <a:pt x="509363" y="376065"/>
                  </a:lnTo>
                  <a:lnTo>
                    <a:pt x="513190" y="378601"/>
                  </a:lnTo>
                  <a:lnTo>
                    <a:pt x="523792" y="381420"/>
                  </a:lnTo>
                  <a:lnTo>
                    <a:pt x="534325" y="380556"/>
                  </a:lnTo>
                  <a:lnTo>
                    <a:pt x="551296" y="373490"/>
                  </a:lnTo>
                  <a:lnTo>
                    <a:pt x="564541" y="364067"/>
                  </a:lnTo>
                  <a:lnTo>
                    <a:pt x="592445" y="332147"/>
                  </a:lnTo>
                  <a:lnTo>
                    <a:pt x="615878" y="300409"/>
                  </a:lnTo>
                  <a:lnTo>
                    <a:pt x="632931" y="275230"/>
                  </a:lnTo>
                  <a:lnTo>
                    <a:pt x="648447" y="250810"/>
                  </a:lnTo>
                  <a:lnTo>
                    <a:pt x="663281" y="226728"/>
                  </a:lnTo>
                  <a:lnTo>
                    <a:pt x="677018" y="202001"/>
                  </a:lnTo>
                  <a:lnTo>
                    <a:pt x="688415" y="175137"/>
                  </a:lnTo>
                  <a:lnTo>
                    <a:pt x="696655" y="149439"/>
                  </a:lnTo>
                  <a:lnTo>
                    <a:pt x="703757" y="124788"/>
                  </a:lnTo>
                  <a:lnTo>
                    <a:pt x="715093" y="89392"/>
                  </a:lnTo>
                  <a:lnTo>
                    <a:pt x="719951" y="58443"/>
                  </a:lnTo>
                  <a:lnTo>
                    <a:pt x="726185" y="23774"/>
                  </a:lnTo>
                  <a:lnTo>
                    <a:pt x="727905" y="0"/>
                  </a:lnTo>
                  <a:lnTo>
                    <a:pt x="727941" y="98"/>
                  </a:lnTo>
                  <a:lnTo>
                    <a:pt x="728009" y="32287"/>
                  </a:lnTo>
                  <a:lnTo>
                    <a:pt x="724219" y="58456"/>
                  </a:lnTo>
                  <a:lnTo>
                    <a:pt x="721861" y="90110"/>
                  </a:lnTo>
                  <a:lnTo>
                    <a:pt x="721310" y="115089"/>
                  </a:lnTo>
                  <a:lnTo>
                    <a:pt x="721065" y="141272"/>
                  </a:lnTo>
                  <a:lnTo>
                    <a:pt x="720956" y="166138"/>
                  </a:lnTo>
                  <a:lnTo>
                    <a:pt x="720907" y="190418"/>
                  </a:lnTo>
                  <a:lnTo>
                    <a:pt x="721679" y="214439"/>
                  </a:lnTo>
                  <a:lnTo>
                    <a:pt x="726577" y="249481"/>
                  </a:lnTo>
                  <a:lnTo>
                    <a:pt x="733055" y="280325"/>
                  </a:lnTo>
                  <a:lnTo>
                    <a:pt x="740795" y="308779"/>
                  </a:lnTo>
                  <a:lnTo>
                    <a:pt x="754194" y="343708"/>
                  </a:lnTo>
                  <a:lnTo>
                    <a:pt x="759671" y="355516"/>
                  </a:lnTo>
                  <a:lnTo>
                    <a:pt x="764043" y="359253"/>
                  </a:lnTo>
                  <a:lnTo>
                    <a:pt x="770875" y="36224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SMARTInkShape-11"/>
            <p:cNvSpPr/>
            <p:nvPr/>
          </p:nvSpPr>
          <p:spPr>
            <a:xfrm>
              <a:off x="4986360" y="543240"/>
              <a:ext cx="285480" cy="568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5751" h="57151">
                  <a:moveTo>
                    <a:pt x="0" y="57150"/>
                  </a:moveTo>
                  <a:lnTo>
                    <a:pt x="15541" y="47262"/>
                  </a:lnTo>
                  <a:lnTo>
                    <a:pt x="19885" y="43415"/>
                  </a:lnTo>
                  <a:lnTo>
                    <a:pt x="55374" y="31536"/>
                  </a:lnTo>
                  <a:lnTo>
                    <a:pt x="89785" y="23984"/>
                  </a:lnTo>
                  <a:lnTo>
                    <a:pt x="116104" y="19126"/>
                  </a:lnTo>
                  <a:lnTo>
                    <a:pt x="143676" y="14321"/>
                  </a:lnTo>
                  <a:lnTo>
                    <a:pt x="171806" y="10334"/>
                  </a:lnTo>
                  <a:lnTo>
                    <a:pt x="200183" y="8562"/>
                  </a:lnTo>
                  <a:lnTo>
                    <a:pt x="226553" y="7774"/>
                  </a:lnTo>
                  <a:lnTo>
                    <a:pt x="259478" y="5214"/>
                  </a:lnTo>
                  <a:lnTo>
                    <a:pt x="28575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SMARTInkShape-12"/>
            <p:cNvSpPr/>
            <p:nvPr/>
          </p:nvSpPr>
          <p:spPr>
            <a:xfrm>
              <a:off x="5437080" y="345960"/>
              <a:ext cx="327960" cy="72252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28170" h="722530">
                  <a:moveTo>
                    <a:pt x="42419" y="240181"/>
                  </a:moveTo>
                  <a:lnTo>
                    <a:pt x="42419" y="243973"/>
                  </a:lnTo>
                  <a:lnTo>
                    <a:pt x="29440" y="277995"/>
                  </a:lnTo>
                  <a:lnTo>
                    <a:pt x="15278" y="310386"/>
                  </a:lnTo>
                  <a:lnTo>
                    <a:pt x="4603" y="339950"/>
                  </a:lnTo>
                  <a:lnTo>
                    <a:pt x="0" y="375449"/>
                  </a:lnTo>
                  <a:lnTo>
                    <a:pt x="1870" y="381792"/>
                  </a:lnTo>
                  <a:lnTo>
                    <a:pt x="3481" y="384594"/>
                  </a:lnTo>
                  <a:lnTo>
                    <a:pt x="5348" y="386463"/>
                  </a:lnTo>
                  <a:lnTo>
                    <a:pt x="9539" y="388538"/>
                  </a:lnTo>
                  <a:lnTo>
                    <a:pt x="16164" y="387344"/>
                  </a:lnTo>
                  <a:lnTo>
                    <a:pt x="24400" y="383374"/>
                  </a:lnTo>
                  <a:lnTo>
                    <a:pt x="56150" y="358059"/>
                  </a:lnTo>
                  <a:lnTo>
                    <a:pt x="69944" y="332345"/>
                  </a:lnTo>
                  <a:lnTo>
                    <a:pt x="75709" y="311409"/>
                  </a:lnTo>
                  <a:lnTo>
                    <a:pt x="76265" y="298032"/>
                  </a:lnTo>
                  <a:lnTo>
                    <a:pt x="70154" y="276508"/>
                  </a:lnTo>
                  <a:lnTo>
                    <a:pt x="63602" y="263909"/>
                  </a:lnTo>
                  <a:lnTo>
                    <a:pt x="54277" y="252540"/>
                  </a:lnTo>
                  <a:lnTo>
                    <a:pt x="43375" y="245077"/>
                  </a:lnTo>
                  <a:lnTo>
                    <a:pt x="39881" y="244239"/>
                  </a:lnTo>
                  <a:lnTo>
                    <a:pt x="36758" y="244474"/>
                  </a:lnTo>
                  <a:lnTo>
                    <a:pt x="28636" y="247157"/>
                  </a:lnTo>
                  <a:lnTo>
                    <a:pt x="28281" y="251067"/>
                  </a:lnTo>
                  <a:lnTo>
                    <a:pt x="29025" y="252201"/>
                  </a:lnTo>
                  <a:lnTo>
                    <a:pt x="30315" y="252957"/>
                  </a:lnTo>
                  <a:lnTo>
                    <a:pt x="35923" y="254020"/>
                  </a:lnTo>
                  <a:lnTo>
                    <a:pt x="58673" y="253615"/>
                  </a:lnTo>
                  <a:lnTo>
                    <a:pt x="87787" y="244569"/>
                  </a:lnTo>
                  <a:lnTo>
                    <a:pt x="114599" y="230104"/>
                  </a:lnTo>
                  <a:lnTo>
                    <a:pt x="142652" y="210736"/>
                  </a:lnTo>
                  <a:lnTo>
                    <a:pt x="173189" y="189917"/>
                  </a:lnTo>
                  <a:lnTo>
                    <a:pt x="203139" y="168667"/>
                  </a:lnTo>
                  <a:lnTo>
                    <a:pt x="234592" y="136361"/>
                  </a:lnTo>
                  <a:lnTo>
                    <a:pt x="252730" y="108789"/>
                  </a:lnTo>
                  <a:lnTo>
                    <a:pt x="264365" y="80512"/>
                  </a:lnTo>
                  <a:lnTo>
                    <a:pt x="274614" y="49009"/>
                  </a:lnTo>
                  <a:lnTo>
                    <a:pt x="277851" y="16702"/>
                  </a:lnTo>
                  <a:lnTo>
                    <a:pt x="278136" y="0"/>
                  </a:lnTo>
                  <a:lnTo>
                    <a:pt x="278162" y="35157"/>
                  </a:lnTo>
                  <a:lnTo>
                    <a:pt x="278163" y="62134"/>
                  </a:lnTo>
                  <a:lnTo>
                    <a:pt x="278163" y="86436"/>
                  </a:lnTo>
                  <a:lnTo>
                    <a:pt x="276046" y="113112"/>
                  </a:lnTo>
                  <a:lnTo>
                    <a:pt x="273253" y="142431"/>
                  </a:lnTo>
                  <a:lnTo>
                    <a:pt x="272012" y="176628"/>
                  </a:lnTo>
                  <a:lnTo>
                    <a:pt x="270887" y="194637"/>
                  </a:lnTo>
                  <a:lnTo>
                    <a:pt x="269344" y="212993"/>
                  </a:lnTo>
                  <a:lnTo>
                    <a:pt x="267521" y="231581"/>
                  </a:lnTo>
                  <a:lnTo>
                    <a:pt x="265512" y="251116"/>
                  </a:lnTo>
                  <a:lnTo>
                    <a:pt x="263379" y="271283"/>
                  </a:lnTo>
                  <a:lnTo>
                    <a:pt x="261163" y="291872"/>
                  </a:lnTo>
                  <a:lnTo>
                    <a:pt x="259686" y="312741"/>
                  </a:lnTo>
                  <a:lnTo>
                    <a:pt x="258701" y="333798"/>
                  </a:lnTo>
                  <a:lnTo>
                    <a:pt x="258045" y="354980"/>
                  </a:lnTo>
                  <a:lnTo>
                    <a:pt x="256019" y="376245"/>
                  </a:lnTo>
                  <a:lnTo>
                    <a:pt x="253082" y="397565"/>
                  </a:lnTo>
                  <a:lnTo>
                    <a:pt x="249536" y="418922"/>
                  </a:lnTo>
                  <a:lnTo>
                    <a:pt x="245585" y="439510"/>
                  </a:lnTo>
                  <a:lnTo>
                    <a:pt x="241363" y="459586"/>
                  </a:lnTo>
                  <a:lnTo>
                    <a:pt x="236961" y="479319"/>
                  </a:lnTo>
                  <a:lnTo>
                    <a:pt x="232439" y="498825"/>
                  </a:lnTo>
                  <a:lnTo>
                    <a:pt x="227837" y="518179"/>
                  </a:lnTo>
                  <a:lnTo>
                    <a:pt x="223180" y="537432"/>
                  </a:lnTo>
                  <a:lnTo>
                    <a:pt x="218489" y="555823"/>
                  </a:lnTo>
                  <a:lnTo>
                    <a:pt x="209043" y="591074"/>
                  </a:lnTo>
                  <a:lnTo>
                    <a:pt x="197437" y="621029"/>
                  </a:lnTo>
                  <a:lnTo>
                    <a:pt x="184341" y="646778"/>
                  </a:lnTo>
                  <a:lnTo>
                    <a:pt x="163580" y="678330"/>
                  </a:lnTo>
                  <a:lnTo>
                    <a:pt x="135232" y="708611"/>
                  </a:lnTo>
                  <a:lnTo>
                    <a:pt x="121769" y="718247"/>
                  </a:lnTo>
                  <a:lnTo>
                    <a:pt x="110494" y="722529"/>
                  </a:lnTo>
                  <a:lnTo>
                    <a:pt x="98075" y="720199"/>
                  </a:lnTo>
                  <a:lnTo>
                    <a:pt x="79812" y="709962"/>
                  </a:lnTo>
                  <a:lnTo>
                    <a:pt x="64347" y="694758"/>
                  </a:lnTo>
                  <a:lnTo>
                    <a:pt x="55340" y="681134"/>
                  </a:lnTo>
                  <a:lnTo>
                    <a:pt x="46600" y="656407"/>
                  </a:lnTo>
                  <a:lnTo>
                    <a:pt x="43246" y="624200"/>
                  </a:lnTo>
                  <a:lnTo>
                    <a:pt x="44374" y="606118"/>
                  </a:lnTo>
                  <a:lnTo>
                    <a:pt x="58033" y="570757"/>
                  </a:lnTo>
                  <a:lnTo>
                    <a:pt x="79811" y="540606"/>
                  </a:lnTo>
                  <a:lnTo>
                    <a:pt x="114077" y="512321"/>
                  </a:lnTo>
                  <a:lnTo>
                    <a:pt x="146268" y="492727"/>
                  </a:lnTo>
                  <a:lnTo>
                    <a:pt x="173819" y="482138"/>
                  </a:lnTo>
                  <a:lnTo>
                    <a:pt x="202091" y="473973"/>
                  </a:lnTo>
                  <a:lnTo>
                    <a:pt x="230576" y="466527"/>
                  </a:lnTo>
                  <a:lnTo>
                    <a:pt x="262917" y="459293"/>
                  </a:lnTo>
                  <a:lnTo>
                    <a:pt x="293842" y="452123"/>
                  </a:lnTo>
                  <a:lnTo>
                    <a:pt x="328169" y="44020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SMARTInkShape-13"/>
            <p:cNvSpPr/>
            <p:nvPr/>
          </p:nvSpPr>
          <p:spPr>
            <a:xfrm>
              <a:off x="5972760" y="400320"/>
              <a:ext cx="56880" cy="363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63600"/>
                <a:gd name="textAreaBottom" fmla="*/ 363600 h 363600"/>
              </a:gdLst>
              <a:ahLst/>
              <a:rect l="textAreaLeft" t="textAreaTop" r="textAreaRight" b="textAreaBottom"/>
              <a:pathLst>
                <a:path w="57094" h="363652">
                  <a:moveTo>
                    <a:pt x="57093" y="0"/>
                  </a:moveTo>
                  <a:lnTo>
                    <a:pt x="57093" y="3792"/>
                  </a:lnTo>
                  <a:lnTo>
                    <a:pt x="44908" y="32905"/>
                  </a:lnTo>
                  <a:lnTo>
                    <a:pt x="33491" y="67736"/>
                  </a:lnTo>
                  <a:lnTo>
                    <a:pt x="22847" y="101032"/>
                  </a:lnTo>
                  <a:lnTo>
                    <a:pt x="17266" y="125072"/>
                  </a:lnTo>
                  <a:lnTo>
                    <a:pt x="12140" y="151631"/>
                  </a:lnTo>
                  <a:lnTo>
                    <a:pt x="7216" y="177194"/>
                  </a:lnTo>
                  <a:lnTo>
                    <a:pt x="3175" y="201784"/>
                  </a:lnTo>
                  <a:lnTo>
                    <a:pt x="1379" y="225942"/>
                  </a:lnTo>
                  <a:lnTo>
                    <a:pt x="581" y="249908"/>
                  </a:lnTo>
                  <a:lnTo>
                    <a:pt x="132" y="283597"/>
                  </a:lnTo>
                  <a:lnTo>
                    <a:pt x="0" y="311570"/>
                  </a:lnTo>
                  <a:lnTo>
                    <a:pt x="3746" y="342356"/>
                  </a:lnTo>
                  <a:lnTo>
                    <a:pt x="7220" y="359167"/>
                  </a:lnTo>
                  <a:lnTo>
                    <a:pt x="8763" y="360889"/>
                  </a:lnTo>
                  <a:lnTo>
                    <a:pt x="10586" y="362036"/>
                  </a:lnTo>
                  <a:lnTo>
                    <a:pt x="11007" y="362801"/>
                  </a:lnTo>
                  <a:lnTo>
                    <a:pt x="10494" y="363311"/>
                  </a:lnTo>
                  <a:lnTo>
                    <a:pt x="9358" y="363651"/>
                  </a:lnTo>
                  <a:lnTo>
                    <a:pt x="8601" y="363084"/>
                  </a:lnTo>
                  <a:lnTo>
                    <a:pt x="7087" y="35718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SMARTInkShape-14"/>
            <p:cNvSpPr/>
            <p:nvPr/>
          </p:nvSpPr>
          <p:spPr>
            <a:xfrm>
              <a:off x="5829480" y="266760"/>
              <a:ext cx="693000" cy="474840"/>
            </a:xfrm>
            <a:custGeom>
              <a:avLst/>
              <a:gdLst>
                <a:gd name="textAreaLeft" fmla="*/ 0 w 693000"/>
                <a:gd name="textAreaRight" fmla="*/ 693360 w 69300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692945" h="474857">
                  <a:moveTo>
                    <a:pt x="0" y="283848"/>
                  </a:moveTo>
                  <a:lnTo>
                    <a:pt x="35607" y="281731"/>
                  </a:lnTo>
                  <a:lnTo>
                    <a:pt x="66377" y="276077"/>
                  </a:lnTo>
                  <a:lnTo>
                    <a:pt x="89826" y="270869"/>
                  </a:lnTo>
                  <a:lnTo>
                    <a:pt x="116122" y="263263"/>
                  </a:lnTo>
                  <a:lnTo>
                    <a:pt x="145802" y="254591"/>
                  </a:lnTo>
                  <a:lnTo>
                    <a:pt x="177513" y="245445"/>
                  </a:lnTo>
                  <a:lnTo>
                    <a:pt x="210128" y="236088"/>
                  </a:lnTo>
                  <a:lnTo>
                    <a:pt x="241028" y="222405"/>
                  </a:lnTo>
                  <a:lnTo>
                    <a:pt x="271429" y="206533"/>
                  </a:lnTo>
                  <a:lnTo>
                    <a:pt x="303462" y="191542"/>
                  </a:lnTo>
                  <a:lnTo>
                    <a:pt x="334104" y="174825"/>
                  </a:lnTo>
                  <a:lnTo>
                    <a:pt x="362803" y="156812"/>
                  </a:lnTo>
                  <a:lnTo>
                    <a:pt x="388787" y="138223"/>
                  </a:lnTo>
                  <a:lnTo>
                    <a:pt x="418144" y="109907"/>
                  </a:lnTo>
                  <a:lnTo>
                    <a:pt x="441923" y="81409"/>
                  </a:lnTo>
                  <a:lnTo>
                    <a:pt x="450410" y="62377"/>
                  </a:lnTo>
                  <a:lnTo>
                    <a:pt x="455859" y="31873"/>
                  </a:lnTo>
                  <a:lnTo>
                    <a:pt x="456802" y="15602"/>
                  </a:lnTo>
                  <a:lnTo>
                    <a:pt x="455348" y="11355"/>
                  </a:lnTo>
                  <a:lnTo>
                    <a:pt x="449497" y="4519"/>
                  </a:lnTo>
                  <a:lnTo>
                    <a:pt x="441606" y="952"/>
                  </a:lnTo>
                  <a:lnTo>
                    <a:pt x="437279" y="0"/>
                  </a:lnTo>
                  <a:lnTo>
                    <a:pt x="419812" y="2454"/>
                  </a:lnTo>
                  <a:lnTo>
                    <a:pt x="399555" y="8208"/>
                  </a:lnTo>
                  <a:lnTo>
                    <a:pt x="378472" y="22525"/>
                  </a:lnTo>
                  <a:lnTo>
                    <a:pt x="350809" y="55193"/>
                  </a:lnTo>
                  <a:lnTo>
                    <a:pt x="334308" y="88393"/>
                  </a:lnTo>
                  <a:lnTo>
                    <a:pt x="324265" y="114429"/>
                  </a:lnTo>
                  <a:lnTo>
                    <a:pt x="316626" y="141875"/>
                  </a:lnTo>
                  <a:lnTo>
                    <a:pt x="309792" y="170743"/>
                  </a:lnTo>
                  <a:lnTo>
                    <a:pt x="301462" y="202093"/>
                  </a:lnTo>
                  <a:lnTo>
                    <a:pt x="296702" y="232431"/>
                  </a:lnTo>
                  <a:lnTo>
                    <a:pt x="294586" y="261790"/>
                  </a:lnTo>
                  <a:lnTo>
                    <a:pt x="293646" y="290713"/>
                  </a:lnTo>
                  <a:lnTo>
                    <a:pt x="293228" y="319443"/>
                  </a:lnTo>
                  <a:lnTo>
                    <a:pt x="293836" y="347293"/>
                  </a:lnTo>
                  <a:lnTo>
                    <a:pt x="296752" y="372900"/>
                  </a:lnTo>
                  <a:lnTo>
                    <a:pt x="300694" y="397510"/>
                  </a:lnTo>
                  <a:lnTo>
                    <a:pt x="305259" y="427327"/>
                  </a:lnTo>
                  <a:lnTo>
                    <a:pt x="308728" y="446217"/>
                  </a:lnTo>
                  <a:lnTo>
                    <a:pt x="313588" y="464421"/>
                  </a:lnTo>
                  <a:lnTo>
                    <a:pt x="313834" y="464555"/>
                  </a:lnTo>
                  <a:lnTo>
                    <a:pt x="319967" y="432481"/>
                  </a:lnTo>
                  <a:lnTo>
                    <a:pt x="322065" y="397965"/>
                  </a:lnTo>
                  <a:lnTo>
                    <a:pt x="327593" y="366197"/>
                  </a:lnTo>
                  <a:lnTo>
                    <a:pt x="332103" y="350934"/>
                  </a:lnTo>
                  <a:lnTo>
                    <a:pt x="341586" y="335719"/>
                  </a:lnTo>
                  <a:lnTo>
                    <a:pt x="342024" y="335891"/>
                  </a:lnTo>
                  <a:lnTo>
                    <a:pt x="350947" y="365998"/>
                  </a:lnTo>
                  <a:lnTo>
                    <a:pt x="369839" y="398618"/>
                  </a:lnTo>
                  <a:lnTo>
                    <a:pt x="384175" y="421112"/>
                  </a:lnTo>
                  <a:lnTo>
                    <a:pt x="401696" y="435203"/>
                  </a:lnTo>
                  <a:lnTo>
                    <a:pt x="415069" y="441869"/>
                  </a:lnTo>
                  <a:lnTo>
                    <a:pt x="448760" y="446913"/>
                  </a:lnTo>
                  <a:lnTo>
                    <a:pt x="476572" y="446992"/>
                  </a:lnTo>
                  <a:lnTo>
                    <a:pt x="504920" y="441548"/>
                  </a:lnTo>
                  <a:lnTo>
                    <a:pt x="532634" y="429440"/>
                  </a:lnTo>
                  <a:lnTo>
                    <a:pt x="563735" y="406534"/>
                  </a:lnTo>
                  <a:lnTo>
                    <a:pt x="592809" y="382694"/>
                  </a:lnTo>
                  <a:lnTo>
                    <a:pt x="606741" y="362084"/>
                  </a:lnTo>
                  <a:lnTo>
                    <a:pt x="615897" y="340895"/>
                  </a:lnTo>
                  <a:lnTo>
                    <a:pt x="616896" y="328781"/>
                  </a:lnTo>
                  <a:lnTo>
                    <a:pt x="611071" y="308069"/>
                  </a:lnTo>
                  <a:lnTo>
                    <a:pt x="604568" y="297286"/>
                  </a:lnTo>
                  <a:lnTo>
                    <a:pt x="599955" y="293789"/>
                  </a:lnTo>
                  <a:lnTo>
                    <a:pt x="597614" y="292857"/>
                  </a:lnTo>
                  <a:lnTo>
                    <a:pt x="595259" y="293029"/>
                  </a:lnTo>
                  <a:lnTo>
                    <a:pt x="590526" y="295336"/>
                  </a:lnTo>
                  <a:lnTo>
                    <a:pt x="576111" y="308989"/>
                  </a:lnTo>
                  <a:lnTo>
                    <a:pt x="564797" y="329089"/>
                  </a:lnTo>
                  <a:lnTo>
                    <a:pt x="552508" y="362742"/>
                  </a:lnTo>
                  <a:lnTo>
                    <a:pt x="547713" y="376856"/>
                  </a:lnTo>
                  <a:lnTo>
                    <a:pt x="548136" y="401981"/>
                  </a:lnTo>
                  <a:lnTo>
                    <a:pt x="553288" y="425742"/>
                  </a:lnTo>
                  <a:lnTo>
                    <a:pt x="561818" y="438458"/>
                  </a:lnTo>
                  <a:lnTo>
                    <a:pt x="586698" y="459556"/>
                  </a:lnTo>
                  <a:lnTo>
                    <a:pt x="611281" y="470406"/>
                  </a:lnTo>
                  <a:lnTo>
                    <a:pt x="638673" y="474856"/>
                  </a:lnTo>
                  <a:lnTo>
                    <a:pt x="663105" y="472381"/>
                  </a:lnTo>
                  <a:lnTo>
                    <a:pt x="692944" y="46244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SMARTInkShape-15"/>
            <p:cNvSpPr/>
            <p:nvPr/>
          </p:nvSpPr>
          <p:spPr>
            <a:xfrm>
              <a:off x="6697800" y="379080"/>
              <a:ext cx="330480" cy="36180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330546" h="362008">
                  <a:moveTo>
                    <a:pt x="46345" y="28575"/>
                  </a:moveTo>
                  <a:lnTo>
                    <a:pt x="42552" y="32367"/>
                  </a:lnTo>
                  <a:lnTo>
                    <a:pt x="40690" y="38462"/>
                  </a:lnTo>
                  <a:lnTo>
                    <a:pt x="33694" y="72093"/>
                  </a:lnTo>
                  <a:lnTo>
                    <a:pt x="27075" y="103999"/>
                  </a:lnTo>
                  <a:lnTo>
                    <a:pt x="22434" y="126919"/>
                  </a:lnTo>
                  <a:lnTo>
                    <a:pt x="17727" y="154569"/>
                  </a:lnTo>
                  <a:lnTo>
                    <a:pt x="12988" y="184585"/>
                  </a:lnTo>
                  <a:lnTo>
                    <a:pt x="8236" y="213800"/>
                  </a:lnTo>
                  <a:lnTo>
                    <a:pt x="5596" y="240543"/>
                  </a:lnTo>
                  <a:lnTo>
                    <a:pt x="4421" y="265658"/>
                  </a:lnTo>
                  <a:lnTo>
                    <a:pt x="2967" y="300522"/>
                  </a:lnTo>
                  <a:lnTo>
                    <a:pt x="0" y="334441"/>
                  </a:lnTo>
                  <a:lnTo>
                    <a:pt x="3279" y="362007"/>
                  </a:lnTo>
                  <a:lnTo>
                    <a:pt x="4265" y="333328"/>
                  </a:lnTo>
                  <a:lnTo>
                    <a:pt x="8388" y="307343"/>
                  </a:lnTo>
                  <a:lnTo>
                    <a:pt x="9963" y="274862"/>
                  </a:lnTo>
                  <a:lnTo>
                    <a:pt x="10429" y="239308"/>
                  </a:lnTo>
                  <a:lnTo>
                    <a:pt x="10539" y="212722"/>
                  </a:lnTo>
                  <a:lnTo>
                    <a:pt x="12704" y="185030"/>
                  </a:lnTo>
                  <a:lnTo>
                    <a:pt x="15518" y="157642"/>
                  </a:lnTo>
                  <a:lnTo>
                    <a:pt x="16769" y="132240"/>
                  </a:lnTo>
                  <a:lnTo>
                    <a:pt x="17325" y="107721"/>
                  </a:lnTo>
                  <a:lnTo>
                    <a:pt x="19755" y="75838"/>
                  </a:lnTo>
                  <a:lnTo>
                    <a:pt x="25502" y="49193"/>
                  </a:lnTo>
                  <a:lnTo>
                    <a:pt x="30762" y="26915"/>
                  </a:lnTo>
                  <a:lnTo>
                    <a:pt x="31988" y="25881"/>
                  </a:lnTo>
                  <a:lnTo>
                    <a:pt x="33598" y="25985"/>
                  </a:lnTo>
                  <a:lnTo>
                    <a:pt x="35466" y="26848"/>
                  </a:lnTo>
                  <a:lnTo>
                    <a:pt x="41887" y="39440"/>
                  </a:lnTo>
                  <a:lnTo>
                    <a:pt x="51962" y="66616"/>
                  </a:lnTo>
                  <a:lnTo>
                    <a:pt x="63973" y="97349"/>
                  </a:lnTo>
                  <a:lnTo>
                    <a:pt x="77586" y="131591"/>
                  </a:lnTo>
                  <a:lnTo>
                    <a:pt x="91673" y="166872"/>
                  </a:lnTo>
                  <a:lnTo>
                    <a:pt x="106695" y="201667"/>
                  </a:lnTo>
                  <a:lnTo>
                    <a:pt x="125874" y="230850"/>
                  </a:lnTo>
                  <a:lnTo>
                    <a:pt x="147432" y="250257"/>
                  </a:lnTo>
                  <a:lnTo>
                    <a:pt x="182759" y="268920"/>
                  </a:lnTo>
                  <a:lnTo>
                    <a:pt x="201430" y="273507"/>
                  </a:lnTo>
                  <a:lnTo>
                    <a:pt x="220311" y="272900"/>
                  </a:lnTo>
                  <a:lnTo>
                    <a:pt x="248791" y="260511"/>
                  </a:lnTo>
                  <a:lnTo>
                    <a:pt x="273546" y="245552"/>
                  </a:lnTo>
                  <a:lnTo>
                    <a:pt x="292170" y="223480"/>
                  </a:lnTo>
                  <a:lnTo>
                    <a:pt x="307741" y="196832"/>
                  </a:lnTo>
                  <a:lnTo>
                    <a:pt x="318618" y="165036"/>
                  </a:lnTo>
                  <a:lnTo>
                    <a:pt x="326867" y="134272"/>
                  </a:lnTo>
                  <a:lnTo>
                    <a:pt x="330545" y="101256"/>
                  </a:lnTo>
                  <a:lnTo>
                    <a:pt x="327843" y="73922"/>
                  </a:lnTo>
                  <a:lnTo>
                    <a:pt x="314910" y="43353"/>
                  </a:lnTo>
                  <a:lnTo>
                    <a:pt x="305660" y="23164"/>
                  </a:lnTo>
                  <a:lnTo>
                    <a:pt x="293218" y="11449"/>
                  </a:lnTo>
                  <a:lnTo>
                    <a:pt x="279477" y="3745"/>
                  </a:lnTo>
                  <a:lnTo>
                    <a:pt x="26065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SMARTInkShape-16"/>
            <p:cNvSpPr/>
            <p:nvPr/>
          </p:nvSpPr>
          <p:spPr>
            <a:xfrm>
              <a:off x="7139160" y="529200"/>
              <a:ext cx="204480" cy="19800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04516" h="198088">
                  <a:moveTo>
                    <a:pt x="112351" y="14287"/>
                  </a:moveTo>
                  <a:lnTo>
                    <a:pt x="108558" y="14287"/>
                  </a:lnTo>
                  <a:lnTo>
                    <a:pt x="104580" y="18520"/>
                  </a:lnTo>
                  <a:lnTo>
                    <a:pt x="74766" y="51665"/>
                  </a:lnTo>
                  <a:lnTo>
                    <a:pt x="47689" y="79702"/>
                  </a:lnTo>
                  <a:lnTo>
                    <a:pt x="21527" y="114991"/>
                  </a:lnTo>
                  <a:lnTo>
                    <a:pt x="4629" y="144951"/>
                  </a:lnTo>
                  <a:lnTo>
                    <a:pt x="0" y="164921"/>
                  </a:lnTo>
                  <a:lnTo>
                    <a:pt x="1034" y="176750"/>
                  </a:lnTo>
                  <a:lnTo>
                    <a:pt x="2421" y="182127"/>
                  </a:lnTo>
                  <a:lnTo>
                    <a:pt x="5727" y="186505"/>
                  </a:lnTo>
                  <a:lnTo>
                    <a:pt x="15750" y="193487"/>
                  </a:lnTo>
                  <a:lnTo>
                    <a:pt x="34781" y="198087"/>
                  </a:lnTo>
                  <a:lnTo>
                    <a:pt x="63086" y="195658"/>
                  </a:lnTo>
                  <a:lnTo>
                    <a:pt x="96607" y="189911"/>
                  </a:lnTo>
                  <a:lnTo>
                    <a:pt x="127883" y="175597"/>
                  </a:lnTo>
                  <a:lnTo>
                    <a:pt x="157258" y="160067"/>
                  </a:lnTo>
                  <a:lnTo>
                    <a:pt x="182278" y="141618"/>
                  </a:lnTo>
                  <a:lnTo>
                    <a:pt x="197187" y="121071"/>
                  </a:lnTo>
                  <a:lnTo>
                    <a:pt x="202840" y="99902"/>
                  </a:lnTo>
                  <a:lnTo>
                    <a:pt x="204515" y="82341"/>
                  </a:lnTo>
                  <a:lnTo>
                    <a:pt x="200673" y="69933"/>
                  </a:lnTo>
                  <a:lnTo>
                    <a:pt x="189585" y="51677"/>
                  </a:lnTo>
                  <a:lnTo>
                    <a:pt x="174129" y="36213"/>
                  </a:lnTo>
                  <a:lnTo>
                    <a:pt x="141332" y="14958"/>
                  </a:lnTo>
                  <a:lnTo>
                    <a:pt x="112351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SMARTInkShape-17"/>
            <p:cNvSpPr/>
            <p:nvPr/>
          </p:nvSpPr>
          <p:spPr>
            <a:xfrm>
              <a:off x="7351560" y="419040"/>
              <a:ext cx="207000" cy="27972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207170" h="279715">
                  <a:moveTo>
                    <a:pt x="0" y="124098"/>
                  </a:moveTo>
                  <a:lnTo>
                    <a:pt x="3793" y="124098"/>
                  </a:lnTo>
                  <a:lnTo>
                    <a:pt x="4910" y="125686"/>
                  </a:lnTo>
                  <a:lnTo>
                    <a:pt x="14783" y="155161"/>
                  </a:lnTo>
                  <a:lnTo>
                    <a:pt x="30375" y="188719"/>
                  </a:lnTo>
                  <a:lnTo>
                    <a:pt x="38807" y="224154"/>
                  </a:lnTo>
                  <a:lnTo>
                    <a:pt x="42831" y="252194"/>
                  </a:lnTo>
                  <a:lnTo>
                    <a:pt x="26766" y="216662"/>
                  </a:lnTo>
                  <a:lnTo>
                    <a:pt x="16782" y="187538"/>
                  </a:lnTo>
                  <a:lnTo>
                    <a:pt x="9282" y="152034"/>
                  </a:lnTo>
                  <a:lnTo>
                    <a:pt x="7565" y="118239"/>
                  </a:lnTo>
                  <a:lnTo>
                    <a:pt x="13724" y="82930"/>
                  </a:lnTo>
                  <a:lnTo>
                    <a:pt x="25851" y="55632"/>
                  </a:lnTo>
                  <a:lnTo>
                    <a:pt x="50879" y="26789"/>
                  </a:lnTo>
                  <a:lnTo>
                    <a:pt x="65476" y="16556"/>
                  </a:lnTo>
                  <a:lnTo>
                    <a:pt x="96483" y="3519"/>
                  </a:lnTo>
                  <a:lnTo>
                    <a:pt x="102422" y="849"/>
                  </a:lnTo>
                  <a:lnTo>
                    <a:pt x="115371" y="0"/>
                  </a:lnTo>
                  <a:lnTo>
                    <a:pt x="127476" y="2268"/>
                  </a:lnTo>
                  <a:lnTo>
                    <a:pt x="135502" y="5922"/>
                  </a:lnTo>
                  <a:lnTo>
                    <a:pt x="141714" y="14425"/>
                  </a:lnTo>
                  <a:lnTo>
                    <a:pt x="146328" y="26142"/>
                  </a:lnTo>
                  <a:lnTo>
                    <a:pt x="149532" y="60075"/>
                  </a:lnTo>
                  <a:lnTo>
                    <a:pt x="146082" y="81316"/>
                  </a:lnTo>
                  <a:lnTo>
                    <a:pt x="132896" y="110620"/>
                  </a:lnTo>
                  <a:lnTo>
                    <a:pt x="119707" y="144043"/>
                  </a:lnTo>
                  <a:lnTo>
                    <a:pt x="102051" y="177603"/>
                  </a:lnTo>
                  <a:lnTo>
                    <a:pt x="89773" y="209103"/>
                  </a:lnTo>
                  <a:lnTo>
                    <a:pt x="86257" y="241655"/>
                  </a:lnTo>
                  <a:lnTo>
                    <a:pt x="89675" y="257002"/>
                  </a:lnTo>
                  <a:lnTo>
                    <a:pt x="95682" y="264658"/>
                  </a:lnTo>
                  <a:lnTo>
                    <a:pt x="112474" y="276041"/>
                  </a:lnTo>
                  <a:lnTo>
                    <a:pt x="130162" y="279714"/>
                  </a:lnTo>
                  <a:lnTo>
                    <a:pt x="162383" y="276046"/>
                  </a:lnTo>
                  <a:lnTo>
                    <a:pt x="190384" y="272381"/>
                  </a:lnTo>
                  <a:lnTo>
                    <a:pt x="207169" y="26697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SMARTInkShape-18"/>
            <p:cNvSpPr/>
            <p:nvPr/>
          </p:nvSpPr>
          <p:spPr>
            <a:xfrm>
              <a:off x="7680600" y="386280"/>
              <a:ext cx="71280" cy="2998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71368" h="300038">
                  <a:moveTo>
                    <a:pt x="71367" y="0"/>
                  </a:moveTo>
                  <a:lnTo>
                    <a:pt x="71367" y="3792"/>
                  </a:lnTo>
                  <a:lnTo>
                    <a:pt x="47791" y="37814"/>
                  </a:lnTo>
                  <a:lnTo>
                    <a:pt x="38011" y="64032"/>
                  </a:lnTo>
                  <a:lnTo>
                    <a:pt x="25412" y="96583"/>
                  </a:lnTo>
                  <a:lnTo>
                    <a:pt x="12418" y="131363"/>
                  </a:lnTo>
                  <a:lnTo>
                    <a:pt x="3982" y="166804"/>
                  </a:lnTo>
                  <a:lnTo>
                    <a:pt x="1131" y="201647"/>
                  </a:lnTo>
                  <a:lnTo>
                    <a:pt x="285" y="231638"/>
                  </a:lnTo>
                  <a:lnTo>
                    <a:pt x="0" y="263507"/>
                  </a:lnTo>
                  <a:lnTo>
                    <a:pt x="2067" y="283393"/>
                  </a:lnTo>
                  <a:lnTo>
                    <a:pt x="6780" y="299063"/>
                  </a:lnTo>
                  <a:lnTo>
                    <a:pt x="9060" y="299604"/>
                  </a:lnTo>
                  <a:lnTo>
                    <a:pt x="14217" y="3000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SMARTInkShape-19"/>
            <p:cNvSpPr/>
            <p:nvPr/>
          </p:nvSpPr>
          <p:spPr>
            <a:xfrm>
              <a:off x="7580520" y="365040"/>
              <a:ext cx="317880" cy="32076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317850" h="321052">
                  <a:moveTo>
                    <a:pt x="0" y="71020"/>
                  </a:moveTo>
                  <a:lnTo>
                    <a:pt x="33180" y="56546"/>
                  </a:lnTo>
                  <a:lnTo>
                    <a:pt x="60631" y="51650"/>
                  </a:lnTo>
                  <a:lnTo>
                    <a:pt x="93900" y="48083"/>
                  </a:lnTo>
                  <a:lnTo>
                    <a:pt x="117934" y="44157"/>
                  </a:lnTo>
                  <a:lnTo>
                    <a:pt x="144490" y="39766"/>
                  </a:lnTo>
                  <a:lnTo>
                    <a:pt x="178631" y="32832"/>
                  </a:lnTo>
                  <a:lnTo>
                    <a:pt x="212648" y="25750"/>
                  </a:lnTo>
                  <a:lnTo>
                    <a:pt x="244070" y="18624"/>
                  </a:lnTo>
                  <a:lnTo>
                    <a:pt x="276635" y="9106"/>
                  </a:lnTo>
                  <a:lnTo>
                    <a:pt x="299178" y="1699"/>
                  </a:lnTo>
                  <a:lnTo>
                    <a:pt x="311333" y="0"/>
                  </a:lnTo>
                  <a:lnTo>
                    <a:pt x="315112" y="1885"/>
                  </a:lnTo>
                  <a:lnTo>
                    <a:pt x="317230" y="3498"/>
                  </a:lnTo>
                  <a:lnTo>
                    <a:pt x="317849" y="5368"/>
                  </a:lnTo>
                  <a:lnTo>
                    <a:pt x="317468" y="7408"/>
                  </a:lnTo>
                  <a:lnTo>
                    <a:pt x="316420" y="9562"/>
                  </a:lnTo>
                  <a:lnTo>
                    <a:pt x="314508" y="40963"/>
                  </a:lnTo>
                  <a:lnTo>
                    <a:pt x="307864" y="72314"/>
                  </a:lnTo>
                  <a:lnTo>
                    <a:pt x="297241" y="102977"/>
                  </a:lnTo>
                  <a:lnTo>
                    <a:pt x="288714" y="133317"/>
                  </a:lnTo>
                  <a:lnTo>
                    <a:pt x="281160" y="167089"/>
                  </a:lnTo>
                  <a:lnTo>
                    <a:pt x="274688" y="201438"/>
                  </a:lnTo>
                  <a:lnTo>
                    <a:pt x="272418" y="232076"/>
                  </a:lnTo>
                  <a:lnTo>
                    <a:pt x="272539" y="261262"/>
                  </a:lnTo>
                  <a:lnTo>
                    <a:pt x="277173" y="295336"/>
                  </a:lnTo>
                  <a:lnTo>
                    <a:pt x="278323" y="314031"/>
                  </a:lnTo>
                  <a:lnTo>
                    <a:pt x="279211" y="316371"/>
                  </a:lnTo>
                  <a:lnTo>
                    <a:pt x="280597" y="317931"/>
                  </a:lnTo>
                  <a:lnTo>
                    <a:pt x="285750" y="32105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SMARTInkShape-20"/>
            <p:cNvSpPr/>
            <p:nvPr/>
          </p:nvSpPr>
          <p:spPr>
            <a:xfrm>
              <a:off x="7830360" y="529200"/>
              <a:ext cx="135720" cy="2124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5732" h="21432">
                  <a:moveTo>
                    <a:pt x="0" y="21431"/>
                  </a:moveTo>
                  <a:lnTo>
                    <a:pt x="0" y="15280"/>
                  </a:lnTo>
                  <a:lnTo>
                    <a:pt x="3793" y="10789"/>
                  </a:lnTo>
                  <a:lnTo>
                    <a:pt x="9888" y="8763"/>
                  </a:lnTo>
                  <a:lnTo>
                    <a:pt x="44572" y="7206"/>
                  </a:lnTo>
                  <a:lnTo>
                    <a:pt x="78807" y="7152"/>
                  </a:lnTo>
                  <a:lnTo>
                    <a:pt x="105614" y="6351"/>
                  </a:lnTo>
                  <a:lnTo>
                    <a:pt x="135731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4120" bIns="-241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SMARTInkShape-21"/>
            <p:cNvSpPr/>
            <p:nvPr/>
          </p:nvSpPr>
          <p:spPr>
            <a:xfrm>
              <a:off x="7960680" y="371880"/>
              <a:ext cx="48240" cy="3142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48257" h="314326">
                  <a:moveTo>
                    <a:pt x="48256" y="0"/>
                  </a:moveTo>
                  <a:lnTo>
                    <a:pt x="48256" y="3792"/>
                  </a:lnTo>
                  <a:lnTo>
                    <a:pt x="46139" y="7771"/>
                  </a:lnTo>
                  <a:lnTo>
                    <a:pt x="44463" y="9943"/>
                  </a:lnTo>
                  <a:lnTo>
                    <a:pt x="42601" y="16590"/>
                  </a:lnTo>
                  <a:lnTo>
                    <a:pt x="37614" y="37585"/>
                  </a:lnTo>
                  <a:lnTo>
                    <a:pt x="24076" y="66250"/>
                  </a:lnTo>
                  <a:lnTo>
                    <a:pt x="15515" y="97241"/>
                  </a:lnTo>
                  <a:lnTo>
                    <a:pt x="7951" y="131559"/>
                  </a:lnTo>
                  <a:lnTo>
                    <a:pt x="1476" y="166862"/>
                  </a:lnTo>
                  <a:lnTo>
                    <a:pt x="0" y="201664"/>
                  </a:lnTo>
                  <a:lnTo>
                    <a:pt x="3442" y="232437"/>
                  </a:lnTo>
                  <a:lnTo>
                    <a:pt x="5609" y="260870"/>
                  </a:lnTo>
                  <a:lnTo>
                    <a:pt x="15260" y="295791"/>
                  </a:lnTo>
                  <a:lnTo>
                    <a:pt x="22163" y="307599"/>
                  </a:lnTo>
                  <a:lnTo>
                    <a:pt x="26869" y="311336"/>
                  </a:lnTo>
                  <a:lnTo>
                    <a:pt x="33968" y="3143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SMARTInkShape-Group9"/>
          <p:cNvGrpSpPr/>
          <p:nvPr/>
        </p:nvGrpSpPr>
        <p:grpSpPr>
          <a:xfrm>
            <a:off x="4494240" y="981000"/>
            <a:ext cx="1262160" cy="538200"/>
            <a:chOff x="4494240" y="981000"/>
            <a:chExt cx="1262160" cy="538200"/>
          </a:xfrm>
        </p:grpSpPr>
        <p:sp>
          <p:nvSpPr>
            <p:cNvPr id="75" name="SMARTInkShape-22"/>
            <p:cNvSpPr/>
            <p:nvPr/>
          </p:nvSpPr>
          <p:spPr>
            <a:xfrm>
              <a:off x="4494240" y="981000"/>
              <a:ext cx="778320" cy="538200"/>
            </a:xfrm>
            <a:custGeom>
              <a:avLst/>
              <a:gdLst>
                <a:gd name="textAreaLeft" fmla="*/ 0 w 778320"/>
                <a:gd name="textAreaRight" fmla="*/ 778680 w 7783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778509" h="538170">
                  <a:moveTo>
                    <a:pt x="78420" y="240104"/>
                  </a:moveTo>
                  <a:lnTo>
                    <a:pt x="78420" y="270119"/>
                  </a:lnTo>
                  <a:lnTo>
                    <a:pt x="78420" y="305381"/>
                  </a:lnTo>
                  <a:lnTo>
                    <a:pt x="78420" y="332383"/>
                  </a:lnTo>
                  <a:lnTo>
                    <a:pt x="78420" y="365165"/>
                  </a:lnTo>
                  <a:lnTo>
                    <a:pt x="78420" y="399221"/>
                  </a:lnTo>
                  <a:lnTo>
                    <a:pt x="78420" y="430566"/>
                  </a:lnTo>
                  <a:lnTo>
                    <a:pt x="78420" y="463048"/>
                  </a:lnTo>
                  <a:lnTo>
                    <a:pt x="78420" y="496162"/>
                  </a:lnTo>
                  <a:lnTo>
                    <a:pt x="78420" y="530156"/>
                  </a:lnTo>
                  <a:lnTo>
                    <a:pt x="78420" y="538169"/>
                  </a:lnTo>
                  <a:lnTo>
                    <a:pt x="77626" y="527552"/>
                  </a:lnTo>
                  <a:lnTo>
                    <a:pt x="72269" y="496562"/>
                  </a:lnTo>
                  <a:lnTo>
                    <a:pt x="71570" y="468051"/>
                  </a:lnTo>
                  <a:lnTo>
                    <a:pt x="69290" y="443808"/>
                  </a:lnTo>
                  <a:lnTo>
                    <a:pt x="66425" y="417158"/>
                  </a:lnTo>
                  <a:lnTo>
                    <a:pt x="65151" y="389438"/>
                  </a:lnTo>
                  <a:lnTo>
                    <a:pt x="64585" y="359127"/>
                  </a:lnTo>
                  <a:lnTo>
                    <a:pt x="65127" y="327928"/>
                  </a:lnTo>
                  <a:lnTo>
                    <a:pt x="68014" y="298187"/>
                  </a:lnTo>
                  <a:lnTo>
                    <a:pt x="71943" y="266977"/>
                  </a:lnTo>
                  <a:lnTo>
                    <a:pt x="76335" y="236173"/>
                  </a:lnTo>
                  <a:lnTo>
                    <a:pt x="80933" y="209253"/>
                  </a:lnTo>
                  <a:lnTo>
                    <a:pt x="87984" y="175577"/>
                  </a:lnTo>
                  <a:lnTo>
                    <a:pt x="98272" y="142251"/>
                  </a:lnTo>
                  <a:lnTo>
                    <a:pt x="110319" y="125562"/>
                  </a:lnTo>
                  <a:lnTo>
                    <a:pt x="119321" y="118288"/>
                  </a:lnTo>
                  <a:lnTo>
                    <a:pt x="123149" y="116825"/>
                  </a:lnTo>
                  <a:lnTo>
                    <a:pt x="126496" y="116643"/>
                  </a:lnTo>
                  <a:lnTo>
                    <a:pt x="129520" y="117316"/>
                  </a:lnTo>
                  <a:lnTo>
                    <a:pt x="148947" y="133431"/>
                  </a:lnTo>
                  <a:lnTo>
                    <a:pt x="163434" y="154522"/>
                  </a:lnTo>
                  <a:lnTo>
                    <a:pt x="175440" y="188686"/>
                  </a:lnTo>
                  <a:lnTo>
                    <a:pt x="182220" y="216579"/>
                  </a:lnTo>
                  <a:lnTo>
                    <a:pt x="183788" y="244952"/>
                  </a:lnTo>
                  <a:lnTo>
                    <a:pt x="179578" y="272673"/>
                  </a:lnTo>
                  <a:lnTo>
                    <a:pt x="171045" y="303776"/>
                  </a:lnTo>
                  <a:lnTo>
                    <a:pt x="165624" y="317615"/>
                  </a:lnTo>
                  <a:lnTo>
                    <a:pt x="157923" y="329058"/>
                  </a:lnTo>
                  <a:lnTo>
                    <a:pt x="147092" y="337318"/>
                  </a:lnTo>
                  <a:lnTo>
                    <a:pt x="129723" y="344315"/>
                  </a:lnTo>
                  <a:lnTo>
                    <a:pt x="99081" y="346873"/>
                  </a:lnTo>
                  <a:lnTo>
                    <a:pt x="71124" y="345067"/>
                  </a:lnTo>
                  <a:lnTo>
                    <a:pt x="57715" y="340730"/>
                  </a:lnTo>
                  <a:lnTo>
                    <a:pt x="26305" y="322437"/>
                  </a:lnTo>
                  <a:lnTo>
                    <a:pt x="9153" y="317310"/>
                  </a:lnTo>
                  <a:lnTo>
                    <a:pt x="384" y="311879"/>
                  </a:lnTo>
                  <a:lnTo>
                    <a:pt x="0" y="315434"/>
                  </a:lnTo>
                  <a:lnTo>
                    <a:pt x="2027" y="319357"/>
                  </a:lnTo>
                  <a:lnTo>
                    <a:pt x="17736" y="335590"/>
                  </a:lnTo>
                  <a:lnTo>
                    <a:pt x="37917" y="346836"/>
                  </a:lnTo>
                  <a:lnTo>
                    <a:pt x="68391" y="356702"/>
                  </a:lnTo>
                  <a:lnTo>
                    <a:pt x="95645" y="360112"/>
                  </a:lnTo>
                  <a:lnTo>
                    <a:pt x="127621" y="357330"/>
                  </a:lnTo>
                  <a:lnTo>
                    <a:pt x="162230" y="347686"/>
                  </a:lnTo>
                  <a:lnTo>
                    <a:pt x="193828" y="334775"/>
                  </a:lnTo>
                  <a:lnTo>
                    <a:pt x="227092" y="320895"/>
                  </a:lnTo>
                  <a:lnTo>
                    <a:pt x="258290" y="302936"/>
                  </a:lnTo>
                  <a:lnTo>
                    <a:pt x="287643" y="282534"/>
                  </a:lnTo>
                  <a:lnTo>
                    <a:pt x="319508" y="254306"/>
                  </a:lnTo>
                  <a:lnTo>
                    <a:pt x="343158" y="222454"/>
                  </a:lnTo>
                  <a:lnTo>
                    <a:pt x="354651" y="199543"/>
                  </a:lnTo>
                  <a:lnTo>
                    <a:pt x="355443" y="196395"/>
                  </a:lnTo>
                  <a:lnTo>
                    <a:pt x="355177" y="193502"/>
                  </a:lnTo>
                  <a:lnTo>
                    <a:pt x="352765" y="188171"/>
                  </a:lnTo>
                  <a:lnTo>
                    <a:pt x="351010" y="187226"/>
                  </a:lnTo>
                  <a:lnTo>
                    <a:pt x="349047" y="187390"/>
                  </a:lnTo>
                  <a:lnTo>
                    <a:pt x="344749" y="189688"/>
                  </a:lnTo>
                  <a:lnTo>
                    <a:pt x="340192" y="193355"/>
                  </a:lnTo>
                  <a:lnTo>
                    <a:pt x="326055" y="216787"/>
                  </a:lnTo>
                  <a:lnTo>
                    <a:pt x="317336" y="241143"/>
                  </a:lnTo>
                  <a:lnTo>
                    <a:pt x="314582" y="275960"/>
                  </a:lnTo>
                  <a:lnTo>
                    <a:pt x="319949" y="303631"/>
                  </a:lnTo>
                  <a:lnTo>
                    <a:pt x="328653" y="323091"/>
                  </a:lnTo>
                  <a:lnTo>
                    <a:pt x="338016" y="334813"/>
                  </a:lnTo>
                  <a:lnTo>
                    <a:pt x="340384" y="335787"/>
                  </a:lnTo>
                  <a:lnTo>
                    <a:pt x="342757" y="335643"/>
                  </a:lnTo>
                  <a:lnTo>
                    <a:pt x="356060" y="329708"/>
                  </a:lnTo>
                  <a:lnTo>
                    <a:pt x="358763" y="326828"/>
                  </a:lnTo>
                  <a:lnTo>
                    <a:pt x="371625" y="294917"/>
                  </a:lnTo>
                  <a:lnTo>
                    <a:pt x="376433" y="275131"/>
                  </a:lnTo>
                  <a:lnTo>
                    <a:pt x="376764" y="261228"/>
                  </a:lnTo>
                  <a:lnTo>
                    <a:pt x="372189" y="229569"/>
                  </a:lnTo>
                  <a:lnTo>
                    <a:pt x="363658" y="204566"/>
                  </a:lnTo>
                  <a:lnTo>
                    <a:pt x="354544" y="189163"/>
                  </a:lnTo>
                  <a:lnTo>
                    <a:pt x="349838" y="185714"/>
                  </a:lnTo>
                  <a:lnTo>
                    <a:pt x="342726" y="183772"/>
                  </a:lnTo>
                  <a:lnTo>
                    <a:pt x="340349" y="183499"/>
                  </a:lnTo>
                  <a:lnTo>
                    <a:pt x="338764" y="184905"/>
                  </a:lnTo>
                  <a:lnTo>
                    <a:pt x="337003" y="190700"/>
                  </a:lnTo>
                  <a:lnTo>
                    <a:pt x="336012" y="199096"/>
                  </a:lnTo>
                  <a:lnTo>
                    <a:pt x="343689" y="232562"/>
                  </a:lnTo>
                  <a:lnTo>
                    <a:pt x="362541" y="252742"/>
                  </a:lnTo>
                  <a:lnTo>
                    <a:pt x="373765" y="257627"/>
                  </a:lnTo>
                  <a:lnTo>
                    <a:pt x="386691" y="259005"/>
                  </a:lnTo>
                  <a:lnTo>
                    <a:pt x="408149" y="254524"/>
                  </a:lnTo>
                  <a:lnTo>
                    <a:pt x="443443" y="239190"/>
                  </a:lnTo>
                  <a:lnTo>
                    <a:pt x="473648" y="221312"/>
                  </a:lnTo>
                  <a:lnTo>
                    <a:pt x="505616" y="195907"/>
                  </a:lnTo>
                  <a:lnTo>
                    <a:pt x="533080" y="168271"/>
                  </a:lnTo>
                  <a:lnTo>
                    <a:pt x="556299" y="137858"/>
                  </a:lnTo>
                  <a:lnTo>
                    <a:pt x="576142" y="105828"/>
                  </a:lnTo>
                  <a:lnTo>
                    <a:pt x="589960" y="76229"/>
                  </a:lnTo>
                  <a:lnTo>
                    <a:pt x="597948" y="41575"/>
                  </a:lnTo>
                  <a:lnTo>
                    <a:pt x="598732" y="17503"/>
                  </a:lnTo>
                  <a:lnTo>
                    <a:pt x="595949" y="7291"/>
                  </a:lnTo>
                  <a:lnTo>
                    <a:pt x="594096" y="3933"/>
                  </a:lnTo>
                  <a:lnTo>
                    <a:pt x="592066" y="1694"/>
                  </a:lnTo>
                  <a:lnTo>
                    <a:pt x="589920" y="202"/>
                  </a:lnTo>
                  <a:lnTo>
                    <a:pt x="586901" y="0"/>
                  </a:lnTo>
                  <a:lnTo>
                    <a:pt x="579314" y="1893"/>
                  </a:lnTo>
                  <a:lnTo>
                    <a:pt x="566117" y="11214"/>
                  </a:lnTo>
                  <a:lnTo>
                    <a:pt x="552153" y="27823"/>
                  </a:lnTo>
                  <a:lnTo>
                    <a:pt x="538915" y="60471"/>
                  </a:lnTo>
                  <a:lnTo>
                    <a:pt x="531128" y="88896"/>
                  </a:lnTo>
                  <a:lnTo>
                    <a:pt x="523794" y="122100"/>
                  </a:lnTo>
                  <a:lnTo>
                    <a:pt x="518182" y="156280"/>
                  </a:lnTo>
                  <a:lnTo>
                    <a:pt x="520840" y="187663"/>
                  </a:lnTo>
                  <a:lnTo>
                    <a:pt x="527448" y="220156"/>
                  </a:lnTo>
                  <a:lnTo>
                    <a:pt x="534898" y="237589"/>
                  </a:lnTo>
                  <a:lnTo>
                    <a:pt x="551810" y="256998"/>
                  </a:lnTo>
                  <a:lnTo>
                    <a:pt x="583768" y="272075"/>
                  </a:lnTo>
                  <a:lnTo>
                    <a:pt x="599088" y="277597"/>
                  </a:lnTo>
                  <a:lnTo>
                    <a:pt x="624892" y="277583"/>
                  </a:lnTo>
                  <a:lnTo>
                    <a:pt x="656439" y="268760"/>
                  </a:lnTo>
                  <a:lnTo>
                    <a:pt x="691248" y="250762"/>
                  </a:lnTo>
                  <a:lnTo>
                    <a:pt x="718938" y="225100"/>
                  </a:lnTo>
                  <a:lnTo>
                    <a:pt x="743264" y="190797"/>
                  </a:lnTo>
                  <a:lnTo>
                    <a:pt x="747957" y="173548"/>
                  </a:lnTo>
                  <a:lnTo>
                    <a:pt x="748554" y="155296"/>
                  </a:lnTo>
                  <a:lnTo>
                    <a:pt x="745880" y="147379"/>
                  </a:lnTo>
                  <a:lnTo>
                    <a:pt x="739929" y="141214"/>
                  </a:lnTo>
                  <a:lnTo>
                    <a:pt x="732786" y="136622"/>
                  </a:lnTo>
                  <a:lnTo>
                    <a:pt x="726966" y="134581"/>
                  </a:lnTo>
                  <a:lnTo>
                    <a:pt x="711643" y="137224"/>
                  </a:lnTo>
                  <a:lnTo>
                    <a:pt x="695813" y="146827"/>
                  </a:lnTo>
                  <a:lnTo>
                    <a:pt x="672797" y="177395"/>
                  </a:lnTo>
                  <a:lnTo>
                    <a:pt x="668025" y="190802"/>
                  </a:lnTo>
                  <a:lnTo>
                    <a:pt x="664962" y="222604"/>
                  </a:lnTo>
                  <a:lnTo>
                    <a:pt x="668224" y="246296"/>
                  </a:lnTo>
                  <a:lnTo>
                    <a:pt x="682140" y="275635"/>
                  </a:lnTo>
                  <a:lnTo>
                    <a:pt x="696332" y="296405"/>
                  </a:lnTo>
                  <a:lnTo>
                    <a:pt x="715266" y="312172"/>
                  </a:lnTo>
                  <a:lnTo>
                    <a:pt x="750071" y="331459"/>
                  </a:lnTo>
                  <a:lnTo>
                    <a:pt x="778508" y="34011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SMARTInkShape-23"/>
            <p:cNvSpPr/>
            <p:nvPr/>
          </p:nvSpPr>
          <p:spPr>
            <a:xfrm>
              <a:off x="5486760" y="982440"/>
              <a:ext cx="269640" cy="5342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534240"/>
                <a:gd name="textAreaBottom" fmla="*/ 534600 h 534240"/>
              </a:gdLst>
              <a:ahLst/>
              <a:rect l="textAreaLeft" t="textAreaTop" r="textAreaRight" b="textAreaBottom"/>
              <a:pathLst>
                <a:path w="269710" h="533925">
                  <a:moveTo>
                    <a:pt x="49710" y="138545"/>
                  </a:moveTo>
                  <a:lnTo>
                    <a:pt x="35237" y="155135"/>
                  </a:lnTo>
                  <a:lnTo>
                    <a:pt x="18583" y="183445"/>
                  </a:lnTo>
                  <a:lnTo>
                    <a:pt x="7284" y="215882"/>
                  </a:lnTo>
                  <a:lnTo>
                    <a:pt x="1202" y="245455"/>
                  </a:lnTo>
                  <a:lnTo>
                    <a:pt x="0" y="274227"/>
                  </a:lnTo>
                  <a:lnTo>
                    <a:pt x="585" y="294105"/>
                  </a:lnTo>
                  <a:lnTo>
                    <a:pt x="3535" y="302404"/>
                  </a:lnTo>
                  <a:lnTo>
                    <a:pt x="5433" y="304934"/>
                  </a:lnTo>
                  <a:lnTo>
                    <a:pt x="9658" y="307745"/>
                  </a:lnTo>
                  <a:lnTo>
                    <a:pt x="24085" y="309328"/>
                  </a:lnTo>
                  <a:lnTo>
                    <a:pt x="39648" y="306005"/>
                  </a:lnTo>
                  <a:lnTo>
                    <a:pt x="47355" y="300019"/>
                  </a:lnTo>
                  <a:lnTo>
                    <a:pt x="66215" y="272962"/>
                  </a:lnTo>
                  <a:lnTo>
                    <a:pt x="74356" y="252456"/>
                  </a:lnTo>
                  <a:lnTo>
                    <a:pt x="77768" y="220867"/>
                  </a:lnTo>
                  <a:lnTo>
                    <a:pt x="74340" y="201830"/>
                  </a:lnTo>
                  <a:lnTo>
                    <a:pt x="64505" y="184901"/>
                  </a:lnTo>
                  <a:lnTo>
                    <a:pt x="47582" y="165254"/>
                  </a:lnTo>
                  <a:lnTo>
                    <a:pt x="42679" y="162322"/>
                  </a:lnTo>
                  <a:lnTo>
                    <a:pt x="33064" y="160439"/>
                  </a:lnTo>
                  <a:lnTo>
                    <a:pt x="31469" y="161079"/>
                  </a:lnTo>
                  <a:lnTo>
                    <a:pt x="30406" y="162299"/>
                  </a:lnTo>
                  <a:lnTo>
                    <a:pt x="29697" y="163906"/>
                  </a:lnTo>
                  <a:lnTo>
                    <a:pt x="30018" y="165771"/>
                  </a:lnTo>
                  <a:lnTo>
                    <a:pt x="34262" y="172188"/>
                  </a:lnTo>
                  <a:lnTo>
                    <a:pt x="38347" y="176781"/>
                  </a:lnTo>
                  <a:lnTo>
                    <a:pt x="44924" y="179351"/>
                  </a:lnTo>
                  <a:lnTo>
                    <a:pt x="73187" y="186046"/>
                  </a:lnTo>
                  <a:lnTo>
                    <a:pt x="97853" y="187015"/>
                  </a:lnTo>
                  <a:lnTo>
                    <a:pt x="121390" y="181834"/>
                  </a:lnTo>
                  <a:lnTo>
                    <a:pt x="155268" y="166263"/>
                  </a:lnTo>
                  <a:lnTo>
                    <a:pt x="185126" y="144108"/>
                  </a:lnTo>
                  <a:lnTo>
                    <a:pt x="212367" y="116801"/>
                  </a:lnTo>
                  <a:lnTo>
                    <a:pt x="233633" y="81354"/>
                  </a:lnTo>
                  <a:lnTo>
                    <a:pt x="245732" y="52812"/>
                  </a:lnTo>
                  <a:lnTo>
                    <a:pt x="253000" y="20892"/>
                  </a:lnTo>
                  <a:lnTo>
                    <a:pt x="256652" y="0"/>
                  </a:lnTo>
                  <a:lnTo>
                    <a:pt x="256727" y="144"/>
                  </a:lnTo>
                  <a:lnTo>
                    <a:pt x="257667" y="33576"/>
                  </a:lnTo>
                  <a:lnTo>
                    <a:pt x="261787" y="60524"/>
                  </a:lnTo>
                  <a:lnTo>
                    <a:pt x="263029" y="84819"/>
                  </a:lnTo>
                  <a:lnTo>
                    <a:pt x="263581" y="111491"/>
                  </a:lnTo>
                  <a:lnTo>
                    <a:pt x="263826" y="140015"/>
                  </a:lnTo>
                  <a:lnTo>
                    <a:pt x="263936" y="171213"/>
                  </a:lnTo>
                  <a:lnTo>
                    <a:pt x="263984" y="203599"/>
                  </a:lnTo>
                  <a:lnTo>
                    <a:pt x="264799" y="236514"/>
                  </a:lnTo>
                  <a:lnTo>
                    <a:pt x="267807" y="269664"/>
                  </a:lnTo>
                  <a:lnTo>
                    <a:pt x="269674" y="302918"/>
                  </a:lnTo>
                  <a:lnTo>
                    <a:pt x="269709" y="336218"/>
                  </a:lnTo>
                  <a:lnTo>
                    <a:pt x="267079" y="369539"/>
                  </a:lnTo>
                  <a:lnTo>
                    <a:pt x="265382" y="400753"/>
                  </a:lnTo>
                  <a:lnTo>
                    <a:pt x="263833" y="428913"/>
                  </a:lnTo>
                  <a:lnTo>
                    <a:pt x="257705" y="462617"/>
                  </a:lnTo>
                  <a:lnTo>
                    <a:pt x="246187" y="491917"/>
                  </a:lnTo>
                  <a:lnTo>
                    <a:pt x="237310" y="508324"/>
                  </a:lnTo>
                  <a:lnTo>
                    <a:pt x="225957" y="519320"/>
                  </a:lnTo>
                  <a:lnTo>
                    <a:pt x="203058" y="532847"/>
                  </a:lnTo>
                  <a:lnTo>
                    <a:pt x="190889" y="533924"/>
                  </a:lnTo>
                  <a:lnTo>
                    <a:pt x="178338" y="530962"/>
                  </a:lnTo>
                  <a:lnTo>
                    <a:pt x="167467" y="524355"/>
                  </a:lnTo>
                  <a:lnTo>
                    <a:pt x="148375" y="500452"/>
                  </a:lnTo>
                  <a:lnTo>
                    <a:pt x="144061" y="494116"/>
                  </a:lnTo>
                  <a:lnTo>
                    <a:pt x="137991" y="470030"/>
                  </a:lnTo>
                  <a:lnTo>
                    <a:pt x="139985" y="442785"/>
                  </a:lnTo>
                  <a:lnTo>
                    <a:pt x="149395" y="414604"/>
                  </a:lnTo>
                  <a:lnTo>
                    <a:pt x="166030" y="386146"/>
                  </a:lnTo>
                  <a:lnTo>
                    <a:pt x="189832" y="353813"/>
                  </a:lnTo>
                  <a:lnTo>
                    <a:pt x="206873" y="3314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SMARTInkShape-Group10"/>
          <p:cNvGrpSpPr/>
          <p:nvPr/>
        </p:nvGrpSpPr>
        <p:grpSpPr>
          <a:xfrm>
            <a:off x="5935680" y="960480"/>
            <a:ext cx="2851200" cy="2200320"/>
            <a:chOff x="5935680" y="960480"/>
            <a:chExt cx="2851200" cy="2200320"/>
          </a:xfrm>
        </p:grpSpPr>
        <p:sp>
          <p:nvSpPr>
            <p:cNvPr id="78" name="SMARTInkShape-24"/>
            <p:cNvSpPr/>
            <p:nvPr/>
          </p:nvSpPr>
          <p:spPr>
            <a:xfrm>
              <a:off x="5935680" y="960480"/>
              <a:ext cx="1543680" cy="627840"/>
            </a:xfrm>
            <a:custGeom>
              <a:avLst/>
              <a:gdLst>
                <a:gd name="textAreaLeft" fmla="*/ 0 w 1543680"/>
                <a:gd name="textAreaRight" fmla="*/ 1544040 w 1543680"/>
                <a:gd name="textAreaTop" fmla="*/ 0 h 627840"/>
                <a:gd name="textAreaBottom" fmla="*/ 628200 h 627840"/>
              </a:gdLst>
              <a:ahLst/>
              <a:rect l="textAreaLeft" t="textAreaTop" r="textAreaRight" b="textAreaBottom"/>
              <a:pathLst>
                <a:path w="1543051" h="627881">
                  <a:moveTo>
                    <a:pt x="0" y="318679"/>
                  </a:moveTo>
                  <a:lnTo>
                    <a:pt x="0" y="308736"/>
                  </a:lnTo>
                  <a:lnTo>
                    <a:pt x="14473" y="273498"/>
                  </a:lnTo>
                  <a:lnTo>
                    <a:pt x="31922" y="238999"/>
                  </a:lnTo>
                  <a:lnTo>
                    <a:pt x="48080" y="205808"/>
                  </a:lnTo>
                  <a:lnTo>
                    <a:pt x="62944" y="176087"/>
                  </a:lnTo>
                  <a:lnTo>
                    <a:pt x="90578" y="142910"/>
                  </a:lnTo>
                  <a:lnTo>
                    <a:pt x="100053" y="137372"/>
                  </a:lnTo>
                  <a:lnTo>
                    <a:pt x="115278" y="133817"/>
                  </a:lnTo>
                  <a:lnTo>
                    <a:pt x="120820" y="135447"/>
                  </a:lnTo>
                  <a:lnTo>
                    <a:pt x="123410" y="136993"/>
                  </a:lnTo>
                  <a:lnTo>
                    <a:pt x="125136" y="140405"/>
                  </a:lnTo>
                  <a:lnTo>
                    <a:pt x="131926" y="169643"/>
                  </a:lnTo>
                  <a:lnTo>
                    <a:pt x="134980" y="198223"/>
                  </a:lnTo>
                  <a:lnTo>
                    <a:pt x="135583" y="231503"/>
                  </a:lnTo>
                  <a:lnTo>
                    <a:pt x="133570" y="251839"/>
                  </a:lnTo>
                  <a:lnTo>
                    <a:pt x="129244" y="277069"/>
                  </a:lnTo>
                  <a:lnTo>
                    <a:pt x="128613" y="289549"/>
                  </a:lnTo>
                  <a:lnTo>
                    <a:pt x="129387" y="278588"/>
                  </a:lnTo>
                  <a:lnTo>
                    <a:pt x="138531" y="248920"/>
                  </a:lnTo>
                  <a:lnTo>
                    <a:pt x="153424" y="218998"/>
                  </a:lnTo>
                  <a:lnTo>
                    <a:pt x="171653" y="190157"/>
                  </a:lnTo>
                  <a:lnTo>
                    <a:pt x="199405" y="155969"/>
                  </a:lnTo>
                  <a:lnTo>
                    <a:pt x="215366" y="141342"/>
                  </a:lnTo>
                  <a:lnTo>
                    <a:pt x="226796" y="135431"/>
                  </a:lnTo>
                  <a:lnTo>
                    <a:pt x="229778" y="134601"/>
                  </a:lnTo>
                  <a:lnTo>
                    <a:pt x="232560" y="135635"/>
                  </a:lnTo>
                  <a:lnTo>
                    <a:pt x="237769" y="141018"/>
                  </a:lnTo>
                  <a:lnTo>
                    <a:pt x="240613" y="148702"/>
                  </a:lnTo>
                  <a:lnTo>
                    <a:pt x="242438" y="170363"/>
                  </a:lnTo>
                  <a:lnTo>
                    <a:pt x="237096" y="202481"/>
                  </a:lnTo>
                  <a:lnTo>
                    <a:pt x="228397" y="234696"/>
                  </a:lnTo>
                  <a:lnTo>
                    <a:pt x="219035" y="267606"/>
                  </a:lnTo>
                  <a:lnTo>
                    <a:pt x="212818" y="300018"/>
                  </a:lnTo>
                  <a:lnTo>
                    <a:pt x="208843" y="310239"/>
                  </a:lnTo>
                  <a:lnTo>
                    <a:pt x="207500" y="317012"/>
                  </a:lnTo>
                  <a:lnTo>
                    <a:pt x="211059" y="310601"/>
                  </a:lnTo>
                  <a:lnTo>
                    <a:pt x="218118" y="281897"/>
                  </a:lnTo>
                  <a:lnTo>
                    <a:pt x="234115" y="250383"/>
                  </a:lnTo>
                  <a:lnTo>
                    <a:pt x="244081" y="222949"/>
                  </a:lnTo>
                  <a:lnTo>
                    <a:pt x="265172" y="190144"/>
                  </a:lnTo>
                  <a:lnTo>
                    <a:pt x="283332" y="158146"/>
                  </a:lnTo>
                  <a:lnTo>
                    <a:pt x="290231" y="147319"/>
                  </a:lnTo>
                  <a:lnTo>
                    <a:pt x="303363" y="133900"/>
                  </a:lnTo>
                  <a:lnTo>
                    <a:pt x="304636" y="131200"/>
                  </a:lnTo>
                  <a:lnTo>
                    <a:pt x="306278" y="130193"/>
                  </a:lnTo>
                  <a:lnTo>
                    <a:pt x="308167" y="130315"/>
                  </a:lnTo>
                  <a:lnTo>
                    <a:pt x="310220" y="131191"/>
                  </a:lnTo>
                  <a:lnTo>
                    <a:pt x="311588" y="132568"/>
                  </a:lnTo>
                  <a:lnTo>
                    <a:pt x="313109" y="136215"/>
                  </a:lnTo>
                  <a:lnTo>
                    <a:pt x="311668" y="142599"/>
                  </a:lnTo>
                  <a:lnTo>
                    <a:pt x="309176" y="151521"/>
                  </a:lnTo>
                  <a:lnTo>
                    <a:pt x="307444" y="183513"/>
                  </a:lnTo>
                  <a:lnTo>
                    <a:pt x="303118" y="212428"/>
                  </a:lnTo>
                  <a:lnTo>
                    <a:pt x="306144" y="243658"/>
                  </a:lnTo>
                  <a:lnTo>
                    <a:pt x="308991" y="260467"/>
                  </a:lnTo>
                  <a:lnTo>
                    <a:pt x="314861" y="273385"/>
                  </a:lnTo>
                  <a:lnTo>
                    <a:pt x="317064" y="276577"/>
                  </a:lnTo>
                  <a:lnTo>
                    <a:pt x="320913" y="278705"/>
                  </a:lnTo>
                  <a:lnTo>
                    <a:pt x="331540" y="281069"/>
                  </a:lnTo>
                  <a:lnTo>
                    <a:pt x="344202" y="277887"/>
                  </a:lnTo>
                  <a:lnTo>
                    <a:pt x="375525" y="262908"/>
                  </a:lnTo>
                  <a:lnTo>
                    <a:pt x="402926" y="241741"/>
                  </a:lnTo>
                  <a:lnTo>
                    <a:pt x="434945" y="219154"/>
                  </a:lnTo>
                  <a:lnTo>
                    <a:pt x="469914" y="184485"/>
                  </a:lnTo>
                  <a:lnTo>
                    <a:pt x="499752" y="149179"/>
                  </a:lnTo>
                  <a:lnTo>
                    <a:pt x="520992" y="122832"/>
                  </a:lnTo>
                  <a:lnTo>
                    <a:pt x="525240" y="110192"/>
                  </a:lnTo>
                  <a:lnTo>
                    <a:pt x="528439" y="85106"/>
                  </a:lnTo>
                  <a:lnTo>
                    <a:pt x="527711" y="85176"/>
                  </a:lnTo>
                  <a:lnTo>
                    <a:pt x="524787" y="87371"/>
                  </a:lnTo>
                  <a:lnTo>
                    <a:pt x="498889" y="120788"/>
                  </a:lnTo>
                  <a:lnTo>
                    <a:pt x="478870" y="155265"/>
                  </a:lnTo>
                  <a:lnTo>
                    <a:pt x="466531" y="183212"/>
                  </a:lnTo>
                  <a:lnTo>
                    <a:pt x="455251" y="217308"/>
                  </a:lnTo>
                  <a:lnTo>
                    <a:pt x="446173" y="251089"/>
                  </a:lnTo>
                  <a:lnTo>
                    <a:pt x="444672" y="269372"/>
                  </a:lnTo>
                  <a:lnTo>
                    <a:pt x="447135" y="279832"/>
                  </a:lnTo>
                  <a:lnTo>
                    <a:pt x="448902" y="283256"/>
                  </a:lnTo>
                  <a:lnTo>
                    <a:pt x="450874" y="285539"/>
                  </a:lnTo>
                  <a:lnTo>
                    <a:pt x="452983" y="287061"/>
                  </a:lnTo>
                  <a:lnTo>
                    <a:pt x="455976" y="287281"/>
                  </a:lnTo>
                  <a:lnTo>
                    <a:pt x="480509" y="279894"/>
                  </a:lnTo>
                  <a:lnTo>
                    <a:pt x="496827" y="269440"/>
                  </a:lnTo>
                  <a:lnTo>
                    <a:pt x="515508" y="252496"/>
                  </a:lnTo>
                  <a:lnTo>
                    <a:pt x="532541" y="220528"/>
                  </a:lnTo>
                  <a:lnTo>
                    <a:pt x="548253" y="188343"/>
                  </a:lnTo>
                  <a:lnTo>
                    <a:pt x="555443" y="155439"/>
                  </a:lnTo>
                  <a:lnTo>
                    <a:pt x="556069" y="132505"/>
                  </a:lnTo>
                  <a:lnTo>
                    <a:pt x="553265" y="125340"/>
                  </a:lnTo>
                  <a:lnTo>
                    <a:pt x="551406" y="123111"/>
                  </a:lnTo>
                  <a:lnTo>
                    <a:pt x="547224" y="120635"/>
                  </a:lnTo>
                  <a:lnTo>
                    <a:pt x="540407" y="119241"/>
                  </a:lnTo>
                  <a:lnTo>
                    <a:pt x="538071" y="120633"/>
                  </a:lnTo>
                  <a:lnTo>
                    <a:pt x="518958" y="143852"/>
                  </a:lnTo>
                  <a:lnTo>
                    <a:pt x="505118" y="176300"/>
                  </a:lnTo>
                  <a:lnTo>
                    <a:pt x="501561" y="193590"/>
                  </a:lnTo>
                  <a:lnTo>
                    <a:pt x="504299" y="212560"/>
                  </a:lnTo>
                  <a:lnTo>
                    <a:pt x="513929" y="229469"/>
                  </a:lnTo>
                  <a:lnTo>
                    <a:pt x="526837" y="240741"/>
                  </a:lnTo>
                  <a:lnTo>
                    <a:pt x="538157" y="244353"/>
                  </a:lnTo>
                  <a:lnTo>
                    <a:pt x="551918" y="245164"/>
                  </a:lnTo>
                  <a:lnTo>
                    <a:pt x="577516" y="240364"/>
                  </a:lnTo>
                  <a:lnTo>
                    <a:pt x="606003" y="229241"/>
                  </a:lnTo>
                  <a:lnTo>
                    <a:pt x="638433" y="215097"/>
                  </a:lnTo>
                  <a:lnTo>
                    <a:pt x="669296" y="196178"/>
                  </a:lnTo>
                  <a:lnTo>
                    <a:pt x="702429" y="175491"/>
                  </a:lnTo>
                  <a:lnTo>
                    <a:pt x="731914" y="154280"/>
                  </a:lnTo>
                  <a:lnTo>
                    <a:pt x="767220" y="122434"/>
                  </a:lnTo>
                  <a:lnTo>
                    <a:pt x="789390" y="99965"/>
                  </a:lnTo>
                  <a:lnTo>
                    <a:pt x="791900" y="94155"/>
                  </a:lnTo>
                  <a:lnTo>
                    <a:pt x="792252" y="94384"/>
                  </a:lnTo>
                  <a:lnTo>
                    <a:pt x="792487" y="95330"/>
                  </a:lnTo>
                  <a:lnTo>
                    <a:pt x="763992" y="128212"/>
                  </a:lnTo>
                  <a:lnTo>
                    <a:pt x="740518" y="162629"/>
                  </a:lnTo>
                  <a:lnTo>
                    <a:pt x="723626" y="195809"/>
                  </a:lnTo>
                  <a:lnTo>
                    <a:pt x="712410" y="225529"/>
                  </a:lnTo>
                  <a:lnTo>
                    <a:pt x="707686" y="254913"/>
                  </a:lnTo>
                  <a:lnTo>
                    <a:pt x="709122" y="257118"/>
                  </a:lnTo>
                  <a:lnTo>
                    <a:pt x="711667" y="258589"/>
                  </a:lnTo>
                  <a:lnTo>
                    <a:pt x="714950" y="259569"/>
                  </a:lnTo>
                  <a:lnTo>
                    <a:pt x="722833" y="258541"/>
                  </a:lnTo>
                  <a:lnTo>
                    <a:pt x="746298" y="248436"/>
                  </a:lnTo>
                  <a:lnTo>
                    <a:pt x="775317" y="227722"/>
                  </a:lnTo>
                  <a:lnTo>
                    <a:pt x="794353" y="203346"/>
                  </a:lnTo>
                  <a:lnTo>
                    <a:pt x="809182" y="168524"/>
                  </a:lnTo>
                  <a:lnTo>
                    <a:pt x="819356" y="140695"/>
                  </a:lnTo>
                  <a:lnTo>
                    <a:pt x="821494" y="112357"/>
                  </a:lnTo>
                  <a:lnTo>
                    <a:pt x="821520" y="115554"/>
                  </a:lnTo>
                  <a:lnTo>
                    <a:pt x="827682" y="138268"/>
                  </a:lnTo>
                  <a:lnTo>
                    <a:pt x="829273" y="169066"/>
                  </a:lnTo>
                  <a:lnTo>
                    <a:pt x="834320" y="201942"/>
                  </a:lnTo>
                  <a:lnTo>
                    <a:pt x="838592" y="227902"/>
                  </a:lnTo>
                  <a:lnTo>
                    <a:pt x="843137" y="253198"/>
                  </a:lnTo>
                  <a:lnTo>
                    <a:pt x="847009" y="279258"/>
                  </a:lnTo>
                  <a:lnTo>
                    <a:pt x="848730" y="309361"/>
                  </a:lnTo>
                  <a:lnTo>
                    <a:pt x="851611" y="339144"/>
                  </a:lnTo>
                  <a:lnTo>
                    <a:pt x="854744" y="369050"/>
                  </a:lnTo>
                  <a:lnTo>
                    <a:pt x="856136" y="400862"/>
                  </a:lnTo>
                  <a:lnTo>
                    <a:pt x="856755" y="433521"/>
                  </a:lnTo>
                  <a:lnTo>
                    <a:pt x="857030" y="465764"/>
                  </a:lnTo>
                  <a:lnTo>
                    <a:pt x="857153" y="495969"/>
                  </a:lnTo>
                  <a:lnTo>
                    <a:pt x="855090" y="523152"/>
                  </a:lnTo>
                  <a:lnTo>
                    <a:pt x="849466" y="558651"/>
                  </a:lnTo>
                  <a:lnTo>
                    <a:pt x="842773" y="587161"/>
                  </a:lnTo>
                  <a:lnTo>
                    <a:pt x="837322" y="602311"/>
                  </a:lnTo>
                  <a:lnTo>
                    <a:pt x="820132" y="626238"/>
                  </a:lnTo>
                  <a:lnTo>
                    <a:pt x="818217" y="627700"/>
                  </a:lnTo>
                  <a:lnTo>
                    <a:pt x="816941" y="627880"/>
                  </a:lnTo>
                  <a:lnTo>
                    <a:pt x="807308" y="618675"/>
                  </a:lnTo>
                  <a:lnTo>
                    <a:pt x="803303" y="608379"/>
                  </a:lnTo>
                  <a:lnTo>
                    <a:pt x="796941" y="574783"/>
                  </a:lnTo>
                  <a:lnTo>
                    <a:pt x="794727" y="550772"/>
                  </a:lnTo>
                  <a:lnTo>
                    <a:pt x="793743" y="524225"/>
                  </a:lnTo>
                  <a:lnTo>
                    <a:pt x="793307" y="496552"/>
                  </a:lnTo>
                  <a:lnTo>
                    <a:pt x="795228" y="464144"/>
                  </a:lnTo>
                  <a:lnTo>
                    <a:pt x="799522" y="429368"/>
                  </a:lnTo>
                  <a:lnTo>
                    <a:pt x="806722" y="395391"/>
                  </a:lnTo>
                  <a:lnTo>
                    <a:pt x="815214" y="361769"/>
                  </a:lnTo>
                  <a:lnTo>
                    <a:pt x="825074" y="328305"/>
                  </a:lnTo>
                  <a:lnTo>
                    <a:pt x="837393" y="294912"/>
                  </a:lnTo>
                  <a:lnTo>
                    <a:pt x="850806" y="261549"/>
                  </a:lnTo>
                  <a:lnTo>
                    <a:pt x="864705" y="229788"/>
                  </a:lnTo>
                  <a:lnTo>
                    <a:pt x="878819" y="202443"/>
                  </a:lnTo>
                  <a:lnTo>
                    <a:pt x="903947" y="168528"/>
                  </a:lnTo>
                  <a:lnTo>
                    <a:pt x="934384" y="135914"/>
                  </a:lnTo>
                  <a:lnTo>
                    <a:pt x="952159" y="123327"/>
                  </a:lnTo>
                  <a:lnTo>
                    <a:pt x="965313" y="117292"/>
                  </a:lnTo>
                  <a:lnTo>
                    <a:pt x="976980" y="116197"/>
                  </a:lnTo>
                  <a:lnTo>
                    <a:pt x="982314" y="117016"/>
                  </a:lnTo>
                  <a:lnTo>
                    <a:pt x="986663" y="119149"/>
                  </a:lnTo>
                  <a:lnTo>
                    <a:pt x="993612" y="125754"/>
                  </a:lnTo>
                  <a:lnTo>
                    <a:pt x="1001988" y="138397"/>
                  </a:lnTo>
                  <a:lnTo>
                    <a:pt x="1011135" y="168298"/>
                  </a:lnTo>
                  <a:lnTo>
                    <a:pt x="1013441" y="195452"/>
                  </a:lnTo>
                  <a:lnTo>
                    <a:pt x="1014125" y="223606"/>
                  </a:lnTo>
                  <a:lnTo>
                    <a:pt x="1013534" y="251263"/>
                  </a:lnTo>
                  <a:lnTo>
                    <a:pt x="1008742" y="282344"/>
                  </a:lnTo>
                  <a:lnTo>
                    <a:pt x="1005588" y="302092"/>
                  </a:lnTo>
                  <a:lnTo>
                    <a:pt x="1001204" y="315403"/>
                  </a:lnTo>
                  <a:lnTo>
                    <a:pt x="1000051" y="316495"/>
                  </a:lnTo>
                  <a:lnTo>
                    <a:pt x="996653" y="317708"/>
                  </a:lnTo>
                  <a:lnTo>
                    <a:pt x="996222" y="317238"/>
                  </a:lnTo>
                  <a:lnTo>
                    <a:pt x="998616" y="311991"/>
                  </a:lnTo>
                  <a:lnTo>
                    <a:pt x="1000786" y="280848"/>
                  </a:lnTo>
                  <a:lnTo>
                    <a:pt x="1007870" y="246354"/>
                  </a:lnTo>
                  <a:lnTo>
                    <a:pt x="1016913" y="212759"/>
                  </a:lnTo>
                  <a:lnTo>
                    <a:pt x="1026342" y="179076"/>
                  </a:lnTo>
                  <a:lnTo>
                    <a:pt x="1040609" y="146138"/>
                  </a:lnTo>
                  <a:lnTo>
                    <a:pt x="1048721" y="134836"/>
                  </a:lnTo>
                  <a:lnTo>
                    <a:pt x="1049190" y="134999"/>
                  </a:lnTo>
                  <a:lnTo>
                    <a:pt x="1049714" y="137295"/>
                  </a:lnTo>
                  <a:lnTo>
                    <a:pt x="1050107" y="169995"/>
                  </a:lnTo>
                  <a:lnTo>
                    <a:pt x="1052243" y="199616"/>
                  </a:lnTo>
                  <a:lnTo>
                    <a:pt x="1060074" y="232013"/>
                  </a:lnTo>
                  <a:lnTo>
                    <a:pt x="1070851" y="261343"/>
                  </a:lnTo>
                  <a:lnTo>
                    <a:pt x="1097192" y="293431"/>
                  </a:lnTo>
                  <a:lnTo>
                    <a:pt x="1115669" y="304936"/>
                  </a:lnTo>
                  <a:lnTo>
                    <a:pt x="1132433" y="309580"/>
                  </a:lnTo>
                  <a:lnTo>
                    <a:pt x="1151246" y="307164"/>
                  </a:lnTo>
                  <a:lnTo>
                    <a:pt x="1171902" y="297628"/>
                  </a:lnTo>
                  <a:lnTo>
                    <a:pt x="1194512" y="279390"/>
                  </a:lnTo>
                  <a:lnTo>
                    <a:pt x="1208622" y="259678"/>
                  </a:lnTo>
                  <a:lnTo>
                    <a:pt x="1220903" y="227091"/>
                  </a:lnTo>
                  <a:lnTo>
                    <a:pt x="1226408" y="204759"/>
                  </a:lnTo>
                  <a:lnTo>
                    <a:pt x="1228267" y="179672"/>
                  </a:lnTo>
                  <a:lnTo>
                    <a:pt x="1224798" y="164338"/>
                  </a:lnTo>
                  <a:lnTo>
                    <a:pt x="1218742" y="153533"/>
                  </a:lnTo>
                  <a:lnTo>
                    <a:pt x="1211920" y="145305"/>
                  </a:lnTo>
                  <a:lnTo>
                    <a:pt x="1209585" y="144359"/>
                  </a:lnTo>
                  <a:lnTo>
                    <a:pt x="1207234" y="144522"/>
                  </a:lnTo>
                  <a:lnTo>
                    <a:pt x="1202505" y="146820"/>
                  </a:lnTo>
                  <a:lnTo>
                    <a:pt x="1197757" y="150487"/>
                  </a:lnTo>
                  <a:lnTo>
                    <a:pt x="1190622" y="160806"/>
                  </a:lnTo>
                  <a:lnTo>
                    <a:pt x="1187274" y="177710"/>
                  </a:lnTo>
                  <a:lnTo>
                    <a:pt x="1186281" y="201593"/>
                  </a:lnTo>
                  <a:lnTo>
                    <a:pt x="1190282" y="217428"/>
                  </a:lnTo>
                  <a:lnTo>
                    <a:pt x="1201994" y="246997"/>
                  </a:lnTo>
                  <a:lnTo>
                    <a:pt x="1213308" y="264808"/>
                  </a:lnTo>
                  <a:lnTo>
                    <a:pt x="1230507" y="280140"/>
                  </a:lnTo>
                  <a:lnTo>
                    <a:pt x="1250684" y="290944"/>
                  </a:lnTo>
                  <a:lnTo>
                    <a:pt x="1275536" y="295380"/>
                  </a:lnTo>
                  <a:lnTo>
                    <a:pt x="1306801" y="289110"/>
                  </a:lnTo>
                  <a:lnTo>
                    <a:pt x="1337408" y="277198"/>
                  </a:lnTo>
                  <a:lnTo>
                    <a:pt x="1366584" y="256029"/>
                  </a:lnTo>
                  <a:lnTo>
                    <a:pt x="1395338" y="229649"/>
                  </a:lnTo>
                  <a:lnTo>
                    <a:pt x="1420172" y="201724"/>
                  </a:lnTo>
                  <a:lnTo>
                    <a:pt x="1442613" y="169550"/>
                  </a:lnTo>
                  <a:lnTo>
                    <a:pt x="1456759" y="134881"/>
                  </a:lnTo>
                  <a:lnTo>
                    <a:pt x="1465977" y="99473"/>
                  </a:lnTo>
                  <a:lnTo>
                    <a:pt x="1473735" y="67639"/>
                  </a:lnTo>
                  <a:lnTo>
                    <a:pt x="1473476" y="41891"/>
                  </a:lnTo>
                  <a:lnTo>
                    <a:pt x="1461834" y="7313"/>
                  </a:lnTo>
                  <a:lnTo>
                    <a:pt x="1458662" y="204"/>
                  </a:lnTo>
                  <a:lnTo>
                    <a:pt x="1457422" y="0"/>
                  </a:lnTo>
                  <a:lnTo>
                    <a:pt x="1453929" y="1890"/>
                  </a:lnTo>
                  <a:lnTo>
                    <a:pt x="1447499" y="11209"/>
                  </a:lnTo>
                  <a:lnTo>
                    <a:pt x="1435854" y="43092"/>
                  </a:lnTo>
                  <a:lnTo>
                    <a:pt x="1426361" y="78769"/>
                  </a:lnTo>
                  <a:lnTo>
                    <a:pt x="1423015" y="110717"/>
                  </a:lnTo>
                  <a:lnTo>
                    <a:pt x="1425816" y="145319"/>
                  </a:lnTo>
                  <a:lnTo>
                    <a:pt x="1431673" y="180706"/>
                  </a:lnTo>
                  <a:lnTo>
                    <a:pt x="1442228" y="212534"/>
                  </a:lnTo>
                  <a:lnTo>
                    <a:pt x="1451617" y="242073"/>
                  </a:lnTo>
                  <a:lnTo>
                    <a:pt x="1472513" y="274796"/>
                  </a:lnTo>
                  <a:lnTo>
                    <a:pt x="1494868" y="302073"/>
                  </a:lnTo>
                  <a:lnTo>
                    <a:pt x="1518187" y="319191"/>
                  </a:lnTo>
                  <a:lnTo>
                    <a:pt x="1533985" y="325241"/>
                  </a:lnTo>
                  <a:lnTo>
                    <a:pt x="1543050" y="32582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SMARTInkShape-25"/>
            <p:cNvSpPr/>
            <p:nvPr/>
          </p:nvSpPr>
          <p:spPr>
            <a:xfrm>
              <a:off x="7272000" y="1050480"/>
              <a:ext cx="178560" cy="4968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78594" h="50008">
                  <a:moveTo>
                    <a:pt x="0" y="50007"/>
                  </a:moveTo>
                  <a:lnTo>
                    <a:pt x="3792" y="50007"/>
                  </a:lnTo>
                  <a:lnTo>
                    <a:pt x="4909" y="49213"/>
                  </a:lnTo>
                  <a:lnTo>
                    <a:pt x="5654" y="47890"/>
                  </a:lnTo>
                  <a:lnTo>
                    <a:pt x="6150" y="46214"/>
                  </a:lnTo>
                  <a:lnTo>
                    <a:pt x="10935" y="42236"/>
                  </a:lnTo>
                  <a:lnTo>
                    <a:pt x="19941" y="37821"/>
                  </a:lnTo>
                  <a:lnTo>
                    <a:pt x="51593" y="26403"/>
                  </a:lnTo>
                  <a:lnTo>
                    <a:pt x="83284" y="15761"/>
                  </a:lnTo>
                  <a:lnTo>
                    <a:pt x="108453" y="10180"/>
                  </a:lnTo>
                  <a:lnTo>
                    <a:pt x="143347" y="3369"/>
                  </a:lnTo>
                  <a:lnTo>
                    <a:pt x="178593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" bIns="43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SMARTInkShape-26"/>
            <p:cNvSpPr/>
            <p:nvPr/>
          </p:nvSpPr>
          <p:spPr>
            <a:xfrm>
              <a:off x="7715520" y="1057680"/>
              <a:ext cx="35280" cy="23544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35390" h="235745">
                  <a:moveTo>
                    <a:pt x="35389" y="0"/>
                  </a:moveTo>
                  <a:lnTo>
                    <a:pt x="31596" y="3792"/>
                  </a:lnTo>
                  <a:lnTo>
                    <a:pt x="29734" y="9888"/>
                  </a:lnTo>
                  <a:lnTo>
                    <a:pt x="26259" y="43731"/>
                  </a:lnTo>
                  <a:lnTo>
                    <a:pt x="18328" y="79194"/>
                  </a:lnTo>
                  <a:lnTo>
                    <a:pt x="11460" y="109013"/>
                  </a:lnTo>
                  <a:lnTo>
                    <a:pt x="8190" y="137957"/>
                  </a:lnTo>
                  <a:lnTo>
                    <a:pt x="2176" y="170479"/>
                  </a:lnTo>
                  <a:lnTo>
                    <a:pt x="0" y="203248"/>
                  </a:lnTo>
                  <a:lnTo>
                    <a:pt x="6814" y="23574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SMARTInkShape-27"/>
            <p:cNvSpPr/>
            <p:nvPr/>
          </p:nvSpPr>
          <p:spPr>
            <a:xfrm>
              <a:off x="7615080" y="1086120"/>
              <a:ext cx="207000" cy="4968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07169" h="50007">
                  <a:moveTo>
                    <a:pt x="0" y="50006"/>
                  </a:moveTo>
                  <a:lnTo>
                    <a:pt x="0" y="46214"/>
                  </a:lnTo>
                  <a:lnTo>
                    <a:pt x="793" y="45097"/>
                  </a:lnTo>
                  <a:lnTo>
                    <a:pt x="2116" y="44352"/>
                  </a:lnTo>
                  <a:lnTo>
                    <a:pt x="3792" y="43856"/>
                  </a:lnTo>
                  <a:lnTo>
                    <a:pt x="7770" y="39070"/>
                  </a:lnTo>
                  <a:lnTo>
                    <a:pt x="13772" y="31652"/>
                  </a:lnTo>
                  <a:lnTo>
                    <a:pt x="31332" y="19344"/>
                  </a:lnTo>
                  <a:lnTo>
                    <a:pt x="57085" y="10318"/>
                  </a:lnTo>
                  <a:lnTo>
                    <a:pt x="89498" y="3410"/>
                  </a:lnTo>
                  <a:lnTo>
                    <a:pt x="124237" y="1010"/>
                  </a:lnTo>
                  <a:lnTo>
                    <a:pt x="158078" y="299"/>
                  </a:lnTo>
                  <a:lnTo>
                    <a:pt x="189534" y="59"/>
                  </a:lnTo>
                  <a:lnTo>
                    <a:pt x="20716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" bIns="43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SMARTInkShape-28"/>
            <p:cNvSpPr/>
            <p:nvPr/>
          </p:nvSpPr>
          <p:spPr>
            <a:xfrm>
              <a:off x="7165080" y="1616760"/>
              <a:ext cx="406800" cy="24696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406772" h="247185">
                  <a:moveTo>
                    <a:pt x="35296" y="12414"/>
                  </a:moveTo>
                  <a:lnTo>
                    <a:pt x="35296" y="16206"/>
                  </a:lnTo>
                  <a:lnTo>
                    <a:pt x="19202" y="46735"/>
                  </a:lnTo>
                  <a:lnTo>
                    <a:pt x="11654" y="76734"/>
                  </a:lnTo>
                  <a:lnTo>
                    <a:pt x="4390" y="106966"/>
                  </a:lnTo>
                  <a:lnTo>
                    <a:pt x="1004" y="139825"/>
                  </a:lnTo>
                  <a:lnTo>
                    <a:pt x="0" y="170904"/>
                  </a:lnTo>
                  <a:lnTo>
                    <a:pt x="5364" y="204146"/>
                  </a:lnTo>
                  <a:lnTo>
                    <a:pt x="12580" y="225592"/>
                  </a:lnTo>
                  <a:lnTo>
                    <a:pt x="20174" y="237070"/>
                  </a:lnTo>
                  <a:lnTo>
                    <a:pt x="28840" y="243230"/>
                  </a:lnTo>
                  <a:lnTo>
                    <a:pt x="42644" y="246698"/>
                  </a:lnTo>
                  <a:lnTo>
                    <a:pt x="47339" y="247184"/>
                  </a:lnTo>
                  <a:lnTo>
                    <a:pt x="56788" y="243492"/>
                  </a:lnTo>
                  <a:lnTo>
                    <a:pt x="66279" y="235765"/>
                  </a:lnTo>
                  <a:lnTo>
                    <a:pt x="93861" y="200812"/>
                  </a:lnTo>
                  <a:lnTo>
                    <a:pt x="114297" y="173716"/>
                  </a:lnTo>
                  <a:lnTo>
                    <a:pt x="135433" y="145580"/>
                  </a:lnTo>
                  <a:lnTo>
                    <a:pt x="156776" y="117134"/>
                  </a:lnTo>
                  <a:lnTo>
                    <a:pt x="178182" y="88598"/>
                  </a:lnTo>
                  <a:lnTo>
                    <a:pt x="201046" y="57008"/>
                  </a:lnTo>
                  <a:lnTo>
                    <a:pt x="220848" y="36774"/>
                  </a:lnTo>
                  <a:lnTo>
                    <a:pt x="232462" y="28691"/>
                  </a:lnTo>
                  <a:lnTo>
                    <a:pt x="234209" y="28822"/>
                  </a:lnTo>
                  <a:lnTo>
                    <a:pt x="238267" y="31083"/>
                  </a:lnTo>
                  <a:lnTo>
                    <a:pt x="239666" y="33591"/>
                  </a:lnTo>
                  <a:lnTo>
                    <a:pt x="241912" y="49023"/>
                  </a:lnTo>
                  <a:lnTo>
                    <a:pt x="241598" y="77766"/>
                  </a:lnTo>
                  <a:lnTo>
                    <a:pt x="236305" y="108774"/>
                  </a:lnTo>
                  <a:lnTo>
                    <a:pt x="235359" y="143862"/>
                  </a:lnTo>
                  <a:lnTo>
                    <a:pt x="235329" y="147299"/>
                  </a:lnTo>
                  <a:lnTo>
                    <a:pt x="239115" y="144102"/>
                  </a:lnTo>
                  <a:lnTo>
                    <a:pt x="260157" y="111110"/>
                  </a:lnTo>
                  <a:lnTo>
                    <a:pt x="278386" y="81475"/>
                  </a:lnTo>
                  <a:lnTo>
                    <a:pt x="293482" y="49074"/>
                  </a:lnTo>
                  <a:lnTo>
                    <a:pt x="304900" y="25447"/>
                  </a:lnTo>
                  <a:lnTo>
                    <a:pt x="326474" y="0"/>
                  </a:lnTo>
                  <a:lnTo>
                    <a:pt x="327839" y="169"/>
                  </a:lnTo>
                  <a:lnTo>
                    <a:pt x="331474" y="2474"/>
                  </a:lnTo>
                  <a:lnTo>
                    <a:pt x="333618" y="8261"/>
                  </a:lnTo>
                  <a:lnTo>
                    <a:pt x="336942" y="20444"/>
                  </a:lnTo>
                  <a:lnTo>
                    <a:pt x="340017" y="30270"/>
                  </a:lnTo>
                  <a:lnTo>
                    <a:pt x="344108" y="58098"/>
                  </a:lnTo>
                  <a:lnTo>
                    <a:pt x="347988" y="84687"/>
                  </a:lnTo>
                  <a:lnTo>
                    <a:pt x="350483" y="103273"/>
                  </a:lnTo>
                  <a:lnTo>
                    <a:pt x="362903" y="138958"/>
                  </a:lnTo>
                  <a:lnTo>
                    <a:pt x="368638" y="161827"/>
                  </a:lnTo>
                  <a:lnTo>
                    <a:pt x="371567" y="175657"/>
                  </a:lnTo>
                  <a:lnTo>
                    <a:pt x="378160" y="187096"/>
                  </a:lnTo>
                  <a:lnTo>
                    <a:pt x="384265" y="193238"/>
                  </a:lnTo>
                  <a:lnTo>
                    <a:pt x="399533" y="203374"/>
                  </a:lnTo>
                  <a:lnTo>
                    <a:pt x="406771" y="20529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SMARTInkShape-29"/>
            <p:cNvSpPr/>
            <p:nvPr/>
          </p:nvSpPr>
          <p:spPr>
            <a:xfrm>
              <a:off x="7615440" y="1472040"/>
              <a:ext cx="398520" cy="30492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398626" h="305181">
                  <a:moveTo>
                    <a:pt x="113751" y="0"/>
                  </a:moveTo>
                  <a:lnTo>
                    <a:pt x="113751" y="3792"/>
                  </a:lnTo>
                  <a:lnTo>
                    <a:pt x="111634" y="7770"/>
                  </a:lnTo>
                  <a:lnTo>
                    <a:pt x="109958" y="9942"/>
                  </a:lnTo>
                  <a:lnTo>
                    <a:pt x="108096" y="16589"/>
                  </a:lnTo>
                  <a:lnTo>
                    <a:pt x="101099" y="50603"/>
                  </a:lnTo>
                  <a:lnTo>
                    <a:pt x="95274" y="82550"/>
                  </a:lnTo>
                  <a:lnTo>
                    <a:pt x="93195" y="117151"/>
                  </a:lnTo>
                  <a:lnTo>
                    <a:pt x="91785" y="152539"/>
                  </a:lnTo>
                  <a:lnTo>
                    <a:pt x="87486" y="188160"/>
                  </a:lnTo>
                  <a:lnTo>
                    <a:pt x="86654" y="223055"/>
                  </a:lnTo>
                  <a:lnTo>
                    <a:pt x="91081" y="253062"/>
                  </a:lnTo>
                  <a:lnTo>
                    <a:pt x="98203" y="288559"/>
                  </a:lnTo>
                  <a:lnTo>
                    <a:pt x="101019" y="297052"/>
                  </a:lnTo>
                  <a:lnTo>
                    <a:pt x="105503" y="305180"/>
                  </a:lnTo>
                  <a:lnTo>
                    <a:pt x="105870" y="305053"/>
                  </a:lnTo>
                  <a:lnTo>
                    <a:pt x="106280" y="302796"/>
                  </a:lnTo>
                  <a:lnTo>
                    <a:pt x="106587" y="270125"/>
                  </a:lnTo>
                  <a:lnTo>
                    <a:pt x="104486" y="240506"/>
                  </a:lnTo>
                  <a:lnTo>
                    <a:pt x="96718" y="215723"/>
                  </a:lnTo>
                  <a:lnTo>
                    <a:pt x="79871" y="186016"/>
                  </a:lnTo>
                  <a:lnTo>
                    <a:pt x="60462" y="158805"/>
                  </a:lnTo>
                  <a:lnTo>
                    <a:pt x="31386" y="141337"/>
                  </a:lnTo>
                  <a:lnTo>
                    <a:pt x="12344" y="136838"/>
                  </a:lnTo>
                  <a:lnTo>
                    <a:pt x="1305" y="135877"/>
                  </a:lnTo>
                  <a:lnTo>
                    <a:pt x="687" y="136622"/>
                  </a:lnTo>
                  <a:lnTo>
                    <a:pt x="0" y="139566"/>
                  </a:lnTo>
                  <a:lnTo>
                    <a:pt x="3406" y="149479"/>
                  </a:lnTo>
                  <a:lnTo>
                    <a:pt x="26200" y="176374"/>
                  </a:lnTo>
                  <a:lnTo>
                    <a:pt x="47682" y="186755"/>
                  </a:lnTo>
                  <a:lnTo>
                    <a:pt x="74154" y="194858"/>
                  </a:lnTo>
                  <a:lnTo>
                    <a:pt x="105898" y="202286"/>
                  </a:lnTo>
                  <a:lnTo>
                    <a:pt x="130898" y="204998"/>
                  </a:lnTo>
                  <a:lnTo>
                    <a:pt x="157884" y="206998"/>
                  </a:lnTo>
                  <a:lnTo>
                    <a:pt x="185753" y="210532"/>
                  </a:lnTo>
                  <a:lnTo>
                    <a:pt x="211897" y="210515"/>
                  </a:lnTo>
                  <a:lnTo>
                    <a:pt x="236746" y="207862"/>
                  </a:lnTo>
                  <a:lnTo>
                    <a:pt x="272255" y="201906"/>
                  </a:lnTo>
                  <a:lnTo>
                    <a:pt x="301649" y="195114"/>
                  </a:lnTo>
                  <a:lnTo>
                    <a:pt x="331856" y="183336"/>
                  </a:lnTo>
                  <a:lnTo>
                    <a:pt x="339803" y="176468"/>
                  </a:lnTo>
                  <a:lnTo>
                    <a:pt x="343033" y="172414"/>
                  </a:lnTo>
                  <a:lnTo>
                    <a:pt x="344393" y="168917"/>
                  </a:lnTo>
                  <a:lnTo>
                    <a:pt x="344506" y="165793"/>
                  </a:lnTo>
                  <a:lnTo>
                    <a:pt x="342515" y="160204"/>
                  </a:lnTo>
                  <a:lnTo>
                    <a:pt x="338984" y="155074"/>
                  </a:lnTo>
                  <a:lnTo>
                    <a:pt x="324949" y="147724"/>
                  </a:lnTo>
                  <a:lnTo>
                    <a:pt x="305709" y="144311"/>
                  </a:lnTo>
                  <a:lnTo>
                    <a:pt x="277081" y="148862"/>
                  </a:lnTo>
                  <a:lnTo>
                    <a:pt x="243791" y="159521"/>
                  </a:lnTo>
                  <a:lnTo>
                    <a:pt x="214050" y="176678"/>
                  </a:lnTo>
                  <a:lnTo>
                    <a:pt x="196209" y="186845"/>
                  </a:lnTo>
                  <a:lnTo>
                    <a:pt x="192535" y="190444"/>
                  </a:lnTo>
                  <a:lnTo>
                    <a:pt x="188454" y="198677"/>
                  </a:lnTo>
                  <a:lnTo>
                    <a:pt x="186155" y="212237"/>
                  </a:lnTo>
                  <a:lnTo>
                    <a:pt x="187420" y="216104"/>
                  </a:lnTo>
                  <a:lnTo>
                    <a:pt x="193060" y="222517"/>
                  </a:lnTo>
                  <a:lnTo>
                    <a:pt x="205160" y="230589"/>
                  </a:lnTo>
                  <a:lnTo>
                    <a:pt x="226383" y="234216"/>
                  </a:lnTo>
                  <a:lnTo>
                    <a:pt x="262000" y="229738"/>
                  </a:lnTo>
                  <a:lnTo>
                    <a:pt x="290144" y="222675"/>
                  </a:lnTo>
                  <a:lnTo>
                    <a:pt x="317798" y="210881"/>
                  </a:lnTo>
                  <a:lnTo>
                    <a:pt x="348878" y="192673"/>
                  </a:lnTo>
                  <a:lnTo>
                    <a:pt x="374156" y="173790"/>
                  </a:lnTo>
                  <a:lnTo>
                    <a:pt x="389521" y="155739"/>
                  </a:lnTo>
                  <a:lnTo>
                    <a:pt x="395065" y="144359"/>
                  </a:lnTo>
                  <a:lnTo>
                    <a:pt x="398625" y="120325"/>
                  </a:lnTo>
                  <a:lnTo>
                    <a:pt x="395448" y="103473"/>
                  </a:lnTo>
                  <a:lnTo>
                    <a:pt x="382685" y="80064"/>
                  </a:lnTo>
                  <a:lnTo>
                    <a:pt x="379559" y="77188"/>
                  </a:lnTo>
                  <a:lnTo>
                    <a:pt x="371853" y="73993"/>
                  </a:lnTo>
                  <a:lnTo>
                    <a:pt x="356638" y="714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SMARTInkShape-30"/>
            <p:cNvSpPr/>
            <p:nvPr/>
          </p:nvSpPr>
          <p:spPr>
            <a:xfrm>
              <a:off x="7193160" y="1987200"/>
              <a:ext cx="735840" cy="470520"/>
            </a:xfrm>
            <a:custGeom>
              <a:avLst/>
              <a:gdLst>
                <a:gd name="textAreaLeft" fmla="*/ 0 w 735840"/>
                <a:gd name="textAreaRight" fmla="*/ 736200 w 735840"/>
                <a:gd name="textAreaTop" fmla="*/ 0 h 470520"/>
                <a:gd name="textAreaBottom" fmla="*/ 470880 h 470520"/>
              </a:gdLst>
              <a:ahLst/>
              <a:rect l="textAreaLeft" t="textAreaTop" r="textAreaRight" b="textAreaBottom"/>
              <a:pathLst>
                <a:path w="735808" h="470509">
                  <a:moveTo>
                    <a:pt x="0" y="313346"/>
                  </a:moveTo>
                  <a:lnTo>
                    <a:pt x="3793" y="317138"/>
                  </a:lnTo>
                  <a:lnTo>
                    <a:pt x="9888" y="319000"/>
                  </a:lnTo>
                  <a:lnTo>
                    <a:pt x="42310" y="320358"/>
                  </a:lnTo>
                  <a:lnTo>
                    <a:pt x="73390" y="318334"/>
                  </a:lnTo>
                  <a:lnTo>
                    <a:pt x="96912" y="314769"/>
                  </a:lnTo>
                  <a:lnTo>
                    <a:pt x="123241" y="310538"/>
                  </a:lnTo>
                  <a:lnTo>
                    <a:pt x="152934" y="303896"/>
                  </a:lnTo>
                  <a:lnTo>
                    <a:pt x="184653" y="294858"/>
                  </a:lnTo>
                  <a:lnTo>
                    <a:pt x="217269" y="282904"/>
                  </a:lnTo>
                  <a:lnTo>
                    <a:pt x="250287" y="267537"/>
                  </a:lnTo>
                  <a:lnTo>
                    <a:pt x="282688" y="250917"/>
                  </a:lnTo>
                  <a:lnTo>
                    <a:pt x="312965" y="235593"/>
                  </a:lnTo>
                  <a:lnTo>
                    <a:pt x="342296" y="216612"/>
                  </a:lnTo>
                  <a:lnTo>
                    <a:pt x="371207" y="195740"/>
                  </a:lnTo>
                  <a:lnTo>
                    <a:pt x="399931" y="175881"/>
                  </a:lnTo>
                  <a:lnTo>
                    <a:pt x="435292" y="143058"/>
                  </a:lnTo>
                  <a:lnTo>
                    <a:pt x="462086" y="111989"/>
                  </a:lnTo>
                  <a:lnTo>
                    <a:pt x="481314" y="78883"/>
                  </a:lnTo>
                  <a:lnTo>
                    <a:pt x="489480" y="51523"/>
                  </a:lnTo>
                  <a:lnTo>
                    <a:pt x="491446" y="21738"/>
                  </a:lnTo>
                  <a:lnTo>
                    <a:pt x="488825" y="10176"/>
                  </a:lnTo>
                  <a:lnTo>
                    <a:pt x="487015" y="6457"/>
                  </a:lnTo>
                  <a:lnTo>
                    <a:pt x="485014" y="3978"/>
                  </a:lnTo>
                  <a:lnTo>
                    <a:pt x="482886" y="2326"/>
                  </a:lnTo>
                  <a:lnTo>
                    <a:pt x="476289" y="489"/>
                  </a:lnTo>
                  <a:lnTo>
                    <a:pt x="472308" y="0"/>
                  </a:lnTo>
                  <a:lnTo>
                    <a:pt x="463650" y="3689"/>
                  </a:lnTo>
                  <a:lnTo>
                    <a:pt x="454510" y="11414"/>
                  </a:lnTo>
                  <a:lnTo>
                    <a:pt x="430966" y="46367"/>
                  </a:lnTo>
                  <a:lnTo>
                    <a:pt x="416707" y="81047"/>
                  </a:lnTo>
                  <a:lnTo>
                    <a:pt x="407189" y="105591"/>
                  </a:lnTo>
                  <a:lnTo>
                    <a:pt x="398460" y="130523"/>
                  </a:lnTo>
                  <a:lnTo>
                    <a:pt x="391936" y="157479"/>
                  </a:lnTo>
                  <a:lnTo>
                    <a:pt x="388506" y="185334"/>
                  </a:lnTo>
                  <a:lnTo>
                    <a:pt x="386982" y="213589"/>
                  </a:lnTo>
                  <a:lnTo>
                    <a:pt x="386305" y="242022"/>
                  </a:lnTo>
                  <a:lnTo>
                    <a:pt x="385923" y="277219"/>
                  </a:lnTo>
                  <a:lnTo>
                    <a:pt x="385811" y="307757"/>
                  </a:lnTo>
                  <a:lnTo>
                    <a:pt x="389569" y="329329"/>
                  </a:lnTo>
                  <a:lnTo>
                    <a:pt x="399503" y="345774"/>
                  </a:lnTo>
                  <a:lnTo>
                    <a:pt x="405893" y="351571"/>
                  </a:lnTo>
                  <a:lnTo>
                    <a:pt x="408708" y="353117"/>
                  </a:lnTo>
                  <a:lnTo>
                    <a:pt x="411378" y="352560"/>
                  </a:lnTo>
                  <a:lnTo>
                    <a:pt x="416462" y="347707"/>
                  </a:lnTo>
                  <a:lnTo>
                    <a:pt x="438282" y="317095"/>
                  </a:lnTo>
                  <a:lnTo>
                    <a:pt x="446215" y="298052"/>
                  </a:lnTo>
                  <a:lnTo>
                    <a:pt x="454629" y="262604"/>
                  </a:lnTo>
                  <a:lnTo>
                    <a:pt x="457100" y="243476"/>
                  </a:lnTo>
                  <a:lnTo>
                    <a:pt x="459316" y="273300"/>
                  </a:lnTo>
                  <a:lnTo>
                    <a:pt x="469385" y="307366"/>
                  </a:lnTo>
                  <a:lnTo>
                    <a:pt x="477127" y="331859"/>
                  </a:lnTo>
                  <a:lnTo>
                    <a:pt x="498111" y="360272"/>
                  </a:lnTo>
                  <a:lnTo>
                    <a:pt x="522520" y="379089"/>
                  </a:lnTo>
                  <a:lnTo>
                    <a:pt x="544023" y="387770"/>
                  </a:lnTo>
                  <a:lnTo>
                    <a:pt x="569356" y="389901"/>
                  </a:lnTo>
                  <a:lnTo>
                    <a:pt x="593090" y="385065"/>
                  </a:lnTo>
                  <a:lnTo>
                    <a:pt x="627035" y="369610"/>
                  </a:lnTo>
                  <a:lnTo>
                    <a:pt x="641426" y="359783"/>
                  </a:lnTo>
                  <a:lnTo>
                    <a:pt x="665717" y="331955"/>
                  </a:lnTo>
                  <a:lnTo>
                    <a:pt x="685626" y="299912"/>
                  </a:lnTo>
                  <a:lnTo>
                    <a:pt x="694569" y="274087"/>
                  </a:lnTo>
                  <a:lnTo>
                    <a:pt x="698452" y="242535"/>
                  </a:lnTo>
                  <a:lnTo>
                    <a:pt x="695811" y="219428"/>
                  </a:lnTo>
                  <a:lnTo>
                    <a:pt x="693268" y="215015"/>
                  </a:lnTo>
                  <a:lnTo>
                    <a:pt x="689985" y="212073"/>
                  </a:lnTo>
                  <a:lnTo>
                    <a:pt x="682104" y="208804"/>
                  </a:lnTo>
                  <a:lnTo>
                    <a:pt x="673310" y="207351"/>
                  </a:lnTo>
                  <a:lnTo>
                    <a:pt x="669535" y="208552"/>
                  </a:lnTo>
                  <a:lnTo>
                    <a:pt x="651419" y="226178"/>
                  </a:lnTo>
                  <a:lnTo>
                    <a:pt x="637866" y="243597"/>
                  </a:lnTo>
                  <a:lnTo>
                    <a:pt x="632746" y="259063"/>
                  </a:lnTo>
                  <a:lnTo>
                    <a:pt x="631265" y="276520"/>
                  </a:lnTo>
                  <a:lnTo>
                    <a:pt x="635686" y="304198"/>
                  </a:lnTo>
                  <a:lnTo>
                    <a:pt x="646699" y="332508"/>
                  </a:lnTo>
                  <a:lnTo>
                    <a:pt x="660809" y="361797"/>
                  </a:lnTo>
                  <a:lnTo>
                    <a:pt x="679718" y="394465"/>
                  </a:lnTo>
                  <a:lnTo>
                    <a:pt x="699609" y="423811"/>
                  </a:lnTo>
                  <a:lnTo>
                    <a:pt x="725905" y="459067"/>
                  </a:lnTo>
                  <a:lnTo>
                    <a:pt x="735807" y="47050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SMARTInkShape-31"/>
            <p:cNvSpPr/>
            <p:nvPr/>
          </p:nvSpPr>
          <p:spPr>
            <a:xfrm>
              <a:off x="7569000" y="2751840"/>
              <a:ext cx="217080" cy="40896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217147" h="409113">
                  <a:moveTo>
                    <a:pt x="174573" y="34603"/>
                  </a:moveTo>
                  <a:lnTo>
                    <a:pt x="174573" y="30810"/>
                  </a:lnTo>
                  <a:lnTo>
                    <a:pt x="172456" y="26832"/>
                  </a:lnTo>
                  <a:lnTo>
                    <a:pt x="164630" y="17810"/>
                  </a:lnTo>
                  <a:lnTo>
                    <a:pt x="153988" y="10753"/>
                  </a:lnTo>
                  <a:lnTo>
                    <a:pt x="128577" y="1395"/>
                  </a:lnTo>
                  <a:lnTo>
                    <a:pt x="119470" y="0"/>
                  </a:lnTo>
                  <a:lnTo>
                    <a:pt x="105418" y="3007"/>
                  </a:lnTo>
                  <a:lnTo>
                    <a:pt x="73920" y="15517"/>
                  </a:lnTo>
                  <a:lnTo>
                    <a:pt x="43667" y="37293"/>
                  </a:lnTo>
                  <a:lnTo>
                    <a:pt x="19069" y="58212"/>
                  </a:lnTo>
                  <a:lnTo>
                    <a:pt x="10210" y="71289"/>
                  </a:lnTo>
                  <a:lnTo>
                    <a:pt x="264" y="106168"/>
                  </a:lnTo>
                  <a:lnTo>
                    <a:pt x="0" y="120384"/>
                  </a:lnTo>
                  <a:lnTo>
                    <a:pt x="5093" y="156054"/>
                  </a:lnTo>
                  <a:lnTo>
                    <a:pt x="29106" y="191766"/>
                  </a:lnTo>
                  <a:lnTo>
                    <a:pt x="59731" y="220340"/>
                  </a:lnTo>
                  <a:lnTo>
                    <a:pt x="87012" y="241771"/>
                  </a:lnTo>
                  <a:lnTo>
                    <a:pt x="115997" y="263203"/>
                  </a:lnTo>
                  <a:lnTo>
                    <a:pt x="147781" y="284634"/>
                  </a:lnTo>
                  <a:lnTo>
                    <a:pt x="180658" y="313209"/>
                  </a:lnTo>
                  <a:lnTo>
                    <a:pt x="206290" y="337992"/>
                  </a:lnTo>
                  <a:lnTo>
                    <a:pt x="212482" y="350417"/>
                  </a:lnTo>
                  <a:lnTo>
                    <a:pt x="217146" y="385285"/>
                  </a:lnTo>
                  <a:lnTo>
                    <a:pt x="210957" y="393133"/>
                  </a:lnTo>
                  <a:lnTo>
                    <a:pt x="201062" y="400324"/>
                  </a:lnTo>
                  <a:lnTo>
                    <a:pt x="169408" y="409112"/>
                  </a:lnTo>
                  <a:lnTo>
                    <a:pt x="138451" y="407500"/>
                  </a:lnTo>
                  <a:lnTo>
                    <a:pt x="104702" y="404242"/>
                  </a:lnTo>
                  <a:lnTo>
                    <a:pt x="82169" y="396273"/>
                  </a:lnTo>
                  <a:lnTo>
                    <a:pt x="38842" y="37035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SMARTInkShape-32"/>
            <p:cNvSpPr/>
            <p:nvPr/>
          </p:nvSpPr>
          <p:spPr>
            <a:xfrm>
              <a:off x="7846560" y="2850840"/>
              <a:ext cx="157680" cy="24156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57885" h="241574">
                  <a:moveTo>
                    <a:pt x="68700" y="0"/>
                  </a:moveTo>
                  <a:lnTo>
                    <a:pt x="68700" y="6151"/>
                  </a:lnTo>
                  <a:lnTo>
                    <a:pt x="62203" y="18354"/>
                  </a:lnTo>
                  <a:lnTo>
                    <a:pt x="37383" y="51889"/>
                  </a:lnTo>
                  <a:lnTo>
                    <a:pt x="18622" y="86567"/>
                  </a:lnTo>
                  <a:lnTo>
                    <a:pt x="6501" y="114550"/>
                  </a:lnTo>
                  <a:lnTo>
                    <a:pt x="0" y="142949"/>
                  </a:lnTo>
                  <a:lnTo>
                    <a:pt x="190" y="169356"/>
                  </a:lnTo>
                  <a:lnTo>
                    <a:pt x="7366" y="199612"/>
                  </a:lnTo>
                  <a:lnTo>
                    <a:pt x="14103" y="217542"/>
                  </a:lnTo>
                  <a:lnTo>
                    <a:pt x="25120" y="227919"/>
                  </a:lnTo>
                  <a:lnTo>
                    <a:pt x="39806" y="236235"/>
                  </a:lnTo>
                  <a:lnTo>
                    <a:pt x="68637" y="241573"/>
                  </a:lnTo>
                  <a:lnTo>
                    <a:pt x="83753" y="240716"/>
                  </a:lnTo>
                  <a:lnTo>
                    <a:pt x="117211" y="229347"/>
                  </a:lnTo>
                  <a:lnTo>
                    <a:pt x="131536" y="222582"/>
                  </a:lnTo>
                  <a:lnTo>
                    <a:pt x="143194" y="211638"/>
                  </a:lnTo>
                  <a:lnTo>
                    <a:pt x="149433" y="200953"/>
                  </a:lnTo>
                  <a:lnTo>
                    <a:pt x="157884" y="170632"/>
                  </a:lnTo>
                  <a:lnTo>
                    <a:pt x="153227" y="140597"/>
                  </a:lnTo>
                  <a:lnTo>
                    <a:pt x="144809" y="115742"/>
                  </a:lnTo>
                  <a:lnTo>
                    <a:pt x="128847" y="80359"/>
                  </a:lnTo>
                  <a:lnTo>
                    <a:pt x="118706" y="64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SMARTInkShape-33"/>
            <p:cNvSpPr/>
            <p:nvPr/>
          </p:nvSpPr>
          <p:spPr>
            <a:xfrm>
              <a:off x="8001000" y="2836440"/>
              <a:ext cx="285840" cy="2340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285751" h="234085">
                  <a:moveTo>
                    <a:pt x="0" y="0"/>
                  </a:moveTo>
                  <a:lnTo>
                    <a:pt x="5704" y="34204"/>
                  </a:lnTo>
                  <a:lnTo>
                    <a:pt x="12185" y="62169"/>
                  </a:lnTo>
                  <a:lnTo>
                    <a:pt x="19132" y="90563"/>
                  </a:lnTo>
                  <a:lnTo>
                    <a:pt x="26219" y="118291"/>
                  </a:lnTo>
                  <a:lnTo>
                    <a:pt x="35723" y="149396"/>
                  </a:lnTo>
                  <a:lnTo>
                    <a:pt x="38103" y="156747"/>
                  </a:lnTo>
                  <a:lnTo>
                    <a:pt x="49214" y="169148"/>
                  </a:lnTo>
                  <a:lnTo>
                    <a:pt x="56622" y="174678"/>
                  </a:lnTo>
                  <a:lnTo>
                    <a:pt x="65529" y="176777"/>
                  </a:lnTo>
                  <a:lnTo>
                    <a:pt x="86010" y="174876"/>
                  </a:lnTo>
                  <a:lnTo>
                    <a:pt x="101991" y="168739"/>
                  </a:lnTo>
                  <a:lnTo>
                    <a:pt x="125186" y="151864"/>
                  </a:lnTo>
                  <a:lnTo>
                    <a:pt x="144261" y="127541"/>
                  </a:lnTo>
                  <a:lnTo>
                    <a:pt x="156496" y="97689"/>
                  </a:lnTo>
                  <a:lnTo>
                    <a:pt x="160041" y="85486"/>
                  </a:lnTo>
                  <a:lnTo>
                    <a:pt x="159876" y="85565"/>
                  </a:lnTo>
                  <a:lnTo>
                    <a:pt x="158369" y="91210"/>
                  </a:lnTo>
                  <a:lnTo>
                    <a:pt x="157321" y="119912"/>
                  </a:lnTo>
                  <a:lnTo>
                    <a:pt x="157987" y="149716"/>
                  </a:lnTo>
                  <a:lnTo>
                    <a:pt x="164940" y="178534"/>
                  </a:lnTo>
                  <a:lnTo>
                    <a:pt x="177749" y="207156"/>
                  </a:lnTo>
                  <a:lnTo>
                    <a:pt x="187163" y="221011"/>
                  </a:lnTo>
                  <a:lnTo>
                    <a:pt x="202564" y="230144"/>
                  </a:lnTo>
                  <a:lnTo>
                    <a:pt x="218416" y="234084"/>
                  </a:lnTo>
                  <a:lnTo>
                    <a:pt x="223398" y="233050"/>
                  </a:lnTo>
                  <a:lnTo>
                    <a:pt x="237995" y="224009"/>
                  </a:lnTo>
                  <a:lnTo>
                    <a:pt x="271455" y="192752"/>
                  </a:lnTo>
                  <a:lnTo>
                    <a:pt x="285750" y="1785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SMARTInkShape-34"/>
            <p:cNvSpPr/>
            <p:nvPr/>
          </p:nvSpPr>
          <p:spPr>
            <a:xfrm>
              <a:off x="8379720" y="2651040"/>
              <a:ext cx="35640" cy="4140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414000"/>
                <a:gd name="textAreaBottom" fmla="*/ 414360 h 414000"/>
              </a:gdLst>
              <a:ahLst/>
              <a:rect l="textAreaLeft" t="textAreaTop" r="textAreaRight" b="textAreaBottom"/>
              <a:pathLst>
                <a:path w="35718" h="414045">
                  <a:moveTo>
                    <a:pt x="14285" y="6850"/>
                  </a:moveTo>
                  <a:lnTo>
                    <a:pt x="7436" y="0"/>
                  </a:lnTo>
                  <a:lnTo>
                    <a:pt x="6406" y="11171"/>
                  </a:lnTo>
                  <a:lnTo>
                    <a:pt x="1498" y="30781"/>
                  </a:lnTo>
                  <a:lnTo>
                    <a:pt x="294" y="64935"/>
                  </a:lnTo>
                  <a:lnTo>
                    <a:pt x="85" y="98320"/>
                  </a:lnTo>
                  <a:lnTo>
                    <a:pt x="23" y="133347"/>
                  </a:lnTo>
                  <a:lnTo>
                    <a:pt x="9" y="159115"/>
                  </a:lnTo>
                  <a:lnTo>
                    <a:pt x="3" y="186442"/>
                  </a:lnTo>
                  <a:lnTo>
                    <a:pt x="0" y="214462"/>
                  </a:lnTo>
                  <a:lnTo>
                    <a:pt x="2115" y="242791"/>
                  </a:lnTo>
                  <a:lnTo>
                    <a:pt x="4908" y="270463"/>
                  </a:lnTo>
                  <a:lnTo>
                    <a:pt x="6149" y="295990"/>
                  </a:lnTo>
                  <a:lnTo>
                    <a:pt x="10640" y="328882"/>
                  </a:lnTo>
                  <a:lnTo>
                    <a:pt x="13205" y="358736"/>
                  </a:lnTo>
                  <a:lnTo>
                    <a:pt x="19775" y="389978"/>
                  </a:lnTo>
                  <a:lnTo>
                    <a:pt x="28490" y="410219"/>
                  </a:lnTo>
                  <a:lnTo>
                    <a:pt x="30105" y="411494"/>
                  </a:lnTo>
                  <a:lnTo>
                    <a:pt x="35717" y="41404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SMARTInkShape-35"/>
            <p:cNvSpPr/>
            <p:nvPr/>
          </p:nvSpPr>
          <p:spPr>
            <a:xfrm>
              <a:off x="8208000" y="2566800"/>
              <a:ext cx="578880" cy="505080"/>
            </a:xfrm>
            <a:custGeom>
              <a:avLst/>
              <a:gdLst>
                <a:gd name="textAreaLeft" fmla="*/ 0 w 578880"/>
                <a:gd name="textAreaRight" fmla="*/ 579240 w 57888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578645" h="505307">
                  <a:moveTo>
                    <a:pt x="0" y="205268"/>
                  </a:moveTo>
                  <a:lnTo>
                    <a:pt x="0" y="209060"/>
                  </a:lnTo>
                  <a:lnTo>
                    <a:pt x="2117" y="213039"/>
                  </a:lnTo>
                  <a:lnTo>
                    <a:pt x="3793" y="215211"/>
                  </a:lnTo>
                  <a:lnTo>
                    <a:pt x="9888" y="217625"/>
                  </a:lnTo>
                  <a:lnTo>
                    <a:pt x="18682" y="220285"/>
                  </a:lnTo>
                  <a:lnTo>
                    <a:pt x="38608" y="229120"/>
                  </a:lnTo>
                  <a:lnTo>
                    <a:pt x="69736" y="233238"/>
                  </a:lnTo>
                  <a:lnTo>
                    <a:pt x="95288" y="237013"/>
                  </a:lnTo>
                  <a:lnTo>
                    <a:pt x="124636" y="239221"/>
                  </a:lnTo>
                  <a:lnTo>
                    <a:pt x="156200" y="239408"/>
                  </a:lnTo>
                  <a:lnTo>
                    <a:pt x="188749" y="236846"/>
                  </a:lnTo>
                  <a:lnTo>
                    <a:pt x="219620" y="233061"/>
                  </a:lnTo>
                  <a:lnTo>
                    <a:pt x="250009" y="227939"/>
                  </a:lnTo>
                  <a:lnTo>
                    <a:pt x="282036" y="220371"/>
                  </a:lnTo>
                  <a:lnTo>
                    <a:pt x="312674" y="209600"/>
                  </a:lnTo>
                  <a:lnTo>
                    <a:pt x="341373" y="196874"/>
                  </a:lnTo>
                  <a:lnTo>
                    <a:pt x="367356" y="183281"/>
                  </a:lnTo>
                  <a:lnTo>
                    <a:pt x="396713" y="158448"/>
                  </a:lnTo>
                  <a:lnTo>
                    <a:pt x="420493" y="130982"/>
                  </a:lnTo>
                  <a:lnTo>
                    <a:pt x="438454" y="98166"/>
                  </a:lnTo>
                  <a:lnTo>
                    <a:pt x="446266" y="71229"/>
                  </a:lnTo>
                  <a:lnTo>
                    <a:pt x="448139" y="44726"/>
                  </a:lnTo>
                  <a:lnTo>
                    <a:pt x="442063" y="20745"/>
                  </a:lnTo>
                  <a:lnTo>
                    <a:pt x="439965" y="15577"/>
                  </a:lnTo>
                  <a:lnTo>
                    <a:pt x="433400" y="7719"/>
                  </a:lnTo>
                  <a:lnTo>
                    <a:pt x="425191" y="2375"/>
                  </a:lnTo>
                  <a:lnTo>
                    <a:pt x="416251" y="0"/>
                  </a:lnTo>
                  <a:lnTo>
                    <a:pt x="411644" y="954"/>
                  </a:lnTo>
                  <a:lnTo>
                    <a:pt x="402293" y="6247"/>
                  </a:lnTo>
                  <a:lnTo>
                    <a:pt x="388103" y="21945"/>
                  </a:lnTo>
                  <a:lnTo>
                    <a:pt x="369879" y="55079"/>
                  </a:lnTo>
                  <a:lnTo>
                    <a:pt x="360506" y="87566"/>
                  </a:lnTo>
                  <a:lnTo>
                    <a:pt x="352702" y="123121"/>
                  </a:lnTo>
                  <a:lnTo>
                    <a:pt x="347785" y="149708"/>
                  </a:lnTo>
                  <a:lnTo>
                    <a:pt x="345071" y="179516"/>
                  </a:lnTo>
                  <a:lnTo>
                    <a:pt x="343071" y="210492"/>
                  </a:lnTo>
                  <a:lnTo>
                    <a:pt x="339536" y="240133"/>
                  </a:lnTo>
                  <a:lnTo>
                    <a:pt x="339553" y="269182"/>
                  </a:lnTo>
                  <a:lnTo>
                    <a:pt x="341412" y="296381"/>
                  </a:lnTo>
                  <a:lnTo>
                    <a:pt x="342459" y="329543"/>
                  </a:lnTo>
                  <a:lnTo>
                    <a:pt x="343563" y="358683"/>
                  </a:lnTo>
                  <a:lnTo>
                    <a:pt x="349033" y="393863"/>
                  </a:lnTo>
                  <a:lnTo>
                    <a:pt x="350164" y="397673"/>
                  </a:lnTo>
                  <a:lnTo>
                    <a:pt x="351711" y="400213"/>
                  </a:lnTo>
                  <a:lnTo>
                    <a:pt x="356106" y="404290"/>
                  </a:lnTo>
                  <a:lnTo>
                    <a:pt x="360659" y="397411"/>
                  </a:lnTo>
                  <a:lnTo>
                    <a:pt x="371593" y="367889"/>
                  </a:lnTo>
                  <a:lnTo>
                    <a:pt x="393235" y="333634"/>
                  </a:lnTo>
                  <a:lnTo>
                    <a:pt x="416762" y="298901"/>
                  </a:lnTo>
                  <a:lnTo>
                    <a:pt x="444504" y="269044"/>
                  </a:lnTo>
                  <a:lnTo>
                    <a:pt x="451028" y="265363"/>
                  </a:lnTo>
                  <a:lnTo>
                    <a:pt x="458690" y="265844"/>
                  </a:lnTo>
                  <a:lnTo>
                    <a:pt x="467388" y="269497"/>
                  </a:lnTo>
                  <a:lnTo>
                    <a:pt x="476544" y="276412"/>
                  </a:lnTo>
                  <a:lnTo>
                    <a:pt x="494447" y="308299"/>
                  </a:lnTo>
                  <a:lnTo>
                    <a:pt x="507659" y="336867"/>
                  </a:lnTo>
                  <a:lnTo>
                    <a:pt x="521628" y="372583"/>
                  </a:lnTo>
                  <a:lnTo>
                    <a:pt x="531078" y="399487"/>
                  </a:lnTo>
                  <a:lnTo>
                    <a:pt x="540570" y="427319"/>
                  </a:lnTo>
                  <a:lnTo>
                    <a:pt x="554313" y="457680"/>
                  </a:lnTo>
                  <a:lnTo>
                    <a:pt x="571435" y="491194"/>
                  </a:lnTo>
                  <a:lnTo>
                    <a:pt x="578644" y="50530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SMARTInkShape-36"/>
          <p:cNvSpPr/>
          <p:nvPr/>
        </p:nvSpPr>
        <p:spPr>
          <a:xfrm>
            <a:off x="7389720" y="2071800"/>
            <a:ext cx="25560" cy="452160"/>
          </a:xfrm>
          <a:custGeom>
            <a:avLst/>
            <a:gdLst>
              <a:gd name="textAreaLeft" fmla="*/ 0 w 25560"/>
              <a:gd name="textAreaRight" fmla="*/ 25920 w 25560"/>
              <a:gd name="textAreaTop" fmla="*/ 0 h 452160"/>
              <a:gd name="textAreaBottom" fmla="*/ 452520 h 452160"/>
            </a:gdLst>
            <a:ahLst/>
            <a:rect l="textAreaLeft" t="textAreaTop" r="textAreaRight" b="textAreaBottom"/>
            <a:pathLst>
              <a:path w="25226" h="452077">
                <a:moveTo>
                  <a:pt x="3793" y="0"/>
                </a:moveTo>
                <a:lnTo>
                  <a:pt x="3000" y="7290"/>
                </a:lnTo>
                <a:lnTo>
                  <a:pt x="0" y="17527"/>
                </a:lnTo>
                <a:lnTo>
                  <a:pt x="1434" y="44263"/>
                </a:lnTo>
                <a:lnTo>
                  <a:pt x="2745" y="68091"/>
                </a:lnTo>
                <a:lnTo>
                  <a:pt x="3327" y="95350"/>
                </a:lnTo>
                <a:lnTo>
                  <a:pt x="3586" y="125986"/>
                </a:lnTo>
                <a:lnTo>
                  <a:pt x="3701" y="158123"/>
                </a:lnTo>
                <a:lnTo>
                  <a:pt x="4546" y="190926"/>
                </a:lnTo>
                <a:lnTo>
                  <a:pt x="7567" y="224027"/>
                </a:lnTo>
                <a:lnTo>
                  <a:pt x="11556" y="257259"/>
                </a:lnTo>
                <a:lnTo>
                  <a:pt x="15181" y="289756"/>
                </a:lnTo>
                <a:lnTo>
                  <a:pt x="16792" y="320074"/>
                </a:lnTo>
                <a:lnTo>
                  <a:pt x="19625" y="347307"/>
                </a:lnTo>
                <a:lnTo>
                  <a:pt x="23566" y="382835"/>
                </a:lnTo>
                <a:lnTo>
                  <a:pt x="24733" y="411353"/>
                </a:lnTo>
                <a:lnTo>
                  <a:pt x="25181" y="447050"/>
                </a:lnTo>
                <a:lnTo>
                  <a:pt x="25211" y="452076"/>
                </a:lnTo>
                <a:lnTo>
                  <a:pt x="25225" y="45005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SMARTInkShape-Group12"/>
          <p:cNvGrpSpPr/>
          <p:nvPr/>
        </p:nvGrpSpPr>
        <p:grpSpPr>
          <a:xfrm>
            <a:off x="4851360" y="2629080"/>
            <a:ext cx="620640" cy="393480"/>
            <a:chOff x="4851360" y="2629080"/>
            <a:chExt cx="620640" cy="393480"/>
          </a:xfrm>
        </p:grpSpPr>
        <p:sp>
          <p:nvSpPr>
            <p:cNvPr id="92" name="SMARTInkShape-37"/>
            <p:cNvSpPr/>
            <p:nvPr/>
          </p:nvSpPr>
          <p:spPr>
            <a:xfrm>
              <a:off x="4851360" y="2643120"/>
              <a:ext cx="620640" cy="379440"/>
            </a:xfrm>
            <a:custGeom>
              <a:avLst/>
              <a:gdLst>
                <a:gd name="textAreaLeft" fmla="*/ 0 w 620640"/>
                <a:gd name="textAreaRight" fmla="*/ 620640 w 62064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621500" h="378619">
                  <a:moveTo>
                    <a:pt x="7136" y="378618"/>
                  </a:moveTo>
                  <a:lnTo>
                    <a:pt x="7136" y="374826"/>
                  </a:lnTo>
                  <a:lnTo>
                    <a:pt x="6342" y="373709"/>
                  </a:lnTo>
                  <a:lnTo>
                    <a:pt x="5019" y="372964"/>
                  </a:lnTo>
                  <a:lnTo>
                    <a:pt x="3344" y="372467"/>
                  </a:lnTo>
                  <a:lnTo>
                    <a:pt x="2227" y="371343"/>
                  </a:lnTo>
                  <a:lnTo>
                    <a:pt x="79" y="364651"/>
                  </a:lnTo>
                  <a:lnTo>
                    <a:pt x="0" y="358208"/>
                  </a:lnTo>
                  <a:lnTo>
                    <a:pt x="791" y="357868"/>
                  </a:lnTo>
                  <a:lnTo>
                    <a:pt x="3787" y="357490"/>
                  </a:lnTo>
                  <a:lnTo>
                    <a:pt x="4903" y="356595"/>
                  </a:lnTo>
                  <a:lnTo>
                    <a:pt x="6842" y="351063"/>
                  </a:lnTo>
                  <a:lnTo>
                    <a:pt x="7049" y="346553"/>
                  </a:lnTo>
                  <a:lnTo>
                    <a:pt x="9214" y="342407"/>
                  </a:lnTo>
                  <a:lnTo>
                    <a:pt x="12028" y="337918"/>
                  </a:lnTo>
                  <a:lnTo>
                    <a:pt x="13279" y="333277"/>
                  </a:lnTo>
                  <a:lnTo>
                    <a:pt x="14406" y="331722"/>
                  </a:lnTo>
                  <a:lnTo>
                    <a:pt x="15952" y="330686"/>
                  </a:lnTo>
                  <a:lnTo>
                    <a:pt x="17776" y="329994"/>
                  </a:lnTo>
                  <a:lnTo>
                    <a:pt x="18992" y="327946"/>
                  </a:lnTo>
                  <a:lnTo>
                    <a:pt x="21497" y="318272"/>
                  </a:lnTo>
                  <a:lnTo>
                    <a:pt x="29052" y="307490"/>
                  </a:lnTo>
                  <a:lnTo>
                    <a:pt x="32751" y="302556"/>
                  </a:lnTo>
                  <a:lnTo>
                    <a:pt x="37243" y="292920"/>
                  </a:lnTo>
                  <a:lnTo>
                    <a:pt x="40361" y="288143"/>
                  </a:lnTo>
                  <a:lnTo>
                    <a:pt x="42909" y="280990"/>
                  </a:lnTo>
                  <a:lnTo>
                    <a:pt x="55168" y="264319"/>
                  </a:lnTo>
                  <a:lnTo>
                    <a:pt x="57059" y="259556"/>
                  </a:lnTo>
                  <a:lnTo>
                    <a:pt x="75458" y="233215"/>
                  </a:lnTo>
                  <a:lnTo>
                    <a:pt x="78444" y="224499"/>
                  </a:lnTo>
                  <a:lnTo>
                    <a:pt x="96888" y="201629"/>
                  </a:lnTo>
                  <a:lnTo>
                    <a:pt x="101506" y="187230"/>
                  </a:lnTo>
                  <a:lnTo>
                    <a:pt x="133348" y="152405"/>
                  </a:lnTo>
                  <a:lnTo>
                    <a:pt x="146837" y="138112"/>
                  </a:lnTo>
                  <a:lnTo>
                    <a:pt x="151501" y="128587"/>
                  </a:lnTo>
                  <a:lnTo>
                    <a:pt x="185610" y="92999"/>
                  </a:lnTo>
                  <a:lnTo>
                    <a:pt x="211922" y="67470"/>
                  </a:lnTo>
                  <a:lnTo>
                    <a:pt x="234247" y="56708"/>
                  </a:lnTo>
                  <a:lnTo>
                    <a:pt x="269954" y="28571"/>
                  </a:lnTo>
                  <a:lnTo>
                    <a:pt x="275550" y="24604"/>
                  </a:lnTo>
                  <a:lnTo>
                    <a:pt x="283163" y="22371"/>
                  </a:lnTo>
                  <a:lnTo>
                    <a:pt x="291240" y="20916"/>
                  </a:lnTo>
                  <a:lnTo>
                    <a:pt x="323792" y="9581"/>
                  </a:lnTo>
                  <a:lnTo>
                    <a:pt x="332647" y="7072"/>
                  </a:lnTo>
                  <a:lnTo>
                    <a:pt x="342750" y="1632"/>
                  </a:lnTo>
                  <a:lnTo>
                    <a:pt x="377023" y="5"/>
                  </a:lnTo>
                  <a:lnTo>
                    <a:pt x="412128" y="0"/>
                  </a:lnTo>
                  <a:lnTo>
                    <a:pt x="416791" y="0"/>
                  </a:lnTo>
                  <a:lnTo>
                    <a:pt x="421509" y="2116"/>
                  </a:lnTo>
                  <a:lnTo>
                    <a:pt x="426252" y="4909"/>
                  </a:lnTo>
                  <a:lnTo>
                    <a:pt x="433384" y="7275"/>
                  </a:lnTo>
                  <a:lnTo>
                    <a:pt x="440525" y="11857"/>
                  </a:lnTo>
                  <a:lnTo>
                    <a:pt x="447668" y="14361"/>
                  </a:lnTo>
                  <a:lnTo>
                    <a:pt x="454811" y="18983"/>
                  </a:lnTo>
                  <a:lnTo>
                    <a:pt x="461955" y="21499"/>
                  </a:lnTo>
                  <a:lnTo>
                    <a:pt x="469099" y="26125"/>
                  </a:lnTo>
                  <a:lnTo>
                    <a:pt x="476242" y="28643"/>
                  </a:lnTo>
                  <a:lnTo>
                    <a:pt x="500186" y="48032"/>
                  </a:lnTo>
                  <a:lnTo>
                    <a:pt x="502523" y="48690"/>
                  </a:lnTo>
                  <a:lnTo>
                    <a:pt x="504082" y="49922"/>
                  </a:lnTo>
                  <a:lnTo>
                    <a:pt x="533456" y="83403"/>
                  </a:lnTo>
                  <a:lnTo>
                    <a:pt x="539761" y="90505"/>
                  </a:lnTo>
                  <a:lnTo>
                    <a:pt x="541982" y="97636"/>
                  </a:lnTo>
                  <a:lnTo>
                    <a:pt x="542502" y="102396"/>
                  </a:lnTo>
                  <a:lnTo>
                    <a:pt x="543434" y="103982"/>
                  </a:lnTo>
                  <a:lnTo>
                    <a:pt x="544849" y="105040"/>
                  </a:lnTo>
                  <a:lnTo>
                    <a:pt x="546587" y="105745"/>
                  </a:lnTo>
                  <a:lnTo>
                    <a:pt x="547745" y="107009"/>
                  </a:lnTo>
                  <a:lnTo>
                    <a:pt x="551720" y="114741"/>
                  </a:lnTo>
                  <a:lnTo>
                    <a:pt x="554767" y="119258"/>
                  </a:lnTo>
                  <a:lnTo>
                    <a:pt x="557276" y="126264"/>
                  </a:lnTo>
                  <a:lnTo>
                    <a:pt x="577528" y="155052"/>
                  </a:lnTo>
                  <a:lnTo>
                    <a:pt x="579211" y="162448"/>
                  </a:lnTo>
                  <a:lnTo>
                    <a:pt x="583481" y="169223"/>
                  </a:lnTo>
                  <a:lnTo>
                    <a:pt x="585892" y="176258"/>
                  </a:lnTo>
                  <a:lnTo>
                    <a:pt x="590487" y="183369"/>
                  </a:lnTo>
                  <a:lnTo>
                    <a:pt x="592603" y="191472"/>
                  </a:lnTo>
                  <a:lnTo>
                    <a:pt x="597770" y="198306"/>
                  </a:lnTo>
                  <a:lnTo>
                    <a:pt x="599046" y="202700"/>
                  </a:lnTo>
                  <a:lnTo>
                    <a:pt x="600180" y="204190"/>
                  </a:lnTo>
                  <a:lnTo>
                    <a:pt x="604775" y="207079"/>
                  </a:lnTo>
                  <a:lnTo>
                    <a:pt x="607791" y="214366"/>
                  </a:lnTo>
                  <a:lnTo>
                    <a:pt x="614052" y="221133"/>
                  </a:lnTo>
                  <a:lnTo>
                    <a:pt x="614352" y="228510"/>
                  </a:lnTo>
                  <a:lnTo>
                    <a:pt x="618146" y="228573"/>
                  </a:lnTo>
                  <a:lnTo>
                    <a:pt x="619264" y="229376"/>
                  </a:lnTo>
                  <a:lnTo>
                    <a:pt x="621440" y="235547"/>
                  </a:lnTo>
                  <a:lnTo>
                    <a:pt x="621499" y="235743"/>
                  </a:lnTo>
                  <a:lnTo>
                    <a:pt x="621499" y="229592"/>
                  </a:lnTo>
                  <a:lnTo>
                    <a:pt x="620705" y="229261"/>
                  </a:lnTo>
                  <a:lnTo>
                    <a:pt x="614355" y="228600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SMARTInkShape-38"/>
            <p:cNvSpPr/>
            <p:nvPr/>
          </p:nvSpPr>
          <p:spPr>
            <a:xfrm>
              <a:off x="5015520" y="2629080"/>
              <a:ext cx="249480" cy="2635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49906" h="263142">
                  <a:moveTo>
                    <a:pt x="14260" y="14230"/>
                  </a:moveTo>
                  <a:lnTo>
                    <a:pt x="3618" y="14230"/>
                  </a:lnTo>
                  <a:lnTo>
                    <a:pt x="2403" y="13436"/>
                  </a:lnTo>
                  <a:lnTo>
                    <a:pt x="1593" y="12113"/>
                  </a:lnTo>
                  <a:lnTo>
                    <a:pt x="0" y="7173"/>
                  </a:lnTo>
                  <a:lnTo>
                    <a:pt x="16766" y="7088"/>
                  </a:lnTo>
                  <a:lnTo>
                    <a:pt x="21459" y="4970"/>
                  </a:lnTo>
                  <a:lnTo>
                    <a:pt x="23822" y="3294"/>
                  </a:lnTo>
                  <a:lnTo>
                    <a:pt x="38524" y="935"/>
                  </a:lnTo>
                  <a:lnTo>
                    <a:pt x="65547" y="236"/>
                  </a:lnTo>
                  <a:lnTo>
                    <a:pt x="98827" y="0"/>
                  </a:lnTo>
                  <a:lnTo>
                    <a:pt x="126214" y="2070"/>
                  </a:lnTo>
                  <a:lnTo>
                    <a:pt x="150939" y="6095"/>
                  </a:lnTo>
                  <a:lnTo>
                    <a:pt x="183718" y="6955"/>
                  </a:lnTo>
                  <a:lnTo>
                    <a:pt x="218931" y="7078"/>
                  </a:lnTo>
                  <a:lnTo>
                    <a:pt x="226404" y="9199"/>
                  </a:lnTo>
                  <a:lnTo>
                    <a:pt x="232371" y="11994"/>
                  </a:lnTo>
                  <a:lnTo>
                    <a:pt x="237669" y="13236"/>
                  </a:lnTo>
                  <a:lnTo>
                    <a:pt x="239399" y="14361"/>
                  </a:lnTo>
                  <a:lnTo>
                    <a:pt x="240552" y="15905"/>
                  </a:lnTo>
                  <a:lnTo>
                    <a:pt x="241322" y="17728"/>
                  </a:lnTo>
                  <a:lnTo>
                    <a:pt x="242628" y="18943"/>
                  </a:lnTo>
                  <a:lnTo>
                    <a:pt x="246196" y="20293"/>
                  </a:lnTo>
                  <a:lnTo>
                    <a:pt x="247466" y="21447"/>
                  </a:lnTo>
                  <a:lnTo>
                    <a:pt x="248876" y="24846"/>
                  </a:lnTo>
                  <a:lnTo>
                    <a:pt x="249905" y="38138"/>
                  </a:lnTo>
                  <a:lnTo>
                    <a:pt x="247843" y="42847"/>
                  </a:lnTo>
                  <a:lnTo>
                    <a:pt x="246182" y="45214"/>
                  </a:lnTo>
                  <a:lnTo>
                    <a:pt x="235219" y="78710"/>
                  </a:lnTo>
                  <a:lnTo>
                    <a:pt x="219268" y="107115"/>
                  </a:lnTo>
                  <a:lnTo>
                    <a:pt x="197908" y="140437"/>
                  </a:lnTo>
                  <a:lnTo>
                    <a:pt x="169573" y="174567"/>
                  </a:lnTo>
                  <a:lnTo>
                    <a:pt x="159585" y="192176"/>
                  </a:lnTo>
                  <a:lnTo>
                    <a:pt x="138823" y="217102"/>
                  </a:lnTo>
                  <a:lnTo>
                    <a:pt x="130822" y="233661"/>
                  </a:lnTo>
                  <a:lnTo>
                    <a:pt x="128772" y="239548"/>
                  </a:lnTo>
                  <a:lnTo>
                    <a:pt x="123949" y="247325"/>
                  </a:lnTo>
                  <a:lnTo>
                    <a:pt x="121750" y="255671"/>
                  </a:lnTo>
                  <a:lnTo>
                    <a:pt x="121445" y="263141"/>
                  </a:lnTo>
                  <a:lnTo>
                    <a:pt x="121416" y="257195"/>
                  </a:lnTo>
                  <a:lnTo>
                    <a:pt x="128560" y="257117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SMARTInkShape-Group13"/>
          <p:cNvGrpSpPr/>
          <p:nvPr/>
        </p:nvGrpSpPr>
        <p:grpSpPr>
          <a:xfrm>
            <a:off x="4737240" y="1828800"/>
            <a:ext cx="1541160" cy="4557600"/>
            <a:chOff x="4737240" y="1828800"/>
            <a:chExt cx="1541160" cy="4557600"/>
          </a:xfrm>
        </p:grpSpPr>
        <p:sp>
          <p:nvSpPr>
            <p:cNvPr id="95" name="SMARTInkShape-39"/>
            <p:cNvSpPr/>
            <p:nvPr/>
          </p:nvSpPr>
          <p:spPr>
            <a:xfrm>
              <a:off x="4766760" y="2736000"/>
              <a:ext cx="762480" cy="3050640"/>
            </a:xfrm>
            <a:custGeom>
              <a:avLst/>
              <a:gdLst>
                <a:gd name="textAreaLeft" fmla="*/ 0 w 762480"/>
                <a:gd name="textAreaRight" fmla="*/ 762840 w 762480"/>
                <a:gd name="textAreaTop" fmla="*/ 0 h 3050640"/>
                <a:gd name="textAreaBottom" fmla="*/ 3051000 h 3050640"/>
              </a:gdLst>
              <a:ahLst/>
              <a:rect l="textAreaLeft" t="textAreaTop" r="textAreaRight" b="textAreaBottom"/>
              <a:pathLst>
                <a:path w="763266" h="3050383">
                  <a:moveTo>
                    <a:pt x="620485" y="0"/>
                  </a:moveTo>
                  <a:lnTo>
                    <a:pt x="614334" y="0"/>
                  </a:lnTo>
                  <a:lnTo>
                    <a:pt x="614003" y="794"/>
                  </a:lnTo>
                  <a:lnTo>
                    <a:pt x="613428" y="6151"/>
                  </a:lnTo>
                  <a:lnTo>
                    <a:pt x="619499" y="13208"/>
                  </a:lnTo>
                  <a:lnTo>
                    <a:pt x="623985" y="13968"/>
                  </a:lnTo>
                  <a:lnTo>
                    <a:pt x="625199" y="14868"/>
                  </a:lnTo>
                  <a:lnTo>
                    <a:pt x="629603" y="23095"/>
                  </a:lnTo>
                  <a:lnTo>
                    <a:pt x="631326" y="24921"/>
                  </a:lnTo>
                  <a:lnTo>
                    <a:pt x="633240" y="29068"/>
                  </a:lnTo>
                  <a:lnTo>
                    <a:pt x="633751" y="31285"/>
                  </a:lnTo>
                  <a:lnTo>
                    <a:pt x="640292" y="42906"/>
                  </a:lnTo>
                  <a:lnTo>
                    <a:pt x="640833" y="45273"/>
                  </a:lnTo>
                  <a:lnTo>
                    <a:pt x="645388" y="52396"/>
                  </a:lnTo>
                  <a:lnTo>
                    <a:pt x="653244" y="61914"/>
                  </a:lnTo>
                  <a:lnTo>
                    <a:pt x="657735" y="71438"/>
                  </a:lnTo>
                  <a:lnTo>
                    <a:pt x="660853" y="76201"/>
                  </a:lnTo>
                  <a:lnTo>
                    <a:pt x="662608" y="83344"/>
                  </a:lnTo>
                  <a:lnTo>
                    <a:pt x="663018" y="88107"/>
                  </a:lnTo>
                  <a:lnTo>
                    <a:pt x="665318" y="92869"/>
                  </a:lnTo>
                  <a:lnTo>
                    <a:pt x="667042" y="95250"/>
                  </a:lnTo>
                  <a:lnTo>
                    <a:pt x="678127" y="126657"/>
                  </a:lnTo>
                  <a:lnTo>
                    <a:pt x="680344" y="129682"/>
                  </a:lnTo>
                  <a:lnTo>
                    <a:pt x="682807" y="137276"/>
                  </a:lnTo>
                  <a:lnTo>
                    <a:pt x="684696" y="145149"/>
                  </a:lnTo>
                  <a:lnTo>
                    <a:pt x="689428" y="154838"/>
                  </a:lnTo>
                  <a:lnTo>
                    <a:pt x="693893" y="183764"/>
                  </a:lnTo>
                  <a:lnTo>
                    <a:pt x="696767" y="190417"/>
                  </a:lnTo>
                  <a:lnTo>
                    <a:pt x="701048" y="223708"/>
                  </a:lnTo>
                  <a:lnTo>
                    <a:pt x="707873" y="256746"/>
                  </a:lnTo>
                  <a:lnTo>
                    <a:pt x="710917" y="267303"/>
                  </a:lnTo>
                  <a:lnTo>
                    <a:pt x="713933" y="302534"/>
                  </a:lnTo>
                  <a:lnTo>
                    <a:pt x="719816" y="338210"/>
                  </a:lnTo>
                  <a:lnTo>
                    <a:pt x="722479" y="362699"/>
                  </a:lnTo>
                  <a:lnTo>
                    <a:pt x="726111" y="380252"/>
                  </a:lnTo>
                  <a:lnTo>
                    <a:pt x="732349" y="415347"/>
                  </a:lnTo>
                  <a:lnTo>
                    <a:pt x="734304" y="448609"/>
                  </a:lnTo>
                  <a:lnTo>
                    <a:pt x="734689" y="478346"/>
                  </a:lnTo>
                  <a:lnTo>
                    <a:pt x="739675" y="507150"/>
                  </a:lnTo>
                  <a:lnTo>
                    <a:pt x="741483" y="537887"/>
                  </a:lnTo>
                  <a:lnTo>
                    <a:pt x="745633" y="570505"/>
                  </a:lnTo>
                  <a:lnTo>
                    <a:pt x="747543" y="593812"/>
                  </a:lnTo>
                  <a:lnTo>
                    <a:pt x="748392" y="622692"/>
                  </a:lnTo>
                  <a:lnTo>
                    <a:pt x="748770" y="654048"/>
                  </a:lnTo>
                  <a:lnTo>
                    <a:pt x="748938" y="680155"/>
                  </a:lnTo>
                  <a:lnTo>
                    <a:pt x="749032" y="710586"/>
                  </a:lnTo>
                  <a:lnTo>
                    <a:pt x="749064" y="745994"/>
                  </a:lnTo>
                  <a:lnTo>
                    <a:pt x="749070" y="774103"/>
                  </a:lnTo>
                  <a:lnTo>
                    <a:pt x="752864" y="802540"/>
                  </a:lnTo>
                  <a:lnTo>
                    <a:pt x="755223" y="831074"/>
                  </a:lnTo>
                  <a:lnTo>
                    <a:pt x="759714" y="859637"/>
                  </a:lnTo>
                  <a:lnTo>
                    <a:pt x="762279" y="888208"/>
                  </a:lnTo>
                  <a:lnTo>
                    <a:pt x="763039" y="916782"/>
                  </a:lnTo>
                  <a:lnTo>
                    <a:pt x="763265" y="949149"/>
                  </a:lnTo>
                  <a:lnTo>
                    <a:pt x="759539" y="980082"/>
                  </a:lnTo>
                  <a:lnTo>
                    <a:pt x="757201" y="1013148"/>
                  </a:lnTo>
                  <a:lnTo>
                    <a:pt x="756508" y="1044289"/>
                  </a:lnTo>
                  <a:lnTo>
                    <a:pt x="756303" y="1077417"/>
                  </a:lnTo>
                  <a:lnTo>
                    <a:pt x="756241" y="1112367"/>
                  </a:lnTo>
                  <a:lnTo>
                    <a:pt x="756224" y="1144066"/>
                  </a:lnTo>
                  <a:lnTo>
                    <a:pt x="756218" y="1177359"/>
                  </a:lnTo>
                  <a:lnTo>
                    <a:pt x="756217" y="1212359"/>
                  </a:lnTo>
                  <a:lnTo>
                    <a:pt x="756216" y="1247865"/>
                  </a:lnTo>
                  <a:lnTo>
                    <a:pt x="756216" y="1283521"/>
                  </a:lnTo>
                  <a:lnTo>
                    <a:pt x="756216" y="1319221"/>
                  </a:lnTo>
                  <a:lnTo>
                    <a:pt x="756216" y="1354934"/>
                  </a:lnTo>
                  <a:lnTo>
                    <a:pt x="756216" y="1380862"/>
                  </a:lnTo>
                  <a:lnTo>
                    <a:pt x="756216" y="1407466"/>
                  </a:lnTo>
                  <a:lnTo>
                    <a:pt x="756216" y="1432520"/>
                  </a:lnTo>
                  <a:lnTo>
                    <a:pt x="754099" y="1456884"/>
                  </a:lnTo>
                  <a:lnTo>
                    <a:pt x="751306" y="1480942"/>
                  </a:lnTo>
                  <a:lnTo>
                    <a:pt x="750065" y="1504863"/>
                  </a:lnTo>
                  <a:lnTo>
                    <a:pt x="749513" y="1528724"/>
                  </a:lnTo>
                  <a:lnTo>
                    <a:pt x="748474" y="1553352"/>
                  </a:lnTo>
                  <a:lnTo>
                    <a:pt x="745367" y="1580172"/>
                  </a:lnTo>
                  <a:lnTo>
                    <a:pt x="743457" y="1605851"/>
                  </a:lnTo>
                  <a:lnTo>
                    <a:pt x="742607" y="1631287"/>
                  </a:lnTo>
                  <a:lnTo>
                    <a:pt x="742230" y="1658466"/>
                  </a:lnTo>
                  <a:lnTo>
                    <a:pt x="742062" y="1686421"/>
                  </a:lnTo>
                  <a:lnTo>
                    <a:pt x="741194" y="1713927"/>
                  </a:lnTo>
                  <a:lnTo>
                    <a:pt x="738162" y="1739381"/>
                  </a:lnTo>
                  <a:lnTo>
                    <a:pt x="736286" y="1766040"/>
                  </a:lnTo>
                  <a:lnTo>
                    <a:pt x="734658" y="1792969"/>
                  </a:lnTo>
                  <a:lnTo>
                    <a:pt x="731289" y="1818167"/>
                  </a:lnTo>
                  <a:lnTo>
                    <a:pt x="729262" y="1844712"/>
                  </a:lnTo>
                  <a:lnTo>
                    <a:pt x="727567" y="1871591"/>
                  </a:lnTo>
                  <a:lnTo>
                    <a:pt x="724169" y="1896766"/>
                  </a:lnTo>
                  <a:lnTo>
                    <a:pt x="720012" y="1923301"/>
                  </a:lnTo>
                  <a:lnTo>
                    <a:pt x="716313" y="1950176"/>
                  </a:lnTo>
                  <a:lnTo>
                    <a:pt x="714669" y="1975349"/>
                  </a:lnTo>
                  <a:lnTo>
                    <a:pt x="711822" y="2001883"/>
                  </a:lnTo>
                  <a:lnTo>
                    <a:pt x="707910" y="2029551"/>
                  </a:lnTo>
                  <a:lnTo>
                    <a:pt x="703526" y="2057723"/>
                  </a:lnTo>
                  <a:lnTo>
                    <a:pt x="701048" y="2084002"/>
                  </a:lnTo>
                  <a:lnTo>
                    <a:pt x="699153" y="2109704"/>
                  </a:lnTo>
                  <a:lnTo>
                    <a:pt x="695665" y="2137003"/>
                  </a:lnTo>
                  <a:lnTo>
                    <a:pt x="691469" y="2162894"/>
                  </a:lnTo>
                  <a:lnTo>
                    <a:pt x="686958" y="2188424"/>
                  </a:lnTo>
                  <a:lnTo>
                    <a:pt x="682307" y="2215645"/>
                  </a:lnTo>
                  <a:lnTo>
                    <a:pt x="677594" y="2241502"/>
                  </a:lnTo>
                  <a:lnTo>
                    <a:pt x="672854" y="2267017"/>
                  </a:lnTo>
                  <a:lnTo>
                    <a:pt x="668101" y="2294232"/>
                  </a:lnTo>
                  <a:lnTo>
                    <a:pt x="665460" y="2320086"/>
                  </a:lnTo>
                  <a:lnTo>
                    <a:pt x="663492" y="2345600"/>
                  </a:lnTo>
                  <a:lnTo>
                    <a:pt x="659972" y="2372814"/>
                  </a:lnTo>
                  <a:lnTo>
                    <a:pt x="655761" y="2398667"/>
                  </a:lnTo>
                  <a:lnTo>
                    <a:pt x="651244" y="2424181"/>
                  </a:lnTo>
                  <a:lnTo>
                    <a:pt x="646591" y="2451395"/>
                  </a:lnTo>
                  <a:lnTo>
                    <a:pt x="641877" y="2477248"/>
                  </a:lnTo>
                  <a:lnTo>
                    <a:pt x="637136" y="2502762"/>
                  </a:lnTo>
                  <a:lnTo>
                    <a:pt x="632383" y="2529976"/>
                  </a:lnTo>
                  <a:lnTo>
                    <a:pt x="627625" y="2555830"/>
                  </a:lnTo>
                  <a:lnTo>
                    <a:pt x="618367" y="2590581"/>
                  </a:lnTo>
                  <a:lnTo>
                    <a:pt x="607686" y="2623102"/>
                  </a:lnTo>
                  <a:lnTo>
                    <a:pt x="599494" y="2655758"/>
                  </a:lnTo>
                  <a:lnTo>
                    <a:pt x="592040" y="2687658"/>
                  </a:lnTo>
                  <a:lnTo>
                    <a:pt x="582688" y="2720129"/>
                  </a:lnTo>
                  <a:lnTo>
                    <a:pt x="569863" y="2749858"/>
                  </a:lnTo>
                  <a:lnTo>
                    <a:pt x="558125" y="2778775"/>
                  </a:lnTo>
                  <a:lnTo>
                    <a:pt x="543255" y="2813198"/>
                  </a:lnTo>
                  <a:lnTo>
                    <a:pt x="530734" y="2847044"/>
                  </a:lnTo>
                  <a:lnTo>
                    <a:pt x="514396" y="2879593"/>
                  </a:lnTo>
                  <a:lnTo>
                    <a:pt x="487019" y="2911909"/>
                  </a:lnTo>
                  <a:lnTo>
                    <a:pt x="458700" y="2944792"/>
                  </a:lnTo>
                  <a:lnTo>
                    <a:pt x="432169" y="2966111"/>
                  </a:lnTo>
                  <a:lnTo>
                    <a:pt x="399017" y="2979238"/>
                  </a:lnTo>
                  <a:lnTo>
                    <a:pt x="389498" y="2983044"/>
                  </a:lnTo>
                  <a:lnTo>
                    <a:pt x="356165" y="2991563"/>
                  </a:lnTo>
                  <a:lnTo>
                    <a:pt x="322828" y="2993134"/>
                  </a:lnTo>
                  <a:lnTo>
                    <a:pt x="289491" y="2993226"/>
                  </a:lnTo>
                  <a:lnTo>
                    <a:pt x="275203" y="2992436"/>
                  </a:lnTo>
                  <a:lnTo>
                    <a:pt x="241866" y="2978758"/>
                  </a:lnTo>
                  <a:lnTo>
                    <a:pt x="208528" y="2962264"/>
                  </a:lnTo>
                  <a:lnTo>
                    <a:pt x="184716" y="2948251"/>
                  </a:lnTo>
                  <a:lnTo>
                    <a:pt x="153098" y="2919462"/>
                  </a:lnTo>
                  <a:lnTo>
                    <a:pt x="140070" y="2909814"/>
                  </a:lnTo>
                  <a:lnTo>
                    <a:pt x="114942" y="2878788"/>
                  </a:lnTo>
                  <a:lnTo>
                    <a:pt x="96707" y="2845585"/>
                  </a:lnTo>
                  <a:lnTo>
                    <a:pt x="86428" y="2812256"/>
                  </a:lnTo>
                  <a:lnTo>
                    <a:pt x="79547" y="2793207"/>
                  </a:lnTo>
                  <a:lnTo>
                    <a:pt x="73884" y="2759869"/>
                  </a:lnTo>
                  <a:lnTo>
                    <a:pt x="69825" y="2732235"/>
                  </a:lnTo>
                  <a:lnTo>
                    <a:pt x="65566" y="2723635"/>
                  </a:lnTo>
                  <a:lnTo>
                    <a:pt x="63574" y="2706130"/>
                  </a:lnTo>
                  <a:lnTo>
                    <a:pt x="64267" y="2704199"/>
                  </a:lnTo>
                  <a:lnTo>
                    <a:pt x="65523" y="2702912"/>
                  </a:lnTo>
                  <a:lnTo>
                    <a:pt x="67154" y="2702054"/>
                  </a:lnTo>
                  <a:lnTo>
                    <a:pt x="68241" y="2700688"/>
                  </a:lnTo>
                  <a:lnTo>
                    <a:pt x="70413" y="2693203"/>
                  </a:lnTo>
                  <a:lnTo>
                    <a:pt x="70416" y="2727747"/>
                  </a:lnTo>
                  <a:lnTo>
                    <a:pt x="69622" y="2745822"/>
                  </a:lnTo>
                  <a:lnTo>
                    <a:pt x="63140" y="2779087"/>
                  </a:lnTo>
                  <a:lnTo>
                    <a:pt x="57208" y="2808614"/>
                  </a:lnTo>
                  <a:lnTo>
                    <a:pt x="50638" y="2837084"/>
                  </a:lnTo>
                  <a:lnTo>
                    <a:pt x="41697" y="2870342"/>
                  </a:lnTo>
                  <a:lnTo>
                    <a:pt x="36079" y="2903870"/>
                  </a:lnTo>
                  <a:lnTo>
                    <a:pt x="31314" y="2931653"/>
                  </a:lnTo>
                  <a:lnTo>
                    <a:pt x="23387" y="2963781"/>
                  </a:lnTo>
                  <a:lnTo>
                    <a:pt x="17009" y="2996468"/>
                  </a:lnTo>
                  <a:lnTo>
                    <a:pt x="8575" y="3030449"/>
                  </a:lnTo>
                  <a:lnTo>
                    <a:pt x="6445" y="3041397"/>
                  </a:lnTo>
                  <a:lnTo>
                    <a:pt x="5544" y="3042011"/>
                  </a:lnTo>
                  <a:lnTo>
                    <a:pt x="0" y="3043076"/>
                  </a:lnTo>
                  <a:lnTo>
                    <a:pt x="4090" y="3037502"/>
                  </a:lnTo>
                  <a:lnTo>
                    <a:pt x="13344" y="3004040"/>
                  </a:lnTo>
                  <a:lnTo>
                    <a:pt x="20478" y="2969260"/>
                  </a:lnTo>
                  <a:lnTo>
                    <a:pt x="30257" y="2935747"/>
                  </a:lnTo>
                  <a:lnTo>
                    <a:pt x="41883" y="2900319"/>
                  </a:lnTo>
                  <a:lnTo>
                    <a:pt x="53753" y="2869548"/>
                  </a:lnTo>
                  <a:lnTo>
                    <a:pt x="65654" y="2835774"/>
                  </a:lnTo>
                  <a:lnTo>
                    <a:pt x="79941" y="2803124"/>
                  </a:lnTo>
                  <a:lnTo>
                    <a:pt x="94228" y="2777983"/>
                  </a:lnTo>
                  <a:lnTo>
                    <a:pt x="108516" y="2762377"/>
                  </a:lnTo>
                  <a:lnTo>
                    <a:pt x="113278" y="2759661"/>
                  </a:lnTo>
                  <a:lnTo>
                    <a:pt x="115660" y="2758936"/>
                  </a:lnTo>
                  <a:lnTo>
                    <a:pt x="118041" y="2759247"/>
                  </a:lnTo>
                  <a:lnTo>
                    <a:pt x="122803" y="2761710"/>
                  </a:lnTo>
                  <a:lnTo>
                    <a:pt x="129947" y="2767558"/>
                  </a:lnTo>
                  <a:lnTo>
                    <a:pt x="151114" y="2800558"/>
                  </a:lnTo>
                  <a:lnTo>
                    <a:pt x="158669" y="2811555"/>
                  </a:lnTo>
                  <a:lnTo>
                    <a:pt x="169987" y="2842369"/>
                  </a:lnTo>
                  <a:lnTo>
                    <a:pt x="183658" y="2875413"/>
                  </a:lnTo>
                  <a:lnTo>
                    <a:pt x="193222" y="2903113"/>
                  </a:lnTo>
                  <a:lnTo>
                    <a:pt x="201083" y="2931428"/>
                  </a:lnTo>
                  <a:lnTo>
                    <a:pt x="215759" y="2963737"/>
                  </a:lnTo>
                  <a:lnTo>
                    <a:pt x="229657" y="2996462"/>
                  </a:lnTo>
                  <a:lnTo>
                    <a:pt x="236172" y="3019488"/>
                  </a:lnTo>
                  <a:lnTo>
                    <a:pt x="239335" y="3025539"/>
                  </a:lnTo>
                  <a:lnTo>
                    <a:pt x="241366" y="3035891"/>
                  </a:lnTo>
                  <a:lnTo>
                    <a:pt x="241767" y="3041787"/>
                  </a:lnTo>
                  <a:lnTo>
                    <a:pt x="242594" y="3042270"/>
                  </a:lnTo>
                  <a:lnTo>
                    <a:pt x="249010" y="3043238"/>
                  </a:lnTo>
                  <a:lnTo>
                    <a:pt x="249010" y="3049389"/>
                  </a:lnTo>
                  <a:lnTo>
                    <a:pt x="249010" y="3043506"/>
                  </a:lnTo>
                  <a:lnTo>
                    <a:pt x="249010" y="3047406"/>
                  </a:lnTo>
                  <a:lnTo>
                    <a:pt x="249010" y="3045620"/>
                  </a:lnTo>
                  <a:lnTo>
                    <a:pt x="249010" y="3047824"/>
                  </a:lnTo>
                  <a:lnTo>
                    <a:pt x="249010" y="3045743"/>
                  </a:lnTo>
                  <a:lnTo>
                    <a:pt x="249010" y="3050376"/>
                  </a:lnTo>
                  <a:lnTo>
                    <a:pt x="249010" y="3043263"/>
                  </a:lnTo>
                  <a:lnTo>
                    <a:pt x="249010" y="3050382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SMARTInkShape-40"/>
            <p:cNvSpPr/>
            <p:nvPr/>
          </p:nvSpPr>
          <p:spPr>
            <a:xfrm>
              <a:off x="4737240" y="1957320"/>
              <a:ext cx="390960" cy="1035720"/>
            </a:xfrm>
            <a:custGeom>
              <a:avLst/>
              <a:gdLst>
                <a:gd name="textAreaLeft" fmla="*/ 0 w 390960"/>
                <a:gd name="textAreaRight" fmla="*/ 391320 w 39096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391492" h="1035691">
                  <a:moveTo>
                    <a:pt x="7143" y="1035690"/>
                  </a:moveTo>
                  <a:lnTo>
                    <a:pt x="25" y="1035690"/>
                  </a:lnTo>
                  <a:lnTo>
                    <a:pt x="0" y="1018691"/>
                  </a:lnTo>
                  <a:lnTo>
                    <a:pt x="793" y="1017213"/>
                  </a:lnTo>
                  <a:lnTo>
                    <a:pt x="2116" y="1016229"/>
                  </a:lnTo>
                  <a:lnTo>
                    <a:pt x="3792" y="1015572"/>
                  </a:lnTo>
                  <a:lnTo>
                    <a:pt x="4909" y="1014341"/>
                  </a:lnTo>
                  <a:lnTo>
                    <a:pt x="6150" y="1010856"/>
                  </a:lnTo>
                  <a:lnTo>
                    <a:pt x="7919" y="983138"/>
                  </a:lnTo>
                  <a:lnTo>
                    <a:pt x="12794" y="969718"/>
                  </a:lnTo>
                  <a:lnTo>
                    <a:pt x="14229" y="937347"/>
                  </a:lnTo>
                  <a:lnTo>
                    <a:pt x="15063" y="920562"/>
                  </a:lnTo>
                  <a:lnTo>
                    <a:pt x="20988" y="885763"/>
                  </a:lnTo>
                  <a:lnTo>
                    <a:pt x="22028" y="876187"/>
                  </a:lnTo>
                  <a:lnTo>
                    <a:pt x="28689" y="841872"/>
                  </a:lnTo>
                  <a:lnTo>
                    <a:pt x="34636" y="810759"/>
                  </a:lnTo>
                  <a:lnTo>
                    <a:pt x="37692" y="780174"/>
                  </a:lnTo>
                  <a:lnTo>
                    <a:pt x="47091" y="749218"/>
                  </a:lnTo>
                  <a:lnTo>
                    <a:pt x="53414" y="714127"/>
                  </a:lnTo>
                  <a:lnTo>
                    <a:pt x="58774" y="680607"/>
                  </a:lnTo>
                  <a:lnTo>
                    <a:pt x="69269" y="649264"/>
                  </a:lnTo>
                  <a:lnTo>
                    <a:pt x="76506" y="621222"/>
                  </a:lnTo>
                  <a:lnTo>
                    <a:pt x="84011" y="585617"/>
                  </a:lnTo>
                  <a:lnTo>
                    <a:pt x="95337" y="549913"/>
                  </a:lnTo>
                  <a:lnTo>
                    <a:pt x="107167" y="514196"/>
                  </a:lnTo>
                  <a:lnTo>
                    <a:pt x="119063" y="478478"/>
                  </a:lnTo>
                  <a:lnTo>
                    <a:pt x="130968" y="442759"/>
                  </a:lnTo>
                  <a:lnTo>
                    <a:pt x="145403" y="413390"/>
                  </a:lnTo>
                  <a:lnTo>
                    <a:pt x="156721" y="379955"/>
                  </a:lnTo>
                  <a:lnTo>
                    <a:pt x="170392" y="350184"/>
                  </a:lnTo>
                  <a:lnTo>
                    <a:pt x="185284" y="319864"/>
                  </a:lnTo>
                  <a:lnTo>
                    <a:pt x="197583" y="286199"/>
                  </a:lnTo>
                  <a:lnTo>
                    <a:pt x="209541" y="256003"/>
                  </a:lnTo>
                  <a:lnTo>
                    <a:pt x="221454" y="223285"/>
                  </a:lnTo>
                  <a:lnTo>
                    <a:pt x="230715" y="207603"/>
                  </a:lnTo>
                  <a:lnTo>
                    <a:pt x="241397" y="190785"/>
                  </a:lnTo>
                  <a:lnTo>
                    <a:pt x="257043" y="157466"/>
                  </a:lnTo>
                  <a:lnTo>
                    <a:pt x="273567" y="122820"/>
                  </a:lnTo>
                  <a:lnTo>
                    <a:pt x="298252" y="88159"/>
                  </a:lnTo>
                  <a:lnTo>
                    <a:pt x="326029" y="53118"/>
                  </a:lnTo>
                  <a:lnTo>
                    <a:pt x="332521" y="45352"/>
                  </a:lnTo>
                  <a:lnTo>
                    <a:pt x="337233" y="35617"/>
                  </a:lnTo>
                  <a:lnTo>
                    <a:pt x="354069" y="16517"/>
                  </a:lnTo>
                  <a:lnTo>
                    <a:pt x="357065" y="7408"/>
                  </a:lnTo>
                  <a:lnTo>
                    <a:pt x="357151" y="3322"/>
                  </a:lnTo>
                  <a:lnTo>
                    <a:pt x="356369" y="2163"/>
                  </a:lnTo>
                  <a:lnTo>
                    <a:pt x="355054" y="1391"/>
                  </a:lnTo>
                  <a:lnTo>
                    <a:pt x="353383" y="876"/>
                  </a:lnTo>
                  <a:lnTo>
                    <a:pt x="351476" y="1327"/>
                  </a:lnTo>
                  <a:lnTo>
                    <a:pt x="344205" y="4959"/>
                  </a:lnTo>
                  <a:lnTo>
                    <a:pt x="336601" y="6088"/>
                  </a:lnTo>
                  <a:lnTo>
                    <a:pt x="327929" y="10822"/>
                  </a:lnTo>
                  <a:lnTo>
                    <a:pt x="297860" y="30248"/>
                  </a:lnTo>
                  <a:lnTo>
                    <a:pt x="268147" y="47565"/>
                  </a:lnTo>
                  <a:lnTo>
                    <a:pt x="245168" y="60905"/>
                  </a:lnTo>
                  <a:lnTo>
                    <a:pt x="213515" y="89438"/>
                  </a:lnTo>
                  <a:lnTo>
                    <a:pt x="181322" y="118830"/>
                  </a:lnTo>
                  <a:lnTo>
                    <a:pt x="159842" y="151448"/>
                  </a:lnTo>
                  <a:lnTo>
                    <a:pt x="150447" y="163611"/>
                  </a:lnTo>
                  <a:lnTo>
                    <a:pt x="153938" y="163992"/>
                  </a:lnTo>
                  <a:lnTo>
                    <a:pt x="157845" y="161965"/>
                  </a:lnTo>
                  <a:lnTo>
                    <a:pt x="192036" y="134894"/>
                  </a:lnTo>
                  <a:lnTo>
                    <a:pt x="222285" y="111675"/>
                  </a:lnTo>
                  <a:lnTo>
                    <a:pt x="257284" y="87941"/>
                  </a:lnTo>
                  <a:lnTo>
                    <a:pt x="292908" y="58484"/>
                  </a:lnTo>
                  <a:lnTo>
                    <a:pt x="327985" y="30669"/>
                  </a:lnTo>
                  <a:lnTo>
                    <a:pt x="363687" y="2463"/>
                  </a:lnTo>
                  <a:lnTo>
                    <a:pt x="373728" y="363"/>
                  </a:lnTo>
                  <a:lnTo>
                    <a:pt x="380961" y="0"/>
                  </a:lnTo>
                  <a:lnTo>
                    <a:pt x="385745" y="2031"/>
                  </a:lnTo>
                  <a:lnTo>
                    <a:pt x="388132" y="3684"/>
                  </a:lnTo>
                  <a:lnTo>
                    <a:pt x="390784" y="7637"/>
                  </a:lnTo>
                  <a:lnTo>
                    <a:pt x="391491" y="9803"/>
                  </a:lnTo>
                  <a:lnTo>
                    <a:pt x="390160" y="16442"/>
                  </a:lnTo>
                  <a:lnTo>
                    <a:pt x="387065" y="29105"/>
                  </a:lnTo>
                  <a:lnTo>
                    <a:pt x="383760" y="59173"/>
                  </a:lnTo>
                  <a:lnTo>
                    <a:pt x="379070" y="92279"/>
                  </a:lnTo>
                  <a:lnTo>
                    <a:pt x="378025" y="102046"/>
                  </a:lnTo>
                  <a:lnTo>
                    <a:pt x="371474" y="128434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SMARTInkShape-41"/>
            <p:cNvSpPr/>
            <p:nvPr/>
          </p:nvSpPr>
          <p:spPr>
            <a:xfrm>
              <a:off x="5058360" y="1828800"/>
              <a:ext cx="1220040" cy="3786840"/>
            </a:xfrm>
            <a:custGeom>
              <a:avLst/>
              <a:gdLst>
                <a:gd name="textAreaLeft" fmla="*/ 0 w 1220040"/>
                <a:gd name="textAreaRight" fmla="*/ 1220400 w 1220040"/>
                <a:gd name="textAreaTop" fmla="*/ 0 h 3786840"/>
                <a:gd name="textAreaBottom" fmla="*/ 3787200 h 3786840"/>
              </a:gdLst>
              <a:ahLst/>
              <a:rect l="textAreaLeft" t="textAreaTop" r="textAreaRight" b="textAreaBottom"/>
              <a:pathLst>
                <a:path w="1221581" h="3786176">
                  <a:moveTo>
                    <a:pt x="0" y="200012"/>
                  </a:moveTo>
                  <a:lnTo>
                    <a:pt x="0" y="183219"/>
                  </a:lnTo>
                  <a:lnTo>
                    <a:pt x="2117" y="178526"/>
                  </a:lnTo>
                  <a:lnTo>
                    <a:pt x="23849" y="144125"/>
                  </a:lnTo>
                  <a:lnTo>
                    <a:pt x="30708" y="137338"/>
                  </a:lnTo>
                  <a:lnTo>
                    <a:pt x="53463" y="124025"/>
                  </a:lnTo>
                  <a:lnTo>
                    <a:pt x="77147" y="112213"/>
                  </a:lnTo>
                  <a:lnTo>
                    <a:pt x="111835" y="86979"/>
                  </a:lnTo>
                  <a:lnTo>
                    <a:pt x="131746" y="74526"/>
                  </a:lnTo>
                  <a:lnTo>
                    <a:pt x="166024" y="59582"/>
                  </a:lnTo>
                  <a:lnTo>
                    <a:pt x="200908" y="45236"/>
                  </a:lnTo>
                  <a:lnTo>
                    <a:pt x="232067" y="37118"/>
                  </a:lnTo>
                  <a:lnTo>
                    <a:pt x="262659" y="30237"/>
                  </a:lnTo>
                  <a:lnTo>
                    <a:pt x="278114" y="26942"/>
                  </a:lnTo>
                  <a:lnTo>
                    <a:pt x="309255" y="14132"/>
                  </a:lnTo>
                  <a:lnTo>
                    <a:pt x="342455" y="5629"/>
                  </a:lnTo>
                  <a:lnTo>
                    <a:pt x="357056" y="1659"/>
                  </a:lnTo>
                  <a:lnTo>
                    <a:pt x="391405" y="134"/>
                  </a:lnTo>
                  <a:lnTo>
                    <a:pt x="427003" y="0"/>
                  </a:lnTo>
                  <a:lnTo>
                    <a:pt x="457927" y="782"/>
                  </a:lnTo>
                  <a:lnTo>
                    <a:pt x="489222" y="6138"/>
                  </a:lnTo>
                  <a:lnTo>
                    <a:pt x="522790" y="13194"/>
                  </a:lnTo>
                  <a:lnTo>
                    <a:pt x="554527" y="20331"/>
                  </a:lnTo>
                  <a:lnTo>
                    <a:pt x="579524" y="27700"/>
                  </a:lnTo>
                  <a:lnTo>
                    <a:pt x="610686" y="44334"/>
                  </a:lnTo>
                  <a:lnTo>
                    <a:pt x="641278" y="64790"/>
                  </a:lnTo>
                  <a:lnTo>
                    <a:pt x="671441" y="88160"/>
                  </a:lnTo>
                  <a:lnTo>
                    <a:pt x="703047" y="121584"/>
                  </a:lnTo>
                  <a:lnTo>
                    <a:pt x="732403" y="151124"/>
                  </a:lnTo>
                  <a:lnTo>
                    <a:pt x="762757" y="185872"/>
                  </a:lnTo>
                  <a:lnTo>
                    <a:pt x="786903" y="214329"/>
                  </a:lnTo>
                  <a:lnTo>
                    <a:pt x="808899" y="247790"/>
                  </a:lnTo>
                  <a:lnTo>
                    <a:pt x="830649" y="280270"/>
                  </a:lnTo>
                  <a:lnTo>
                    <a:pt x="848575" y="307665"/>
                  </a:lnTo>
                  <a:lnTo>
                    <a:pt x="866056" y="338007"/>
                  </a:lnTo>
                  <a:lnTo>
                    <a:pt x="884201" y="370016"/>
                  </a:lnTo>
                  <a:lnTo>
                    <a:pt x="899632" y="399609"/>
                  </a:lnTo>
                  <a:lnTo>
                    <a:pt x="914257" y="430602"/>
                  </a:lnTo>
                  <a:lnTo>
                    <a:pt x="928645" y="464920"/>
                  </a:lnTo>
                  <a:lnTo>
                    <a:pt x="942963" y="500224"/>
                  </a:lnTo>
                  <a:lnTo>
                    <a:pt x="959376" y="533703"/>
                  </a:lnTo>
                  <a:lnTo>
                    <a:pt x="970902" y="555488"/>
                  </a:lnTo>
                  <a:lnTo>
                    <a:pt x="978670" y="581045"/>
                  </a:lnTo>
                  <a:lnTo>
                    <a:pt x="989002" y="606162"/>
                  </a:lnTo>
                  <a:lnTo>
                    <a:pt x="999944" y="630554"/>
                  </a:lnTo>
                  <a:lnTo>
                    <a:pt x="1007453" y="654625"/>
                  </a:lnTo>
                  <a:lnTo>
                    <a:pt x="1015553" y="680668"/>
                  </a:lnTo>
                  <a:lnTo>
                    <a:pt x="1024444" y="708118"/>
                  </a:lnTo>
                  <a:lnTo>
                    <a:pt x="1033688" y="736193"/>
                  </a:lnTo>
                  <a:lnTo>
                    <a:pt x="1043087" y="764546"/>
                  </a:lnTo>
                  <a:lnTo>
                    <a:pt x="1052557" y="793022"/>
                  </a:lnTo>
                  <a:lnTo>
                    <a:pt x="1062057" y="821554"/>
                  </a:lnTo>
                  <a:lnTo>
                    <a:pt x="1071571" y="850109"/>
                  </a:lnTo>
                  <a:lnTo>
                    <a:pt x="1080298" y="879469"/>
                  </a:lnTo>
                  <a:lnTo>
                    <a:pt x="1086822" y="911039"/>
                  </a:lnTo>
                  <a:lnTo>
                    <a:pt x="1094484" y="941474"/>
                  </a:lnTo>
                  <a:lnTo>
                    <a:pt x="1102387" y="971669"/>
                  </a:lnTo>
                  <a:lnTo>
                    <a:pt x="1108546" y="1003610"/>
                  </a:lnTo>
                  <a:lnTo>
                    <a:pt x="1116045" y="1034211"/>
                  </a:lnTo>
                  <a:lnTo>
                    <a:pt x="1123876" y="1064479"/>
                  </a:lnTo>
                  <a:lnTo>
                    <a:pt x="1130002" y="1096453"/>
                  </a:lnTo>
                  <a:lnTo>
                    <a:pt x="1135371" y="1129184"/>
                  </a:lnTo>
                  <a:lnTo>
                    <a:pt x="1140403" y="1162252"/>
                  </a:lnTo>
                  <a:lnTo>
                    <a:pt x="1145285" y="1195470"/>
                  </a:lnTo>
                  <a:lnTo>
                    <a:pt x="1150101" y="1228755"/>
                  </a:lnTo>
                  <a:lnTo>
                    <a:pt x="1154887" y="1262862"/>
                  </a:lnTo>
                  <a:lnTo>
                    <a:pt x="1157275" y="1280848"/>
                  </a:lnTo>
                  <a:lnTo>
                    <a:pt x="1159660" y="1299188"/>
                  </a:lnTo>
                  <a:lnTo>
                    <a:pt x="1164427" y="1334383"/>
                  </a:lnTo>
                  <a:lnTo>
                    <a:pt x="1169986" y="1368546"/>
                  </a:lnTo>
                  <a:lnTo>
                    <a:pt x="1177748" y="1402250"/>
                  </a:lnTo>
                  <a:lnTo>
                    <a:pt x="1182257" y="1437867"/>
                  </a:lnTo>
                  <a:lnTo>
                    <a:pt x="1183458" y="1456255"/>
                  </a:lnTo>
                  <a:lnTo>
                    <a:pt x="1185053" y="1474864"/>
                  </a:lnTo>
                  <a:lnTo>
                    <a:pt x="1186910" y="1493619"/>
                  </a:lnTo>
                  <a:lnTo>
                    <a:pt x="1188943" y="1512473"/>
                  </a:lnTo>
                  <a:lnTo>
                    <a:pt x="1191091" y="1531392"/>
                  </a:lnTo>
                  <a:lnTo>
                    <a:pt x="1193317" y="1550355"/>
                  </a:lnTo>
                  <a:lnTo>
                    <a:pt x="1195594" y="1569347"/>
                  </a:lnTo>
                  <a:lnTo>
                    <a:pt x="1197907" y="1587565"/>
                  </a:lnTo>
                  <a:lnTo>
                    <a:pt x="1202592" y="1622623"/>
                  </a:lnTo>
                  <a:lnTo>
                    <a:pt x="1204160" y="1640544"/>
                  </a:lnTo>
                  <a:lnTo>
                    <a:pt x="1205204" y="1658842"/>
                  </a:lnTo>
                  <a:lnTo>
                    <a:pt x="1205901" y="1677390"/>
                  </a:lnTo>
                  <a:lnTo>
                    <a:pt x="1207159" y="1696106"/>
                  </a:lnTo>
                  <a:lnTo>
                    <a:pt x="1208791" y="1714933"/>
                  </a:lnTo>
                  <a:lnTo>
                    <a:pt x="1210673" y="1733834"/>
                  </a:lnTo>
                  <a:lnTo>
                    <a:pt x="1211928" y="1753579"/>
                  </a:lnTo>
                  <a:lnTo>
                    <a:pt x="1212765" y="1773886"/>
                  </a:lnTo>
                  <a:lnTo>
                    <a:pt x="1213322" y="1794567"/>
                  </a:lnTo>
                  <a:lnTo>
                    <a:pt x="1214488" y="1814705"/>
                  </a:lnTo>
                  <a:lnTo>
                    <a:pt x="1216059" y="1834480"/>
                  </a:lnTo>
                  <a:lnTo>
                    <a:pt x="1217899" y="1854014"/>
                  </a:lnTo>
                  <a:lnTo>
                    <a:pt x="1219127" y="1874180"/>
                  </a:lnTo>
                  <a:lnTo>
                    <a:pt x="1219945" y="1894768"/>
                  </a:lnTo>
                  <a:lnTo>
                    <a:pt x="1220491" y="1915637"/>
                  </a:lnTo>
                  <a:lnTo>
                    <a:pt x="1220854" y="1936693"/>
                  </a:lnTo>
                  <a:lnTo>
                    <a:pt x="1221096" y="1957874"/>
                  </a:lnTo>
                  <a:lnTo>
                    <a:pt x="1221258" y="1979139"/>
                  </a:lnTo>
                  <a:lnTo>
                    <a:pt x="1221366" y="2000459"/>
                  </a:lnTo>
                  <a:lnTo>
                    <a:pt x="1221438" y="2021816"/>
                  </a:lnTo>
                  <a:lnTo>
                    <a:pt x="1221485" y="2043198"/>
                  </a:lnTo>
                  <a:lnTo>
                    <a:pt x="1221517" y="2064597"/>
                  </a:lnTo>
                  <a:lnTo>
                    <a:pt x="1221539" y="2086006"/>
                  </a:lnTo>
                  <a:lnTo>
                    <a:pt x="1221553" y="2107422"/>
                  </a:lnTo>
                  <a:lnTo>
                    <a:pt x="1221562" y="2129638"/>
                  </a:lnTo>
                  <a:lnTo>
                    <a:pt x="1221568" y="2152385"/>
                  </a:lnTo>
                  <a:lnTo>
                    <a:pt x="1221573" y="2175488"/>
                  </a:lnTo>
                  <a:lnTo>
                    <a:pt x="1221575" y="2198827"/>
                  </a:lnTo>
                  <a:lnTo>
                    <a:pt x="1221577" y="2222324"/>
                  </a:lnTo>
                  <a:lnTo>
                    <a:pt x="1221579" y="2245926"/>
                  </a:lnTo>
                  <a:lnTo>
                    <a:pt x="1221580" y="2268805"/>
                  </a:lnTo>
                  <a:lnTo>
                    <a:pt x="1221580" y="2291201"/>
                  </a:lnTo>
                  <a:lnTo>
                    <a:pt x="1221580" y="2313275"/>
                  </a:lnTo>
                  <a:lnTo>
                    <a:pt x="1220787" y="2335929"/>
                  </a:lnTo>
                  <a:lnTo>
                    <a:pt x="1219464" y="2358969"/>
                  </a:lnTo>
                  <a:lnTo>
                    <a:pt x="1217788" y="2382267"/>
                  </a:lnTo>
                  <a:lnTo>
                    <a:pt x="1216671" y="2405736"/>
                  </a:lnTo>
                  <a:lnTo>
                    <a:pt x="1215927" y="2429320"/>
                  </a:lnTo>
                  <a:lnTo>
                    <a:pt x="1215430" y="2452980"/>
                  </a:lnTo>
                  <a:lnTo>
                    <a:pt x="1214306" y="2476690"/>
                  </a:lnTo>
                  <a:lnTo>
                    <a:pt x="1212762" y="2500435"/>
                  </a:lnTo>
                  <a:lnTo>
                    <a:pt x="1210939" y="2524202"/>
                  </a:lnTo>
                  <a:lnTo>
                    <a:pt x="1208930" y="2547985"/>
                  </a:lnTo>
                  <a:lnTo>
                    <a:pt x="1206797" y="2571777"/>
                  </a:lnTo>
                  <a:lnTo>
                    <a:pt x="1204582" y="2595576"/>
                  </a:lnTo>
                  <a:lnTo>
                    <a:pt x="1202310" y="2620174"/>
                  </a:lnTo>
                  <a:lnTo>
                    <a:pt x="1200003" y="2645303"/>
                  </a:lnTo>
                  <a:lnTo>
                    <a:pt x="1197670" y="2670788"/>
                  </a:lnTo>
                  <a:lnTo>
                    <a:pt x="1195322" y="2695714"/>
                  </a:lnTo>
                  <a:lnTo>
                    <a:pt x="1192963" y="2720270"/>
                  </a:lnTo>
                  <a:lnTo>
                    <a:pt x="1190596" y="2744578"/>
                  </a:lnTo>
                  <a:lnTo>
                    <a:pt x="1188224" y="2769514"/>
                  </a:lnTo>
                  <a:lnTo>
                    <a:pt x="1185850" y="2794870"/>
                  </a:lnTo>
                  <a:lnTo>
                    <a:pt x="1183473" y="2820504"/>
                  </a:lnTo>
                  <a:lnTo>
                    <a:pt x="1180301" y="2846326"/>
                  </a:lnTo>
                  <a:lnTo>
                    <a:pt x="1176599" y="2872271"/>
                  </a:lnTo>
                  <a:lnTo>
                    <a:pt x="1172542" y="2898299"/>
                  </a:lnTo>
                  <a:lnTo>
                    <a:pt x="1169045" y="2924383"/>
                  </a:lnTo>
                  <a:lnTo>
                    <a:pt x="1165920" y="2950503"/>
                  </a:lnTo>
                  <a:lnTo>
                    <a:pt x="1163042" y="2976648"/>
                  </a:lnTo>
                  <a:lnTo>
                    <a:pt x="1159536" y="3002015"/>
                  </a:lnTo>
                  <a:lnTo>
                    <a:pt x="1155612" y="3026864"/>
                  </a:lnTo>
                  <a:lnTo>
                    <a:pt x="1151408" y="3051367"/>
                  </a:lnTo>
                  <a:lnTo>
                    <a:pt x="1147018" y="3076434"/>
                  </a:lnTo>
                  <a:lnTo>
                    <a:pt x="1142504" y="3101877"/>
                  </a:lnTo>
                  <a:lnTo>
                    <a:pt x="1137907" y="3127570"/>
                  </a:lnTo>
                  <a:lnTo>
                    <a:pt x="1133254" y="3153429"/>
                  </a:lnTo>
                  <a:lnTo>
                    <a:pt x="1128565" y="3179401"/>
                  </a:lnTo>
                  <a:lnTo>
                    <a:pt x="1123852" y="3205446"/>
                  </a:lnTo>
                  <a:lnTo>
                    <a:pt x="1118328" y="3230747"/>
                  </a:lnTo>
                  <a:lnTo>
                    <a:pt x="1112265" y="3255552"/>
                  </a:lnTo>
                  <a:lnTo>
                    <a:pt x="1105841" y="3280026"/>
                  </a:lnTo>
                  <a:lnTo>
                    <a:pt x="1099177" y="3305074"/>
                  </a:lnTo>
                  <a:lnTo>
                    <a:pt x="1092353" y="3330503"/>
                  </a:lnTo>
                  <a:lnTo>
                    <a:pt x="1085423" y="3356188"/>
                  </a:lnTo>
                  <a:lnTo>
                    <a:pt x="1078422" y="3381247"/>
                  </a:lnTo>
                  <a:lnTo>
                    <a:pt x="1071373" y="3405892"/>
                  </a:lnTo>
                  <a:lnTo>
                    <a:pt x="1064292" y="3430259"/>
                  </a:lnTo>
                  <a:lnTo>
                    <a:pt x="1057191" y="3454441"/>
                  </a:lnTo>
                  <a:lnTo>
                    <a:pt x="1050075" y="3478500"/>
                  </a:lnTo>
                  <a:lnTo>
                    <a:pt x="1042950" y="3502477"/>
                  </a:lnTo>
                  <a:lnTo>
                    <a:pt x="1036612" y="3527193"/>
                  </a:lnTo>
                  <a:lnTo>
                    <a:pt x="1030800" y="3552401"/>
                  </a:lnTo>
                  <a:lnTo>
                    <a:pt x="1025337" y="3577938"/>
                  </a:lnTo>
                  <a:lnTo>
                    <a:pt x="1018521" y="3602107"/>
                  </a:lnTo>
                  <a:lnTo>
                    <a:pt x="1010802" y="3625363"/>
                  </a:lnTo>
                  <a:lnTo>
                    <a:pt x="1002480" y="3648010"/>
                  </a:lnTo>
                  <a:lnTo>
                    <a:pt x="995345" y="3669459"/>
                  </a:lnTo>
                  <a:lnTo>
                    <a:pt x="989001" y="3690107"/>
                  </a:lnTo>
                  <a:lnTo>
                    <a:pt x="983184" y="3710224"/>
                  </a:lnTo>
                  <a:lnTo>
                    <a:pt x="972487" y="3743158"/>
                  </a:lnTo>
                  <a:lnTo>
                    <a:pt x="957263" y="3786175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SMARTInkShape-42"/>
            <p:cNvSpPr/>
            <p:nvPr/>
          </p:nvSpPr>
          <p:spPr>
            <a:xfrm>
              <a:off x="4894200" y="5801400"/>
              <a:ext cx="1006200" cy="585000"/>
            </a:xfrm>
            <a:custGeom>
              <a:avLst/>
              <a:gdLst>
                <a:gd name="textAreaLeft" fmla="*/ 0 w 1006200"/>
                <a:gd name="textAreaRight" fmla="*/ 1006560 w 1006200"/>
                <a:gd name="textAreaTop" fmla="*/ 0 h 585000"/>
                <a:gd name="textAreaBottom" fmla="*/ 585360 h 585000"/>
              </a:gdLst>
              <a:ahLst/>
              <a:rect l="textAreaLeft" t="textAreaTop" r="textAreaRight" b="textAreaBottom"/>
              <a:pathLst>
                <a:path w="1007270" h="585140">
                  <a:moveTo>
                    <a:pt x="1007269" y="107156"/>
                  </a:moveTo>
                  <a:lnTo>
                    <a:pt x="995862" y="120150"/>
                  </a:lnTo>
                  <a:lnTo>
                    <a:pt x="981311" y="144520"/>
                  </a:lnTo>
                  <a:lnTo>
                    <a:pt x="966099" y="168212"/>
                  </a:lnTo>
                  <a:lnTo>
                    <a:pt x="948754" y="196734"/>
                  </a:lnTo>
                  <a:lnTo>
                    <a:pt x="929669" y="227931"/>
                  </a:lnTo>
                  <a:lnTo>
                    <a:pt x="907957" y="260317"/>
                  </a:lnTo>
                  <a:lnTo>
                    <a:pt x="887194" y="291116"/>
                  </a:lnTo>
                  <a:lnTo>
                    <a:pt x="866590" y="320678"/>
                  </a:lnTo>
                  <a:lnTo>
                    <a:pt x="844203" y="349693"/>
                  </a:lnTo>
                  <a:lnTo>
                    <a:pt x="823141" y="376346"/>
                  </a:lnTo>
                  <a:lnTo>
                    <a:pt x="803196" y="401421"/>
                  </a:lnTo>
                  <a:lnTo>
                    <a:pt x="774118" y="437057"/>
                  </a:lnTo>
                  <a:lnTo>
                    <a:pt x="744600" y="468077"/>
                  </a:lnTo>
                  <a:lnTo>
                    <a:pt x="711865" y="496582"/>
                  </a:lnTo>
                  <a:lnTo>
                    <a:pt x="681705" y="520462"/>
                  </a:lnTo>
                  <a:lnTo>
                    <a:pt x="652660" y="541826"/>
                  </a:lnTo>
                  <a:lnTo>
                    <a:pt x="623946" y="557769"/>
                  </a:lnTo>
                  <a:lnTo>
                    <a:pt x="595330" y="567873"/>
                  </a:lnTo>
                  <a:lnTo>
                    <a:pt x="567536" y="575894"/>
                  </a:lnTo>
                  <a:lnTo>
                    <a:pt x="534292" y="583598"/>
                  </a:lnTo>
                  <a:lnTo>
                    <a:pt x="506765" y="585139"/>
                  </a:lnTo>
                  <a:lnTo>
                    <a:pt x="480617" y="583478"/>
                  </a:lnTo>
                  <a:lnTo>
                    <a:pt x="446656" y="579599"/>
                  </a:lnTo>
                  <a:lnTo>
                    <a:pt x="418798" y="575135"/>
                  </a:lnTo>
                  <a:lnTo>
                    <a:pt x="386644" y="561605"/>
                  </a:lnTo>
                  <a:lnTo>
                    <a:pt x="355245" y="548349"/>
                  </a:lnTo>
                  <a:lnTo>
                    <a:pt x="328037" y="537388"/>
                  </a:lnTo>
                  <a:lnTo>
                    <a:pt x="294191" y="522781"/>
                  </a:lnTo>
                  <a:lnTo>
                    <a:pt x="259665" y="499699"/>
                  </a:lnTo>
                  <a:lnTo>
                    <a:pt x="229092" y="479030"/>
                  </a:lnTo>
                  <a:lnTo>
                    <a:pt x="200122" y="455868"/>
                  </a:lnTo>
                  <a:lnTo>
                    <a:pt x="166435" y="421306"/>
                  </a:lnTo>
                  <a:lnTo>
                    <a:pt x="145677" y="392871"/>
                  </a:lnTo>
                  <a:lnTo>
                    <a:pt x="126289" y="359414"/>
                  </a:lnTo>
                  <a:lnTo>
                    <a:pt x="107172" y="326936"/>
                  </a:lnTo>
                  <a:lnTo>
                    <a:pt x="94990" y="299541"/>
                  </a:lnTo>
                  <a:lnTo>
                    <a:pt x="84237" y="269199"/>
                  </a:lnTo>
                  <a:lnTo>
                    <a:pt x="73113" y="237189"/>
                  </a:lnTo>
                  <a:lnTo>
                    <a:pt x="64790" y="207597"/>
                  </a:lnTo>
                  <a:lnTo>
                    <a:pt x="57297" y="178720"/>
                  </a:lnTo>
                  <a:lnTo>
                    <a:pt x="47933" y="150057"/>
                  </a:lnTo>
                  <a:lnTo>
                    <a:pt x="39338" y="121455"/>
                  </a:lnTo>
                  <a:lnTo>
                    <a:pt x="34674" y="92872"/>
                  </a:lnTo>
                  <a:lnTo>
                    <a:pt x="25987" y="58562"/>
                  </a:lnTo>
                  <a:lnTo>
                    <a:pt x="5737" y="24354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SMARTInkShape-Group14"/>
          <p:cNvGrpSpPr/>
          <p:nvPr/>
        </p:nvGrpSpPr>
        <p:grpSpPr>
          <a:xfrm>
            <a:off x="4071960" y="2422440"/>
            <a:ext cx="822240" cy="3684600"/>
            <a:chOff x="4071960" y="2422440"/>
            <a:chExt cx="822240" cy="3684600"/>
          </a:xfrm>
        </p:grpSpPr>
        <p:sp>
          <p:nvSpPr>
            <p:cNvPr id="100" name="SMARTInkShape-43"/>
            <p:cNvSpPr/>
            <p:nvPr/>
          </p:nvSpPr>
          <p:spPr>
            <a:xfrm>
              <a:off x="4071960" y="2422440"/>
              <a:ext cx="822240" cy="368460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684600"/>
                <a:gd name="textAreaBottom" fmla="*/ 3684960 h 3684600"/>
              </a:gdLst>
              <a:ahLst/>
              <a:rect l="textAreaLeft" t="textAreaTop" r="textAreaRight" b="textAreaBottom"/>
              <a:pathLst>
                <a:path w="821532" h="3684922">
                  <a:moveTo>
                    <a:pt x="642937" y="578643"/>
                  </a:moveTo>
                  <a:lnTo>
                    <a:pt x="642937" y="567708"/>
                  </a:lnTo>
                  <a:lnTo>
                    <a:pt x="642143" y="566590"/>
                  </a:lnTo>
                  <a:lnTo>
                    <a:pt x="640820" y="565845"/>
                  </a:lnTo>
                  <a:lnTo>
                    <a:pt x="636786" y="564650"/>
                  </a:lnTo>
                  <a:lnTo>
                    <a:pt x="636235" y="562370"/>
                  </a:lnTo>
                  <a:lnTo>
                    <a:pt x="635793" y="528048"/>
                  </a:lnTo>
                  <a:lnTo>
                    <a:pt x="635793" y="492906"/>
                  </a:lnTo>
                  <a:lnTo>
                    <a:pt x="635793" y="483391"/>
                  </a:lnTo>
                  <a:lnTo>
                    <a:pt x="633677" y="478630"/>
                  </a:lnTo>
                  <a:lnTo>
                    <a:pt x="630884" y="473868"/>
                  </a:lnTo>
                  <a:lnTo>
                    <a:pt x="629311" y="465931"/>
                  </a:lnTo>
                  <a:lnTo>
                    <a:pt x="627914" y="445161"/>
                  </a:lnTo>
                  <a:lnTo>
                    <a:pt x="622506" y="427323"/>
                  </a:lnTo>
                  <a:lnTo>
                    <a:pt x="620910" y="412022"/>
                  </a:lnTo>
                  <a:lnTo>
                    <a:pt x="615891" y="398416"/>
                  </a:lnTo>
                  <a:lnTo>
                    <a:pt x="614248" y="390592"/>
                  </a:lnTo>
                  <a:lnTo>
                    <a:pt x="609654" y="380931"/>
                  </a:lnTo>
                  <a:lnTo>
                    <a:pt x="605244" y="352017"/>
                  </a:lnTo>
                  <a:lnTo>
                    <a:pt x="602372" y="345364"/>
                  </a:lnTo>
                  <a:lnTo>
                    <a:pt x="599961" y="333487"/>
                  </a:lnTo>
                  <a:lnTo>
                    <a:pt x="595367" y="323795"/>
                  </a:lnTo>
                  <a:lnTo>
                    <a:pt x="587441" y="297442"/>
                  </a:lnTo>
                  <a:lnTo>
                    <a:pt x="573574" y="269960"/>
                  </a:lnTo>
                  <a:lnTo>
                    <a:pt x="569997" y="256729"/>
                  </a:lnTo>
                  <a:lnTo>
                    <a:pt x="566027" y="242755"/>
                  </a:lnTo>
                  <a:lnTo>
                    <a:pt x="562735" y="228560"/>
                  </a:lnTo>
                  <a:lnTo>
                    <a:pt x="547592" y="195259"/>
                  </a:lnTo>
                  <a:lnTo>
                    <a:pt x="526253" y="163041"/>
                  </a:lnTo>
                  <a:lnTo>
                    <a:pt x="507206" y="128445"/>
                  </a:lnTo>
                  <a:lnTo>
                    <a:pt x="497681" y="113301"/>
                  </a:lnTo>
                  <a:lnTo>
                    <a:pt x="464474" y="78727"/>
                  </a:lnTo>
                  <a:lnTo>
                    <a:pt x="430410" y="45441"/>
                  </a:lnTo>
                  <a:lnTo>
                    <a:pt x="409460" y="31767"/>
                  </a:lnTo>
                  <a:lnTo>
                    <a:pt x="394529" y="27088"/>
                  </a:lnTo>
                  <a:lnTo>
                    <a:pt x="378761" y="16273"/>
                  </a:lnTo>
                  <a:lnTo>
                    <a:pt x="353092" y="7089"/>
                  </a:lnTo>
                  <a:lnTo>
                    <a:pt x="344685" y="2453"/>
                  </a:lnTo>
                  <a:lnTo>
                    <a:pt x="309622" y="18"/>
                  </a:lnTo>
                  <a:lnTo>
                    <a:pt x="290514" y="0"/>
                  </a:lnTo>
                  <a:lnTo>
                    <a:pt x="285751" y="2116"/>
                  </a:lnTo>
                  <a:lnTo>
                    <a:pt x="283369" y="3792"/>
                  </a:lnTo>
                  <a:lnTo>
                    <a:pt x="272432" y="6150"/>
                  </a:lnTo>
                  <a:lnTo>
                    <a:pt x="260218" y="7741"/>
                  </a:lnTo>
                  <a:lnTo>
                    <a:pt x="250161" y="12759"/>
                  </a:lnTo>
                  <a:lnTo>
                    <a:pt x="247737" y="13268"/>
                  </a:lnTo>
                  <a:lnTo>
                    <a:pt x="240532" y="17777"/>
                  </a:lnTo>
                  <a:lnTo>
                    <a:pt x="230986" y="25618"/>
                  </a:lnTo>
                  <a:lnTo>
                    <a:pt x="221457" y="30107"/>
                  </a:lnTo>
                  <a:lnTo>
                    <a:pt x="216694" y="33224"/>
                  </a:lnTo>
                  <a:lnTo>
                    <a:pt x="209550" y="35773"/>
                  </a:lnTo>
                  <a:lnTo>
                    <a:pt x="185737" y="55075"/>
                  </a:lnTo>
                  <a:lnTo>
                    <a:pt x="180975" y="57021"/>
                  </a:lnTo>
                  <a:lnTo>
                    <a:pt x="145256" y="90492"/>
                  </a:lnTo>
                  <a:lnTo>
                    <a:pt x="138906" y="97632"/>
                  </a:lnTo>
                  <a:lnTo>
                    <a:pt x="137142" y="102394"/>
                  </a:lnTo>
                  <a:lnTo>
                    <a:pt x="132124" y="107156"/>
                  </a:lnTo>
                  <a:lnTo>
                    <a:pt x="128564" y="109537"/>
                  </a:lnTo>
                  <a:lnTo>
                    <a:pt x="126190" y="112712"/>
                  </a:lnTo>
                  <a:lnTo>
                    <a:pt x="118276" y="129975"/>
                  </a:lnTo>
                  <a:lnTo>
                    <a:pt x="103141" y="148372"/>
                  </a:lnTo>
                  <a:lnTo>
                    <a:pt x="101403" y="156166"/>
                  </a:lnTo>
                  <a:lnTo>
                    <a:pt x="99352" y="159673"/>
                  </a:lnTo>
                  <a:lnTo>
                    <a:pt x="88887" y="171005"/>
                  </a:lnTo>
                  <a:lnTo>
                    <a:pt x="78231" y="191352"/>
                  </a:lnTo>
                  <a:lnTo>
                    <a:pt x="75966" y="194243"/>
                  </a:lnTo>
                  <a:lnTo>
                    <a:pt x="73450" y="201688"/>
                  </a:lnTo>
                  <a:lnTo>
                    <a:pt x="69917" y="214805"/>
                  </a:lnTo>
                  <a:lnTo>
                    <a:pt x="65959" y="228745"/>
                  </a:lnTo>
                  <a:lnTo>
                    <a:pt x="62670" y="242930"/>
                  </a:lnTo>
                  <a:lnTo>
                    <a:pt x="51980" y="271466"/>
                  </a:lnTo>
                  <a:lnTo>
                    <a:pt x="48474" y="285750"/>
                  </a:lnTo>
                  <a:lnTo>
                    <a:pt x="45356" y="296068"/>
                  </a:lnTo>
                  <a:lnTo>
                    <a:pt x="38172" y="330331"/>
                  </a:lnTo>
                  <a:lnTo>
                    <a:pt x="31024" y="364419"/>
                  </a:lnTo>
                  <a:lnTo>
                    <a:pt x="27996" y="399995"/>
                  </a:lnTo>
                  <a:lnTo>
                    <a:pt x="22452" y="429714"/>
                  </a:lnTo>
                  <a:lnTo>
                    <a:pt x="21565" y="464487"/>
                  </a:lnTo>
                  <a:lnTo>
                    <a:pt x="19354" y="485817"/>
                  </a:lnTo>
                  <a:lnTo>
                    <a:pt x="15288" y="514358"/>
                  </a:lnTo>
                  <a:lnTo>
                    <a:pt x="13691" y="547835"/>
                  </a:lnTo>
                  <a:lnTo>
                    <a:pt x="8672" y="578202"/>
                  </a:lnTo>
                  <a:lnTo>
                    <a:pt x="7445" y="607131"/>
                  </a:lnTo>
                  <a:lnTo>
                    <a:pt x="7203" y="640685"/>
                  </a:lnTo>
                  <a:lnTo>
                    <a:pt x="5038" y="673184"/>
                  </a:lnTo>
                  <a:lnTo>
                    <a:pt x="1492" y="700582"/>
                  </a:lnTo>
                  <a:lnTo>
                    <a:pt x="294" y="734492"/>
                  </a:lnTo>
                  <a:lnTo>
                    <a:pt x="58" y="769824"/>
                  </a:lnTo>
                  <a:lnTo>
                    <a:pt x="17" y="797920"/>
                  </a:lnTo>
                  <a:lnTo>
                    <a:pt x="5" y="826353"/>
                  </a:lnTo>
                  <a:lnTo>
                    <a:pt x="1" y="854886"/>
                  </a:lnTo>
                  <a:lnTo>
                    <a:pt x="0" y="883448"/>
                  </a:lnTo>
                  <a:lnTo>
                    <a:pt x="0" y="912813"/>
                  </a:lnTo>
                  <a:lnTo>
                    <a:pt x="0" y="945503"/>
                  </a:lnTo>
                  <a:lnTo>
                    <a:pt x="0" y="976444"/>
                  </a:lnTo>
                  <a:lnTo>
                    <a:pt x="0" y="1009600"/>
                  </a:lnTo>
                  <a:lnTo>
                    <a:pt x="793" y="1040679"/>
                  </a:lnTo>
                  <a:lnTo>
                    <a:pt x="4909" y="1074670"/>
                  </a:lnTo>
                  <a:lnTo>
                    <a:pt x="6481" y="1109877"/>
                  </a:lnTo>
                  <a:lnTo>
                    <a:pt x="6947" y="1145444"/>
                  </a:lnTo>
                  <a:lnTo>
                    <a:pt x="7056" y="1169222"/>
                  </a:lnTo>
                  <a:lnTo>
                    <a:pt x="7104" y="1195135"/>
                  </a:lnTo>
                  <a:lnTo>
                    <a:pt x="7126" y="1221733"/>
                  </a:lnTo>
                  <a:lnTo>
                    <a:pt x="7135" y="1246784"/>
                  </a:lnTo>
                  <a:lnTo>
                    <a:pt x="7140" y="1273263"/>
                  </a:lnTo>
                  <a:lnTo>
                    <a:pt x="7142" y="1300113"/>
                  </a:lnTo>
                  <a:lnTo>
                    <a:pt x="7142" y="1325275"/>
                  </a:lnTo>
                  <a:lnTo>
                    <a:pt x="7143" y="1351805"/>
                  </a:lnTo>
                  <a:lnTo>
                    <a:pt x="7143" y="1379470"/>
                  </a:lnTo>
                  <a:lnTo>
                    <a:pt x="7143" y="1407641"/>
                  </a:lnTo>
                  <a:lnTo>
                    <a:pt x="7143" y="1436037"/>
                  </a:lnTo>
                  <a:lnTo>
                    <a:pt x="7143" y="1464532"/>
                  </a:lnTo>
                  <a:lnTo>
                    <a:pt x="7143" y="1493072"/>
                  </a:lnTo>
                  <a:lnTo>
                    <a:pt x="7143" y="1523747"/>
                  </a:lnTo>
                  <a:lnTo>
                    <a:pt x="7937" y="1555108"/>
                  </a:lnTo>
                  <a:lnTo>
                    <a:pt x="10935" y="1584922"/>
                  </a:lnTo>
                  <a:lnTo>
                    <a:pt x="12798" y="1614046"/>
                  </a:lnTo>
                  <a:lnTo>
                    <a:pt x="13625" y="1643660"/>
                  </a:lnTo>
                  <a:lnTo>
                    <a:pt x="13993" y="1675342"/>
                  </a:lnTo>
                  <a:lnTo>
                    <a:pt x="14156" y="1705827"/>
                  </a:lnTo>
                  <a:lnTo>
                    <a:pt x="14229" y="1736045"/>
                  </a:lnTo>
                  <a:lnTo>
                    <a:pt x="14261" y="1767996"/>
                  </a:lnTo>
                  <a:lnTo>
                    <a:pt x="14275" y="1800717"/>
                  </a:lnTo>
                  <a:lnTo>
                    <a:pt x="15076" y="1833781"/>
                  </a:lnTo>
                  <a:lnTo>
                    <a:pt x="18077" y="1866997"/>
                  </a:lnTo>
                  <a:lnTo>
                    <a:pt x="19940" y="1898163"/>
                  </a:lnTo>
                  <a:lnTo>
                    <a:pt x="20768" y="1928684"/>
                  </a:lnTo>
                  <a:lnTo>
                    <a:pt x="21136" y="1960769"/>
                  </a:lnTo>
                  <a:lnTo>
                    <a:pt x="21300" y="1993550"/>
                  </a:lnTo>
                  <a:lnTo>
                    <a:pt x="21373" y="2027434"/>
                  </a:lnTo>
                  <a:lnTo>
                    <a:pt x="21392" y="2045360"/>
                  </a:lnTo>
                  <a:lnTo>
                    <a:pt x="21405" y="2063660"/>
                  </a:lnTo>
                  <a:lnTo>
                    <a:pt x="23536" y="2098811"/>
                  </a:lnTo>
                  <a:lnTo>
                    <a:pt x="26335" y="2132954"/>
                  </a:lnTo>
                  <a:lnTo>
                    <a:pt x="27579" y="2166650"/>
                  </a:lnTo>
                  <a:lnTo>
                    <a:pt x="28132" y="2202264"/>
                  </a:lnTo>
                  <a:lnTo>
                    <a:pt x="28280" y="2220651"/>
                  </a:lnTo>
                  <a:lnTo>
                    <a:pt x="30560" y="2255897"/>
                  </a:lnTo>
                  <a:lnTo>
                    <a:pt x="33426" y="2290877"/>
                  </a:lnTo>
                  <a:lnTo>
                    <a:pt x="34190" y="2309095"/>
                  </a:lnTo>
                  <a:lnTo>
                    <a:pt x="34699" y="2327590"/>
                  </a:lnTo>
                  <a:lnTo>
                    <a:pt x="35039" y="2346270"/>
                  </a:lnTo>
                  <a:lnTo>
                    <a:pt x="35266" y="2365073"/>
                  </a:lnTo>
                  <a:lnTo>
                    <a:pt x="35417" y="2383959"/>
                  </a:lnTo>
                  <a:lnTo>
                    <a:pt x="35517" y="2402900"/>
                  </a:lnTo>
                  <a:lnTo>
                    <a:pt x="35584" y="2421877"/>
                  </a:lnTo>
                  <a:lnTo>
                    <a:pt x="35629" y="2440878"/>
                  </a:lnTo>
                  <a:lnTo>
                    <a:pt x="36452" y="2459896"/>
                  </a:lnTo>
                  <a:lnTo>
                    <a:pt x="37795" y="2478924"/>
                  </a:lnTo>
                  <a:lnTo>
                    <a:pt x="39484" y="2497960"/>
                  </a:lnTo>
                  <a:lnTo>
                    <a:pt x="41404" y="2517794"/>
                  </a:lnTo>
                  <a:lnTo>
                    <a:pt x="43477" y="2538160"/>
                  </a:lnTo>
                  <a:lnTo>
                    <a:pt x="45654" y="2558881"/>
                  </a:lnTo>
                  <a:lnTo>
                    <a:pt x="47104" y="2579046"/>
                  </a:lnTo>
                  <a:lnTo>
                    <a:pt x="48071" y="2598839"/>
                  </a:lnTo>
                  <a:lnTo>
                    <a:pt x="48716" y="2618384"/>
                  </a:lnTo>
                  <a:lnTo>
                    <a:pt x="49940" y="2638558"/>
                  </a:lnTo>
                  <a:lnTo>
                    <a:pt x="51549" y="2659151"/>
                  </a:lnTo>
                  <a:lnTo>
                    <a:pt x="53416" y="2680023"/>
                  </a:lnTo>
                  <a:lnTo>
                    <a:pt x="55454" y="2701082"/>
                  </a:lnTo>
                  <a:lnTo>
                    <a:pt x="57607" y="2722265"/>
                  </a:lnTo>
                  <a:lnTo>
                    <a:pt x="59836" y="2743531"/>
                  </a:lnTo>
                  <a:lnTo>
                    <a:pt x="62115" y="2764058"/>
                  </a:lnTo>
                  <a:lnTo>
                    <a:pt x="64429" y="2784093"/>
                  </a:lnTo>
                  <a:lnTo>
                    <a:pt x="66765" y="2803799"/>
                  </a:lnTo>
                  <a:lnTo>
                    <a:pt x="69116" y="2824080"/>
                  </a:lnTo>
                  <a:lnTo>
                    <a:pt x="71477" y="2844745"/>
                  </a:lnTo>
                  <a:lnTo>
                    <a:pt x="73845" y="2865665"/>
                  </a:lnTo>
                  <a:lnTo>
                    <a:pt x="77011" y="2886756"/>
                  </a:lnTo>
                  <a:lnTo>
                    <a:pt x="80709" y="2907960"/>
                  </a:lnTo>
                  <a:lnTo>
                    <a:pt x="84763" y="2929240"/>
                  </a:lnTo>
                  <a:lnTo>
                    <a:pt x="88258" y="2950570"/>
                  </a:lnTo>
                  <a:lnTo>
                    <a:pt x="91382" y="2971933"/>
                  </a:lnTo>
                  <a:lnTo>
                    <a:pt x="94259" y="2993320"/>
                  </a:lnTo>
                  <a:lnTo>
                    <a:pt x="96970" y="3013928"/>
                  </a:lnTo>
                  <a:lnTo>
                    <a:pt x="99572" y="3034016"/>
                  </a:lnTo>
                  <a:lnTo>
                    <a:pt x="102099" y="3053758"/>
                  </a:lnTo>
                  <a:lnTo>
                    <a:pt x="105373" y="3074064"/>
                  </a:lnTo>
                  <a:lnTo>
                    <a:pt x="109142" y="3094744"/>
                  </a:lnTo>
                  <a:lnTo>
                    <a:pt x="113243" y="3115675"/>
                  </a:lnTo>
                  <a:lnTo>
                    <a:pt x="117564" y="3135979"/>
                  </a:lnTo>
                  <a:lnTo>
                    <a:pt x="122032" y="3155865"/>
                  </a:lnTo>
                  <a:lnTo>
                    <a:pt x="126598" y="3175472"/>
                  </a:lnTo>
                  <a:lnTo>
                    <a:pt x="131230" y="3194894"/>
                  </a:lnTo>
                  <a:lnTo>
                    <a:pt x="135905" y="3214191"/>
                  </a:lnTo>
                  <a:lnTo>
                    <a:pt x="140610" y="3233407"/>
                  </a:lnTo>
                  <a:lnTo>
                    <a:pt x="146127" y="3252567"/>
                  </a:lnTo>
                  <a:lnTo>
                    <a:pt x="152187" y="3271689"/>
                  </a:lnTo>
                  <a:lnTo>
                    <a:pt x="158608" y="3290789"/>
                  </a:lnTo>
                  <a:lnTo>
                    <a:pt x="164476" y="3309872"/>
                  </a:lnTo>
                  <a:lnTo>
                    <a:pt x="169975" y="3328943"/>
                  </a:lnTo>
                  <a:lnTo>
                    <a:pt x="175229" y="3348008"/>
                  </a:lnTo>
                  <a:lnTo>
                    <a:pt x="181113" y="3366274"/>
                  </a:lnTo>
                  <a:lnTo>
                    <a:pt x="194000" y="3401386"/>
                  </a:lnTo>
                  <a:lnTo>
                    <a:pt x="207666" y="3435512"/>
                  </a:lnTo>
                  <a:lnTo>
                    <a:pt x="221677" y="3468406"/>
                  </a:lnTo>
                  <a:lnTo>
                    <a:pt x="235842" y="3498901"/>
                  </a:lnTo>
                  <a:lnTo>
                    <a:pt x="252191" y="3526213"/>
                  </a:lnTo>
                  <a:lnTo>
                    <a:pt x="269247" y="3551580"/>
                  </a:lnTo>
                  <a:lnTo>
                    <a:pt x="284765" y="3576084"/>
                  </a:lnTo>
                  <a:lnTo>
                    <a:pt x="310681" y="3608399"/>
                  </a:lnTo>
                  <a:lnTo>
                    <a:pt x="342974" y="3641266"/>
                  </a:lnTo>
                  <a:lnTo>
                    <a:pt x="369821" y="3658669"/>
                  </a:lnTo>
                  <a:lnTo>
                    <a:pt x="405220" y="3676655"/>
                  </a:lnTo>
                  <a:lnTo>
                    <a:pt x="421398" y="3681943"/>
                  </a:lnTo>
                  <a:lnTo>
                    <a:pt x="448355" y="3684921"/>
                  </a:lnTo>
                  <a:lnTo>
                    <a:pt x="483792" y="3683810"/>
                  </a:lnTo>
                  <a:lnTo>
                    <a:pt x="517750" y="3672390"/>
                  </a:lnTo>
                  <a:lnTo>
                    <a:pt x="550123" y="3654053"/>
                  </a:lnTo>
                  <a:lnTo>
                    <a:pt x="584151" y="3628324"/>
                  </a:lnTo>
                  <a:lnTo>
                    <a:pt x="614039" y="3600311"/>
                  </a:lnTo>
                  <a:lnTo>
                    <a:pt x="642873" y="3566144"/>
                  </a:lnTo>
                  <a:lnTo>
                    <a:pt x="663556" y="3538250"/>
                  </a:lnTo>
                  <a:lnTo>
                    <a:pt x="680884" y="3509877"/>
                  </a:lnTo>
                  <a:lnTo>
                    <a:pt x="699954" y="3481362"/>
                  </a:lnTo>
                  <a:lnTo>
                    <a:pt x="716010" y="3452804"/>
                  </a:lnTo>
                  <a:lnTo>
                    <a:pt x="730822" y="3423441"/>
                  </a:lnTo>
                  <a:lnTo>
                    <a:pt x="745265" y="3390752"/>
                  </a:lnTo>
                  <a:lnTo>
                    <a:pt x="759599" y="3360605"/>
                  </a:lnTo>
                  <a:lnTo>
                    <a:pt x="773107" y="3331564"/>
                  </a:lnTo>
                  <a:lnTo>
                    <a:pt x="782488" y="3302851"/>
                  </a:lnTo>
                  <a:lnTo>
                    <a:pt x="790295" y="3274235"/>
                  </a:lnTo>
                  <a:lnTo>
                    <a:pt x="796842" y="3245648"/>
                  </a:lnTo>
                  <a:lnTo>
                    <a:pt x="799928" y="3217863"/>
                  </a:lnTo>
                  <a:lnTo>
                    <a:pt x="805563" y="3186739"/>
                  </a:lnTo>
                  <a:lnTo>
                    <a:pt x="808863" y="3166983"/>
                  </a:lnTo>
                  <a:lnTo>
                    <a:pt x="813296" y="3146085"/>
                  </a:lnTo>
                  <a:lnTo>
                    <a:pt x="814291" y="3127039"/>
                  </a:lnTo>
                  <a:lnTo>
                    <a:pt x="815116" y="3125298"/>
                  </a:lnTo>
                  <a:lnTo>
                    <a:pt x="816461" y="3124138"/>
                  </a:lnTo>
                  <a:lnTo>
                    <a:pt x="818151" y="3123365"/>
                  </a:lnTo>
                  <a:lnTo>
                    <a:pt x="819277" y="3122056"/>
                  </a:lnTo>
                  <a:lnTo>
                    <a:pt x="821528" y="3114683"/>
                  </a:lnTo>
                  <a:lnTo>
                    <a:pt x="821531" y="3121818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SMARTInkShape-44"/>
            <p:cNvSpPr/>
            <p:nvPr/>
          </p:nvSpPr>
          <p:spPr>
            <a:xfrm>
              <a:off x="4079160" y="2529720"/>
              <a:ext cx="228600" cy="4118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411840"/>
                <a:gd name="textAreaBottom" fmla="*/ 412200 h 411840"/>
              </a:gdLst>
              <a:ahLst/>
              <a:rect l="textAreaLeft" t="textAreaTop" r="textAreaRight" b="textAreaBottom"/>
              <a:pathLst>
                <a:path w="228467" h="412085">
                  <a:moveTo>
                    <a:pt x="14154" y="6849"/>
                  </a:moveTo>
                  <a:lnTo>
                    <a:pt x="14154" y="3057"/>
                  </a:lnTo>
                  <a:lnTo>
                    <a:pt x="13360" y="1940"/>
                  </a:lnTo>
                  <a:lnTo>
                    <a:pt x="12037" y="1195"/>
                  </a:lnTo>
                  <a:lnTo>
                    <a:pt x="8003" y="0"/>
                  </a:lnTo>
                  <a:lnTo>
                    <a:pt x="7672" y="695"/>
                  </a:lnTo>
                  <a:lnTo>
                    <a:pt x="7036" y="20298"/>
                  </a:lnTo>
                  <a:lnTo>
                    <a:pt x="12668" y="50542"/>
                  </a:lnTo>
                  <a:lnTo>
                    <a:pt x="13860" y="82243"/>
                  </a:lnTo>
                  <a:lnTo>
                    <a:pt x="14067" y="109710"/>
                  </a:lnTo>
                  <a:lnTo>
                    <a:pt x="14128" y="141749"/>
                  </a:lnTo>
                  <a:lnTo>
                    <a:pt x="14146" y="172585"/>
                  </a:lnTo>
                  <a:lnTo>
                    <a:pt x="10359" y="205622"/>
                  </a:lnTo>
                  <a:lnTo>
                    <a:pt x="8002" y="240546"/>
                  </a:lnTo>
                  <a:lnTo>
                    <a:pt x="7304" y="272237"/>
                  </a:lnTo>
                  <a:lnTo>
                    <a:pt x="3305" y="305528"/>
                  </a:lnTo>
                  <a:lnTo>
                    <a:pt x="546" y="340926"/>
                  </a:lnTo>
                  <a:lnTo>
                    <a:pt x="0" y="370849"/>
                  </a:lnTo>
                  <a:lnTo>
                    <a:pt x="720" y="384527"/>
                  </a:lnTo>
                  <a:lnTo>
                    <a:pt x="6025" y="407432"/>
                  </a:lnTo>
                  <a:lnTo>
                    <a:pt x="7147" y="409636"/>
                  </a:lnTo>
                  <a:lnTo>
                    <a:pt x="8689" y="411105"/>
                  </a:lnTo>
                  <a:lnTo>
                    <a:pt x="10511" y="412084"/>
                  </a:lnTo>
                  <a:lnTo>
                    <a:pt x="12519" y="411944"/>
                  </a:lnTo>
                  <a:lnTo>
                    <a:pt x="16867" y="409670"/>
                  </a:lnTo>
                  <a:lnTo>
                    <a:pt x="52538" y="375630"/>
                  </a:lnTo>
                  <a:lnTo>
                    <a:pt x="75593" y="356831"/>
                  </a:lnTo>
                  <a:lnTo>
                    <a:pt x="106459" y="334039"/>
                  </a:lnTo>
                  <a:lnTo>
                    <a:pt x="137013" y="307327"/>
                  </a:lnTo>
                  <a:lnTo>
                    <a:pt x="170709" y="283132"/>
                  </a:lnTo>
                  <a:lnTo>
                    <a:pt x="204743" y="255394"/>
                  </a:lnTo>
                  <a:lnTo>
                    <a:pt x="211573" y="247489"/>
                  </a:lnTo>
                  <a:lnTo>
                    <a:pt x="228466" y="235449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SMARTInkShape-45"/>
          <p:cNvSpPr/>
          <p:nvPr/>
        </p:nvSpPr>
        <p:spPr>
          <a:xfrm>
            <a:off x="3973680" y="2481120"/>
            <a:ext cx="368280" cy="547920"/>
          </a:xfrm>
          <a:custGeom>
            <a:avLst/>
            <a:gdLst>
              <a:gd name="textAreaLeft" fmla="*/ 0 w 368280"/>
              <a:gd name="textAreaRight" fmla="*/ 368640 w 36828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369465" h="548258">
                <a:moveTo>
                  <a:pt x="27484" y="48334"/>
                </a:moveTo>
                <a:lnTo>
                  <a:pt x="27484" y="41197"/>
                </a:lnTo>
                <a:lnTo>
                  <a:pt x="28278" y="73301"/>
                </a:lnTo>
                <a:lnTo>
                  <a:pt x="33635" y="105949"/>
                </a:lnTo>
                <a:lnTo>
                  <a:pt x="35225" y="139854"/>
                </a:lnTo>
                <a:lnTo>
                  <a:pt x="40273" y="167702"/>
                </a:lnTo>
                <a:lnTo>
                  <a:pt x="46796" y="196855"/>
                </a:lnTo>
                <a:lnTo>
                  <a:pt x="53755" y="230276"/>
                </a:lnTo>
                <a:lnTo>
                  <a:pt x="60051" y="264520"/>
                </a:lnTo>
                <a:lnTo>
                  <a:pt x="63062" y="295921"/>
                </a:lnTo>
                <a:lnTo>
                  <a:pt x="68629" y="330008"/>
                </a:lnTo>
                <a:lnTo>
                  <a:pt x="75306" y="364450"/>
                </a:lnTo>
                <a:lnTo>
                  <a:pt x="82311" y="394322"/>
                </a:lnTo>
                <a:lnTo>
                  <a:pt x="91789" y="426151"/>
                </a:lnTo>
                <a:lnTo>
                  <a:pt x="98797" y="461697"/>
                </a:lnTo>
                <a:lnTo>
                  <a:pt x="98911" y="448850"/>
                </a:lnTo>
                <a:lnTo>
                  <a:pt x="93266" y="416813"/>
                </a:lnTo>
                <a:lnTo>
                  <a:pt x="90102" y="388229"/>
                </a:lnTo>
                <a:lnTo>
                  <a:pt x="84138" y="354625"/>
                </a:lnTo>
                <a:lnTo>
                  <a:pt x="77343" y="319532"/>
                </a:lnTo>
                <a:lnTo>
                  <a:pt x="72662" y="295073"/>
                </a:lnTo>
                <a:lnTo>
                  <a:pt x="67936" y="268326"/>
                </a:lnTo>
                <a:lnTo>
                  <a:pt x="63190" y="240564"/>
                </a:lnTo>
                <a:lnTo>
                  <a:pt x="58434" y="212351"/>
                </a:lnTo>
                <a:lnTo>
                  <a:pt x="53675" y="183936"/>
                </a:lnTo>
                <a:lnTo>
                  <a:pt x="46798" y="157549"/>
                </a:lnTo>
                <a:lnTo>
                  <a:pt x="39243" y="132593"/>
                </a:lnTo>
                <a:lnTo>
                  <a:pt x="30527" y="97024"/>
                </a:lnTo>
                <a:lnTo>
                  <a:pt x="22918" y="66817"/>
                </a:lnTo>
                <a:lnTo>
                  <a:pt x="15352" y="34875"/>
                </a:lnTo>
                <a:lnTo>
                  <a:pt x="13361" y="21715"/>
                </a:lnTo>
                <a:lnTo>
                  <a:pt x="6005" y="2092"/>
                </a:lnTo>
                <a:lnTo>
                  <a:pt x="4433" y="837"/>
                </a:lnTo>
                <a:lnTo>
                  <a:pt x="2592" y="0"/>
                </a:lnTo>
                <a:lnTo>
                  <a:pt x="1364" y="236"/>
                </a:lnTo>
                <a:lnTo>
                  <a:pt x="546" y="1188"/>
                </a:lnTo>
                <a:lnTo>
                  <a:pt x="0" y="2615"/>
                </a:lnTo>
                <a:lnTo>
                  <a:pt x="5156" y="32691"/>
                </a:lnTo>
                <a:lnTo>
                  <a:pt x="9579" y="58868"/>
                </a:lnTo>
                <a:lnTo>
                  <a:pt x="12125" y="90525"/>
                </a:lnTo>
                <a:lnTo>
                  <a:pt x="14837" y="115504"/>
                </a:lnTo>
                <a:lnTo>
                  <a:pt x="18688" y="143275"/>
                </a:lnTo>
                <a:lnTo>
                  <a:pt x="23046" y="174138"/>
                </a:lnTo>
                <a:lnTo>
                  <a:pt x="27628" y="206376"/>
                </a:lnTo>
                <a:lnTo>
                  <a:pt x="32310" y="239225"/>
                </a:lnTo>
                <a:lnTo>
                  <a:pt x="37038" y="272345"/>
                </a:lnTo>
                <a:lnTo>
                  <a:pt x="39667" y="305586"/>
                </a:lnTo>
                <a:lnTo>
                  <a:pt x="41630" y="338087"/>
                </a:lnTo>
                <a:lnTo>
                  <a:pt x="45148" y="368406"/>
                </a:lnTo>
                <a:lnTo>
                  <a:pt x="49358" y="395640"/>
                </a:lnTo>
                <a:lnTo>
                  <a:pt x="53081" y="420973"/>
                </a:lnTo>
                <a:lnTo>
                  <a:pt x="54735" y="445462"/>
                </a:lnTo>
                <a:lnTo>
                  <a:pt x="55667" y="477768"/>
                </a:lnTo>
                <a:lnTo>
                  <a:pt x="56775" y="510632"/>
                </a:lnTo>
                <a:lnTo>
                  <a:pt x="63071" y="546017"/>
                </a:lnTo>
                <a:lnTo>
                  <a:pt x="63195" y="548257"/>
                </a:lnTo>
                <a:lnTo>
                  <a:pt x="63203" y="514257"/>
                </a:lnTo>
                <a:lnTo>
                  <a:pt x="63203" y="506500"/>
                </a:lnTo>
                <a:lnTo>
                  <a:pt x="64790" y="503003"/>
                </a:lnTo>
                <a:lnTo>
                  <a:pt x="90637" y="471865"/>
                </a:lnTo>
                <a:lnTo>
                  <a:pt x="121873" y="443592"/>
                </a:lnTo>
                <a:lnTo>
                  <a:pt x="156271" y="412034"/>
                </a:lnTo>
                <a:lnTo>
                  <a:pt x="179679" y="393163"/>
                </a:lnTo>
                <a:lnTo>
                  <a:pt x="206722" y="375401"/>
                </a:lnTo>
                <a:lnTo>
                  <a:pt x="240512" y="351858"/>
                </a:lnTo>
                <a:lnTo>
                  <a:pt x="275027" y="327011"/>
                </a:lnTo>
                <a:lnTo>
                  <a:pt x="305599" y="308110"/>
                </a:lnTo>
                <a:lnTo>
                  <a:pt x="325259" y="297019"/>
                </a:lnTo>
                <a:lnTo>
                  <a:pt x="336041" y="289829"/>
                </a:lnTo>
                <a:lnTo>
                  <a:pt x="361372" y="278151"/>
                </a:lnTo>
                <a:lnTo>
                  <a:pt x="361995" y="278539"/>
                </a:lnTo>
                <a:lnTo>
                  <a:pt x="362686" y="281087"/>
                </a:lnTo>
                <a:lnTo>
                  <a:pt x="360878" y="284865"/>
                </a:lnTo>
                <a:lnTo>
                  <a:pt x="331860" y="315417"/>
                </a:lnTo>
                <a:lnTo>
                  <a:pt x="298577" y="343826"/>
                </a:lnTo>
                <a:lnTo>
                  <a:pt x="268182" y="370316"/>
                </a:lnTo>
                <a:lnTo>
                  <a:pt x="239031" y="391385"/>
                </a:lnTo>
                <a:lnTo>
                  <a:pt x="207375" y="412710"/>
                </a:lnTo>
                <a:lnTo>
                  <a:pt x="177887" y="431993"/>
                </a:lnTo>
                <a:lnTo>
                  <a:pt x="143271" y="452731"/>
                </a:lnTo>
                <a:lnTo>
                  <a:pt x="110494" y="474787"/>
                </a:lnTo>
                <a:lnTo>
                  <a:pt x="103271" y="479962"/>
                </a:lnTo>
                <a:lnTo>
                  <a:pt x="93448" y="483557"/>
                </a:lnTo>
                <a:lnTo>
                  <a:pt x="94637" y="479627"/>
                </a:lnTo>
                <a:lnTo>
                  <a:pt x="96065" y="476356"/>
                </a:lnTo>
                <a:lnTo>
                  <a:pt x="101885" y="470605"/>
                </a:lnTo>
                <a:lnTo>
                  <a:pt x="130415" y="447400"/>
                </a:lnTo>
                <a:lnTo>
                  <a:pt x="160729" y="431335"/>
                </a:lnTo>
                <a:lnTo>
                  <a:pt x="194846" y="412640"/>
                </a:lnTo>
                <a:lnTo>
                  <a:pt x="230090" y="395901"/>
                </a:lnTo>
                <a:lnTo>
                  <a:pt x="265668" y="377006"/>
                </a:lnTo>
                <a:lnTo>
                  <a:pt x="300552" y="361000"/>
                </a:lnTo>
                <a:lnTo>
                  <a:pt x="329761" y="346998"/>
                </a:lnTo>
                <a:lnTo>
                  <a:pt x="363395" y="329619"/>
                </a:lnTo>
                <a:lnTo>
                  <a:pt x="369464" y="321246"/>
                </a:lnTo>
                <a:lnTo>
                  <a:pt x="368977" y="320763"/>
                </a:lnTo>
                <a:lnTo>
                  <a:pt x="366319" y="320226"/>
                </a:lnTo>
                <a:lnTo>
                  <a:pt x="336040" y="319834"/>
                </a:lnTo>
                <a:lnTo>
                  <a:pt x="300659" y="326301"/>
                </a:lnTo>
                <a:lnTo>
                  <a:pt x="265212" y="339925"/>
                </a:lnTo>
                <a:lnTo>
                  <a:pt x="249822" y="346998"/>
                </a:lnTo>
                <a:lnTo>
                  <a:pt x="217130" y="373914"/>
                </a:lnTo>
                <a:lnTo>
                  <a:pt x="198934" y="391234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MARTInkShape-46"/>
          <p:cNvSpPr/>
          <p:nvPr/>
        </p:nvSpPr>
        <p:spPr>
          <a:xfrm>
            <a:off x="4351320" y="5808600"/>
            <a:ext cx="290520" cy="504720"/>
          </a:xfrm>
          <a:custGeom>
            <a:avLst/>
            <a:gdLst>
              <a:gd name="textAreaLeft" fmla="*/ 0 w 290520"/>
              <a:gd name="textAreaRight" fmla="*/ 290880 w 2905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91012" h="505966">
                <a:moveTo>
                  <a:pt x="28143" y="0"/>
                </a:moveTo>
                <a:lnTo>
                  <a:pt x="14874" y="0"/>
                </a:lnTo>
                <a:lnTo>
                  <a:pt x="14535" y="794"/>
                </a:lnTo>
                <a:lnTo>
                  <a:pt x="13945" y="9943"/>
                </a:lnTo>
                <a:lnTo>
                  <a:pt x="17674" y="24377"/>
                </a:lnTo>
                <a:lnTo>
                  <a:pt x="36103" y="54000"/>
                </a:lnTo>
                <a:lnTo>
                  <a:pt x="62083" y="88895"/>
                </a:lnTo>
                <a:lnTo>
                  <a:pt x="84766" y="120707"/>
                </a:lnTo>
                <a:lnTo>
                  <a:pt x="106568" y="155268"/>
                </a:lnTo>
                <a:lnTo>
                  <a:pt x="131901" y="186852"/>
                </a:lnTo>
                <a:lnTo>
                  <a:pt x="159516" y="216318"/>
                </a:lnTo>
                <a:lnTo>
                  <a:pt x="187806" y="245157"/>
                </a:lnTo>
                <a:lnTo>
                  <a:pt x="215198" y="276850"/>
                </a:lnTo>
                <a:lnTo>
                  <a:pt x="245980" y="304255"/>
                </a:lnTo>
                <a:lnTo>
                  <a:pt x="256193" y="309849"/>
                </a:lnTo>
                <a:lnTo>
                  <a:pt x="268751" y="315115"/>
                </a:lnTo>
                <a:lnTo>
                  <a:pt x="274780" y="318645"/>
                </a:lnTo>
                <a:lnTo>
                  <a:pt x="285118" y="320911"/>
                </a:lnTo>
                <a:lnTo>
                  <a:pt x="291011" y="321358"/>
                </a:lnTo>
                <a:lnTo>
                  <a:pt x="273183" y="322261"/>
                </a:lnTo>
                <a:lnTo>
                  <a:pt x="263842" y="327122"/>
                </a:lnTo>
                <a:lnTo>
                  <a:pt x="250560" y="332110"/>
                </a:lnTo>
                <a:lnTo>
                  <a:pt x="232650" y="339945"/>
                </a:lnTo>
                <a:lnTo>
                  <a:pt x="199421" y="347550"/>
                </a:lnTo>
                <a:lnTo>
                  <a:pt x="169898" y="349715"/>
                </a:lnTo>
                <a:lnTo>
                  <a:pt x="135152" y="355654"/>
                </a:lnTo>
                <a:lnTo>
                  <a:pt x="100355" y="356191"/>
                </a:lnTo>
                <a:lnTo>
                  <a:pt x="70010" y="351010"/>
                </a:lnTo>
                <a:lnTo>
                  <a:pt x="37272" y="350171"/>
                </a:lnTo>
                <a:lnTo>
                  <a:pt x="4489" y="350046"/>
                </a:lnTo>
                <a:lnTo>
                  <a:pt x="2848" y="350839"/>
                </a:lnTo>
                <a:lnTo>
                  <a:pt x="1755" y="352161"/>
                </a:lnTo>
                <a:lnTo>
                  <a:pt x="0" y="356194"/>
                </a:lnTo>
                <a:lnTo>
                  <a:pt x="3488" y="360685"/>
                </a:lnTo>
                <a:lnTo>
                  <a:pt x="28830" y="384317"/>
                </a:lnTo>
                <a:lnTo>
                  <a:pt x="62658" y="403181"/>
                </a:lnTo>
                <a:lnTo>
                  <a:pt x="94315" y="423746"/>
                </a:lnTo>
                <a:lnTo>
                  <a:pt x="121568" y="441467"/>
                </a:lnTo>
                <a:lnTo>
                  <a:pt x="155429" y="461677"/>
                </a:lnTo>
                <a:lnTo>
                  <a:pt x="185048" y="480956"/>
                </a:lnTo>
                <a:lnTo>
                  <a:pt x="209596" y="495818"/>
                </a:lnTo>
                <a:lnTo>
                  <a:pt x="219755" y="500921"/>
                </a:lnTo>
                <a:lnTo>
                  <a:pt x="226506" y="505965"/>
                </a:lnTo>
                <a:lnTo>
                  <a:pt x="227060" y="505584"/>
                </a:lnTo>
                <a:lnTo>
                  <a:pt x="227676" y="503046"/>
                </a:lnTo>
                <a:lnTo>
                  <a:pt x="225832" y="499272"/>
                </a:lnTo>
                <a:lnTo>
                  <a:pt x="220780" y="494154"/>
                </a:lnTo>
                <a:lnTo>
                  <a:pt x="198134" y="480051"/>
                </a:lnTo>
                <a:lnTo>
                  <a:pt x="183863" y="475293"/>
                </a:lnTo>
                <a:lnTo>
                  <a:pt x="157185" y="472615"/>
                </a:lnTo>
                <a:lnTo>
                  <a:pt x="125291" y="472615"/>
                </a:lnTo>
                <a:lnTo>
                  <a:pt x="96174" y="476495"/>
                </a:lnTo>
                <a:lnTo>
                  <a:pt x="64600" y="480326"/>
                </a:lnTo>
                <a:lnTo>
                  <a:pt x="42430" y="485775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MARTInkShape-47"/>
          <p:cNvSpPr/>
          <p:nvPr/>
        </p:nvSpPr>
        <p:spPr>
          <a:xfrm>
            <a:off x="3922560" y="3343320"/>
            <a:ext cx="306720" cy="306360"/>
          </a:xfrm>
          <a:custGeom>
            <a:avLst/>
            <a:gdLst>
              <a:gd name="textAreaLeft" fmla="*/ 0 w 306720"/>
              <a:gd name="textAreaRight" fmla="*/ 307080 w 3067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307182" h="306727">
                <a:moveTo>
                  <a:pt x="0" y="0"/>
                </a:moveTo>
                <a:lnTo>
                  <a:pt x="3792" y="3792"/>
                </a:lnTo>
                <a:lnTo>
                  <a:pt x="5654" y="9887"/>
                </a:lnTo>
                <a:lnTo>
                  <a:pt x="7275" y="17094"/>
                </a:lnTo>
                <a:lnTo>
                  <a:pt x="23911" y="47967"/>
                </a:lnTo>
                <a:lnTo>
                  <a:pt x="37473" y="72446"/>
                </a:lnTo>
                <a:lnTo>
                  <a:pt x="45945" y="107289"/>
                </a:lnTo>
                <a:lnTo>
                  <a:pt x="59359" y="142892"/>
                </a:lnTo>
                <a:lnTo>
                  <a:pt x="75550" y="177802"/>
                </a:lnTo>
                <a:lnTo>
                  <a:pt x="82357" y="195116"/>
                </a:lnTo>
                <a:lnTo>
                  <a:pt x="91132" y="230237"/>
                </a:lnTo>
                <a:lnTo>
                  <a:pt x="107194" y="264275"/>
                </a:lnTo>
                <a:lnTo>
                  <a:pt x="119861" y="287332"/>
                </a:lnTo>
                <a:lnTo>
                  <a:pt x="139832" y="303727"/>
                </a:lnTo>
                <a:lnTo>
                  <a:pt x="147441" y="306158"/>
                </a:lnTo>
                <a:lnTo>
                  <a:pt x="152313" y="306726"/>
                </a:lnTo>
                <a:lnTo>
                  <a:pt x="157123" y="304862"/>
                </a:lnTo>
                <a:lnTo>
                  <a:pt x="173973" y="294176"/>
                </a:lnTo>
                <a:lnTo>
                  <a:pt x="200521" y="258461"/>
                </a:lnTo>
                <a:lnTo>
                  <a:pt x="208977" y="247428"/>
                </a:lnTo>
                <a:lnTo>
                  <a:pt x="227241" y="213969"/>
                </a:lnTo>
                <a:lnTo>
                  <a:pt x="244512" y="178549"/>
                </a:lnTo>
                <a:lnTo>
                  <a:pt x="261210" y="142869"/>
                </a:lnTo>
                <a:lnTo>
                  <a:pt x="273748" y="107155"/>
                </a:lnTo>
                <a:lnTo>
                  <a:pt x="288122" y="74237"/>
                </a:lnTo>
                <a:lnTo>
                  <a:pt x="294382" y="52178"/>
                </a:lnTo>
                <a:lnTo>
                  <a:pt x="297524" y="46209"/>
                </a:lnTo>
                <a:lnTo>
                  <a:pt x="298920" y="40910"/>
                </a:lnTo>
                <a:lnTo>
                  <a:pt x="300086" y="39180"/>
                </a:lnTo>
                <a:lnTo>
                  <a:pt x="301657" y="38026"/>
                </a:lnTo>
                <a:lnTo>
                  <a:pt x="306090" y="36175"/>
                </a:lnTo>
                <a:lnTo>
                  <a:pt x="306696" y="33805"/>
                </a:lnTo>
                <a:lnTo>
                  <a:pt x="307181" y="28575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MARTInkShape-48"/>
          <p:cNvSpPr/>
          <p:nvPr/>
        </p:nvSpPr>
        <p:spPr>
          <a:xfrm>
            <a:off x="3971880" y="4302000"/>
            <a:ext cx="265320" cy="309600"/>
          </a:xfrm>
          <a:custGeom>
            <a:avLst/>
            <a:gdLst>
              <a:gd name="textAreaLeft" fmla="*/ 0 w 265320"/>
              <a:gd name="textAreaRight" fmla="*/ 265680 w 26532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264294" h="309942">
                <a:moveTo>
                  <a:pt x="7118" y="6151"/>
                </a:moveTo>
                <a:lnTo>
                  <a:pt x="3326" y="6151"/>
                </a:lnTo>
                <a:lnTo>
                  <a:pt x="2208" y="5358"/>
                </a:lnTo>
                <a:lnTo>
                  <a:pt x="1463" y="4035"/>
                </a:lnTo>
                <a:lnTo>
                  <a:pt x="268" y="0"/>
                </a:lnTo>
                <a:lnTo>
                  <a:pt x="0" y="9038"/>
                </a:lnTo>
                <a:lnTo>
                  <a:pt x="12332" y="44192"/>
                </a:lnTo>
                <a:lnTo>
                  <a:pt x="19711" y="77895"/>
                </a:lnTo>
                <a:lnTo>
                  <a:pt x="31021" y="113348"/>
                </a:lnTo>
                <a:lnTo>
                  <a:pt x="44965" y="149032"/>
                </a:lnTo>
                <a:lnTo>
                  <a:pt x="58515" y="177602"/>
                </a:lnTo>
                <a:lnTo>
                  <a:pt x="68835" y="210292"/>
                </a:lnTo>
                <a:lnTo>
                  <a:pt x="80911" y="242594"/>
                </a:lnTo>
                <a:lnTo>
                  <a:pt x="95222" y="274876"/>
                </a:lnTo>
                <a:lnTo>
                  <a:pt x="112863" y="304350"/>
                </a:lnTo>
                <a:lnTo>
                  <a:pt x="117648" y="309436"/>
                </a:lnTo>
                <a:lnTo>
                  <a:pt x="119698" y="309941"/>
                </a:lnTo>
                <a:lnTo>
                  <a:pt x="121859" y="309484"/>
                </a:lnTo>
                <a:lnTo>
                  <a:pt x="127238" y="306839"/>
                </a:lnTo>
                <a:lnTo>
                  <a:pt x="145100" y="275151"/>
                </a:lnTo>
                <a:lnTo>
                  <a:pt x="163851" y="240189"/>
                </a:lnTo>
                <a:lnTo>
                  <a:pt x="181833" y="205951"/>
                </a:lnTo>
                <a:lnTo>
                  <a:pt x="201086" y="170428"/>
                </a:lnTo>
                <a:lnTo>
                  <a:pt x="219770" y="134735"/>
                </a:lnTo>
                <a:lnTo>
                  <a:pt x="235572" y="99647"/>
                </a:lnTo>
                <a:lnTo>
                  <a:pt x="245214" y="83886"/>
                </a:lnTo>
                <a:lnTo>
                  <a:pt x="264293" y="63301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SMARTInkShape-Group19"/>
          <p:cNvGrpSpPr/>
          <p:nvPr/>
        </p:nvGrpSpPr>
        <p:grpSpPr>
          <a:xfrm>
            <a:off x="3392640" y="3454560"/>
            <a:ext cx="977760" cy="1744560"/>
            <a:chOff x="3392640" y="3454560"/>
            <a:chExt cx="977760" cy="1744560"/>
          </a:xfrm>
        </p:grpSpPr>
        <p:sp>
          <p:nvSpPr>
            <p:cNvPr id="107" name="SMARTInkShape-49"/>
            <p:cNvSpPr/>
            <p:nvPr/>
          </p:nvSpPr>
          <p:spPr>
            <a:xfrm>
              <a:off x="3413880" y="4011120"/>
              <a:ext cx="200160" cy="43596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435960"/>
                <a:gd name="textAreaBottom" fmla="*/ 436320 h 435960"/>
              </a:gdLst>
              <a:ahLst/>
              <a:rect l="textAreaLeft" t="textAreaTop" r="textAreaRight" b="textAreaBottom"/>
              <a:pathLst>
                <a:path w="200016" h="435812">
                  <a:moveTo>
                    <a:pt x="92858" y="89188"/>
                  </a:moveTo>
                  <a:lnTo>
                    <a:pt x="92858" y="85072"/>
                  </a:lnTo>
                  <a:lnTo>
                    <a:pt x="92858" y="86829"/>
                  </a:lnTo>
                  <a:lnTo>
                    <a:pt x="92065" y="87615"/>
                  </a:lnTo>
                  <a:lnTo>
                    <a:pt x="89066" y="88489"/>
                  </a:lnTo>
                  <a:lnTo>
                    <a:pt x="87949" y="90309"/>
                  </a:lnTo>
                  <a:lnTo>
                    <a:pt x="78074" y="120224"/>
                  </a:lnTo>
                  <a:lnTo>
                    <a:pt x="65805" y="154599"/>
                  </a:lnTo>
                  <a:lnTo>
                    <a:pt x="54592" y="181506"/>
                  </a:lnTo>
                  <a:lnTo>
                    <a:pt x="45890" y="214260"/>
                  </a:lnTo>
                  <a:lnTo>
                    <a:pt x="37490" y="249101"/>
                  </a:lnTo>
                  <a:lnTo>
                    <a:pt x="26094" y="284560"/>
                  </a:lnTo>
                  <a:lnTo>
                    <a:pt x="18131" y="319408"/>
                  </a:lnTo>
                  <a:lnTo>
                    <a:pt x="14625" y="349400"/>
                  </a:lnTo>
                  <a:lnTo>
                    <a:pt x="6732" y="381270"/>
                  </a:lnTo>
                  <a:lnTo>
                    <a:pt x="384" y="408362"/>
                  </a:lnTo>
                  <a:lnTo>
                    <a:pt x="253" y="408333"/>
                  </a:lnTo>
                  <a:lnTo>
                    <a:pt x="0" y="373918"/>
                  </a:lnTo>
                  <a:lnTo>
                    <a:pt x="3785" y="345620"/>
                  </a:lnTo>
                  <a:lnTo>
                    <a:pt x="9934" y="312099"/>
                  </a:lnTo>
                  <a:lnTo>
                    <a:pt x="14463" y="286684"/>
                  </a:lnTo>
                  <a:lnTo>
                    <a:pt x="19122" y="260308"/>
                  </a:lnTo>
                  <a:lnTo>
                    <a:pt x="23839" y="235356"/>
                  </a:lnTo>
                  <a:lnTo>
                    <a:pt x="30698" y="208920"/>
                  </a:lnTo>
                  <a:lnTo>
                    <a:pt x="38244" y="181295"/>
                  </a:lnTo>
                  <a:lnTo>
                    <a:pt x="44243" y="153143"/>
                  </a:lnTo>
                  <a:lnTo>
                    <a:pt x="52084" y="118103"/>
                  </a:lnTo>
                  <a:lnTo>
                    <a:pt x="59434" y="83820"/>
                  </a:lnTo>
                  <a:lnTo>
                    <a:pt x="70431" y="56112"/>
                  </a:lnTo>
                  <a:lnTo>
                    <a:pt x="82666" y="26210"/>
                  </a:lnTo>
                  <a:lnTo>
                    <a:pt x="90279" y="10908"/>
                  </a:lnTo>
                  <a:lnTo>
                    <a:pt x="96768" y="4875"/>
                  </a:lnTo>
                  <a:lnTo>
                    <a:pt x="98565" y="650"/>
                  </a:lnTo>
                  <a:lnTo>
                    <a:pt x="99838" y="0"/>
                  </a:lnTo>
                  <a:lnTo>
                    <a:pt x="101480" y="361"/>
                  </a:lnTo>
                  <a:lnTo>
                    <a:pt x="107584" y="4660"/>
                  </a:lnTo>
                  <a:lnTo>
                    <a:pt x="109819" y="6642"/>
                  </a:lnTo>
                  <a:lnTo>
                    <a:pt x="112302" y="13078"/>
                  </a:lnTo>
                  <a:lnTo>
                    <a:pt x="118937" y="46151"/>
                  </a:lnTo>
                  <a:lnTo>
                    <a:pt x="121488" y="73966"/>
                  </a:lnTo>
                  <a:lnTo>
                    <a:pt x="126917" y="106991"/>
                  </a:lnTo>
                  <a:lnTo>
                    <a:pt x="133553" y="142705"/>
                  </a:lnTo>
                  <a:lnTo>
                    <a:pt x="138197" y="169329"/>
                  </a:lnTo>
                  <a:lnTo>
                    <a:pt x="140790" y="194921"/>
                  </a:lnTo>
                  <a:lnTo>
                    <a:pt x="143530" y="219524"/>
                  </a:lnTo>
                  <a:lnTo>
                    <a:pt x="150040" y="243688"/>
                  </a:lnTo>
                  <a:lnTo>
                    <a:pt x="153991" y="267656"/>
                  </a:lnTo>
                  <a:lnTo>
                    <a:pt x="156541" y="291538"/>
                  </a:lnTo>
                  <a:lnTo>
                    <a:pt x="162439" y="325709"/>
                  </a:lnTo>
                  <a:lnTo>
                    <a:pt x="169214" y="352414"/>
                  </a:lnTo>
                  <a:lnTo>
                    <a:pt x="178614" y="387363"/>
                  </a:lnTo>
                  <a:lnTo>
                    <a:pt x="190757" y="422037"/>
                  </a:lnTo>
                  <a:lnTo>
                    <a:pt x="191461" y="425387"/>
                  </a:lnTo>
                  <a:lnTo>
                    <a:pt x="192725" y="427620"/>
                  </a:lnTo>
                  <a:lnTo>
                    <a:pt x="194361" y="429109"/>
                  </a:lnTo>
                  <a:lnTo>
                    <a:pt x="196246" y="430102"/>
                  </a:lnTo>
                  <a:lnTo>
                    <a:pt x="197502" y="431558"/>
                  </a:lnTo>
                  <a:lnTo>
                    <a:pt x="199270" y="435811"/>
                  </a:lnTo>
                  <a:lnTo>
                    <a:pt x="199518" y="435364"/>
                  </a:lnTo>
                  <a:lnTo>
                    <a:pt x="200015" y="432088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SMARTInkShape-50"/>
            <p:cNvSpPr/>
            <p:nvPr/>
          </p:nvSpPr>
          <p:spPr>
            <a:xfrm>
              <a:off x="3392640" y="4257720"/>
              <a:ext cx="207360" cy="2124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07170" h="21432">
                  <a:moveTo>
                    <a:pt x="0" y="0"/>
                  </a:moveTo>
                  <a:lnTo>
                    <a:pt x="3792" y="0"/>
                  </a:lnTo>
                  <a:lnTo>
                    <a:pt x="30528" y="6151"/>
                  </a:lnTo>
                  <a:lnTo>
                    <a:pt x="62446" y="6948"/>
                  </a:lnTo>
                  <a:lnTo>
                    <a:pt x="94620" y="9222"/>
                  </a:lnTo>
                  <a:lnTo>
                    <a:pt x="121963" y="12786"/>
                  </a:lnTo>
                  <a:lnTo>
                    <a:pt x="152062" y="13991"/>
                  </a:lnTo>
                  <a:lnTo>
                    <a:pt x="185476" y="20412"/>
                  </a:lnTo>
                  <a:lnTo>
                    <a:pt x="203816" y="21413"/>
                  </a:lnTo>
                  <a:lnTo>
                    <a:pt x="200031" y="21431"/>
                  </a:lnTo>
                  <a:lnTo>
                    <a:pt x="207169" y="21431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4120" bIns="-241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SMARTInkShape-51"/>
            <p:cNvSpPr/>
            <p:nvPr/>
          </p:nvSpPr>
          <p:spPr>
            <a:xfrm>
              <a:off x="3988080" y="3454560"/>
              <a:ext cx="305640" cy="355680"/>
            </a:xfrm>
            <a:custGeom>
              <a:avLst/>
              <a:gdLst>
                <a:gd name="textAreaLeft" fmla="*/ 0 w 305640"/>
                <a:gd name="textAreaRight" fmla="*/ 305640 w 30564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305245" h="355704">
                  <a:moveTo>
                    <a:pt x="212375" y="2856"/>
                  </a:moveTo>
                  <a:lnTo>
                    <a:pt x="212375" y="6648"/>
                  </a:lnTo>
                  <a:lnTo>
                    <a:pt x="219651" y="39083"/>
                  </a:lnTo>
                  <a:lnTo>
                    <a:pt x="228299" y="72067"/>
                  </a:lnTo>
                  <a:lnTo>
                    <a:pt x="238977" y="88386"/>
                  </a:lnTo>
                  <a:lnTo>
                    <a:pt x="239635" y="90832"/>
                  </a:lnTo>
                  <a:lnTo>
                    <a:pt x="240867" y="92463"/>
                  </a:lnTo>
                  <a:lnTo>
                    <a:pt x="246985" y="95295"/>
                  </a:lnTo>
                  <a:lnTo>
                    <a:pt x="247355" y="94645"/>
                  </a:lnTo>
                  <a:lnTo>
                    <a:pt x="247765" y="91805"/>
                  </a:lnTo>
                  <a:lnTo>
                    <a:pt x="240005" y="64400"/>
                  </a:lnTo>
                  <a:lnTo>
                    <a:pt x="212041" y="31409"/>
                  </a:lnTo>
                  <a:lnTo>
                    <a:pt x="201908" y="22690"/>
                  </a:lnTo>
                  <a:lnTo>
                    <a:pt x="169075" y="8036"/>
                  </a:lnTo>
                  <a:lnTo>
                    <a:pt x="147952" y="598"/>
                  </a:lnTo>
                  <a:lnTo>
                    <a:pt x="133736" y="0"/>
                  </a:lnTo>
                  <a:lnTo>
                    <a:pt x="101415" y="6084"/>
                  </a:lnTo>
                  <a:lnTo>
                    <a:pt x="73841" y="16424"/>
                  </a:lnTo>
                  <a:lnTo>
                    <a:pt x="53147" y="33334"/>
                  </a:lnTo>
                  <a:lnTo>
                    <a:pt x="27023" y="66879"/>
                  </a:lnTo>
                  <a:lnTo>
                    <a:pt x="11582" y="99437"/>
                  </a:lnTo>
                  <a:lnTo>
                    <a:pt x="2421" y="134219"/>
                  </a:lnTo>
                  <a:lnTo>
                    <a:pt x="0" y="157812"/>
                  </a:lnTo>
                  <a:lnTo>
                    <a:pt x="1040" y="183644"/>
                  </a:lnTo>
                  <a:lnTo>
                    <a:pt x="4942" y="210207"/>
                  </a:lnTo>
                  <a:lnTo>
                    <a:pt x="11968" y="235241"/>
                  </a:lnTo>
                  <a:lnTo>
                    <a:pt x="32433" y="267855"/>
                  </a:lnTo>
                  <a:lnTo>
                    <a:pt x="63677" y="301617"/>
                  </a:lnTo>
                  <a:lnTo>
                    <a:pt x="95115" y="323153"/>
                  </a:lnTo>
                  <a:lnTo>
                    <a:pt x="129565" y="339147"/>
                  </a:lnTo>
                  <a:lnTo>
                    <a:pt x="164114" y="349266"/>
                  </a:lnTo>
                  <a:lnTo>
                    <a:pt x="194813" y="355703"/>
                  </a:lnTo>
                  <a:lnTo>
                    <a:pt x="224017" y="354083"/>
                  </a:lnTo>
                  <a:lnTo>
                    <a:pt x="258096" y="353133"/>
                  </a:lnTo>
                  <a:lnTo>
                    <a:pt x="270002" y="352210"/>
                  </a:lnTo>
                  <a:lnTo>
                    <a:pt x="284836" y="347227"/>
                  </a:lnTo>
                  <a:lnTo>
                    <a:pt x="291676" y="342971"/>
                  </a:lnTo>
                  <a:lnTo>
                    <a:pt x="295245" y="338432"/>
                  </a:lnTo>
                  <a:lnTo>
                    <a:pt x="296197" y="336111"/>
                  </a:lnTo>
                  <a:lnTo>
                    <a:pt x="297625" y="334564"/>
                  </a:lnTo>
                  <a:lnTo>
                    <a:pt x="301328" y="332844"/>
                  </a:lnTo>
                  <a:lnTo>
                    <a:pt x="302633" y="331592"/>
                  </a:lnTo>
                  <a:lnTo>
                    <a:pt x="304470" y="327625"/>
                  </a:lnTo>
                  <a:lnTo>
                    <a:pt x="304728" y="328112"/>
                  </a:lnTo>
                  <a:lnTo>
                    <a:pt x="305244" y="331469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SMARTInkShape-52"/>
            <p:cNvSpPr/>
            <p:nvPr/>
          </p:nvSpPr>
          <p:spPr>
            <a:xfrm>
              <a:off x="4129200" y="4808160"/>
              <a:ext cx="21240" cy="390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21432" h="391029">
                  <a:moveTo>
                    <a:pt x="21431" y="0"/>
                  </a:moveTo>
                  <a:lnTo>
                    <a:pt x="21431" y="3792"/>
                  </a:lnTo>
                  <a:lnTo>
                    <a:pt x="15280" y="30528"/>
                  </a:lnTo>
                  <a:lnTo>
                    <a:pt x="14483" y="64032"/>
                  </a:lnTo>
                  <a:lnTo>
                    <a:pt x="14345" y="95790"/>
                  </a:lnTo>
                  <a:lnTo>
                    <a:pt x="14304" y="127248"/>
                  </a:lnTo>
                  <a:lnTo>
                    <a:pt x="14295" y="152598"/>
                  </a:lnTo>
                  <a:lnTo>
                    <a:pt x="14289" y="186060"/>
                  </a:lnTo>
                  <a:lnTo>
                    <a:pt x="10495" y="219876"/>
                  </a:lnTo>
                  <a:lnTo>
                    <a:pt x="8137" y="255031"/>
                  </a:lnTo>
                  <a:lnTo>
                    <a:pt x="3645" y="286790"/>
                  </a:lnTo>
                  <a:lnTo>
                    <a:pt x="1080" y="316309"/>
                  </a:lnTo>
                  <a:lnTo>
                    <a:pt x="213" y="348230"/>
                  </a:lnTo>
                  <a:lnTo>
                    <a:pt x="12" y="383400"/>
                  </a:lnTo>
                  <a:lnTo>
                    <a:pt x="2" y="391028"/>
                  </a:lnTo>
                  <a:lnTo>
                    <a:pt x="0" y="385762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SMARTInkShape-53"/>
            <p:cNvSpPr/>
            <p:nvPr/>
          </p:nvSpPr>
          <p:spPr>
            <a:xfrm>
              <a:off x="3986280" y="4779360"/>
              <a:ext cx="384120" cy="3240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383614" h="323976">
                  <a:moveTo>
                    <a:pt x="142697" y="0"/>
                  </a:moveTo>
                  <a:lnTo>
                    <a:pt x="146489" y="0"/>
                  </a:lnTo>
                  <a:lnTo>
                    <a:pt x="147606" y="794"/>
                  </a:lnTo>
                  <a:lnTo>
                    <a:pt x="148351" y="2116"/>
                  </a:lnTo>
                  <a:lnTo>
                    <a:pt x="148847" y="3792"/>
                  </a:lnTo>
                  <a:lnTo>
                    <a:pt x="149972" y="4909"/>
                  </a:lnTo>
                  <a:lnTo>
                    <a:pt x="179817" y="22555"/>
                  </a:lnTo>
                  <a:lnTo>
                    <a:pt x="211059" y="44495"/>
                  </a:lnTo>
                  <a:lnTo>
                    <a:pt x="238447" y="68570"/>
                  </a:lnTo>
                  <a:lnTo>
                    <a:pt x="266670" y="103396"/>
                  </a:lnTo>
                  <a:lnTo>
                    <a:pt x="287754" y="127974"/>
                  </a:lnTo>
                  <a:lnTo>
                    <a:pt x="308767" y="152128"/>
                  </a:lnTo>
                  <a:lnTo>
                    <a:pt x="326043" y="176091"/>
                  </a:lnTo>
                  <a:lnTo>
                    <a:pt x="341659" y="199970"/>
                  </a:lnTo>
                  <a:lnTo>
                    <a:pt x="355743" y="223813"/>
                  </a:lnTo>
                  <a:lnTo>
                    <a:pt x="371803" y="257962"/>
                  </a:lnTo>
                  <a:lnTo>
                    <a:pt x="382627" y="291638"/>
                  </a:lnTo>
                  <a:lnTo>
                    <a:pt x="383613" y="299200"/>
                  </a:lnTo>
                  <a:lnTo>
                    <a:pt x="382682" y="305035"/>
                  </a:lnTo>
                  <a:lnTo>
                    <a:pt x="377416" y="313636"/>
                  </a:lnTo>
                  <a:lnTo>
                    <a:pt x="365525" y="322940"/>
                  </a:lnTo>
                  <a:lnTo>
                    <a:pt x="352327" y="323975"/>
                  </a:lnTo>
                  <a:lnTo>
                    <a:pt x="335878" y="320995"/>
                  </a:lnTo>
                  <a:lnTo>
                    <a:pt x="307180" y="310392"/>
                  </a:lnTo>
                  <a:lnTo>
                    <a:pt x="282475" y="301729"/>
                  </a:lnTo>
                  <a:lnTo>
                    <a:pt x="253504" y="292587"/>
                  </a:lnTo>
                  <a:lnTo>
                    <a:pt x="222900" y="282438"/>
                  </a:lnTo>
                  <a:lnTo>
                    <a:pt x="193424" y="269990"/>
                  </a:lnTo>
                  <a:lnTo>
                    <a:pt x="164448" y="258637"/>
                  </a:lnTo>
                  <a:lnTo>
                    <a:pt x="135695" y="248300"/>
                  </a:lnTo>
                  <a:lnTo>
                    <a:pt x="107041" y="238414"/>
                  </a:lnTo>
                  <a:lnTo>
                    <a:pt x="80548" y="230845"/>
                  </a:lnTo>
                  <a:lnTo>
                    <a:pt x="47553" y="224238"/>
                  </a:lnTo>
                  <a:lnTo>
                    <a:pt x="14103" y="221029"/>
                  </a:lnTo>
                  <a:lnTo>
                    <a:pt x="0" y="214404"/>
                  </a:lnTo>
                  <a:lnTo>
                    <a:pt x="6965" y="214312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SMARTInkShape-54"/>
          <p:cNvSpPr/>
          <p:nvPr/>
        </p:nvSpPr>
        <p:spPr>
          <a:xfrm>
            <a:off x="4500720" y="3959280"/>
            <a:ext cx="264960" cy="469800"/>
          </a:xfrm>
          <a:custGeom>
            <a:avLst/>
            <a:gdLst>
              <a:gd name="textAreaLeft" fmla="*/ 0 w 264960"/>
              <a:gd name="textAreaRight" fmla="*/ 265320 w 2649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65213" h="468986">
                <a:moveTo>
                  <a:pt x="0" y="69524"/>
                </a:moveTo>
                <a:lnTo>
                  <a:pt x="2116" y="83645"/>
                </a:lnTo>
                <a:lnTo>
                  <a:pt x="6150" y="112354"/>
                </a:lnTo>
                <a:lnTo>
                  <a:pt x="6849" y="141393"/>
                </a:lnTo>
                <a:lnTo>
                  <a:pt x="10848" y="171340"/>
                </a:lnTo>
                <a:lnTo>
                  <a:pt x="17060" y="204114"/>
                </a:lnTo>
                <a:lnTo>
                  <a:pt x="19488" y="229354"/>
                </a:lnTo>
                <a:lnTo>
                  <a:pt x="21361" y="255653"/>
                </a:lnTo>
                <a:lnTo>
                  <a:pt x="24839" y="280571"/>
                </a:lnTo>
                <a:lnTo>
                  <a:pt x="29031" y="306991"/>
                </a:lnTo>
                <a:lnTo>
                  <a:pt x="32746" y="333021"/>
                </a:lnTo>
                <a:lnTo>
                  <a:pt x="35631" y="366319"/>
                </a:lnTo>
                <a:lnTo>
                  <a:pt x="41161" y="399381"/>
                </a:lnTo>
                <a:lnTo>
                  <a:pt x="48023" y="430573"/>
                </a:lnTo>
                <a:lnTo>
                  <a:pt x="49919" y="441128"/>
                </a:lnTo>
                <a:lnTo>
                  <a:pt x="56041" y="453265"/>
                </a:lnTo>
                <a:lnTo>
                  <a:pt x="56410" y="453145"/>
                </a:lnTo>
                <a:lnTo>
                  <a:pt x="61200" y="435693"/>
                </a:lnTo>
                <a:lnTo>
                  <a:pt x="58185" y="403762"/>
                </a:lnTo>
                <a:lnTo>
                  <a:pt x="57456" y="374139"/>
                </a:lnTo>
                <a:lnTo>
                  <a:pt x="56492" y="350958"/>
                </a:lnTo>
                <a:lnTo>
                  <a:pt x="53418" y="324781"/>
                </a:lnTo>
                <a:lnTo>
                  <a:pt x="51522" y="297272"/>
                </a:lnTo>
                <a:lnTo>
                  <a:pt x="49886" y="269170"/>
                </a:lnTo>
                <a:lnTo>
                  <a:pt x="46513" y="240805"/>
                </a:lnTo>
                <a:lnTo>
                  <a:pt x="44485" y="212324"/>
                </a:lnTo>
                <a:lnTo>
                  <a:pt x="42790" y="184584"/>
                </a:lnTo>
                <a:lnTo>
                  <a:pt x="39390" y="159027"/>
                </a:lnTo>
                <a:lnTo>
                  <a:pt x="37350" y="134438"/>
                </a:lnTo>
                <a:lnTo>
                  <a:pt x="36443" y="110281"/>
                </a:lnTo>
                <a:lnTo>
                  <a:pt x="35933" y="75162"/>
                </a:lnTo>
                <a:lnTo>
                  <a:pt x="35782" y="45883"/>
                </a:lnTo>
                <a:lnTo>
                  <a:pt x="36531" y="26448"/>
                </a:lnTo>
                <a:lnTo>
                  <a:pt x="41427" y="11429"/>
                </a:lnTo>
                <a:lnTo>
                  <a:pt x="45664" y="4545"/>
                </a:lnTo>
                <a:lnTo>
                  <a:pt x="48698" y="2392"/>
                </a:lnTo>
                <a:lnTo>
                  <a:pt x="56304" y="0"/>
                </a:lnTo>
                <a:lnTo>
                  <a:pt x="73303" y="2446"/>
                </a:lnTo>
                <a:lnTo>
                  <a:pt x="101174" y="16880"/>
                </a:lnTo>
                <a:lnTo>
                  <a:pt x="134314" y="41839"/>
                </a:lnTo>
                <a:lnTo>
                  <a:pt x="164026" y="73492"/>
                </a:lnTo>
                <a:lnTo>
                  <a:pt x="185654" y="100951"/>
                </a:lnTo>
                <a:lnTo>
                  <a:pt x="199559" y="129194"/>
                </a:lnTo>
                <a:lnTo>
                  <a:pt x="208706" y="157671"/>
                </a:lnTo>
                <a:lnTo>
                  <a:pt x="217320" y="190035"/>
                </a:lnTo>
                <a:lnTo>
                  <a:pt x="216178" y="204841"/>
                </a:lnTo>
                <a:lnTo>
                  <a:pt x="210908" y="217242"/>
                </a:lnTo>
                <a:lnTo>
                  <a:pt x="207280" y="222771"/>
                </a:lnTo>
                <a:lnTo>
                  <a:pt x="196899" y="231032"/>
                </a:lnTo>
                <a:lnTo>
                  <a:pt x="174625" y="242803"/>
                </a:lnTo>
                <a:lnTo>
                  <a:pt x="162542" y="243639"/>
                </a:lnTo>
                <a:lnTo>
                  <a:pt x="131590" y="241500"/>
                </a:lnTo>
                <a:lnTo>
                  <a:pt x="100605" y="235375"/>
                </a:lnTo>
                <a:lnTo>
                  <a:pt x="75788" y="226521"/>
                </a:lnTo>
                <a:lnTo>
                  <a:pt x="65582" y="221610"/>
                </a:lnTo>
                <a:lnTo>
                  <a:pt x="58815" y="219951"/>
                </a:lnTo>
                <a:lnTo>
                  <a:pt x="59054" y="219815"/>
                </a:lnTo>
                <a:lnTo>
                  <a:pt x="67239" y="219579"/>
                </a:lnTo>
                <a:lnTo>
                  <a:pt x="81570" y="223346"/>
                </a:lnTo>
                <a:lnTo>
                  <a:pt x="113272" y="243905"/>
                </a:lnTo>
                <a:lnTo>
                  <a:pt x="148404" y="270128"/>
                </a:lnTo>
                <a:lnTo>
                  <a:pt x="178556" y="294944"/>
                </a:lnTo>
                <a:lnTo>
                  <a:pt x="205040" y="322405"/>
                </a:lnTo>
                <a:lnTo>
                  <a:pt x="231761" y="350650"/>
                </a:lnTo>
                <a:lnTo>
                  <a:pt x="248410" y="379128"/>
                </a:lnTo>
                <a:lnTo>
                  <a:pt x="262162" y="407674"/>
                </a:lnTo>
                <a:lnTo>
                  <a:pt x="265212" y="424600"/>
                </a:lnTo>
                <a:lnTo>
                  <a:pt x="262466" y="445401"/>
                </a:lnTo>
                <a:lnTo>
                  <a:pt x="260703" y="451077"/>
                </a:lnTo>
                <a:lnTo>
                  <a:pt x="254509" y="459501"/>
                </a:lnTo>
                <a:lnTo>
                  <a:pt x="250635" y="462859"/>
                </a:lnTo>
                <a:lnTo>
                  <a:pt x="237864" y="466589"/>
                </a:lnTo>
                <a:lnTo>
                  <a:pt x="203795" y="468985"/>
                </a:lnTo>
                <a:lnTo>
                  <a:pt x="175918" y="465607"/>
                </a:lnTo>
                <a:lnTo>
                  <a:pt x="147550" y="459579"/>
                </a:lnTo>
                <a:lnTo>
                  <a:pt x="119036" y="452766"/>
                </a:lnTo>
                <a:lnTo>
                  <a:pt x="86660" y="437650"/>
                </a:lnTo>
                <a:lnTo>
                  <a:pt x="57334" y="417260"/>
                </a:lnTo>
                <a:lnTo>
                  <a:pt x="27952" y="384339"/>
                </a:lnTo>
                <a:lnTo>
                  <a:pt x="14287" y="362418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SMARTInkShape-Group21"/>
          <p:cNvGrpSpPr/>
          <p:nvPr/>
        </p:nvGrpSpPr>
        <p:grpSpPr>
          <a:xfrm>
            <a:off x="3916440" y="3897360"/>
            <a:ext cx="339480" cy="712800"/>
            <a:chOff x="3916440" y="3897360"/>
            <a:chExt cx="339480" cy="712800"/>
          </a:xfrm>
        </p:grpSpPr>
        <p:sp>
          <p:nvSpPr>
            <p:cNvPr id="114" name="SMARTInkShape-55"/>
            <p:cNvSpPr/>
            <p:nvPr/>
          </p:nvSpPr>
          <p:spPr>
            <a:xfrm>
              <a:off x="4022280" y="3897360"/>
              <a:ext cx="99360" cy="6656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665640"/>
                <a:gd name="textAreaBottom" fmla="*/ 666000 h 665640"/>
              </a:gdLst>
              <a:ahLst/>
              <a:rect l="textAreaLeft" t="textAreaTop" r="textAreaRight" b="textAreaBottom"/>
              <a:pathLst>
                <a:path w="99609" h="665234">
                  <a:moveTo>
                    <a:pt x="63899" y="103336"/>
                  </a:moveTo>
                  <a:lnTo>
                    <a:pt x="63899" y="133166"/>
                  </a:lnTo>
                  <a:lnTo>
                    <a:pt x="67691" y="165091"/>
                  </a:lnTo>
                  <a:lnTo>
                    <a:pt x="69553" y="191108"/>
                  </a:lnTo>
                  <a:lnTo>
                    <a:pt x="70381" y="219339"/>
                  </a:lnTo>
                  <a:lnTo>
                    <a:pt x="70749" y="250408"/>
                  </a:lnTo>
                  <a:lnTo>
                    <a:pt x="71640" y="268059"/>
                  </a:lnTo>
                  <a:lnTo>
                    <a:pt x="73029" y="286970"/>
                  </a:lnTo>
                  <a:lnTo>
                    <a:pt x="74748" y="306721"/>
                  </a:lnTo>
                  <a:lnTo>
                    <a:pt x="76688" y="326238"/>
                  </a:lnTo>
                  <a:lnTo>
                    <a:pt x="78775" y="345600"/>
                  </a:lnTo>
                  <a:lnTo>
                    <a:pt x="80960" y="364858"/>
                  </a:lnTo>
                  <a:lnTo>
                    <a:pt x="82417" y="384046"/>
                  </a:lnTo>
                  <a:lnTo>
                    <a:pt x="83388" y="403189"/>
                  </a:lnTo>
                  <a:lnTo>
                    <a:pt x="84035" y="422301"/>
                  </a:lnTo>
                  <a:lnTo>
                    <a:pt x="85261" y="441391"/>
                  </a:lnTo>
                  <a:lnTo>
                    <a:pt x="86871" y="460469"/>
                  </a:lnTo>
                  <a:lnTo>
                    <a:pt x="88739" y="479537"/>
                  </a:lnTo>
                  <a:lnTo>
                    <a:pt x="90778" y="497806"/>
                  </a:lnTo>
                  <a:lnTo>
                    <a:pt x="95159" y="532920"/>
                  </a:lnTo>
                  <a:lnTo>
                    <a:pt x="97636" y="564931"/>
                  </a:lnTo>
                  <a:lnTo>
                    <a:pt x="98737" y="593446"/>
                  </a:lnTo>
                  <a:lnTo>
                    <a:pt x="99357" y="626555"/>
                  </a:lnTo>
                  <a:lnTo>
                    <a:pt x="99595" y="662160"/>
                  </a:lnTo>
                  <a:lnTo>
                    <a:pt x="99608" y="665233"/>
                  </a:lnTo>
                  <a:lnTo>
                    <a:pt x="98817" y="664466"/>
                  </a:lnTo>
                  <a:lnTo>
                    <a:pt x="93913" y="654212"/>
                  </a:lnTo>
                  <a:lnTo>
                    <a:pt x="87261" y="620991"/>
                  </a:lnTo>
                  <a:lnTo>
                    <a:pt x="84601" y="597724"/>
                  </a:lnTo>
                  <a:lnTo>
                    <a:pt x="78127" y="568862"/>
                  </a:lnTo>
                  <a:lnTo>
                    <a:pt x="72074" y="535397"/>
                  </a:lnTo>
                  <a:lnTo>
                    <a:pt x="69349" y="517583"/>
                  </a:lnTo>
                  <a:lnTo>
                    <a:pt x="66739" y="499357"/>
                  </a:lnTo>
                  <a:lnTo>
                    <a:pt x="64205" y="480856"/>
                  </a:lnTo>
                  <a:lnTo>
                    <a:pt x="61722" y="462172"/>
                  </a:lnTo>
                  <a:lnTo>
                    <a:pt x="59273" y="442573"/>
                  </a:lnTo>
                  <a:lnTo>
                    <a:pt x="56846" y="422363"/>
                  </a:lnTo>
                  <a:lnTo>
                    <a:pt x="54434" y="401745"/>
                  </a:lnTo>
                  <a:lnTo>
                    <a:pt x="52033" y="380857"/>
                  </a:lnTo>
                  <a:lnTo>
                    <a:pt x="49638" y="359787"/>
                  </a:lnTo>
                  <a:lnTo>
                    <a:pt x="47248" y="338597"/>
                  </a:lnTo>
                  <a:lnTo>
                    <a:pt x="44861" y="317327"/>
                  </a:lnTo>
                  <a:lnTo>
                    <a:pt x="42476" y="296003"/>
                  </a:lnTo>
                  <a:lnTo>
                    <a:pt x="40092" y="274643"/>
                  </a:lnTo>
                  <a:lnTo>
                    <a:pt x="36915" y="254053"/>
                  </a:lnTo>
                  <a:lnTo>
                    <a:pt x="33210" y="233976"/>
                  </a:lnTo>
                  <a:lnTo>
                    <a:pt x="29152" y="214242"/>
                  </a:lnTo>
                  <a:lnTo>
                    <a:pt x="25653" y="194736"/>
                  </a:lnTo>
                  <a:lnTo>
                    <a:pt x="22527" y="175382"/>
                  </a:lnTo>
                  <a:lnTo>
                    <a:pt x="19649" y="156129"/>
                  </a:lnTo>
                  <a:lnTo>
                    <a:pt x="16451" y="122037"/>
                  </a:lnTo>
                  <a:lnTo>
                    <a:pt x="14236" y="91804"/>
                  </a:lnTo>
                  <a:lnTo>
                    <a:pt x="10606" y="65138"/>
                  </a:lnTo>
                  <a:lnTo>
                    <a:pt x="4099" y="35397"/>
                  </a:lnTo>
                  <a:lnTo>
                    <a:pt x="0" y="720"/>
                  </a:lnTo>
                  <a:lnTo>
                    <a:pt x="662" y="0"/>
                  </a:lnTo>
                  <a:lnTo>
                    <a:pt x="1897" y="314"/>
                  </a:lnTo>
                  <a:lnTo>
                    <a:pt x="3515" y="1317"/>
                  </a:lnTo>
                  <a:lnTo>
                    <a:pt x="8440" y="36259"/>
                  </a:lnTo>
                  <a:lnTo>
                    <a:pt x="12263" y="59237"/>
                  </a:lnTo>
                  <a:lnTo>
                    <a:pt x="16608" y="87970"/>
                  </a:lnTo>
                  <a:lnTo>
                    <a:pt x="23301" y="121378"/>
                  </a:lnTo>
                  <a:lnTo>
                    <a:pt x="27309" y="139176"/>
                  </a:lnTo>
                  <a:lnTo>
                    <a:pt x="30774" y="158186"/>
                  </a:lnTo>
                  <a:lnTo>
                    <a:pt x="33878" y="178002"/>
                  </a:lnTo>
                  <a:lnTo>
                    <a:pt x="36741" y="198357"/>
                  </a:lnTo>
                  <a:lnTo>
                    <a:pt x="40238" y="219865"/>
                  </a:lnTo>
                  <a:lnTo>
                    <a:pt x="44156" y="242141"/>
                  </a:lnTo>
                  <a:lnTo>
                    <a:pt x="48356" y="264929"/>
                  </a:lnTo>
                  <a:lnTo>
                    <a:pt x="51949" y="288058"/>
                  </a:lnTo>
                  <a:lnTo>
                    <a:pt x="55139" y="311416"/>
                  </a:lnTo>
                  <a:lnTo>
                    <a:pt x="58059" y="334925"/>
                  </a:lnTo>
                  <a:lnTo>
                    <a:pt x="60799" y="357741"/>
                  </a:lnTo>
                  <a:lnTo>
                    <a:pt x="63420" y="380095"/>
                  </a:lnTo>
                  <a:lnTo>
                    <a:pt x="65961" y="402142"/>
                  </a:lnTo>
                  <a:lnTo>
                    <a:pt x="68449" y="423984"/>
                  </a:lnTo>
                  <a:lnTo>
                    <a:pt x="70901" y="445689"/>
                  </a:lnTo>
                  <a:lnTo>
                    <a:pt x="73329" y="467303"/>
                  </a:lnTo>
                  <a:lnTo>
                    <a:pt x="74948" y="487268"/>
                  </a:lnTo>
                  <a:lnTo>
                    <a:pt x="76028" y="506134"/>
                  </a:lnTo>
                  <a:lnTo>
                    <a:pt x="77227" y="540326"/>
                  </a:lnTo>
                  <a:lnTo>
                    <a:pt x="77760" y="568752"/>
                  </a:lnTo>
                  <a:lnTo>
                    <a:pt x="78060" y="599483"/>
                  </a:lnTo>
                  <a:lnTo>
                    <a:pt x="76014" y="611712"/>
                  </a:lnTo>
                  <a:lnTo>
                    <a:pt x="72025" y="622238"/>
                  </a:lnTo>
                  <a:lnTo>
                    <a:pt x="70904" y="621515"/>
                  </a:lnTo>
                  <a:lnTo>
                    <a:pt x="67541" y="616478"/>
                  </a:lnTo>
                  <a:lnTo>
                    <a:pt x="63825" y="588108"/>
                  </a:lnTo>
                  <a:lnTo>
                    <a:pt x="59203" y="554065"/>
                  </a:lnTo>
                  <a:lnTo>
                    <a:pt x="57843" y="522206"/>
                  </a:lnTo>
                  <a:lnTo>
                    <a:pt x="57239" y="486880"/>
                  </a:lnTo>
                  <a:lnTo>
                    <a:pt x="57077" y="468569"/>
                  </a:lnTo>
                  <a:lnTo>
                    <a:pt x="56176" y="450012"/>
                  </a:lnTo>
                  <a:lnTo>
                    <a:pt x="54782" y="431291"/>
                  </a:lnTo>
                  <a:lnTo>
                    <a:pt x="53059" y="412460"/>
                  </a:lnTo>
                  <a:lnTo>
                    <a:pt x="51909" y="392763"/>
                  </a:lnTo>
                  <a:lnTo>
                    <a:pt x="51144" y="372487"/>
                  </a:lnTo>
                  <a:lnTo>
                    <a:pt x="50633" y="351826"/>
                  </a:lnTo>
                  <a:lnTo>
                    <a:pt x="50292" y="331702"/>
                  </a:lnTo>
                  <a:lnTo>
                    <a:pt x="50065" y="311936"/>
                  </a:lnTo>
                  <a:lnTo>
                    <a:pt x="49914" y="292409"/>
                  </a:lnTo>
                  <a:lnTo>
                    <a:pt x="49813" y="273835"/>
                  </a:lnTo>
                  <a:lnTo>
                    <a:pt x="49701" y="238380"/>
                  </a:lnTo>
                  <a:lnTo>
                    <a:pt x="49651" y="206218"/>
                  </a:lnTo>
                  <a:lnTo>
                    <a:pt x="49629" y="176842"/>
                  </a:lnTo>
                  <a:lnTo>
                    <a:pt x="49620" y="150558"/>
                  </a:lnTo>
                  <a:lnTo>
                    <a:pt x="49614" y="121032"/>
                  </a:lnTo>
                  <a:lnTo>
                    <a:pt x="49612" y="104787"/>
                  </a:lnTo>
                  <a:lnTo>
                    <a:pt x="48818" y="102716"/>
                  </a:lnTo>
                  <a:lnTo>
                    <a:pt x="47495" y="102129"/>
                  </a:lnTo>
                  <a:lnTo>
                    <a:pt x="45819" y="102531"/>
                  </a:lnTo>
                  <a:lnTo>
                    <a:pt x="44702" y="104387"/>
                  </a:lnTo>
                  <a:lnTo>
                    <a:pt x="43130" y="116965"/>
                  </a:lnTo>
                  <a:lnTo>
                    <a:pt x="41870" y="145562"/>
                  </a:lnTo>
                  <a:lnTo>
                    <a:pt x="38763" y="170522"/>
                  </a:lnTo>
                  <a:lnTo>
                    <a:pt x="36852" y="199607"/>
                  </a:lnTo>
                  <a:lnTo>
                    <a:pt x="36003" y="231848"/>
                  </a:lnTo>
                  <a:lnTo>
                    <a:pt x="35626" y="267344"/>
                  </a:lnTo>
                  <a:lnTo>
                    <a:pt x="35525" y="286493"/>
                  </a:lnTo>
                  <a:lnTo>
                    <a:pt x="35458" y="306403"/>
                  </a:lnTo>
                  <a:lnTo>
                    <a:pt x="35414" y="326821"/>
                  </a:lnTo>
                  <a:lnTo>
                    <a:pt x="34590" y="346782"/>
                  </a:lnTo>
                  <a:lnTo>
                    <a:pt x="33247" y="366440"/>
                  </a:lnTo>
                  <a:lnTo>
                    <a:pt x="31558" y="385895"/>
                  </a:lnTo>
                  <a:lnTo>
                    <a:pt x="30432" y="405214"/>
                  </a:lnTo>
                  <a:lnTo>
                    <a:pt x="29681" y="424445"/>
                  </a:lnTo>
                  <a:lnTo>
                    <a:pt x="29181" y="443614"/>
                  </a:lnTo>
                  <a:lnTo>
                    <a:pt x="28847" y="461951"/>
                  </a:lnTo>
                  <a:lnTo>
                    <a:pt x="28477" y="497141"/>
                  </a:lnTo>
                  <a:lnTo>
                    <a:pt x="28312" y="527069"/>
                  </a:lnTo>
                  <a:lnTo>
                    <a:pt x="28219" y="561997"/>
                  </a:lnTo>
                  <a:lnTo>
                    <a:pt x="28183" y="593675"/>
                  </a:lnTo>
                  <a:lnTo>
                    <a:pt x="31973" y="562406"/>
                  </a:lnTo>
                  <a:lnTo>
                    <a:pt x="38123" y="528282"/>
                  </a:lnTo>
                  <a:lnTo>
                    <a:pt x="40537" y="497517"/>
                  </a:lnTo>
                  <a:lnTo>
                    <a:pt x="42403" y="462678"/>
                  </a:lnTo>
                  <a:lnTo>
                    <a:pt x="44012" y="444497"/>
                  </a:lnTo>
                  <a:lnTo>
                    <a:pt x="45878" y="426027"/>
                  </a:lnTo>
                  <a:lnTo>
                    <a:pt x="47123" y="406569"/>
                  </a:lnTo>
                  <a:lnTo>
                    <a:pt x="47952" y="386454"/>
                  </a:lnTo>
                  <a:lnTo>
                    <a:pt x="48505" y="365900"/>
                  </a:lnTo>
                  <a:lnTo>
                    <a:pt x="48874" y="345848"/>
                  </a:lnTo>
                  <a:lnTo>
                    <a:pt x="49120" y="326129"/>
                  </a:lnTo>
                  <a:lnTo>
                    <a:pt x="49284" y="306634"/>
                  </a:lnTo>
                  <a:lnTo>
                    <a:pt x="49393" y="288080"/>
                  </a:lnTo>
                  <a:lnTo>
                    <a:pt x="49515" y="252649"/>
                  </a:lnTo>
                  <a:lnTo>
                    <a:pt x="49568" y="220497"/>
                  </a:lnTo>
                  <a:lnTo>
                    <a:pt x="49592" y="191920"/>
                  </a:lnTo>
                  <a:lnTo>
                    <a:pt x="49606" y="159569"/>
                  </a:lnTo>
                  <a:lnTo>
                    <a:pt x="49611" y="130132"/>
                  </a:lnTo>
                  <a:lnTo>
                    <a:pt x="49611" y="130725"/>
                  </a:lnTo>
                  <a:lnTo>
                    <a:pt x="54521" y="145464"/>
                  </a:lnTo>
                  <a:lnTo>
                    <a:pt x="56887" y="174115"/>
                  </a:lnTo>
                  <a:lnTo>
                    <a:pt x="60253" y="199087"/>
                  </a:lnTo>
                  <a:lnTo>
                    <a:pt x="64395" y="228178"/>
                  </a:lnTo>
                  <a:lnTo>
                    <a:pt x="68882" y="260421"/>
                  </a:lnTo>
                  <a:lnTo>
                    <a:pt x="73522" y="295918"/>
                  </a:lnTo>
                  <a:lnTo>
                    <a:pt x="75871" y="315068"/>
                  </a:lnTo>
                  <a:lnTo>
                    <a:pt x="78230" y="334978"/>
                  </a:lnTo>
                  <a:lnTo>
                    <a:pt x="82175" y="369007"/>
                  </a:lnTo>
                  <a:lnTo>
                    <a:pt x="85330" y="396230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SMARTInkShape-56"/>
            <p:cNvSpPr/>
            <p:nvPr/>
          </p:nvSpPr>
          <p:spPr>
            <a:xfrm>
              <a:off x="3916440" y="4251240"/>
              <a:ext cx="339480" cy="35892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340068" h="358929">
                  <a:moveTo>
                    <a:pt x="13001" y="6850"/>
                  </a:moveTo>
                  <a:lnTo>
                    <a:pt x="13001" y="3058"/>
                  </a:lnTo>
                  <a:lnTo>
                    <a:pt x="12207" y="1941"/>
                  </a:lnTo>
                  <a:lnTo>
                    <a:pt x="10884" y="1196"/>
                  </a:lnTo>
                  <a:lnTo>
                    <a:pt x="3058" y="0"/>
                  </a:lnTo>
                  <a:lnTo>
                    <a:pt x="1609" y="696"/>
                  </a:lnTo>
                  <a:lnTo>
                    <a:pt x="644" y="1954"/>
                  </a:lnTo>
                  <a:lnTo>
                    <a:pt x="0" y="3586"/>
                  </a:lnTo>
                  <a:lnTo>
                    <a:pt x="1402" y="9633"/>
                  </a:lnTo>
                  <a:lnTo>
                    <a:pt x="11767" y="38320"/>
                  </a:lnTo>
                  <a:lnTo>
                    <a:pt x="24365" y="68650"/>
                  </a:lnTo>
                  <a:lnTo>
                    <a:pt x="42826" y="103566"/>
                  </a:lnTo>
                  <a:lnTo>
                    <a:pt x="56419" y="130004"/>
                  </a:lnTo>
                  <a:lnTo>
                    <a:pt x="70397" y="157629"/>
                  </a:lnTo>
                  <a:lnTo>
                    <a:pt x="85341" y="184194"/>
                  </a:lnTo>
                  <a:lnTo>
                    <a:pt x="110017" y="217794"/>
                  </a:lnTo>
                  <a:lnTo>
                    <a:pt x="128883" y="250944"/>
                  </a:lnTo>
                  <a:lnTo>
                    <a:pt x="155643" y="284234"/>
                  </a:lnTo>
                  <a:lnTo>
                    <a:pt x="161858" y="288882"/>
                  </a:lnTo>
                  <a:lnTo>
                    <a:pt x="164626" y="290121"/>
                  </a:lnTo>
                  <a:lnTo>
                    <a:pt x="165678" y="290154"/>
                  </a:lnTo>
                  <a:lnTo>
                    <a:pt x="165585" y="289382"/>
                  </a:lnTo>
                  <a:lnTo>
                    <a:pt x="164730" y="288073"/>
                  </a:lnTo>
                  <a:lnTo>
                    <a:pt x="161128" y="260371"/>
                  </a:lnTo>
                  <a:lnTo>
                    <a:pt x="153199" y="232251"/>
                  </a:lnTo>
                  <a:lnTo>
                    <a:pt x="138678" y="200900"/>
                  </a:lnTo>
                  <a:lnTo>
                    <a:pt x="123528" y="171502"/>
                  </a:lnTo>
                  <a:lnTo>
                    <a:pt x="107505" y="136917"/>
                  </a:lnTo>
                  <a:lnTo>
                    <a:pt x="87195" y="110233"/>
                  </a:lnTo>
                  <a:lnTo>
                    <a:pt x="83547" y="108360"/>
                  </a:lnTo>
                  <a:lnTo>
                    <a:pt x="81463" y="107861"/>
                  </a:lnTo>
                  <a:lnTo>
                    <a:pt x="80867" y="109910"/>
                  </a:lnTo>
                  <a:lnTo>
                    <a:pt x="89723" y="145063"/>
                  </a:lnTo>
                  <a:lnTo>
                    <a:pt x="97293" y="175684"/>
                  </a:lnTo>
                  <a:lnTo>
                    <a:pt x="108444" y="210686"/>
                  </a:lnTo>
                  <a:lnTo>
                    <a:pt x="114421" y="237144"/>
                  </a:lnTo>
                  <a:lnTo>
                    <a:pt x="126042" y="271230"/>
                  </a:lnTo>
                  <a:lnTo>
                    <a:pt x="139540" y="301437"/>
                  </a:lnTo>
                  <a:lnTo>
                    <a:pt x="152619" y="333592"/>
                  </a:lnTo>
                  <a:lnTo>
                    <a:pt x="165285" y="357304"/>
                  </a:lnTo>
                  <a:lnTo>
                    <a:pt x="166911" y="358755"/>
                  </a:lnTo>
                  <a:lnTo>
                    <a:pt x="167995" y="358928"/>
                  </a:lnTo>
                  <a:lnTo>
                    <a:pt x="168718" y="358250"/>
                  </a:lnTo>
                  <a:lnTo>
                    <a:pt x="175782" y="326900"/>
                  </a:lnTo>
                  <a:lnTo>
                    <a:pt x="184619" y="295230"/>
                  </a:lnTo>
                  <a:lnTo>
                    <a:pt x="193761" y="262687"/>
                  </a:lnTo>
                  <a:lnTo>
                    <a:pt x="206524" y="227910"/>
                  </a:lnTo>
                  <a:lnTo>
                    <a:pt x="220360" y="192470"/>
                  </a:lnTo>
                  <a:lnTo>
                    <a:pt x="236630" y="156834"/>
                  </a:lnTo>
                  <a:lnTo>
                    <a:pt x="256532" y="123256"/>
                  </a:lnTo>
                  <a:lnTo>
                    <a:pt x="277510" y="95316"/>
                  </a:lnTo>
                  <a:lnTo>
                    <a:pt x="312428" y="59841"/>
                  </a:lnTo>
                  <a:lnTo>
                    <a:pt x="325028" y="52713"/>
                  </a:lnTo>
                  <a:lnTo>
                    <a:pt x="336397" y="50305"/>
                  </a:lnTo>
                  <a:lnTo>
                    <a:pt x="338136" y="51695"/>
                  </a:lnTo>
                  <a:lnTo>
                    <a:pt x="340067" y="57473"/>
                  </a:lnTo>
                  <a:lnTo>
                    <a:pt x="338809" y="65332"/>
                  </a:lnTo>
                  <a:lnTo>
                    <a:pt x="328544" y="99394"/>
                  </a:lnTo>
                  <a:lnTo>
                    <a:pt x="316751" y="126522"/>
                  </a:lnTo>
                  <a:lnTo>
                    <a:pt x="303202" y="154668"/>
                  </a:lnTo>
                  <a:lnTo>
                    <a:pt x="288340" y="183910"/>
                  </a:lnTo>
                  <a:lnTo>
                    <a:pt x="270001" y="215769"/>
                  </a:lnTo>
                  <a:lnTo>
                    <a:pt x="247063" y="248672"/>
                  </a:lnTo>
                  <a:lnTo>
                    <a:pt x="218526" y="279795"/>
                  </a:lnTo>
                  <a:lnTo>
                    <a:pt x="213353" y="282940"/>
                  </a:lnTo>
                  <a:lnTo>
                    <a:pt x="207358" y="284959"/>
                  </a:lnTo>
                  <a:lnTo>
                    <a:pt x="206538" y="281002"/>
                  </a:lnTo>
                  <a:lnTo>
                    <a:pt x="206319" y="277724"/>
                  </a:lnTo>
                  <a:lnTo>
                    <a:pt x="209804" y="265526"/>
                  </a:lnTo>
                  <a:lnTo>
                    <a:pt x="226026" y="232590"/>
                  </a:lnTo>
                  <a:lnTo>
                    <a:pt x="236192" y="206028"/>
                  </a:lnTo>
                  <a:lnTo>
                    <a:pt x="247142" y="178049"/>
                  </a:lnTo>
                  <a:lnTo>
                    <a:pt x="261745" y="143943"/>
                  </a:lnTo>
                  <a:lnTo>
                    <a:pt x="274719" y="116929"/>
                  </a:lnTo>
                  <a:lnTo>
                    <a:pt x="275586" y="113574"/>
                  </a:lnTo>
                  <a:lnTo>
                    <a:pt x="276958" y="111337"/>
                  </a:lnTo>
                  <a:lnTo>
                    <a:pt x="278666" y="109845"/>
                  </a:lnTo>
                  <a:lnTo>
                    <a:pt x="283318" y="107452"/>
                  </a:lnTo>
                  <a:lnTo>
                    <a:pt x="275599" y="142182"/>
                  </a:lnTo>
                  <a:lnTo>
                    <a:pt x="269666" y="173155"/>
                  </a:lnTo>
                  <a:lnTo>
                    <a:pt x="264393" y="196651"/>
                  </a:lnTo>
                  <a:lnTo>
                    <a:pt x="256757" y="222968"/>
                  </a:lnTo>
                  <a:lnTo>
                    <a:pt x="245956" y="254773"/>
                  </a:lnTo>
                  <a:lnTo>
                    <a:pt x="235599" y="283725"/>
                  </a:lnTo>
                  <a:lnTo>
                    <a:pt x="227313" y="306888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SMARTInkShape-57"/>
          <p:cNvSpPr/>
          <p:nvPr/>
        </p:nvSpPr>
        <p:spPr>
          <a:xfrm>
            <a:off x="1389240" y="2379600"/>
            <a:ext cx="709560" cy="669960"/>
          </a:xfrm>
          <a:custGeom>
            <a:avLst/>
            <a:gdLst>
              <a:gd name="textAreaLeft" fmla="*/ 0 w 709560"/>
              <a:gd name="textAreaRight" fmla="*/ 709920 w 70956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708849" h="670814">
                <a:moveTo>
                  <a:pt x="589337" y="157162"/>
                </a:moveTo>
                <a:lnTo>
                  <a:pt x="589337" y="153370"/>
                </a:lnTo>
                <a:lnTo>
                  <a:pt x="588543" y="152253"/>
                </a:lnTo>
                <a:lnTo>
                  <a:pt x="587220" y="151508"/>
                </a:lnTo>
                <a:lnTo>
                  <a:pt x="585544" y="151011"/>
                </a:lnTo>
                <a:lnTo>
                  <a:pt x="584427" y="149887"/>
                </a:lnTo>
                <a:lnTo>
                  <a:pt x="583186" y="146520"/>
                </a:lnTo>
                <a:lnTo>
                  <a:pt x="581595" y="137892"/>
                </a:lnTo>
                <a:lnTo>
                  <a:pt x="577342" y="130903"/>
                </a:lnTo>
                <a:lnTo>
                  <a:pt x="575502" y="121430"/>
                </a:lnTo>
                <a:lnTo>
                  <a:pt x="575351" y="119054"/>
                </a:lnTo>
                <a:lnTo>
                  <a:pt x="573067" y="114296"/>
                </a:lnTo>
                <a:lnTo>
                  <a:pt x="570199" y="109536"/>
                </a:lnTo>
                <a:lnTo>
                  <a:pt x="568925" y="104774"/>
                </a:lnTo>
                <a:lnTo>
                  <a:pt x="564125" y="100012"/>
                </a:lnTo>
                <a:lnTo>
                  <a:pt x="531647" y="72927"/>
                </a:lnTo>
                <a:lnTo>
                  <a:pt x="499331" y="51626"/>
                </a:lnTo>
                <a:lnTo>
                  <a:pt x="464666" y="40801"/>
                </a:lnTo>
                <a:lnTo>
                  <a:pt x="431361" y="35929"/>
                </a:lnTo>
                <a:lnTo>
                  <a:pt x="400360" y="31106"/>
                </a:lnTo>
                <a:lnTo>
                  <a:pt x="369919" y="29325"/>
                </a:lnTo>
                <a:lnTo>
                  <a:pt x="336117" y="29591"/>
                </a:lnTo>
                <a:lnTo>
                  <a:pt x="300966" y="34344"/>
                </a:lnTo>
                <a:lnTo>
                  <a:pt x="265416" y="41573"/>
                </a:lnTo>
                <a:lnTo>
                  <a:pt x="230541" y="53416"/>
                </a:lnTo>
                <a:lnTo>
                  <a:pt x="198953" y="67774"/>
                </a:lnTo>
                <a:lnTo>
                  <a:pt x="165604" y="86756"/>
                </a:lnTo>
                <a:lnTo>
                  <a:pt x="135262" y="108255"/>
                </a:lnTo>
                <a:lnTo>
                  <a:pt x="106164" y="134381"/>
                </a:lnTo>
                <a:lnTo>
                  <a:pt x="78227" y="162230"/>
                </a:lnTo>
                <a:lnTo>
                  <a:pt x="55309" y="191384"/>
                </a:lnTo>
                <a:lnTo>
                  <a:pt x="38112" y="224805"/>
                </a:lnTo>
                <a:lnTo>
                  <a:pt x="22962" y="259843"/>
                </a:lnTo>
                <a:lnTo>
                  <a:pt x="10007" y="295360"/>
                </a:lnTo>
                <a:lnTo>
                  <a:pt x="4669" y="331019"/>
                </a:lnTo>
                <a:lnTo>
                  <a:pt x="0" y="366720"/>
                </a:lnTo>
                <a:lnTo>
                  <a:pt x="2939" y="402433"/>
                </a:lnTo>
                <a:lnTo>
                  <a:pt x="9630" y="438150"/>
                </a:lnTo>
                <a:lnTo>
                  <a:pt x="21314" y="473869"/>
                </a:lnTo>
                <a:lnTo>
                  <a:pt x="37212" y="508794"/>
                </a:lnTo>
                <a:lnTo>
                  <a:pt x="65205" y="539603"/>
                </a:lnTo>
                <a:lnTo>
                  <a:pt x="94754" y="568046"/>
                </a:lnTo>
                <a:lnTo>
                  <a:pt x="129086" y="591908"/>
                </a:lnTo>
                <a:lnTo>
                  <a:pt x="155387" y="606764"/>
                </a:lnTo>
                <a:lnTo>
                  <a:pt x="182951" y="621304"/>
                </a:lnTo>
                <a:lnTo>
                  <a:pt x="211871" y="634910"/>
                </a:lnTo>
                <a:lnTo>
                  <a:pt x="243245" y="646249"/>
                </a:lnTo>
                <a:lnTo>
                  <a:pt x="275710" y="654463"/>
                </a:lnTo>
                <a:lnTo>
                  <a:pt x="308660" y="660760"/>
                </a:lnTo>
                <a:lnTo>
                  <a:pt x="341825" y="666204"/>
                </a:lnTo>
                <a:lnTo>
                  <a:pt x="377202" y="669153"/>
                </a:lnTo>
                <a:lnTo>
                  <a:pt x="395526" y="669939"/>
                </a:lnTo>
                <a:lnTo>
                  <a:pt x="430703" y="670813"/>
                </a:lnTo>
                <a:lnTo>
                  <a:pt x="464858" y="669614"/>
                </a:lnTo>
                <a:lnTo>
                  <a:pt x="498559" y="663789"/>
                </a:lnTo>
                <a:lnTo>
                  <a:pt x="529941" y="655909"/>
                </a:lnTo>
                <a:lnTo>
                  <a:pt x="558970" y="646321"/>
                </a:lnTo>
                <a:lnTo>
                  <a:pt x="585101" y="634122"/>
                </a:lnTo>
                <a:lnTo>
                  <a:pt x="609944" y="618646"/>
                </a:lnTo>
                <a:lnTo>
                  <a:pt x="644126" y="589967"/>
                </a:lnTo>
                <a:lnTo>
                  <a:pt x="672246" y="556334"/>
                </a:lnTo>
                <a:lnTo>
                  <a:pt x="691425" y="521233"/>
                </a:lnTo>
                <a:lnTo>
                  <a:pt x="699003" y="495978"/>
                </a:lnTo>
                <a:lnTo>
                  <a:pt x="705017" y="466232"/>
                </a:lnTo>
                <a:lnTo>
                  <a:pt x="708219" y="436608"/>
                </a:lnTo>
                <a:lnTo>
                  <a:pt x="708848" y="406773"/>
                </a:lnTo>
                <a:lnTo>
                  <a:pt x="706482" y="374992"/>
                </a:lnTo>
                <a:lnTo>
                  <a:pt x="700668" y="342346"/>
                </a:lnTo>
                <a:lnTo>
                  <a:pt x="691999" y="309316"/>
                </a:lnTo>
                <a:lnTo>
                  <a:pt x="680208" y="276115"/>
                </a:lnTo>
                <a:lnTo>
                  <a:pt x="664914" y="244955"/>
                </a:lnTo>
                <a:lnTo>
                  <a:pt x="647533" y="215231"/>
                </a:lnTo>
                <a:lnTo>
                  <a:pt x="629224" y="186146"/>
                </a:lnTo>
                <a:lnTo>
                  <a:pt x="608388" y="159461"/>
                </a:lnTo>
                <a:lnTo>
                  <a:pt x="585898" y="134371"/>
                </a:lnTo>
                <a:lnTo>
                  <a:pt x="551717" y="99521"/>
                </a:lnTo>
                <a:lnTo>
                  <a:pt x="521128" y="73408"/>
                </a:lnTo>
                <a:lnTo>
                  <a:pt x="491957" y="50590"/>
                </a:lnTo>
                <a:lnTo>
                  <a:pt x="463999" y="29542"/>
                </a:lnTo>
                <a:lnTo>
                  <a:pt x="429251" y="6614"/>
                </a:lnTo>
                <a:lnTo>
                  <a:pt x="404609" y="1306"/>
                </a:lnTo>
                <a:lnTo>
                  <a:pt x="382168" y="0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MARTInkShape-58"/>
          <p:cNvSpPr/>
          <p:nvPr/>
        </p:nvSpPr>
        <p:spPr>
          <a:xfrm>
            <a:off x="1557360" y="2500200"/>
            <a:ext cx="314280" cy="500040"/>
          </a:xfrm>
          <a:custGeom>
            <a:avLst/>
            <a:gdLst>
              <a:gd name="textAreaLeft" fmla="*/ 0 w 314280"/>
              <a:gd name="textAreaRight" fmla="*/ 314640 w 31428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314281" h="500023">
                <a:moveTo>
                  <a:pt x="199980" y="500022"/>
                </a:moveTo>
                <a:lnTo>
                  <a:pt x="192843" y="500022"/>
                </a:lnTo>
                <a:lnTo>
                  <a:pt x="192836" y="490079"/>
                </a:lnTo>
                <a:lnTo>
                  <a:pt x="186133" y="456958"/>
                </a:lnTo>
                <a:lnTo>
                  <a:pt x="183706" y="440695"/>
                </a:lnTo>
                <a:lnTo>
                  <a:pt x="179567" y="410075"/>
                </a:lnTo>
                <a:lnTo>
                  <a:pt x="178850" y="382795"/>
                </a:lnTo>
                <a:lnTo>
                  <a:pt x="174845" y="354604"/>
                </a:lnTo>
                <a:lnTo>
                  <a:pt x="172424" y="326143"/>
                </a:lnTo>
                <a:lnTo>
                  <a:pt x="171706" y="293809"/>
                </a:lnTo>
                <a:lnTo>
                  <a:pt x="171494" y="262886"/>
                </a:lnTo>
                <a:lnTo>
                  <a:pt x="171431" y="229823"/>
                </a:lnTo>
                <a:lnTo>
                  <a:pt x="171412" y="198683"/>
                </a:lnTo>
                <a:lnTo>
                  <a:pt x="171407" y="165556"/>
                </a:lnTo>
                <a:lnTo>
                  <a:pt x="171405" y="134397"/>
                </a:lnTo>
                <a:lnTo>
                  <a:pt x="166495" y="100334"/>
                </a:lnTo>
                <a:lnTo>
                  <a:pt x="164702" y="68088"/>
                </a:lnTo>
                <a:lnTo>
                  <a:pt x="164319" y="36036"/>
                </a:lnTo>
                <a:lnTo>
                  <a:pt x="163484" y="20615"/>
                </a:lnTo>
                <a:lnTo>
                  <a:pt x="157125" y="0"/>
                </a:lnTo>
                <a:lnTo>
                  <a:pt x="157119" y="3764"/>
                </a:lnTo>
                <a:lnTo>
                  <a:pt x="142644" y="35920"/>
                </a:lnTo>
                <a:lnTo>
                  <a:pt x="125195" y="70135"/>
                </a:lnTo>
                <a:lnTo>
                  <a:pt x="106920" y="101840"/>
                </a:lnTo>
                <a:lnTo>
                  <a:pt x="88023" y="134649"/>
                </a:lnTo>
                <a:lnTo>
                  <a:pt x="69003" y="168969"/>
                </a:lnTo>
                <a:lnTo>
                  <a:pt x="47843" y="199503"/>
                </a:lnTo>
                <a:lnTo>
                  <a:pt x="20337" y="232917"/>
                </a:lnTo>
                <a:lnTo>
                  <a:pt x="110" y="249852"/>
                </a:lnTo>
                <a:lnTo>
                  <a:pt x="0" y="242365"/>
                </a:lnTo>
                <a:lnTo>
                  <a:pt x="2092" y="236547"/>
                </a:lnTo>
                <a:lnTo>
                  <a:pt x="16748" y="202990"/>
                </a:lnTo>
                <a:lnTo>
                  <a:pt x="36317" y="170865"/>
                </a:lnTo>
                <a:lnTo>
                  <a:pt x="54850" y="142727"/>
                </a:lnTo>
                <a:lnTo>
                  <a:pt x="73798" y="109329"/>
                </a:lnTo>
                <a:lnTo>
                  <a:pt x="94945" y="78978"/>
                </a:lnTo>
                <a:lnTo>
                  <a:pt x="123118" y="43673"/>
                </a:lnTo>
                <a:lnTo>
                  <a:pt x="142699" y="24146"/>
                </a:lnTo>
                <a:lnTo>
                  <a:pt x="173510" y="7345"/>
                </a:lnTo>
                <a:lnTo>
                  <a:pt x="191343" y="2148"/>
                </a:lnTo>
                <a:lnTo>
                  <a:pt x="200903" y="1726"/>
                </a:lnTo>
                <a:lnTo>
                  <a:pt x="219935" y="10031"/>
                </a:lnTo>
                <a:lnTo>
                  <a:pt x="222808" y="13023"/>
                </a:lnTo>
                <a:lnTo>
                  <a:pt x="238106" y="45146"/>
                </a:lnTo>
                <a:lnTo>
                  <a:pt x="254124" y="78847"/>
                </a:lnTo>
                <a:lnTo>
                  <a:pt x="266572" y="114300"/>
                </a:lnTo>
                <a:lnTo>
                  <a:pt x="276957" y="147752"/>
                </a:lnTo>
                <a:lnTo>
                  <a:pt x="291356" y="178113"/>
                </a:lnTo>
                <a:lnTo>
                  <a:pt x="305637" y="212440"/>
                </a:lnTo>
                <a:lnTo>
                  <a:pt x="308586" y="219543"/>
                </a:lnTo>
                <a:lnTo>
                  <a:pt x="314280" y="228560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MARTInkShape-59"/>
          <p:cNvSpPr/>
          <p:nvPr/>
        </p:nvSpPr>
        <p:spPr>
          <a:xfrm>
            <a:off x="930240" y="3979800"/>
            <a:ext cx="415800" cy="795240"/>
          </a:xfrm>
          <a:custGeom>
            <a:avLst/>
            <a:gdLst>
              <a:gd name="textAreaLeft" fmla="*/ 0 w 415800"/>
              <a:gd name="textAreaRight" fmla="*/ 416160 w 415800"/>
              <a:gd name="textAreaTop" fmla="*/ 0 h 795240"/>
              <a:gd name="textAreaBottom" fmla="*/ 795600 h 795240"/>
            </a:gdLst>
            <a:ahLst/>
            <a:rect l="textAreaLeft" t="textAreaTop" r="textAreaRight" b="textAreaBottom"/>
            <a:pathLst>
              <a:path w="415117" h="796072">
                <a:moveTo>
                  <a:pt x="355198" y="227997"/>
                </a:moveTo>
                <a:lnTo>
                  <a:pt x="355198" y="194205"/>
                </a:lnTo>
                <a:lnTo>
                  <a:pt x="351406" y="176445"/>
                </a:lnTo>
                <a:lnTo>
                  <a:pt x="335070" y="144185"/>
                </a:lnTo>
                <a:lnTo>
                  <a:pt x="320707" y="123600"/>
                </a:lnTo>
                <a:lnTo>
                  <a:pt x="296879" y="105040"/>
                </a:lnTo>
                <a:lnTo>
                  <a:pt x="276270" y="96403"/>
                </a:lnTo>
                <a:lnTo>
                  <a:pt x="245857" y="93083"/>
                </a:lnTo>
                <a:lnTo>
                  <a:pt x="216703" y="94624"/>
                </a:lnTo>
                <a:lnTo>
                  <a:pt x="195220" y="99664"/>
                </a:lnTo>
                <a:lnTo>
                  <a:pt x="165275" y="115889"/>
                </a:lnTo>
                <a:lnTo>
                  <a:pt x="136294" y="136571"/>
                </a:lnTo>
                <a:lnTo>
                  <a:pt x="107599" y="163249"/>
                </a:lnTo>
                <a:lnTo>
                  <a:pt x="78988" y="197523"/>
                </a:lnTo>
                <a:lnTo>
                  <a:pt x="59930" y="226624"/>
                </a:lnTo>
                <a:lnTo>
                  <a:pt x="42993" y="258078"/>
                </a:lnTo>
                <a:lnTo>
                  <a:pt x="28321" y="290579"/>
                </a:lnTo>
                <a:lnTo>
                  <a:pt x="16509" y="323544"/>
                </a:lnTo>
                <a:lnTo>
                  <a:pt x="11930" y="341701"/>
                </a:lnTo>
                <a:lnTo>
                  <a:pt x="8084" y="360950"/>
                </a:lnTo>
                <a:lnTo>
                  <a:pt x="4726" y="380926"/>
                </a:lnTo>
                <a:lnTo>
                  <a:pt x="2488" y="400593"/>
                </a:lnTo>
                <a:lnTo>
                  <a:pt x="995" y="420055"/>
                </a:lnTo>
                <a:lnTo>
                  <a:pt x="0" y="439379"/>
                </a:lnTo>
                <a:lnTo>
                  <a:pt x="131" y="458612"/>
                </a:lnTo>
                <a:lnTo>
                  <a:pt x="1012" y="477784"/>
                </a:lnTo>
                <a:lnTo>
                  <a:pt x="2392" y="496916"/>
                </a:lnTo>
                <a:lnTo>
                  <a:pt x="4901" y="516019"/>
                </a:lnTo>
                <a:lnTo>
                  <a:pt x="8160" y="535106"/>
                </a:lnTo>
                <a:lnTo>
                  <a:pt x="11921" y="554180"/>
                </a:lnTo>
                <a:lnTo>
                  <a:pt x="16015" y="573246"/>
                </a:lnTo>
                <a:lnTo>
                  <a:pt x="20332" y="592307"/>
                </a:lnTo>
                <a:lnTo>
                  <a:pt x="24798" y="611364"/>
                </a:lnTo>
                <a:lnTo>
                  <a:pt x="31744" y="629625"/>
                </a:lnTo>
                <a:lnTo>
                  <a:pt x="50045" y="664731"/>
                </a:lnTo>
                <a:lnTo>
                  <a:pt x="69291" y="694622"/>
                </a:lnTo>
                <a:lnTo>
                  <a:pt x="89222" y="720342"/>
                </a:lnTo>
                <a:lnTo>
                  <a:pt x="123549" y="751878"/>
                </a:lnTo>
                <a:lnTo>
                  <a:pt x="149849" y="768808"/>
                </a:lnTo>
                <a:lnTo>
                  <a:pt x="177413" y="782153"/>
                </a:lnTo>
                <a:lnTo>
                  <a:pt x="205539" y="791789"/>
                </a:lnTo>
                <a:lnTo>
                  <a:pt x="233914" y="796071"/>
                </a:lnTo>
                <a:lnTo>
                  <a:pt x="262400" y="793741"/>
                </a:lnTo>
                <a:lnTo>
                  <a:pt x="289348" y="786620"/>
                </a:lnTo>
                <a:lnTo>
                  <a:pt x="323163" y="768429"/>
                </a:lnTo>
                <a:lnTo>
                  <a:pt x="356378" y="741696"/>
                </a:lnTo>
                <a:lnTo>
                  <a:pt x="373979" y="717451"/>
                </a:lnTo>
                <a:lnTo>
                  <a:pt x="387622" y="688684"/>
                </a:lnTo>
                <a:lnTo>
                  <a:pt x="398184" y="655790"/>
                </a:lnTo>
                <a:lnTo>
                  <a:pt x="402111" y="637018"/>
                </a:lnTo>
                <a:lnTo>
                  <a:pt x="405524" y="617358"/>
                </a:lnTo>
                <a:lnTo>
                  <a:pt x="408592" y="596315"/>
                </a:lnTo>
                <a:lnTo>
                  <a:pt x="411432" y="574348"/>
                </a:lnTo>
                <a:lnTo>
                  <a:pt x="414118" y="551767"/>
                </a:lnTo>
                <a:lnTo>
                  <a:pt x="415116" y="528775"/>
                </a:lnTo>
                <a:lnTo>
                  <a:pt x="414987" y="505509"/>
                </a:lnTo>
                <a:lnTo>
                  <a:pt x="414107" y="482061"/>
                </a:lnTo>
                <a:lnTo>
                  <a:pt x="412727" y="458492"/>
                </a:lnTo>
                <a:lnTo>
                  <a:pt x="411013" y="434841"/>
                </a:lnTo>
                <a:lnTo>
                  <a:pt x="409077" y="411137"/>
                </a:lnTo>
                <a:lnTo>
                  <a:pt x="405405" y="387397"/>
                </a:lnTo>
                <a:lnTo>
                  <a:pt x="400575" y="363632"/>
                </a:lnTo>
                <a:lnTo>
                  <a:pt x="394975" y="339852"/>
                </a:lnTo>
                <a:lnTo>
                  <a:pt x="388860" y="316854"/>
                </a:lnTo>
                <a:lnTo>
                  <a:pt x="382401" y="294379"/>
                </a:lnTo>
                <a:lnTo>
                  <a:pt x="375715" y="272251"/>
                </a:lnTo>
                <a:lnTo>
                  <a:pt x="368082" y="250356"/>
                </a:lnTo>
                <a:lnTo>
                  <a:pt x="359819" y="228615"/>
                </a:lnTo>
                <a:lnTo>
                  <a:pt x="351135" y="206978"/>
                </a:lnTo>
                <a:lnTo>
                  <a:pt x="342171" y="186997"/>
                </a:lnTo>
                <a:lnTo>
                  <a:pt x="333019" y="168120"/>
                </a:lnTo>
                <a:lnTo>
                  <a:pt x="314385" y="133916"/>
                </a:lnTo>
                <a:lnTo>
                  <a:pt x="295519" y="105485"/>
                </a:lnTo>
                <a:lnTo>
                  <a:pt x="276551" y="79620"/>
                </a:lnTo>
                <a:lnTo>
                  <a:pt x="245906" y="46979"/>
                </a:lnTo>
                <a:lnTo>
                  <a:pt x="215923" y="24343"/>
                </a:lnTo>
                <a:lnTo>
                  <a:pt x="184459" y="6265"/>
                </a:lnTo>
                <a:lnTo>
                  <a:pt x="152356" y="301"/>
                </a:lnTo>
                <a:lnTo>
                  <a:pt x="148533" y="0"/>
                </a:lnTo>
                <a:lnTo>
                  <a:pt x="145190" y="1386"/>
                </a:lnTo>
                <a:lnTo>
                  <a:pt x="139359" y="7160"/>
                </a:lnTo>
                <a:lnTo>
                  <a:pt x="119454" y="49403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MARTInkShape-60"/>
          <p:cNvSpPr/>
          <p:nvPr/>
        </p:nvSpPr>
        <p:spPr>
          <a:xfrm>
            <a:off x="1639800" y="5737320"/>
            <a:ext cx="463680" cy="704880"/>
          </a:xfrm>
          <a:custGeom>
            <a:avLst/>
            <a:gdLst>
              <a:gd name="textAreaLeft" fmla="*/ 0 w 463680"/>
              <a:gd name="textAreaRight" fmla="*/ 464040 w 46368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462714" h="703677">
                <a:moveTo>
                  <a:pt x="338464" y="162851"/>
                </a:moveTo>
                <a:lnTo>
                  <a:pt x="338464" y="159058"/>
                </a:lnTo>
                <a:lnTo>
                  <a:pt x="339258" y="157941"/>
                </a:lnTo>
                <a:lnTo>
                  <a:pt x="340580" y="157196"/>
                </a:lnTo>
                <a:lnTo>
                  <a:pt x="342256" y="156700"/>
                </a:lnTo>
                <a:lnTo>
                  <a:pt x="343373" y="155575"/>
                </a:lnTo>
                <a:lnTo>
                  <a:pt x="344615" y="152209"/>
                </a:lnTo>
                <a:lnTo>
                  <a:pt x="345582" y="121922"/>
                </a:lnTo>
                <a:lnTo>
                  <a:pt x="339899" y="103231"/>
                </a:lnTo>
                <a:lnTo>
                  <a:pt x="325681" y="74736"/>
                </a:lnTo>
                <a:lnTo>
                  <a:pt x="294374" y="41259"/>
                </a:lnTo>
                <a:lnTo>
                  <a:pt x="266784" y="22533"/>
                </a:lnTo>
                <a:lnTo>
                  <a:pt x="234611" y="10956"/>
                </a:lnTo>
                <a:lnTo>
                  <a:pt x="207063" y="3457"/>
                </a:lnTo>
                <a:lnTo>
                  <a:pt x="178792" y="0"/>
                </a:lnTo>
                <a:lnTo>
                  <a:pt x="150307" y="2768"/>
                </a:lnTo>
                <a:lnTo>
                  <a:pt x="121759" y="8615"/>
                </a:lnTo>
                <a:lnTo>
                  <a:pt x="89371" y="28315"/>
                </a:lnTo>
                <a:lnTo>
                  <a:pt x="60043" y="52549"/>
                </a:lnTo>
                <a:lnTo>
                  <a:pt x="35112" y="87440"/>
                </a:lnTo>
                <a:lnTo>
                  <a:pt x="19805" y="119252"/>
                </a:lnTo>
                <a:lnTo>
                  <a:pt x="12158" y="144267"/>
                </a:lnTo>
                <a:lnTo>
                  <a:pt x="6114" y="172054"/>
                </a:lnTo>
                <a:lnTo>
                  <a:pt x="782" y="202924"/>
                </a:lnTo>
                <a:lnTo>
                  <a:pt x="0" y="235165"/>
                </a:lnTo>
                <a:lnTo>
                  <a:pt x="1504" y="268015"/>
                </a:lnTo>
                <a:lnTo>
                  <a:pt x="2173" y="301136"/>
                </a:lnTo>
                <a:lnTo>
                  <a:pt x="6703" y="334378"/>
                </a:lnTo>
                <a:lnTo>
                  <a:pt x="14008" y="368466"/>
                </a:lnTo>
                <a:lnTo>
                  <a:pt x="18179" y="386446"/>
                </a:lnTo>
                <a:lnTo>
                  <a:pt x="22547" y="404783"/>
                </a:lnTo>
                <a:lnTo>
                  <a:pt x="31633" y="439974"/>
                </a:lnTo>
                <a:lnTo>
                  <a:pt x="42551" y="474135"/>
                </a:lnTo>
                <a:lnTo>
                  <a:pt x="57986" y="507839"/>
                </a:lnTo>
                <a:lnTo>
                  <a:pt x="75430" y="539222"/>
                </a:lnTo>
                <a:lnTo>
                  <a:pt x="93766" y="569045"/>
                </a:lnTo>
                <a:lnTo>
                  <a:pt x="112499" y="598175"/>
                </a:lnTo>
                <a:lnTo>
                  <a:pt x="140895" y="633765"/>
                </a:lnTo>
                <a:lnTo>
                  <a:pt x="173209" y="664419"/>
                </a:lnTo>
                <a:lnTo>
                  <a:pt x="207920" y="686026"/>
                </a:lnTo>
                <a:lnTo>
                  <a:pt x="243340" y="698689"/>
                </a:lnTo>
                <a:lnTo>
                  <a:pt x="278970" y="703676"/>
                </a:lnTo>
                <a:lnTo>
                  <a:pt x="314662" y="701361"/>
                </a:lnTo>
                <a:lnTo>
                  <a:pt x="346581" y="688063"/>
                </a:lnTo>
                <a:lnTo>
                  <a:pt x="376147" y="665250"/>
                </a:lnTo>
                <a:lnTo>
                  <a:pt x="401223" y="638382"/>
                </a:lnTo>
                <a:lnTo>
                  <a:pt x="423734" y="602728"/>
                </a:lnTo>
                <a:lnTo>
                  <a:pt x="436157" y="575839"/>
                </a:lnTo>
                <a:lnTo>
                  <a:pt x="446177" y="547220"/>
                </a:lnTo>
                <a:lnTo>
                  <a:pt x="453276" y="515979"/>
                </a:lnTo>
                <a:lnTo>
                  <a:pt x="459077" y="483574"/>
                </a:lnTo>
                <a:lnTo>
                  <a:pt x="462713" y="449857"/>
                </a:lnTo>
                <a:lnTo>
                  <a:pt x="462572" y="431975"/>
                </a:lnTo>
                <a:lnTo>
                  <a:pt x="461684" y="413705"/>
                </a:lnTo>
                <a:lnTo>
                  <a:pt x="460298" y="395174"/>
                </a:lnTo>
                <a:lnTo>
                  <a:pt x="458580" y="376471"/>
                </a:lnTo>
                <a:lnTo>
                  <a:pt x="456641" y="357651"/>
                </a:lnTo>
                <a:lnTo>
                  <a:pt x="453761" y="338755"/>
                </a:lnTo>
                <a:lnTo>
                  <a:pt x="450254" y="319808"/>
                </a:lnTo>
                <a:lnTo>
                  <a:pt x="446328" y="300827"/>
                </a:lnTo>
                <a:lnTo>
                  <a:pt x="441329" y="282616"/>
                </a:lnTo>
                <a:lnTo>
                  <a:pt x="429426" y="247565"/>
                </a:lnTo>
                <a:lnTo>
                  <a:pt x="414081" y="213466"/>
                </a:lnTo>
                <a:lnTo>
                  <a:pt x="396678" y="180584"/>
                </a:lnTo>
                <a:lnTo>
                  <a:pt x="378360" y="150094"/>
                </a:lnTo>
                <a:lnTo>
                  <a:pt x="359635" y="124902"/>
                </a:lnTo>
                <a:lnTo>
                  <a:pt x="331243" y="92870"/>
                </a:lnTo>
                <a:lnTo>
                  <a:pt x="302722" y="67503"/>
                </a:lnTo>
                <a:lnTo>
                  <a:pt x="268433" y="44710"/>
                </a:lnTo>
                <a:lnTo>
                  <a:pt x="235726" y="33522"/>
                </a:lnTo>
                <a:lnTo>
                  <a:pt x="224164" y="27119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SMARTInkShape-Group26"/>
          <p:cNvGrpSpPr/>
          <p:nvPr/>
        </p:nvGrpSpPr>
        <p:grpSpPr>
          <a:xfrm>
            <a:off x="1779480" y="5808600"/>
            <a:ext cx="135000" cy="511200"/>
            <a:chOff x="1779480" y="5808600"/>
            <a:chExt cx="135000" cy="511200"/>
          </a:xfrm>
        </p:grpSpPr>
        <p:sp>
          <p:nvSpPr>
            <p:cNvPr id="121" name="SMARTInkShape-61"/>
            <p:cNvSpPr/>
            <p:nvPr/>
          </p:nvSpPr>
          <p:spPr>
            <a:xfrm>
              <a:off x="1821960" y="5808600"/>
              <a:ext cx="56880" cy="51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57151" h="512465">
                  <a:moveTo>
                    <a:pt x="0" y="0"/>
                  </a:moveTo>
                  <a:lnTo>
                    <a:pt x="794" y="17888"/>
                  </a:lnTo>
                  <a:lnTo>
                    <a:pt x="5655" y="40193"/>
                  </a:lnTo>
                  <a:lnTo>
                    <a:pt x="6850" y="70910"/>
                  </a:lnTo>
                  <a:lnTo>
                    <a:pt x="7057" y="100297"/>
                  </a:lnTo>
                  <a:lnTo>
                    <a:pt x="10911" y="134140"/>
                  </a:lnTo>
                  <a:lnTo>
                    <a:pt x="13287" y="169303"/>
                  </a:lnTo>
                  <a:lnTo>
                    <a:pt x="15960" y="195102"/>
                  </a:lnTo>
                  <a:lnTo>
                    <a:pt x="19000" y="222443"/>
                  </a:lnTo>
                  <a:lnTo>
                    <a:pt x="20351" y="250470"/>
                  </a:lnTo>
                  <a:lnTo>
                    <a:pt x="23068" y="276684"/>
                  </a:lnTo>
                  <a:lnTo>
                    <a:pt x="26128" y="302358"/>
                  </a:lnTo>
                  <a:lnTo>
                    <a:pt x="27487" y="329644"/>
                  </a:lnTo>
                  <a:lnTo>
                    <a:pt x="30208" y="355528"/>
                  </a:lnTo>
                  <a:lnTo>
                    <a:pt x="34086" y="390298"/>
                  </a:lnTo>
                  <a:lnTo>
                    <a:pt x="37352" y="422825"/>
                  </a:lnTo>
                  <a:lnTo>
                    <a:pt x="43347" y="453364"/>
                  </a:lnTo>
                  <a:lnTo>
                    <a:pt x="49923" y="486710"/>
                  </a:lnTo>
                  <a:lnTo>
                    <a:pt x="56822" y="512464"/>
                  </a:lnTo>
                  <a:lnTo>
                    <a:pt x="56931" y="512299"/>
                  </a:lnTo>
                  <a:lnTo>
                    <a:pt x="57150" y="507206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SMARTInkShape-62"/>
            <p:cNvSpPr/>
            <p:nvPr/>
          </p:nvSpPr>
          <p:spPr>
            <a:xfrm>
              <a:off x="1779480" y="5810760"/>
              <a:ext cx="135000" cy="23976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35724" h="240480">
                  <a:moveTo>
                    <a:pt x="57142" y="11879"/>
                  </a:moveTo>
                  <a:lnTo>
                    <a:pt x="53349" y="11879"/>
                  </a:lnTo>
                  <a:lnTo>
                    <a:pt x="49371" y="13996"/>
                  </a:lnTo>
                  <a:lnTo>
                    <a:pt x="44142" y="18030"/>
                  </a:lnTo>
                  <a:lnTo>
                    <a:pt x="19944" y="52583"/>
                  </a:lnTo>
                  <a:lnTo>
                    <a:pt x="10489" y="76364"/>
                  </a:lnTo>
                  <a:lnTo>
                    <a:pt x="7577" y="105870"/>
                  </a:lnTo>
                  <a:lnTo>
                    <a:pt x="1023" y="140124"/>
                  </a:lnTo>
                  <a:lnTo>
                    <a:pt x="19" y="161115"/>
                  </a:lnTo>
                  <a:lnTo>
                    <a:pt x="0" y="157874"/>
                  </a:lnTo>
                  <a:lnTo>
                    <a:pt x="2112" y="154024"/>
                  </a:lnTo>
                  <a:lnTo>
                    <a:pt x="3786" y="151886"/>
                  </a:lnTo>
                  <a:lnTo>
                    <a:pt x="6143" y="137500"/>
                  </a:lnTo>
                  <a:lnTo>
                    <a:pt x="9121" y="104357"/>
                  </a:lnTo>
                  <a:lnTo>
                    <a:pt x="17053" y="76095"/>
                  </a:lnTo>
                  <a:lnTo>
                    <a:pt x="23921" y="47134"/>
                  </a:lnTo>
                  <a:lnTo>
                    <a:pt x="32559" y="14786"/>
                  </a:lnTo>
                  <a:lnTo>
                    <a:pt x="35570" y="3039"/>
                  </a:lnTo>
                  <a:lnTo>
                    <a:pt x="37205" y="1223"/>
                  </a:lnTo>
                  <a:lnTo>
                    <a:pt x="39088" y="13"/>
                  </a:lnTo>
                  <a:lnTo>
                    <a:pt x="40343" y="0"/>
                  </a:lnTo>
                  <a:lnTo>
                    <a:pt x="41180" y="785"/>
                  </a:lnTo>
                  <a:lnTo>
                    <a:pt x="42110" y="3774"/>
                  </a:lnTo>
                  <a:lnTo>
                    <a:pt x="43428" y="10713"/>
                  </a:lnTo>
                  <a:lnTo>
                    <a:pt x="55020" y="41711"/>
                  </a:lnTo>
                  <a:lnTo>
                    <a:pt x="64337" y="71394"/>
                  </a:lnTo>
                  <a:lnTo>
                    <a:pt x="71444" y="98305"/>
                  </a:lnTo>
                  <a:lnTo>
                    <a:pt x="80694" y="126387"/>
                  </a:lnTo>
                  <a:lnTo>
                    <a:pt x="91372" y="154816"/>
                  </a:lnTo>
                  <a:lnTo>
                    <a:pt x="105884" y="189074"/>
                  </a:lnTo>
                  <a:lnTo>
                    <a:pt x="127289" y="223270"/>
                  </a:lnTo>
                  <a:lnTo>
                    <a:pt x="135723" y="240479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2"/>
          <p:cNvSpPr txBox="1"/>
          <p:nvPr/>
        </p:nvSpPr>
        <p:spPr>
          <a:xfrm>
            <a:off x="1981080" y="152280"/>
            <a:ext cx="509616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208" name="WordArt 3"/>
          <p:cNvSpPr txBox="1"/>
          <p:nvPr/>
        </p:nvSpPr>
        <p:spPr>
          <a:xfrm>
            <a:off x="1676520" y="1066680"/>
            <a:ext cx="5638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around permanent magnet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28600" y="15238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gnetic flux density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828800" y="2362320"/>
            <a:ext cx="61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umber of flux lines per uni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3124080" y="2971800"/>
            <a:ext cx="1589040" cy="1903680"/>
            <a:chOff x="3124080" y="2971800"/>
            <a:chExt cx="1589040" cy="1903680"/>
          </a:xfrm>
        </p:grpSpPr>
        <p:sp>
          <p:nvSpPr>
            <p:cNvPr id="212" name="Text Box 7"/>
            <p:cNvSpPr/>
            <p:nvPr/>
          </p:nvSpPr>
          <p:spPr>
            <a:xfrm>
              <a:off x="3124080" y="2971800"/>
              <a:ext cx="1112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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8"/>
            <p:cNvGrpSpPr/>
            <p:nvPr/>
          </p:nvGrpSpPr>
          <p:grpSpPr>
            <a:xfrm>
              <a:off x="3143160" y="3867120"/>
              <a:ext cx="1569960" cy="1008360"/>
              <a:chOff x="3143160" y="3867120"/>
              <a:chExt cx="1569960" cy="1008360"/>
            </a:xfrm>
          </p:grpSpPr>
          <p:sp>
            <p:nvSpPr>
              <p:cNvPr id="214" name="Text Box 9"/>
              <p:cNvSpPr/>
              <p:nvPr/>
            </p:nvSpPr>
            <p:spPr>
              <a:xfrm>
                <a:off x="3143160" y="3867120"/>
                <a:ext cx="11127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Arial"/>
                  </a:rPr>
                  <a:t>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10"/>
              <p:cNvSpPr/>
              <p:nvPr/>
            </p:nvSpPr>
            <p:spPr>
              <a:xfrm>
                <a:off x="3600360" y="3886200"/>
                <a:ext cx="11127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Line 11"/>
            <p:cNvSpPr/>
            <p:nvPr/>
          </p:nvSpPr>
          <p:spPr>
            <a:xfrm>
              <a:off x="3181320" y="398448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419720" y="3886200"/>
            <a:ext cx="361800" cy="190440"/>
            <a:chOff x="4419720" y="3886200"/>
            <a:chExt cx="361800" cy="190440"/>
          </a:xfrm>
        </p:grpSpPr>
        <p:sp>
          <p:nvSpPr>
            <p:cNvPr id="218" name="Line 13"/>
            <p:cNvSpPr/>
            <p:nvPr/>
          </p:nvSpPr>
          <p:spPr>
            <a:xfrm>
              <a:off x="4419720" y="4076640"/>
              <a:ext cx="361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>
              <a:off x="4419720" y="3886200"/>
              <a:ext cx="361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15"/>
          <p:cNvGrpSpPr/>
          <p:nvPr/>
        </p:nvGrpSpPr>
        <p:grpSpPr>
          <a:xfrm>
            <a:off x="4952880" y="3352680"/>
            <a:ext cx="2046240" cy="1351080"/>
            <a:chOff x="4952880" y="3352680"/>
            <a:chExt cx="2046240" cy="1351080"/>
          </a:xfrm>
        </p:grpSpPr>
        <p:sp>
          <p:nvSpPr>
            <p:cNvPr id="221" name="Text Box 16"/>
            <p:cNvSpPr/>
            <p:nvPr/>
          </p:nvSpPr>
          <p:spPr>
            <a:xfrm>
              <a:off x="4952880" y="3352680"/>
              <a:ext cx="204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web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17"/>
            <p:cNvSpPr/>
            <p:nvPr/>
          </p:nvSpPr>
          <p:spPr>
            <a:xfrm>
              <a:off x="5428800" y="4000320"/>
              <a:ext cx="78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257440" y="3946320"/>
              <a:ext cx="1371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5810040" y="3885840"/>
              <a:ext cx="7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5" name="Picture 20" descr="barmag"/>
          <p:cNvPicPr/>
          <p:nvPr/>
        </p:nvPicPr>
        <p:blipFill>
          <a:blip r:embed="rId3"/>
          <a:stretch/>
        </p:blipFill>
        <p:spPr>
          <a:xfrm>
            <a:off x="533520" y="3733920"/>
            <a:ext cx="1931760" cy="2666880"/>
          </a:xfrm>
          <a:prstGeom prst="rect">
            <a:avLst/>
          </a:prstGeom>
          <a:ln w="0">
            <a:noFill/>
          </a:ln>
        </p:spPr>
      </p:pic>
      <p:grpSp>
        <p:nvGrpSpPr>
          <p:cNvPr id="226" name="SMARTInkShape-Group37"/>
          <p:cNvGrpSpPr/>
          <p:nvPr/>
        </p:nvGrpSpPr>
        <p:grpSpPr>
          <a:xfrm>
            <a:off x="650880" y="3843360"/>
            <a:ext cx="600120" cy="685800"/>
            <a:chOff x="650880" y="3843360"/>
            <a:chExt cx="600120" cy="685800"/>
          </a:xfrm>
        </p:grpSpPr>
        <p:sp>
          <p:nvSpPr>
            <p:cNvPr id="227" name="SMARTInkShape-109"/>
            <p:cNvSpPr/>
            <p:nvPr/>
          </p:nvSpPr>
          <p:spPr>
            <a:xfrm>
              <a:off x="696600" y="3886200"/>
              <a:ext cx="89640" cy="57024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89726" h="569944">
                  <a:moveTo>
                    <a:pt x="18287" y="6850"/>
                  </a:moveTo>
                  <a:lnTo>
                    <a:pt x="0" y="6850"/>
                  </a:lnTo>
                  <a:lnTo>
                    <a:pt x="3316" y="6850"/>
                  </a:lnTo>
                  <a:lnTo>
                    <a:pt x="3982" y="0"/>
                  </a:lnTo>
                  <a:lnTo>
                    <a:pt x="4000" y="10635"/>
                  </a:lnTo>
                  <a:lnTo>
                    <a:pt x="6116" y="14617"/>
                  </a:lnTo>
                  <a:lnTo>
                    <a:pt x="7792" y="16791"/>
                  </a:lnTo>
                  <a:lnTo>
                    <a:pt x="9654" y="23439"/>
                  </a:lnTo>
                  <a:lnTo>
                    <a:pt x="15995" y="58549"/>
                  </a:lnTo>
                  <a:lnTo>
                    <a:pt x="17985" y="92798"/>
                  </a:lnTo>
                  <a:lnTo>
                    <a:pt x="23137" y="127691"/>
                  </a:lnTo>
                  <a:lnTo>
                    <a:pt x="25545" y="160482"/>
                  </a:lnTo>
                  <a:lnTo>
                    <a:pt x="30933" y="196127"/>
                  </a:lnTo>
                  <a:lnTo>
                    <a:pt x="35284" y="222735"/>
                  </a:lnTo>
                  <a:lnTo>
                    <a:pt x="39864" y="250436"/>
                  </a:lnTo>
                  <a:lnTo>
                    <a:pt x="44546" y="277829"/>
                  </a:lnTo>
                  <a:lnTo>
                    <a:pt x="49272" y="303233"/>
                  </a:lnTo>
                  <a:lnTo>
                    <a:pt x="54019" y="329869"/>
                  </a:lnTo>
                  <a:lnTo>
                    <a:pt x="58774" y="356789"/>
                  </a:lnTo>
                  <a:lnTo>
                    <a:pt x="63533" y="381982"/>
                  </a:lnTo>
                  <a:lnTo>
                    <a:pt x="66178" y="408525"/>
                  </a:lnTo>
                  <a:lnTo>
                    <a:pt x="68147" y="434610"/>
                  </a:lnTo>
                  <a:lnTo>
                    <a:pt x="73718" y="467145"/>
                  </a:lnTo>
                  <a:lnTo>
                    <a:pt x="80396" y="496893"/>
                  </a:lnTo>
                  <a:lnTo>
                    <a:pt x="87647" y="531156"/>
                  </a:lnTo>
                  <a:lnTo>
                    <a:pt x="89670" y="564812"/>
                  </a:lnTo>
                  <a:lnTo>
                    <a:pt x="89714" y="569943"/>
                  </a:lnTo>
                  <a:lnTo>
                    <a:pt x="89725" y="55691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SMARTInkShape-110"/>
            <p:cNvSpPr/>
            <p:nvPr/>
          </p:nvSpPr>
          <p:spPr>
            <a:xfrm>
              <a:off x="650880" y="3843360"/>
              <a:ext cx="600120" cy="68580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600050" h="685801">
                  <a:moveTo>
                    <a:pt x="7118" y="50006"/>
                  </a:moveTo>
                  <a:lnTo>
                    <a:pt x="0" y="50006"/>
                  </a:lnTo>
                  <a:lnTo>
                    <a:pt x="6127" y="50006"/>
                  </a:lnTo>
                  <a:lnTo>
                    <a:pt x="12626" y="45096"/>
                  </a:lnTo>
                  <a:lnTo>
                    <a:pt x="19245" y="42730"/>
                  </a:lnTo>
                  <a:lnTo>
                    <a:pt x="27027" y="38149"/>
                  </a:lnTo>
                  <a:lnTo>
                    <a:pt x="62013" y="29662"/>
                  </a:lnTo>
                  <a:lnTo>
                    <a:pt x="96624" y="22519"/>
                  </a:lnTo>
                  <a:lnTo>
                    <a:pt x="129060" y="19457"/>
                  </a:lnTo>
                  <a:lnTo>
                    <a:pt x="161027" y="15309"/>
                  </a:lnTo>
                  <a:lnTo>
                    <a:pt x="193007" y="14489"/>
                  </a:lnTo>
                  <a:lnTo>
                    <a:pt x="226958" y="14327"/>
                  </a:lnTo>
                  <a:lnTo>
                    <a:pt x="260622" y="14295"/>
                  </a:lnTo>
                  <a:lnTo>
                    <a:pt x="288429" y="14289"/>
                  </a:lnTo>
                  <a:lnTo>
                    <a:pt x="320566" y="9378"/>
                  </a:lnTo>
                  <a:lnTo>
                    <a:pt x="351961" y="7585"/>
                  </a:lnTo>
                  <a:lnTo>
                    <a:pt x="387286" y="7201"/>
                  </a:lnTo>
                  <a:lnTo>
                    <a:pt x="422409" y="7147"/>
                  </a:lnTo>
                  <a:lnTo>
                    <a:pt x="431404" y="6351"/>
                  </a:lnTo>
                  <a:lnTo>
                    <a:pt x="456760" y="196"/>
                  </a:lnTo>
                  <a:lnTo>
                    <a:pt x="471374" y="0"/>
                  </a:lnTo>
                  <a:lnTo>
                    <a:pt x="464404" y="0"/>
                  </a:lnTo>
                  <a:lnTo>
                    <a:pt x="469984" y="13425"/>
                  </a:lnTo>
                  <a:lnTo>
                    <a:pt x="472061" y="26080"/>
                  </a:lnTo>
                  <a:lnTo>
                    <a:pt x="476314" y="34097"/>
                  </a:lnTo>
                  <a:lnTo>
                    <a:pt x="486242" y="66594"/>
                  </a:lnTo>
                  <a:lnTo>
                    <a:pt x="490922" y="86406"/>
                  </a:lnTo>
                  <a:lnTo>
                    <a:pt x="493427" y="121533"/>
                  </a:lnTo>
                  <a:lnTo>
                    <a:pt x="502802" y="157174"/>
                  </a:lnTo>
                  <a:lnTo>
                    <a:pt x="507109" y="191442"/>
                  </a:lnTo>
                  <a:lnTo>
                    <a:pt x="512627" y="219354"/>
                  </a:lnTo>
                  <a:lnTo>
                    <a:pt x="518496" y="247732"/>
                  </a:lnTo>
                  <a:lnTo>
                    <a:pt x="521381" y="276249"/>
                  </a:lnTo>
                  <a:lnTo>
                    <a:pt x="526117" y="305601"/>
                  </a:lnTo>
                  <a:lnTo>
                    <a:pt x="528666" y="338286"/>
                  </a:lnTo>
                  <a:lnTo>
                    <a:pt x="533302" y="368432"/>
                  </a:lnTo>
                  <a:lnTo>
                    <a:pt x="535822" y="397472"/>
                  </a:lnTo>
                  <a:lnTo>
                    <a:pt x="541243" y="426185"/>
                  </a:lnTo>
                  <a:lnTo>
                    <a:pt x="547083" y="454007"/>
                  </a:lnTo>
                  <a:lnTo>
                    <a:pt x="551575" y="485144"/>
                  </a:lnTo>
                  <a:lnTo>
                    <a:pt x="556078" y="514225"/>
                  </a:lnTo>
                  <a:lnTo>
                    <a:pt x="561877" y="542900"/>
                  </a:lnTo>
                  <a:lnTo>
                    <a:pt x="565963" y="571495"/>
                  </a:lnTo>
                  <a:lnTo>
                    <a:pt x="571542" y="606424"/>
                  </a:lnTo>
                  <a:lnTo>
                    <a:pt x="578686" y="637896"/>
                  </a:lnTo>
                  <a:lnTo>
                    <a:pt x="590456" y="672960"/>
                  </a:lnTo>
                  <a:lnTo>
                    <a:pt x="592180" y="677762"/>
                  </a:lnTo>
                  <a:lnTo>
                    <a:pt x="592877" y="685440"/>
                  </a:lnTo>
                  <a:lnTo>
                    <a:pt x="600049" y="685800"/>
                  </a:lnTo>
                  <a:lnTo>
                    <a:pt x="565766" y="685800"/>
                  </a:lnTo>
                  <a:lnTo>
                    <a:pt x="558618" y="685006"/>
                  </a:lnTo>
                  <a:lnTo>
                    <a:pt x="526670" y="679318"/>
                  </a:lnTo>
                  <a:lnTo>
                    <a:pt x="491991" y="678714"/>
                  </a:lnTo>
                  <a:lnTo>
                    <a:pt x="457055" y="678664"/>
                  </a:lnTo>
                  <a:lnTo>
                    <a:pt x="421440" y="678657"/>
                  </a:lnTo>
                  <a:lnTo>
                    <a:pt x="385735" y="678656"/>
                  </a:lnTo>
                  <a:lnTo>
                    <a:pt x="350018" y="678656"/>
                  </a:lnTo>
                  <a:lnTo>
                    <a:pt x="316533" y="673746"/>
                  </a:lnTo>
                  <a:lnTo>
                    <a:pt x="286166" y="671953"/>
                  </a:lnTo>
                  <a:lnTo>
                    <a:pt x="257236" y="671599"/>
                  </a:lnTo>
                  <a:lnTo>
                    <a:pt x="223682" y="671529"/>
                  </a:lnTo>
                  <a:lnTo>
                    <a:pt x="189801" y="671514"/>
                  </a:lnTo>
                  <a:lnTo>
                    <a:pt x="158851" y="671512"/>
                  </a:lnTo>
                  <a:lnTo>
                    <a:pt x="148374" y="670718"/>
                  </a:lnTo>
                  <a:lnTo>
                    <a:pt x="113334" y="664662"/>
                  </a:lnTo>
                  <a:lnTo>
                    <a:pt x="99987" y="66436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SMARTInkShape-Group38"/>
          <p:cNvGrpSpPr/>
          <p:nvPr/>
        </p:nvGrpSpPr>
        <p:grpSpPr>
          <a:xfrm>
            <a:off x="1693800" y="4735440"/>
            <a:ext cx="506520" cy="536760"/>
            <a:chOff x="1693800" y="4735440"/>
            <a:chExt cx="506520" cy="536760"/>
          </a:xfrm>
        </p:grpSpPr>
        <p:sp>
          <p:nvSpPr>
            <p:cNvPr id="230" name="SMARTInkShape-111"/>
            <p:cNvSpPr/>
            <p:nvPr/>
          </p:nvSpPr>
          <p:spPr>
            <a:xfrm>
              <a:off x="1735560" y="4771080"/>
              <a:ext cx="42840" cy="436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42864" h="435769">
                  <a:moveTo>
                    <a:pt x="7144" y="7143"/>
                  </a:moveTo>
                  <a:lnTo>
                    <a:pt x="7144" y="3351"/>
                  </a:lnTo>
                  <a:lnTo>
                    <a:pt x="6350" y="2233"/>
                  </a:lnTo>
                  <a:lnTo>
                    <a:pt x="5027" y="1488"/>
                  </a:lnTo>
                  <a:lnTo>
                    <a:pt x="2" y="0"/>
                  </a:lnTo>
                  <a:lnTo>
                    <a:pt x="0" y="34759"/>
                  </a:lnTo>
                  <a:lnTo>
                    <a:pt x="6151" y="65829"/>
                  </a:lnTo>
                  <a:lnTo>
                    <a:pt x="7013" y="100214"/>
                  </a:lnTo>
                  <a:lnTo>
                    <a:pt x="10911" y="132419"/>
                  </a:lnTo>
                  <a:lnTo>
                    <a:pt x="13287" y="159973"/>
                  </a:lnTo>
                  <a:lnTo>
                    <a:pt x="14090" y="193612"/>
                  </a:lnTo>
                  <a:lnTo>
                    <a:pt x="14229" y="223877"/>
                  </a:lnTo>
                  <a:lnTo>
                    <a:pt x="16393" y="258358"/>
                  </a:lnTo>
                  <a:lnTo>
                    <a:pt x="19939" y="286099"/>
                  </a:lnTo>
                  <a:lnTo>
                    <a:pt x="24929" y="320126"/>
                  </a:lnTo>
                  <a:lnTo>
                    <a:pt x="27855" y="353894"/>
                  </a:lnTo>
                  <a:lnTo>
                    <a:pt x="32273" y="386425"/>
                  </a:lnTo>
                  <a:lnTo>
                    <a:pt x="35585" y="419645"/>
                  </a:lnTo>
                  <a:lnTo>
                    <a:pt x="35717" y="435318"/>
                  </a:lnTo>
                  <a:lnTo>
                    <a:pt x="42863" y="43576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SMARTInkShape-112"/>
            <p:cNvSpPr/>
            <p:nvPr/>
          </p:nvSpPr>
          <p:spPr>
            <a:xfrm>
              <a:off x="1693800" y="4735440"/>
              <a:ext cx="506520" cy="53676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506214" h="535771">
                  <a:moveTo>
                    <a:pt x="6151" y="7144"/>
                  </a:moveTo>
                  <a:lnTo>
                    <a:pt x="2358" y="7144"/>
                  </a:lnTo>
                  <a:lnTo>
                    <a:pt x="1241" y="6350"/>
                  </a:lnTo>
                  <a:lnTo>
                    <a:pt x="496" y="5027"/>
                  </a:lnTo>
                  <a:lnTo>
                    <a:pt x="0" y="3352"/>
                  </a:lnTo>
                  <a:lnTo>
                    <a:pt x="462" y="2235"/>
                  </a:lnTo>
                  <a:lnTo>
                    <a:pt x="1565" y="1490"/>
                  </a:lnTo>
                  <a:lnTo>
                    <a:pt x="5245" y="294"/>
                  </a:lnTo>
                  <a:lnTo>
                    <a:pt x="40485" y="1"/>
                  </a:lnTo>
                  <a:lnTo>
                    <a:pt x="75601" y="0"/>
                  </a:lnTo>
                  <a:lnTo>
                    <a:pt x="108567" y="0"/>
                  </a:lnTo>
                  <a:lnTo>
                    <a:pt x="142031" y="0"/>
                  </a:lnTo>
                  <a:lnTo>
                    <a:pt x="177551" y="0"/>
                  </a:lnTo>
                  <a:lnTo>
                    <a:pt x="213253" y="0"/>
                  </a:lnTo>
                  <a:lnTo>
                    <a:pt x="248970" y="0"/>
                  </a:lnTo>
                  <a:lnTo>
                    <a:pt x="284689" y="0"/>
                  </a:lnTo>
                  <a:lnTo>
                    <a:pt x="320332" y="0"/>
                  </a:lnTo>
                  <a:lnTo>
                    <a:pt x="355239" y="0"/>
                  </a:lnTo>
                  <a:lnTo>
                    <a:pt x="365824" y="2117"/>
                  </a:lnTo>
                  <a:lnTo>
                    <a:pt x="376245" y="5655"/>
                  </a:lnTo>
                  <a:lnTo>
                    <a:pt x="394213" y="7057"/>
                  </a:lnTo>
                  <a:lnTo>
                    <a:pt x="395828" y="6292"/>
                  </a:lnTo>
                  <a:lnTo>
                    <a:pt x="396904" y="4989"/>
                  </a:lnTo>
                  <a:lnTo>
                    <a:pt x="397622" y="3326"/>
                  </a:lnTo>
                  <a:lnTo>
                    <a:pt x="398894" y="3011"/>
                  </a:lnTo>
                  <a:lnTo>
                    <a:pt x="402424" y="4778"/>
                  </a:lnTo>
                  <a:lnTo>
                    <a:pt x="403683" y="4773"/>
                  </a:lnTo>
                  <a:lnTo>
                    <a:pt x="404522" y="3976"/>
                  </a:lnTo>
                  <a:lnTo>
                    <a:pt x="405081" y="2650"/>
                  </a:lnTo>
                  <a:lnTo>
                    <a:pt x="406248" y="1767"/>
                  </a:lnTo>
                  <a:lnTo>
                    <a:pt x="413248" y="20"/>
                  </a:lnTo>
                  <a:lnTo>
                    <a:pt x="413336" y="6153"/>
                  </a:lnTo>
                  <a:lnTo>
                    <a:pt x="413343" y="2832"/>
                  </a:lnTo>
                  <a:lnTo>
                    <a:pt x="413344" y="4720"/>
                  </a:lnTo>
                  <a:lnTo>
                    <a:pt x="413344" y="2545"/>
                  </a:lnTo>
                  <a:lnTo>
                    <a:pt x="413344" y="7077"/>
                  </a:lnTo>
                  <a:lnTo>
                    <a:pt x="419495" y="13289"/>
                  </a:lnTo>
                  <a:lnTo>
                    <a:pt x="420401" y="20351"/>
                  </a:lnTo>
                  <a:lnTo>
                    <a:pt x="420486" y="45046"/>
                  </a:lnTo>
                  <a:lnTo>
                    <a:pt x="424280" y="56121"/>
                  </a:lnTo>
                  <a:lnTo>
                    <a:pt x="431879" y="69177"/>
                  </a:lnTo>
                  <a:lnTo>
                    <a:pt x="440813" y="104873"/>
                  </a:lnTo>
                  <a:lnTo>
                    <a:pt x="447973" y="137151"/>
                  </a:lnTo>
                  <a:lnTo>
                    <a:pt x="452760" y="172568"/>
                  </a:lnTo>
                  <a:lnTo>
                    <a:pt x="455753" y="207316"/>
                  </a:lnTo>
                  <a:lnTo>
                    <a:pt x="461056" y="242907"/>
                  </a:lnTo>
                  <a:lnTo>
                    <a:pt x="466841" y="278609"/>
                  </a:lnTo>
                  <a:lnTo>
                    <a:pt x="475667" y="314326"/>
                  </a:lnTo>
                  <a:lnTo>
                    <a:pt x="482288" y="349250"/>
                  </a:lnTo>
                  <a:lnTo>
                    <a:pt x="484453" y="379612"/>
                  </a:lnTo>
                  <a:lnTo>
                    <a:pt x="490393" y="414469"/>
                  </a:lnTo>
                  <a:lnTo>
                    <a:pt x="491791" y="449441"/>
                  </a:lnTo>
                  <a:lnTo>
                    <a:pt x="492701" y="472994"/>
                  </a:lnTo>
                  <a:lnTo>
                    <a:pt x="497576" y="487249"/>
                  </a:lnTo>
                  <a:lnTo>
                    <a:pt x="499068" y="521537"/>
                  </a:lnTo>
                  <a:lnTo>
                    <a:pt x="499069" y="528315"/>
                  </a:lnTo>
                  <a:lnTo>
                    <a:pt x="506213" y="528638"/>
                  </a:lnTo>
                  <a:lnTo>
                    <a:pt x="499363" y="528638"/>
                  </a:lnTo>
                  <a:lnTo>
                    <a:pt x="493424" y="533548"/>
                  </a:lnTo>
                  <a:lnTo>
                    <a:pt x="486902" y="535120"/>
                  </a:lnTo>
                  <a:lnTo>
                    <a:pt x="453458" y="535770"/>
                  </a:lnTo>
                  <a:lnTo>
                    <a:pt x="420126" y="534986"/>
                  </a:lnTo>
                  <a:lnTo>
                    <a:pt x="384722" y="529631"/>
                  </a:lnTo>
                  <a:lnTo>
                    <a:pt x="350482" y="528040"/>
                  </a:lnTo>
                  <a:lnTo>
                    <a:pt x="315261" y="523023"/>
                  </a:lnTo>
                  <a:lnTo>
                    <a:pt x="281346" y="518004"/>
                  </a:lnTo>
                  <a:lnTo>
                    <a:pt x="253495" y="515433"/>
                  </a:lnTo>
                  <a:lnTo>
                    <a:pt x="221344" y="514564"/>
                  </a:lnTo>
                  <a:lnTo>
                    <a:pt x="192062" y="514393"/>
                  </a:lnTo>
                  <a:lnTo>
                    <a:pt x="179265" y="513575"/>
                  </a:lnTo>
                  <a:lnTo>
                    <a:pt x="150891" y="507649"/>
                  </a:lnTo>
                  <a:lnTo>
                    <a:pt x="147888" y="507502"/>
                  </a:lnTo>
                  <a:lnTo>
                    <a:pt x="145886" y="508197"/>
                  </a:lnTo>
                  <a:lnTo>
                    <a:pt x="144551" y="509454"/>
                  </a:lnTo>
                  <a:lnTo>
                    <a:pt x="143661" y="511086"/>
                  </a:lnTo>
                  <a:lnTo>
                    <a:pt x="142274" y="511381"/>
                  </a:lnTo>
                  <a:lnTo>
                    <a:pt x="135887" y="507913"/>
                  </a:lnTo>
                  <a:lnTo>
                    <a:pt x="136298" y="507677"/>
                  </a:lnTo>
                  <a:lnTo>
                    <a:pt x="141880" y="507207"/>
                  </a:lnTo>
                  <a:lnTo>
                    <a:pt x="135032" y="507207"/>
                  </a:lnTo>
                  <a:lnTo>
                    <a:pt x="138912" y="507207"/>
                  </a:lnTo>
                  <a:lnTo>
                    <a:pt x="130947" y="507207"/>
                  </a:lnTo>
                  <a:lnTo>
                    <a:pt x="129830" y="506413"/>
                  </a:lnTo>
                  <a:lnTo>
                    <a:pt x="129084" y="505090"/>
                  </a:lnTo>
                  <a:lnTo>
                    <a:pt x="128588" y="503414"/>
                  </a:lnTo>
                  <a:lnTo>
                    <a:pt x="124096" y="497264"/>
                  </a:lnTo>
                  <a:lnTo>
                    <a:pt x="119954" y="494850"/>
                  </a:lnTo>
                  <a:lnTo>
                    <a:pt x="113422" y="492952"/>
                  </a:lnTo>
                  <a:lnTo>
                    <a:pt x="102397" y="492919"/>
                  </a:lnTo>
                  <a:lnTo>
                    <a:pt x="101271" y="493713"/>
                  </a:lnTo>
                  <a:lnTo>
                    <a:pt x="100520" y="495036"/>
                  </a:lnTo>
                  <a:lnTo>
                    <a:pt x="99019" y="50006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SMARTInkShape-Group39"/>
          <p:cNvGrpSpPr/>
          <p:nvPr/>
        </p:nvGrpSpPr>
        <p:grpSpPr>
          <a:xfrm>
            <a:off x="465120" y="3252960"/>
            <a:ext cx="271440" cy="380880"/>
            <a:chOff x="465120" y="3252960"/>
            <a:chExt cx="271440" cy="380880"/>
          </a:xfrm>
        </p:grpSpPr>
        <p:sp>
          <p:nvSpPr>
            <p:cNvPr id="233" name="SMARTInkShape-113"/>
            <p:cNvSpPr/>
            <p:nvPr/>
          </p:nvSpPr>
          <p:spPr>
            <a:xfrm>
              <a:off x="501120" y="3252960"/>
              <a:ext cx="235440" cy="38088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35298" h="380133">
                  <a:moveTo>
                    <a:pt x="92422" y="154297"/>
                  </a:moveTo>
                  <a:lnTo>
                    <a:pt x="88630" y="154297"/>
                  </a:lnTo>
                  <a:lnTo>
                    <a:pt x="87513" y="155091"/>
                  </a:lnTo>
                  <a:lnTo>
                    <a:pt x="86768" y="156413"/>
                  </a:lnTo>
                  <a:lnTo>
                    <a:pt x="85720" y="164184"/>
                  </a:lnTo>
                  <a:lnTo>
                    <a:pt x="85317" y="198723"/>
                  </a:lnTo>
                  <a:lnTo>
                    <a:pt x="83708" y="220080"/>
                  </a:lnTo>
                  <a:lnTo>
                    <a:pt x="71857" y="255309"/>
                  </a:lnTo>
                  <a:lnTo>
                    <a:pt x="61987" y="283180"/>
                  </a:lnTo>
                  <a:lnTo>
                    <a:pt x="44430" y="317250"/>
                  </a:lnTo>
                  <a:lnTo>
                    <a:pt x="26591" y="352027"/>
                  </a:lnTo>
                  <a:lnTo>
                    <a:pt x="7189" y="378462"/>
                  </a:lnTo>
                  <a:lnTo>
                    <a:pt x="4644" y="379940"/>
                  </a:lnTo>
                  <a:lnTo>
                    <a:pt x="2947" y="380132"/>
                  </a:lnTo>
                  <a:lnTo>
                    <a:pt x="1816" y="379466"/>
                  </a:lnTo>
                  <a:lnTo>
                    <a:pt x="1062" y="378228"/>
                  </a:lnTo>
                  <a:lnTo>
                    <a:pt x="0" y="372694"/>
                  </a:lnTo>
                  <a:lnTo>
                    <a:pt x="7383" y="343718"/>
                  </a:lnTo>
                  <a:lnTo>
                    <a:pt x="14044" y="315461"/>
                  </a:lnTo>
                  <a:lnTo>
                    <a:pt x="23162" y="281953"/>
                  </a:lnTo>
                  <a:lnTo>
                    <a:pt x="31477" y="257864"/>
                  </a:lnTo>
                  <a:lnTo>
                    <a:pt x="40465" y="231283"/>
                  </a:lnTo>
                  <a:lnTo>
                    <a:pt x="51868" y="203594"/>
                  </a:lnTo>
                  <a:lnTo>
                    <a:pt x="64873" y="176207"/>
                  </a:lnTo>
                  <a:lnTo>
                    <a:pt x="78591" y="150805"/>
                  </a:lnTo>
                  <a:lnTo>
                    <a:pt x="90508" y="126286"/>
                  </a:lnTo>
                  <a:lnTo>
                    <a:pt x="101890" y="102160"/>
                  </a:lnTo>
                  <a:lnTo>
                    <a:pt x="120892" y="67059"/>
                  </a:lnTo>
                  <a:lnTo>
                    <a:pt x="136929" y="37784"/>
                  </a:lnTo>
                  <a:lnTo>
                    <a:pt x="161382" y="7622"/>
                  </a:lnTo>
                  <a:lnTo>
                    <a:pt x="168844" y="1796"/>
                  </a:lnTo>
                  <a:lnTo>
                    <a:pt x="171945" y="242"/>
                  </a:lnTo>
                  <a:lnTo>
                    <a:pt x="174806" y="0"/>
                  </a:lnTo>
                  <a:lnTo>
                    <a:pt x="180102" y="1847"/>
                  </a:lnTo>
                  <a:lnTo>
                    <a:pt x="185101" y="7431"/>
                  </a:lnTo>
                  <a:lnTo>
                    <a:pt x="194779" y="27743"/>
                  </a:lnTo>
                  <a:lnTo>
                    <a:pt x="198630" y="56273"/>
                  </a:lnTo>
                  <a:lnTo>
                    <a:pt x="200091" y="86447"/>
                  </a:lnTo>
                  <a:lnTo>
                    <a:pt x="204405" y="116642"/>
                  </a:lnTo>
                  <a:lnTo>
                    <a:pt x="206036" y="151166"/>
                  </a:lnTo>
                  <a:lnTo>
                    <a:pt x="206417" y="177511"/>
                  </a:lnTo>
                  <a:lnTo>
                    <a:pt x="206632" y="211534"/>
                  </a:lnTo>
                  <a:lnTo>
                    <a:pt x="206695" y="245516"/>
                  </a:lnTo>
                  <a:lnTo>
                    <a:pt x="210507" y="273135"/>
                  </a:lnTo>
                  <a:lnTo>
                    <a:pt x="213996" y="307916"/>
                  </a:lnTo>
                  <a:lnTo>
                    <a:pt x="223722" y="336873"/>
                  </a:lnTo>
                  <a:lnTo>
                    <a:pt x="235297" y="35432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SMARTInkShape-114"/>
            <p:cNvSpPr/>
            <p:nvPr/>
          </p:nvSpPr>
          <p:spPr>
            <a:xfrm>
              <a:off x="465120" y="3422880"/>
              <a:ext cx="257400" cy="277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57176" h="27654">
                  <a:moveTo>
                    <a:pt x="0" y="27653"/>
                  </a:moveTo>
                  <a:lnTo>
                    <a:pt x="3792" y="27653"/>
                  </a:lnTo>
                  <a:lnTo>
                    <a:pt x="34320" y="21502"/>
                  </a:lnTo>
                  <a:lnTo>
                    <a:pt x="69721" y="15002"/>
                  </a:lnTo>
                  <a:lnTo>
                    <a:pt x="98622" y="8383"/>
                  </a:lnTo>
                  <a:lnTo>
                    <a:pt x="131968" y="2188"/>
                  </a:lnTo>
                  <a:lnTo>
                    <a:pt x="166983" y="0"/>
                  </a:lnTo>
                  <a:lnTo>
                    <a:pt x="200906" y="145"/>
                  </a:lnTo>
                  <a:lnTo>
                    <a:pt x="234507" y="4786"/>
                  </a:lnTo>
                  <a:lnTo>
                    <a:pt x="257175" y="622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7640" bIns="-1764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SMARTInkShape-115"/>
          <p:cNvSpPr/>
          <p:nvPr/>
        </p:nvSpPr>
        <p:spPr>
          <a:xfrm>
            <a:off x="2085840" y="4290840"/>
            <a:ext cx="217800" cy="401760"/>
          </a:xfrm>
          <a:custGeom>
            <a:avLst/>
            <a:gdLst>
              <a:gd name="textAreaLeft" fmla="*/ 0 w 217800"/>
              <a:gd name="textAreaRight" fmla="*/ 218160 w 21780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217022" h="400984">
                <a:moveTo>
                  <a:pt x="0" y="223962"/>
                </a:moveTo>
                <a:lnTo>
                  <a:pt x="2117" y="253977"/>
                </a:lnTo>
                <a:lnTo>
                  <a:pt x="9943" y="285189"/>
                </a:lnTo>
                <a:lnTo>
                  <a:pt x="16793" y="312571"/>
                </a:lnTo>
                <a:lnTo>
                  <a:pt x="21309" y="343771"/>
                </a:lnTo>
                <a:lnTo>
                  <a:pt x="28245" y="365844"/>
                </a:lnTo>
                <a:lnTo>
                  <a:pt x="28562" y="333618"/>
                </a:lnTo>
                <a:lnTo>
                  <a:pt x="28572" y="299245"/>
                </a:lnTo>
                <a:lnTo>
                  <a:pt x="28574" y="263731"/>
                </a:lnTo>
                <a:lnTo>
                  <a:pt x="28575" y="238991"/>
                </a:lnTo>
                <a:lnTo>
                  <a:pt x="28575" y="213973"/>
                </a:lnTo>
                <a:lnTo>
                  <a:pt x="28575" y="186979"/>
                </a:lnTo>
                <a:lnTo>
                  <a:pt x="28575" y="161223"/>
                </a:lnTo>
                <a:lnTo>
                  <a:pt x="29369" y="136547"/>
                </a:lnTo>
                <a:lnTo>
                  <a:pt x="32367" y="112350"/>
                </a:lnTo>
                <a:lnTo>
                  <a:pt x="36346" y="88367"/>
                </a:lnTo>
                <a:lnTo>
                  <a:pt x="43048" y="56786"/>
                </a:lnTo>
                <a:lnTo>
                  <a:pt x="52178" y="32347"/>
                </a:lnTo>
                <a:lnTo>
                  <a:pt x="56217" y="24781"/>
                </a:lnTo>
                <a:lnTo>
                  <a:pt x="67054" y="14258"/>
                </a:lnTo>
                <a:lnTo>
                  <a:pt x="89622" y="1035"/>
                </a:lnTo>
                <a:lnTo>
                  <a:pt x="103861" y="0"/>
                </a:lnTo>
                <a:lnTo>
                  <a:pt x="131288" y="5803"/>
                </a:lnTo>
                <a:lnTo>
                  <a:pt x="150819" y="16094"/>
                </a:lnTo>
                <a:lnTo>
                  <a:pt x="173049" y="39498"/>
                </a:lnTo>
                <a:lnTo>
                  <a:pt x="187093" y="60827"/>
                </a:lnTo>
                <a:lnTo>
                  <a:pt x="197235" y="93959"/>
                </a:lnTo>
                <a:lnTo>
                  <a:pt x="197991" y="109033"/>
                </a:lnTo>
                <a:lnTo>
                  <a:pt x="193161" y="130907"/>
                </a:lnTo>
                <a:lnTo>
                  <a:pt x="177708" y="157515"/>
                </a:lnTo>
                <a:lnTo>
                  <a:pt x="155576" y="178293"/>
                </a:lnTo>
                <a:lnTo>
                  <a:pt x="121235" y="194704"/>
                </a:lnTo>
                <a:lnTo>
                  <a:pt x="96620" y="200985"/>
                </a:lnTo>
                <a:lnTo>
                  <a:pt x="72355" y="201432"/>
                </a:lnTo>
                <a:lnTo>
                  <a:pt x="55517" y="196340"/>
                </a:lnTo>
                <a:lnTo>
                  <a:pt x="53680" y="195228"/>
                </a:lnTo>
                <a:lnTo>
                  <a:pt x="52455" y="193694"/>
                </a:lnTo>
                <a:lnTo>
                  <a:pt x="50490" y="189320"/>
                </a:lnTo>
                <a:lnTo>
                  <a:pt x="53942" y="184770"/>
                </a:lnTo>
                <a:lnTo>
                  <a:pt x="56599" y="184340"/>
                </a:lnTo>
                <a:lnTo>
                  <a:pt x="87035" y="193500"/>
                </a:lnTo>
                <a:lnTo>
                  <a:pt x="107544" y="201883"/>
                </a:lnTo>
                <a:lnTo>
                  <a:pt x="142926" y="228169"/>
                </a:lnTo>
                <a:lnTo>
                  <a:pt x="176484" y="260235"/>
                </a:lnTo>
                <a:lnTo>
                  <a:pt x="197227" y="292157"/>
                </a:lnTo>
                <a:lnTo>
                  <a:pt x="210908" y="323334"/>
                </a:lnTo>
                <a:lnTo>
                  <a:pt x="216239" y="337977"/>
                </a:lnTo>
                <a:lnTo>
                  <a:pt x="217021" y="352423"/>
                </a:lnTo>
                <a:lnTo>
                  <a:pt x="214848" y="377307"/>
                </a:lnTo>
                <a:lnTo>
                  <a:pt x="213082" y="381755"/>
                </a:lnTo>
                <a:lnTo>
                  <a:pt x="206886" y="388813"/>
                </a:lnTo>
                <a:lnTo>
                  <a:pt x="194473" y="397249"/>
                </a:lnTo>
                <a:lnTo>
                  <a:pt x="176949" y="400983"/>
                </a:lnTo>
                <a:lnTo>
                  <a:pt x="148900" y="396542"/>
                </a:lnTo>
                <a:lnTo>
                  <a:pt x="115725" y="385904"/>
                </a:lnTo>
                <a:lnTo>
                  <a:pt x="82214" y="364959"/>
                </a:lnTo>
                <a:lnTo>
                  <a:pt x="54434" y="344849"/>
                </a:lnTo>
                <a:lnTo>
                  <a:pt x="23100" y="317515"/>
                </a:lnTo>
                <a:lnTo>
                  <a:pt x="0" y="29540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5029200"/>
            <a:ext cx="7696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gnetic field is produced around the magnet. Picture the number of lines going through any given area: where that is greater, B is gre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maglwfrm[1].avi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40080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5786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gnetic Fl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are the lines we draw to represent a magnetic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maglwfrm[1].avi" descr=""/>
          <p:cNvPicPr/>
          <p:nvPr/>
        </p:nvPicPr>
        <p:blipFill>
          <a:blip r:embed="rId1"/>
          <a:stretch/>
        </p:blipFill>
        <p:spPr>
          <a:xfrm>
            <a:off x="5181480" y="3200400"/>
            <a:ext cx="3962520" cy="27115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457200" y="3048120"/>
            <a:ext cx="4648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see the flux lines grow, showing the magnetic fiel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s are often call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-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5786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3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80"/>
                </a:solidFill>
                <a:uFillTx/>
                <a:latin typeface="Times New Roman"/>
              </a:rPr>
              <a:t>Magnetic pole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magnets always come in north, south pairs and never alone (monopoles). Even if we break the magnet in two, each half develops both north and south po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Gaussmaglaw.avi" descr=""/>
          <p:cNvPicPr/>
          <p:nvPr/>
        </p:nvPicPr>
        <p:blipFill>
          <a:blip r:embed="rId1"/>
          <a:stretch/>
        </p:blipFill>
        <p:spPr>
          <a:xfrm>
            <a:off x="1295280" y="647640"/>
            <a:ext cx="594360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3014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4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ux Density and Field Str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nser the flux lines, the stronger the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it for measuring the amount of flux lines in an area is calle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ber, W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x density is measured in webers per mete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la,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the SI unit for flux d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tesla=1weber/mete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SMARTInkShape-Group41"/>
          <p:cNvGrpSpPr/>
          <p:nvPr/>
        </p:nvGrpSpPr>
        <p:grpSpPr>
          <a:xfrm>
            <a:off x="2379600" y="4065480"/>
            <a:ext cx="2670120" cy="2006640"/>
            <a:chOff x="2379600" y="4065480"/>
            <a:chExt cx="2670120" cy="2006640"/>
          </a:xfrm>
        </p:grpSpPr>
        <p:sp>
          <p:nvSpPr>
            <p:cNvPr id="249" name="SMARTInkShape-116"/>
            <p:cNvSpPr/>
            <p:nvPr/>
          </p:nvSpPr>
          <p:spPr>
            <a:xfrm>
              <a:off x="2379600" y="5293800"/>
              <a:ext cx="20880" cy="28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1138" h="28576">
                  <a:moveTo>
                    <a:pt x="7144" y="28575"/>
                  </a:moveTo>
                  <a:lnTo>
                    <a:pt x="7144" y="24783"/>
                  </a:lnTo>
                  <a:lnTo>
                    <a:pt x="7937" y="23665"/>
                  </a:lnTo>
                  <a:lnTo>
                    <a:pt x="9260" y="22920"/>
                  </a:lnTo>
                  <a:lnTo>
                    <a:pt x="14287" y="21431"/>
                  </a:lnTo>
                  <a:lnTo>
                    <a:pt x="10495" y="21431"/>
                  </a:lnTo>
                  <a:lnTo>
                    <a:pt x="9378" y="20637"/>
                  </a:lnTo>
                  <a:lnTo>
                    <a:pt x="8633" y="19314"/>
                  </a:lnTo>
                  <a:lnTo>
                    <a:pt x="8136" y="17639"/>
                  </a:lnTo>
                  <a:lnTo>
                    <a:pt x="7805" y="17316"/>
                  </a:lnTo>
                  <a:lnTo>
                    <a:pt x="7585" y="17893"/>
                  </a:lnTo>
                  <a:lnTo>
                    <a:pt x="7144" y="21426"/>
                  </a:lnTo>
                  <a:lnTo>
                    <a:pt x="7144" y="14290"/>
                  </a:lnTo>
                  <a:lnTo>
                    <a:pt x="7144" y="20438"/>
                  </a:lnTo>
                  <a:lnTo>
                    <a:pt x="7144" y="14287"/>
                  </a:lnTo>
                  <a:lnTo>
                    <a:pt x="294" y="14287"/>
                  </a:lnTo>
                  <a:lnTo>
                    <a:pt x="7136" y="14287"/>
                  </a:lnTo>
                  <a:lnTo>
                    <a:pt x="7141" y="10495"/>
                  </a:lnTo>
                  <a:lnTo>
                    <a:pt x="6348" y="10172"/>
                  </a:lnTo>
                  <a:lnTo>
                    <a:pt x="3350" y="11929"/>
                  </a:lnTo>
                  <a:lnTo>
                    <a:pt x="2234" y="11921"/>
                  </a:lnTo>
                  <a:lnTo>
                    <a:pt x="1489" y="11122"/>
                  </a:lnTo>
                  <a:lnTo>
                    <a:pt x="993" y="9796"/>
                  </a:lnTo>
                  <a:lnTo>
                    <a:pt x="662" y="9705"/>
                  </a:lnTo>
                  <a:lnTo>
                    <a:pt x="87" y="13527"/>
                  </a:lnTo>
                  <a:lnTo>
                    <a:pt x="2155" y="13949"/>
                  </a:lnTo>
                  <a:lnTo>
                    <a:pt x="6851" y="14267"/>
                  </a:lnTo>
                  <a:lnTo>
                    <a:pt x="0" y="14287"/>
                  </a:lnTo>
                  <a:lnTo>
                    <a:pt x="6849" y="14287"/>
                  </a:lnTo>
                  <a:lnTo>
                    <a:pt x="7" y="14287"/>
                  </a:lnTo>
                  <a:lnTo>
                    <a:pt x="7141" y="14287"/>
                  </a:lnTo>
                  <a:lnTo>
                    <a:pt x="87" y="14287"/>
                  </a:lnTo>
                  <a:lnTo>
                    <a:pt x="7141" y="14287"/>
                  </a:lnTo>
                  <a:lnTo>
                    <a:pt x="87" y="14287"/>
                  </a:lnTo>
                  <a:lnTo>
                    <a:pt x="7143" y="14287"/>
                  </a:lnTo>
                  <a:lnTo>
                    <a:pt x="7144" y="8136"/>
                  </a:lnTo>
                  <a:lnTo>
                    <a:pt x="7937" y="7805"/>
                  </a:lnTo>
                  <a:lnTo>
                    <a:pt x="21137" y="7144"/>
                  </a:lnTo>
                  <a:lnTo>
                    <a:pt x="14288" y="7144"/>
                  </a:lnTo>
                  <a:lnTo>
                    <a:pt x="14287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SMARTInkShape-117"/>
            <p:cNvSpPr/>
            <p:nvPr/>
          </p:nvSpPr>
          <p:spPr>
            <a:xfrm>
              <a:off x="2422440" y="4065480"/>
              <a:ext cx="2627280" cy="2006640"/>
            </a:xfrm>
            <a:custGeom>
              <a:avLst/>
              <a:gdLst>
                <a:gd name="textAreaLeft" fmla="*/ 0 w 2627280"/>
                <a:gd name="textAreaRight" fmla="*/ 2627640 w 2627280"/>
                <a:gd name="textAreaTop" fmla="*/ 0 h 2006640"/>
                <a:gd name="textAreaBottom" fmla="*/ 2007000 h 2006640"/>
              </a:gdLst>
              <a:ahLst/>
              <a:rect l="textAreaLeft" t="textAreaTop" r="textAreaRight" b="textAreaBottom"/>
              <a:pathLst>
                <a:path w="2628639" h="2007238">
                  <a:moveTo>
                    <a:pt x="0" y="1278718"/>
                  </a:moveTo>
                  <a:lnTo>
                    <a:pt x="0" y="1282510"/>
                  </a:lnTo>
                  <a:lnTo>
                    <a:pt x="794" y="1283628"/>
                  </a:lnTo>
                  <a:lnTo>
                    <a:pt x="2117" y="1284372"/>
                  </a:lnTo>
                  <a:lnTo>
                    <a:pt x="3793" y="1284869"/>
                  </a:lnTo>
                  <a:lnTo>
                    <a:pt x="4910" y="1285994"/>
                  </a:lnTo>
                  <a:lnTo>
                    <a:pt x="7742" y="1293079"/>
                  </a:lnTo>
                  <a:lnTo>
                    <a:pt x="10849" y="1296478"/>
                  </a:lnTo>
                  <a:lnTo>
                    <a:pt x="14876" y="1298518"/>
                  </a:lnTo>
                  <a:lnTo>
                    <a:pt x="17061" y="1299062"/>
                  </a:lnTo>
                  <a:lnTo>
                    <a:pt x="18518" y="1300218"/>
                  </a:lnTo>
                  <a:lnTo>
                    <a:pt x="24840" y="1309997"/>
                  </a:lnTo>
                  <a:lnTo>
                    <a:pt x="29032" y="1312464"/>
                  </a:lnTo>
                  <a:lnTo>
                    <a:pt x="31261" y="1313121"/>
                  </a:lnTo>
                  <a:lnTo>
                    <a:pt x="32747" y="1314354"/>
                  </a:lnTo>
                  <a:lnTo>
                    <a:pt x="47827" y="1333546"/>
                  </a:lnTo>
                  <a:lnTo>
                    <a:pt x="64306" y="1352276"/>
                  </a:lnTo>
                  <a:lnTo>
                    <a:pt x="76996" y="1369338"/>
                  </a:lnTo>
                  <a:lnTo>
                    <a:pt x="93496" y="1384254"/>
                  </a:lnTo>
                  <a:lnTo>
                    <a:pt x="101879" y="1390710"/>
                  </a:lnTo>
                  <a:lnTo>
                    <a:pt x="129045" y="1421736"/>
                  </a:lnTo>
                  <a:lnTo>
                    <a:pt x="161952" y="1448788"/>
                  </a:lnTo>
                  <a:lnTo>
                    <a:pt x="195264" y="1481183"/>
                  </a:lnTo>
                  <a:lnTo>
                    <a:pt x="228600" y="1514465"/>
                  </a:lnTo>
                  <a:lnTo>
                    <a:pt x="259292" y="1543038"/>
                  </a:lnTo>
                  <a:lnTo>
                    <a:pt x="294569" y="1571612"/>
                  </a:lnTo>
                  <a:lnTo>
                    <a:pt x="330249" y="1594532"/>
                  </a:lnTo>
                  <a:lnTo>
                    <a:pt x="365965" y="1616094"/>
                  </a:lnTo>
                  <a:lnTo>
                    <a:pt x="401683" y="1641075"/>
                  </a:lnTo>
                  <a:lnTo>
                    <a:pt x="435984" y="1659605"/>
                  </a:lnTo>
                  <a:lnTo>
                    <a:pt x="471516" y="1677469"/>
                  </a:lnTo>
                  <a:lnTo>
                    <a:pt x="507210" y="1694687"/>
                  </a:lnTo>
                  <a:lnTo>
                    <a:pt x="542926" y="1716289"/>
                  </a:lnTo>
                  <a:lnTo>
                    <a:pt x="573617" y="1730306"/>
                  </a:lnTo>
                  <a:lnTo>
                    <a:pt x="606226" y="1744335"/>
                  </a:lnTo>
                  <a:lnTo>
                    <a:pt x="640507" y="1754749"/>
                  </a:lnTo>
                  <a:lnTo>
                    <a:pt x="671033" y="1766567"/>
                  </a:lnTo>
                  <a:lnTo>
                    <a:pt x="703785" y="1780160"/>
                  </a:lnTo>
                  <a:lnTo>
                    <a:pt x="731434" y="1791801"/>
                  </a:lnTo>
                  <a:lnTo>
                    <a:pt x="759735" y="1805304"/>
                  </a:lnTo>
                  <a:lnTo>
                    <a:pt x="788228" y="1815567"/>
                  </a:lnTo>
                  <a:lnTo>
                    <a:pt x="816779" y="1827428"/>
                  </a:lnTo>
                  <a:lnTo>
                    <a:pt x="845347" y="1837204"/>
                  </a:lnTo>
                  <a:lnTo>
                    <a:pt x="877713" y="1848920"/>
                  </a:lnTo>
                  <a:lnTo>
                    <a:pt x="908645" y="1858652"/>
                  </a:lnTo>
                  <a:lnTo>
                    <a:pt x="941711" y="1870356"/>
                  </a:lnTo>
                  <a:lnTo>
                    <a:pt x="972851" y="1880085"/>
                  </a:lnTo>
                  <a:lnTo>
                    <a:pt x="1002186" y="1891788"/>
                  </a:lnTo>
                  <a:lnTo>
                    <a:pt x="1034779" y="1901517"/>
                  </a:lnTo>
                  <a:lnTo>
                    <a:pt x="1069571" y="1909427"/>
                  </a:lnTo>
                  <a:lnTo>
                    <a:pt x="1105016" y="1916798"/>
                  </a:lnTo>
                  <a:lnTo>
                    <a:pt x="1136861" y="1924008"/>
                  </a:lnTo>
                  <a:lnTo>
                    <a:pt x="1170197" y="1931172"/>
                  </a:lnTo>
                  <a:lnTo>
                    <a:pt x="1205210" y="1938322"/>
                  </a:lnTo>
                  <a:lnTo>
                    <a:pt x="1240719" y="1949260"/>
                  </a:lnTo>
                  <a:lnTo>
                    <a:pt x="1276377" y="1954970"/>
                  </a:lnTo>
                  <a:lnTo>
                    <a:pt x="1312077" y="1960454"/>
                  </a:lnTo>
                  <a:lnTo>
                    <a:pt x="1347790" y="1967106"/>
                  </a:lnTo>
                  <a:lnTo>
                    <a:pt x="1383507" y="1974104"/>
                  </a:lnTo>
                  <a:lnTo>
                    <a:pt x="1419226" y="1977413"/>
                  </a:lnTo>
                  <a:lnTo>
                    <a:pt x="1454944" y="1982185"/>
                  </a:lnTo>
                  <a:lnTo>
                    <a:pt x="1490663" y="1988627"/>
                  </a:lnTo>
                  <a:lnTo>
                    <a:pt x="1516592" y="1991108"/>
                  </a:lnTo>
                  <a:lnTo>
                    <a:pt x="1543197" y="1993005"/>
                  </a:lnTo>
                  <a:lnTo>
                    <a:pt x="1568251" y="1996494"/>
                  </a:lnTo>
                  <a:lnTo>
                    <a:pt x="1592615" y="1998573"/>
                  </a:lnTo>
                  <a:lnTo>
                    <a:pt x="1616673" y="2000291"/>
                  </a:lnTo>
                  <a:lnTo>
                    <a:pt x="1640594" y="2003700"/>
                  </a:lnTo>
                  <a:lnTo>
                    <a:pt x="1666572" y="2005745"/>
                  </a:lnTo>
                  <a:lnTo>
                    <a:pt x="1693198" y="2006654"/>
                  </a:lnTo>
                  <a:lnTo>
                    <a:pt x="1718262" y="2007057"/>
                  </a:lnTo>
                  <a:lnTo>
                    <a:pt x="1742630" y="2007237"/>
                  </a:lnTo>
                  <a:lnTo>
                    <a:pt x="1767484" y="2006523"/>
                  </a:lnTo>
                  <a:lnTo>
                    <a:pt x="1794405" y="2003560"/>
                  </a:lnTo>
                  <a:lnTo>
                    <a:pt x="1820128" y="1999596"/>
                  </a:lnTo>
                  <a:lnTo>
                    <a:pt x="1844790" y="1995190"/>
                  </a:lnTo>
                  <a:lnTo>
                    <a:pt x="1868980" y="1990585"/>
                  </a:lnTo>
                  <a:lnTo>
                    <a:pt x="1892960" y="1988010"/>
                  </a:lnTo>
                  <a:lnTo>
                    <a:pt x="1916847" y="1985277"/>
                  </a:lnTo>
                  <a:lnTo>
                    <a:pt x="1940692" y="1978771"/>
                  </a:lnTo>
                  <a:lnTo>
                    <a:pt x="1964519" y="1972705"/>
                  </a:lnTo>
                  <a:lnTo>
                    <a:pt x="1988339" y="1966569"/>
                  </a:lnTo>
                  <a:lnTo>
                    <a:pt x="2023267" y="1954983"/>
                  </a:lnTo>
                  <a:lnTo>
                    <a:pt x="2054872" y="1945377"/>
                  </a:lnTo>
                  <a:lnTo>
                    <a:pt x="2089018" y="1932829"/>
                  </a:lnTo>
                  <a:lnTo>
                    <a:pt x="2124271" y="1919057"/>
                  </a:lnTo>
                  <a:lnTo>
                    <a:pt x="2159058" y="1904129"/>
                  </a:lnTo>
                  <a:lnTo>
                    <a:pt x="2190621" y="1885770"/>
                  </a:lnTo>
                  <a:lnTo>
                    <a:pt x="2223961" y="1869131"/>
                  </a:lnTo>
                  <a:lnTo>
                    <a:pt x="2254301" y="1849472"/>
                  </a:lnTo>
                  <a:lnTo>
                    <a:pt x="2283399" y="1828566"/>
                  </a:lnTo>
                  <a:lnTo>
                    <a:pt x="2312129" y="1807290"/>
                  </a:lnTo>
                  <a:lnTo>
                    <a:pt x="2339956" y="1785111"/>
                  </a:lnTo>
                  <a:lnTo>
                    <a:pt x="2373211" y="1751691"/>
                  </a:lnTo>
                  <a:lnTo>
                    <a:pt x="2406326" y="1718131"/>
                  </a:lnTo>
                  <a:lnTo>
                    <a:pt x="2428544" y="1690343"/>
                  </a:lnTo>
                  <a:lnTo>
                    <a:pt x="2461500" y="1657418"/>
                  </a:lnTo>
                  <a:lnTo>
                    <a:pt x="2480434" y="1630462"/>
                  </a:lnTo>
                  <a:lnTo>
                    <a:pt x="2499979" y="1602366"/>
                  </a:lnTo>
                  <a:lnTo>
                    <a:pt x="2516177" y="1573933"/>
                  </a:lnTo>
                  <a:lnTo>
                    <a:pt x="2531031" y="1545400"/>
                  </a:lnTo>
                  <a:lnTo>
                    <a:pt x="2545486" y="1516838"/>
                  </a:lnTo>
                  <a:lnTo>
                    <a:pt x="2559823" y="1488266"/>
                  </a:lnTo>
                  <a:lnTo>
                    <a:pt x="2573332" y="1459692"/>
                  </a:lnTo>
                  <a:lnTo>
                    <a:pt x="2583508" y="1431118"/>
                  </a:lnTo>
                  <a:lnTo>
                    <a:pt x="2595430" y="1401749"/>
                  </a:lnTo>
                  <a:lnTo>
                    <a:pt x="2604343" y="1369058"/>
                  </a:lnTo>
                  <a:lnTo>
                    <a:pt x="2611217" y="1338117"/>
                  </a:lnTo>
                  <a:lnTo>
                    <a:pt x="2614400" y="1304961"/>
                  </a:lnTo>
                  <a:lnTo>
                    <a:pt x="2620018" y="1274676"/>
                  </a:lnTo>
                  <a:lnTo>
                    <a:pt x="2625916" y="1244800"/>
                  </a:lnTo>
                  <a:lnTo>
                    <a:pt x="2628016" y="1211959"/>
                  </a:lnTo>
                  <a:lnTo>
                    <a:pt x="2628638" y="1181767"/>
                  </a:lnTo>
                  <a:lnTo>
                    <a:pt x="2628029" y="1152713"/>
                  </a:lnTo>
                  <a:lnTo>
                    <a:pt x="2623968" y="1123996"/>
                  </a:lnTo>
                  <a:lnTo>
                    <a:pt x="2622411" y="1095380"/>
                  </a:lnTo>
                  <a:lnTo>
                    <a:pt x="2621157" y="1065998"/>
                  </a:lnTo>
                  <a:lnTo>
                    <a:pt x="2616111" y="1034097"/>
                  </a:lnTo>
                  <a:lnTo>
                    <a:pt x="2607295" y="999064"/>
                  </a:lnTo>
                  <a:lnTo>
                    <a:pt x="2600273" y="971226"/>
                  </a:lnTo>
                  <a:lnTo>
                    <a:pt x="2593166" y="942870"/>
                  </a:lnTo>
                  <a:lnTo>
                    <a:pt x="2583916" y="914360"/>
                  </a:lnTo>
                  <a:lnTo>
                    <a:pt x="2573239" y="883687"/>
                  </a:lnTo>
                  <a:lnTo>
                    <a:pt x="2562931" y="851580"/>
                  </a:lnTo>
                  <a:lnTo>
                    <a:pt x="2545226" y="816079"/>
                  </a:lnTo>
                  <a:lnTo>
                    <a:pt x="2526441" y="780433"/>
                  </a:lnTo>
                  <a:lnTo>
                    <a:pt x="2512200" y="752283"/>
                  </a:lnTo>
                  <a:lnTo>
                    <a:pt x="2497132" y="724627"/>
                  </a:lnTo>
                  <a:lnTo>
                    <a:pt x="2473226" y="691431"/>
                  </a:lnTo>
                  <a:lnTo>
                    <a:pt x="2449189" y="658327"/>
                  </a:lnTo>
                  <a:lnTo>
                    <a:pt x="2420717" y="623154"/>
                  </a:lnTo>
                  <a:lnTo>
                    <a:pt x="2387459" y="587749"/>
                  </a:lnTo>
                  <a:lnTo>
                    <a:pt x="2357723" y="553797"/>
                  </a:lnTo>
                  <a:lnTo>
                    <a:pt x="2323216" y="521426"/>
                  </a:lnTo>
                  <a:lnTo>
                    <a:pt x="2295263" y="495359"/>
                  </a:lnTo>
                  <a:lnTo>
                    <a:pt x="2266873" y="472201"/>
                  </a:lnTo>
                  <a:lnTo>
                    <a:pt x="2238352" y="450258"/>
                  </a:lnTo>
                  <a:lnTo>
                    <a:pt x="2209793" y="427882"/>
                  </a:lnTo>
                  <a:lnTo>
                    <a:pt x="2180429" y="402290"/>
                  </a:lnTo>
                  <a:lnTo>
                    <a:pt x="2147740" y="379273"/>
                  </a:lnTo>
                  <a:lnTo>
                    <a:pt x="2117593" y="357372"/>
                  </a:lnTo>
                  <a:lnTo>
                    <a:pt x="2087759" y="335802"/>
                  </a:lnTo>
                  <a:lnTo>
                    <a:pt x="2054136" y="314329"/>
                  </a:lnTo>
                  <a:lnTo>
                    <a:pt x="2019039" y="292886"/>
                  </a:lnTo>
                  <a:lnTo>
                    <a:pt x="1983504" y="271451"/>
                  </a:lnTo>
                  <a:lnTo>
                    <a:pt x="1959735" y="257163"/>
                  </a:lnTo>
                  <a:lnTo>
                    <a:pt x="1933824" y="244991"/>
                  </a:lnTo>
                  <a:lnTo>
                    <a:pt x="1907228" y="233497"/>
                  </a:lnTo>
                  <a:lnTo>
                    <a:pt x="1882178" y="220450"/>
                  </a:lnTo>
                  <a:lnTo>
                    <a:pt x="1855699" y="206714"/>
                  </a:lnTo>
                  <a:lnTo>
                    <a:pt x="1828055" y="192672"/>
                  </a:lnTo>
                  <a:lnTo>
                    <a:pt x="1799894" y="178493"/>
                  </a:lnTo>
                  <a:lnTo>
                    <a:pt x="1771503" y="164254"/>
                  </a:lnTo>
                  <a:lnTo>
                    <a:pt x="1743804" y="150782"/>
                  </a:lnTo>
                  <a:lnTo>
                    <a:pt x="1718264" y="139503"/>
                  </a:lnTo>
                  <a:lnTo>
                    <a:pt x="1691567" y="129198"/>
                  </a:lnTo>
                  <a:lnTo>
                    <a:pt x="1663032" y="118533"/>
                  </a:lnTo>
                  <a:lnTo>
                    <a:pt x="1631830" y="105855"/>
                  </a:lnTo>
                  <a:lnTo>
                    <a:pt x="1601558" y="94400"/>
                  </a:lnTo>
                  <a:lnTo>
                    <a:pt x="1572229" y="84017"/>
                  </a:lnTo>
                  <a:lnTo>
                    <a:pt x="1543318" y="74111"/>
                  </a:lnTo>
                  <a:lnTo>
                    <a:pt x="1514595" y="66533"/>
                  </a:lnTo>
                  <a:lnTo>
                    <a:pt x="1485953" y="59725"/>
                  </a:lnTo>
                  <a:lnTo>
                    <a:pt x="1457349" y="51408"/>
                  </a:lnTo>
                  <a:lnTo>
                    <a:pt x="1428761" y="44536"/>
                  </a:lnTo>
                  <a:lnTo>
                    <a:pt x="1400180" y="38043"/>
                  </a:lnTo>
                  <a:lnTo>
                    <a:pt x="1371602" y="29865"/>
                  </a:lnTo>
                  <a:lnTo>
                    <a:pt x="1340909" y="23055"/>
                  </a:lnTo>
                  <a:lnTo>
                    <a:pt x="1310335" y="17383"/>
                  </a:lnTo>
                  <a:lnTo>
                    <a:pt x="1283517" y="12217"/>
                  </a:lnTo>
                  <a:lnTo>
                    <a:pt x="1256252" y="9391"/>
                  </a:lnTo>
                  <a:lnTo>
                    <a:pt x="1228259" y="7341"/>
                  </a:lnTo>
                  <a:lnTo>
                    <a:pt x="1199943" y="3785"/>
                  </a:lnTo>
                  <a:lnTo>
                    <a:pt x="1173600" y="1675"/>
                  </a:lnTo>
                  <a:lnTo>
                    <a:pt x="1147869" y="737"/>
                  </a:lnTo>
                  <a:lnTo>
                    <a:pt x="1120558" y="320"/>
                  </a:lnTo>
                  <a:lnTo>
                    <a:pt x="1094661" y="135"/>
                  </a:lnTo>
                  <a:lnTo>
                    <a:pt x="1069129" y="53"/>
                  </a:lnTo>
                  <a:lnTo>
                    <a:pt x="1041906" y="16"/>
                  </a:lnTo>
                  <a:lnTo>
                    <a:pt x="1016049" y="0"/>
                  </a:lnTo>
                  <a:lnTo>
                    <a:pt x="991327" y="786"/>
                  </a:lnTo>
                  <a:lnTo>
                    <a:pt x="967111" y="3781"/>
                  </a:lnTo>
                  <a:lnTo>
                    <a:pt x="943119" y="7759"/>
                  </a:lnTo>
                  <a:lnTo>
                    <a:pt x="919227" y="12172"/>
                  </a:lnTo>
                  <a:lnTo>
                    <a:pt x="895379" y="16780"/>
                  </a:lnTo>
                  <a:lnTo>
                    <a:pt x="871551" y="21473"/>
                  </a:lnTo>
                  <a:lnTo>
                    <a:pt x="847731" y="26205"/>
                  </a:lnTo>
                  <a:lnTo>
                    <a:pt x="812802" y="33332"/>
                  </a:lnTo>
                  <a:lnTo>
                    <a:pt x="781198" y="40470"/>
                  </a:lnTo>
                  <a:lnTo>
                    <a:pt x="747845" y="48406"/>
                  </a:lnTo>
                  <a:lnTo>
                    <a:pt x="716707" y="60459"/>
                  </a:lnTo>
                  <a:lnTo>
                    <a:pt x="683493" y="74084"/>
                  </a:lnTo>
                  <a:lnTo>
                    <a:pt x="652396" y="88176"/>
                  </a:lnTo>
                  <a:lnTo>
                    <a:pt x="619194" y="102405"/>
                  </a:lnTo>
                  <a:lnTo>
                    <a:pt x="588101" y="116675"/>
                  </a:lnTo>
                  <a:lnTo>
                    <a:pt x="554900" y="131752"/>
                  </a:lnTo>
                  <a:lnTo>
                    <a:pt x="523807" y="150947"/>
                  </a:lnTo>
                  <a:lnTo>
                    <a:pt x="490606" y="171715"/>
                  </a:lnTo>
                  <a:lnTo>
                    <a:pt x="460307" y="192951"/>
                  </a:lnTo>
                  <a:lnTo>
                    <a:pt x="431222" y="215117"/>
                  </a:lnTo>
                  <a:lnTo>
                    <a:pt x="402495" y="240647"/>
                  </a:lnTo>
                  <a:lnTo>
                    <a:pt x="373875" y="264439"/>
                  </a:lnTo>
                  <a:lnTo>
                    <a:pt x="345287" y="291245"/>
                  </a:lnTo>
                  <a:lnTo>
                    <a:pt x="316708" y="320089"/>
                  </a:lnTo>
                  <a:lnTo>
                    <a:pt x="288926" y="352624"/>
                  </a:lnTo>
                  <a:lnTo>
                    <a:pt x="264466" y="382725"/>
                  </a:lnTo>
                  <a:lnTo>
                    <a:pt x="238257" y="412546"/>
                  </a:lnTo>
                  <a:lnTo>
                    <a:pt x="215057" y="446165"/>
                  </a:lnTo>
                  <a:lnTo>
                    <a:pt x="193102" y="481261"/>
                  </a:lnTo>
                  <a:lnTo>
                    <a:pt x="178692" y="504928"/>
                  </a:lnTo>
                  <a:lnTo>
                    <a:pt x="166467" y="530793"/>
                  </a:lnTo>
                  <a:lnTo>
                    <a:pt x="155742" y="557369"/>
                  </a:lnTo>
                  <a:lnTo>
                    <a:pt x="145683" y="582410"/>
                  </a:lnTo>
                  <a:lnTo>
                    <a:pt x="133804" y="606769"/>
                  </a:lnTo>
                  <a:lnTo>
                    <a:pt x="121381" y="631618"/>
                  </a:lnTo>
                  <a:lnTo>
                    <a:pt x="110568" y="658536"/>
                  </a:lnTo>
                  <a:lnTo>
                    <a:pt x="100470" y="686375"/>
                  </a:lnTo>
                  <a:lnTo>
                    <a:pt x="91485" y="714623"/>
                  </a:lnTo>
                  <a:lnTo>
                    <a:pt x="84846" y="743053"/>
                  </a:lnTo>
                  <a:lnTo>
                    <a:pt x="77132" y="771563"/>
                  </a:lnTo>
                  <a:lnTo>
                    <a:pt x="68412" y="800110"/>
                  </a:lnTo>
                  <a:lnTo>
                    <a:pt x="59245" y="828672"/>
                  </a:lnTo>
                  <a:lnTo>
                    <a:pt x="51996" y="857241"/>
                  </a:lnTo>
                  <a:lnTo>
                    <a:pt x="46128" y="885814"/>
                  </a:lnTo>
                  <a:lnTo>
                    <a:pt x="40874" y="914388"/>
                  </a:lnTo>
                  <a:lnTo>
                    <a:pt x="35894" y="942963"/>
                  </a:lnTo>
                  <a:lnTo>
                    <a:pt x="31828" y="971537"/>
                  </a:lnTo>
                  <a:lnTo>
                    <a:pt x="30021" y="1000112"/>
                  </a:lnTo>
                  <a:lnTo>
                    <a:pt x="29218" y="1028687"/>
                  </a:lnTo>
                  <a:lnTo>
                    <a:pt x="28067" y="1057262"/>
                  </a:lnTo>
                  <a:lnTo>
                    <a:pt x="24910" y="1085837"/>
                  </a:lnTo>
                  <a:lnTo>
                    <a:pt x="25094" y="1114412"/>
                  </a:lnTo>
                  <a:lnTo>
                    <a:pt x="27028" y="1142987"/>
                  </a:lnTo>
                  <a:lnTo>
                    <a:pt x="27888" y="1171562"/>
                  </a:lnTo>
                  <a:lnTo>
                    <a:pt x="30386" y="1198020"/>
                  </a:lnTo>
                  <a:lnTo>
                    <a:pt x="34143" y="1223802"/>
                  </a:lnTo>
                  <a:lnTo>
                    <a:pt x="38458" y="1251136"/>
                  </a:lnTo>
                  <a:lnTo>
                    <a:pt x="45139" y="1277043"/>
                  </a:lnTo>
                  <a:lnTo>
                    <a:pt x="57824" y="1311824"/>
                  </a:lnTo>
                  <a:lnTo>
                    <a:pt x="71637" y="1344354"/>
                  </a:lnTo>
                  <a:lnTo>
                    <a:pt x="87901" y="1377011"/>
                  </a:lnTo>
                  <a:lnTo>
                    <a:pt x="105684" y="1406796"/>
                  </a:lnTo>
                  <a:lnTo>
                    <a:pt x="125241" y="1435730"/>
                  </a:lnTo>
                  <a:lnTo>
                    <a:pt x="149028" y="1464411"/>
                  </a:lnTo>
                  <a:lnTo>
                    <a:pt x="164660" y="1481898"/>
                  </a:lnTo>
                  <a:lnTo>
                    <a:pt x="192104" y="1501462"/>
                  </a:lnTo>
                  <a:lnTo>
                    <a:pt x="224225" y="1521193"/>
                  </a:lnTo>
                  <a:lnTo>
                    <a:pt x="254997" y="1537446"/>
                  </a:lnTo>
                  <a:lnTo>
                    <a:pt x="288103" y="1552316"/>
                  </a:lnTo>
                  <a:lnTo>
                    <a:pt x="318374" y="1565189"/>
                  </a:lnTo>
                  <a:lnTo>
                    <a:pt x="347451" y="1570503"/>
                  </a:lnTo>
                  <a:lnTo>
                    <a:pt x="376175" y="1575957"/>
                  </a:lnTo>
                  <a:lnTo>
                    <a:pt x="404000" y="1577133"/>
                  </a:lnTo>
                  <a:lnTo>
                    <a:pt x="433021" y="1570820"/>
                  </a:lnTo>
                  <a:lnTo>
                    <a:pt x="458426" y="1559602"/>
                  </a:lnTo>
                  <a:lnTo>
                    <a:pt x="487026" y="1540652"/>
                  </a:lnTo>
                  <a:lnTo>
                    <a:pt x="494965" y="1529718"/>
                  </a:lnTo>
                  <a:lnTo>
                    <a:pt x="498552" y="1520217"/>
                  </a:lnTo>
                  <a:lnTo>
                    <a:pt x="500063" y="150017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SMARTInkShape-Group42"/>
          <p:cNvGrpSpPr/>
          <p:nvPr/>
        </p:nvGrpSpPr>
        <p:grpSpPr>
          <a:xfrm>
            <a:off x="843120" y="4316400"/>
            <a:ext cx="1985760" cy="1627200"/>
            <a:chOff x="843120" y="4316400"/>
            <a:chExt cx="1985760" cy="1627200"/>
          </a:xfrm>
        </p:grpSpPr>
        <p:sp>
          <p:nvSpPr>
            <p:cNvPr id="252" name="SMARTInkShape-118"/>
            <p:cNvSpPr/>
            <p:nvPr/>
          </p:nvSpPr>
          <p:spPr>
            <a:xfrm>
              <a:off x="843120" y="4316400"/>
              <a:ext cx="1985760" cy="1627200"/>
            </a:xfrm>
            <a:custGeom>
              <a:avLst/>
              <a:gdLst>
                <a:gd name="textAreaLeft" fmla="*/ 0 w 1985760"/>
                <a:gd name="textAreaRight" fmla="*/ 1986120 w 198576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w="1985833" h="1627434">
                  <a:moveTo>
                    <a:pt x="1778663" y="327396"/>
                  </a:moveTo>
                  <a:lnTo>
                    <a:pt x="1774871" y="323603"/>
                  </a:lnTo>
                  <a:lnTo>
                    <a:pt x="1773009" y="319625"/>
                  </a:lnTo>
                  <a:lnTo>
                    <a:pt x="1772512" y="317453"/>
                  </a:lnTo>
                  <a:lnTo>
                    <a:pt x="1768021" y="310603"/>
                  </a:lnTo>
                  <a:lnTo>
                    <a:pt x="1746701" y="289141"/>
                  </a:lnTo>
                  <a:lnTo>
                    <a:pt x="1712194" y="262605"/>
                  </a:lnTo>
                  <a:lnTo>
                    <a:pt x="1681572" y="243953"/>
                  </a:lnTo>
                  <a:lnTo>
                    <a:pt x="1654293" y="225943"/>
                  </a:lnTo>
                  <a:lnTo>
                    <a:pt x="1626102" y="205525"/>
                  </a:lnTo>
                  <a:lnTo>
                    <a:pt x="1593848" y="188187"/>
                  </a:lnTo>
                  <a:lnTo>
                    <a:pt x="1568729" y="175831"/>
                  </a:lnTo>
                  <a:lnTo>
                    <a:pt x="1541691" y="162402"/>
                  </a:lnTo>
                  <a:lnTo>
                    <a:pt x="1513798" y="148496"/>
                  </a:lnTo>
                  <a:lnTo>
                    <a:pt x="1485527" y="134379"/>
                  </a:lnTo>
                  <a:lnTo>
                    <a:pt x="1457087" y="120960"/>
                  </a:lnTo>
                  <a:lnTo>
                    <a:pt x="1428571" y="109705"/>
                  </a:lnTo>
                  <a:lnTo>
                    <a:pt x="1397906" y="97294"/>
                  </a:lnTo>
                  <a:lnTo>
                    <a:pt x="1364963" y="84634"/>
                  </a:lnTo>
                  <a:lnTo>
                    <a:pt x="1347288" y="79036"/>
                  </a:lnTo>
                  <a:lnTo>
                    <a:pt x="1329155" y="73716"/>
                  </a:lnTo>
                  <a:lnTo>
                    <a:pt x="1310716" y="67788"/>
                  </a:lnTo>
                  <a:lnTo>
                    <a:pt x="1292073" y="61456"/>
                  </a:lnTo>
                  <a:lnTo>
                    <a:pt x="1273295" y="54852"/>
                  </a:lnTo>
                  <a:lnTo>
                    <a:pt x="1254426" y="48863"/>
                  </a:lnTo>
                  <a:lnTo>
                    <a:pt x="1235497" y="43282"/>
                  </a:lnTo>
                  <a:lnTo>
                    <a:pt x="1216527" y="37974"/>
                  </a:lnTo>
                  <a:lnTo>
                    <a:pt x="1196737" y="33642"/>
                  </a:lnTo>
                  <a:lnTo>
                    <a:pt x="1176400" y="29959"/>
                  </a:lnTo>
                  <a:lnTo>
                    <a:pt x="1155698" y="26711"/>
                  </a:lnTo>
                  <a:lnTo>
                    <a:pt x="1134753" y="22958"/>
                  </a:lnTo>
                  <a:lnTo>
                    <a:pt x="1113646" y="18868"/>
                  </a:lnTo>
                  <a:lnTo>
                    <a:pt x="1092431" y="14555"/>
                  </a:lnTo>
                  <a:lnTo>
                    <a:pt x="1071938" y="11678"/>
                  </a:lnTo>
                  <a:lnTo>
                    <a:pt x="1051925" y="9761"/>
                  </a:lnTo>
                  <a:lnTo>
                    <a:pt x="1032234" y="8483"/>
                  </a:lnTo>
                  <a:lnTo>
                    <a:pt x="1011962" y="6837"/>
                  </a:lnTo>
                  <a:lnTo>
                    <a:pt x="991304" y="4946"/>
                  </a:lnTo>
                  <a:lnTo>
                    <a:pt x="970389" y="2892"/>
                  </a:lnTo>
                  <a:lnTo>
                    <a:pt x="949301" y="1522"/>
                  </a:lnTo>
                  <a:lnTo>
                    <a:pt x="928099" y="609"/>
                  </a:lnTo>
                  <a:lnTo>
                    <a:pt x="906820" y="0"/>
                  </a:lnTo>
                  <a:lnTo>
                    <a:pt x="885491" y="388"/>
                  </a:lnTo>
                  <a:lnTo>
                    <a:pt x="864128" y="1441"/>
                  </a:lnTo>
                  <a:lnTo>
                    <a:pt x="842742" y="2936"/>
                  </a:lnTo>
                  <a:lnTo>
                    <a:pt x="821340" y="3933"/>
                  </a:lnTo>
                  <a:lnTo>
                    <a:pt x="799929" y="4597"/>
                  </a:lnTo>
                  <a:lnTo>
                    <a:pt x="778512" y="5040"/>
                  </a:lnTo>
                  <a:lnTo>
                    <a:pt x="757883" y="6924"/>
                  </a:lnTo>
                  <a:lnTo>
                    <a:pt x="737781" y="9766"/>
                  </a:lnTo>
                  <a:lnTo>
                    <a:pt x="718029" y="13249"/>
                  </a:lnTo>
                  <a:lnTo>
                    <a:pt x="697717" y="17158"/>
                  </a:lnTo>
                  <a:lnTo>
                    <a:pt x="677033" y="21352"/>
                  </a:lnTo>
                  <a:lnTo>
                    <a:pt x="656099" y="25735"/>
                  </a:lnTo>
                  <a:lnTo>
                    <a:pt x="635000" y="31038"/>
                  </a:lnTo>
                  <a:lnTo>
                    <a:pt x="613790" y="36955"/>
                  </a:lnTo>
                  <a:lnTo>
                    <a:pt x="592506" y="43281"/>
                  </a:lnTo>
                  <a:lnTo>
                    <a:pt x="571967" y="50674"/>
                  </a:lnTo>
                  <a:lnTo>
                    <a:pt x="551924" y="58777"/>
                  </a:lnTo>
                  <a:lnTo>
                    <a:pt x="532212" y="67354"/>
                  </a:lnTo>
                  <a:lnTo>
                    <a:pt x="512721" y="75453"/>
                  </a:lnTo>
                  <a:lnTo>
                    <a:pt x="493377" y="83234"/>
                  </a:lnTo>
                  <a:lnTo>
                    <a:pt x="474130" y="90802"/>
                  </a:lnTo>
                  <a:lnTo>
                    <a:pt x="455743" y="99023"/>
                  </a:lnTo>
                  <a:lnTo>
                    <a:pt x="420497" y="116623"/>
                  </a:lnTo>
                  <a:lnTo>
                    <a:pt x="386311" y="137146"/>
                  </a:lnTo>
                  <a:lnTo>
                    <a:pt x="353390" y="159496"/>
                  </a:lnTo>
                  <a:lnTo>
                    <a:pt x="322883" y="182659"/>
                  </a:lnTo>
                  <a:lnTo>
                    <a:pt x="291333" y="206183"/>
                  </a:lnTo>
                  <a:lnTo>
                    <a:pt x="260378" y="230661"/>
                  </a:lnTo>
                  <a:lnTo>
                    <a:pt x="233391" y="257415"/>
                  </a:lnTo>
                  <a:lnTo>
                    <a:pt x="208167" y="285181"/>
                  </a:lnTo>
                  <a:lnTo>
                    <a:pt x="183727" y="313396"/>
                  </a:lnTo>
                  <a:lnTo>
                    <a:pt x="159636" y="341811"/>
                  </a:lnTo>
                  <a:lnTo>
                    <a:pt x="137817" y="372432"/>
                  </a:lnTo>
                  <a:lnTo>
                    <a:pt x="118329" y="403768"/>
                  </a:lnTo>
                  <a:lnTo>
                    <a:pt x="101731" y="433570"/>
                  </a:lnTo>
                  <a:lnTo>
                    <a:pt x="86416" y="466924"/>
                  </a:lnTo>
                  <a:lnTo>
                    <a:pt x="71672" y="502120"/>
                  </a:lnTo>
                  <a:lnTo>
                    <a:pt x="57182" y="536284"/>
                  </a:lnTo>
                  <a:lnTo>
                    <a:pt x="42804" y="569989"/>
                  </a:lnTo>
                  <a:lnTo>
                    <a:pt x="30064" y="604284"/>
                  </a:lnTo>
                  <a:lnTo>
                    <a:pt x="25555" y="622319"/>
                  </a:lnTo>
                  <a:lnTo>
                    <a:pt x="21756" y="640693"/>
                  </a:lnTo>
                  <a:lnTo>
                    <a:pt x="15418" y="675924"/>
                  </a:lnTo>
                  <a:lnTo>
                    <a:pt x="9955" y="710103"/>
                  </a:lnTo>
                  <a:lnTo>
                    <a:pt x="4881" y="743815"/>
                  </a:lnTo>
                  <a:lnTo>
                    <a:pt x="2097" y="779435"/>
                  </a:lnTo>
                  <a:lnTo>
                    <a:pt x="1354" y="797824"/>
                  </a:lnTo>
                  <a:lnTo>
                    <a:pt x="529" y="833073"/>
                  </a:lnTo>
                  <a:lnTo>
                    <a:pt x="163" y="867259"/>
                  </a:lnTo>
                  <a:lnTo>
                    <a:pt x="0" y="900974"/>
                  </a:lnTo>
                  <a:lnTo>
                    <a:pt x="4161" y="934480"/>
                  </a:lnTo>
                  <a:lnTo>
                    <a:pt x="10508" y="967892"/>
                  </a:lnTo>
                  <a:lnTo>
                    <a:pt x="15975" y="1001263"/>
                  </a:lnTo>
                  <a:lnTo>
                    <a:pt x="23167" y="1034614"/>
                  </a:lnTo>
                  <a:lnTo>
                    <a:pt x="32449" y="1067959"/>
                  </a:lnTo>
                  <a:lnTo>
                    <a:pt x="44512" y="1101299"/>
                  </a:lnTo>
                  <a:lnTo>
                    <a:pt x="57811" y="1132522"/>
                  </a:lnTo>
                  <a:lnTo>
                    <a:pt x="71659" y="1162273"/>
                  </a:lnTo>
                  <a:lnTo>
                    <a:pt x="85751" y="1191371"/>
                  </a:lnTo>
                  <a:lnTo>
                    <a:pt x="102068" y="1220178"/>
                  </a:lnTo>
                  <a:lnTo>
                    <a:pt x="119904" y="1248063"/>
                  </a:lnTo>
                  <a:lnTo>
                    <a:pt x="138414" y="1273685"/>
                  </a:lnTo>
                  <a:lnTo>
                    <a:pt x="159341" y="1300419"/>
                  </a:lnTo>
                  <a:lnTo>
                    <a:pt x="181871" y="1327382"/>
                  </a:lnTo>
                  <a:lnTo>
                    <a:pt x="205113" y="1352594"/>
                  </a:lnTo>
                  <a:lnTo>
                    <a:pt x="240511" y="1385309"/>
                  </a:lnTo>
                  <a:lnTo>
                    <a:pt x="268482" y="1407444"/>
                  </a:lnTo>
                  <a:lnTo>
                    <a:pt x="298640" y="1429717"/>
                  </a:lnTo>
                  <a:lnTo>
                    <a:pt x="327919" y="1450200"/>
                  </a:lnTo>
                  <a:lnTo>
                    <a:pt x="358923" y="1469886"/>
                  </a:lnTo>
                  <a:lnTo>
                    <a:pt x="390430" y="1488425"/>
                  </a:lnTo>
                  <a:lnTo>
                    <a:pt x="420308" y="1504603"/>
                  </a:lnTo>
                  <a:lnTo>
                    <a:pt x="453696" y="1519730"/>
                  </a:lnTo>
                  <a:lnTo>
                    <a:pt x="488907" y="1533597"/>
                  </a:lnTo>
                  <a:lnTo>
                    <a:pt x="523078" y="1545051"/>
                  </a:lnTo>
                  <a:lnTo>
                    <a:pt x="540763" y="1550329"/>
                  </a:lnTo>
                  <a:lnTo>
                    <a:pt x="558902" y="1555434"/>
                  </a:lnTo>
                  <a:lnTo>
                    <a:pt x="577346" y="1560426"/>
                  </a:lnTo>
                  <a:lnTo>
                    <a:pt x="596785" y="1565341"/>
                  </a:lnTo>
                  <a:lnTo>
                    <a:pt x="616888" y="1570205"/>
                  </a:lnTo>
                  <a:lnTo>
                    <a:pt x="637434" y="1575035"/>
                  </a:lnTo>
                  <a:lnTo>
                    <a:pt x="657481" y="1579843"/>
                  </a:lnTo>
                  <a:lnTo>
                    <a:pt x="677196" y="1584636"/>
                  </a:lnTo>
                  <a:lnTo>
                    <a:pt x="696689" y="1589418"/>
                  </a:lnTo>
                  <a:lnTo>
                    <a:pt x="716828" y="1593400"/>
                  </a:lnTo>
                  <a:lnTo>
                    <a:pt x="737399" y="1596849"/>
                  </a:lnTo>
                  <a:lnTo>
                    <a:pt x="758255" y="1599941"/>
                  </a:lnTo>
                  <a:lnTo>
                    <a:pt x="779304" y="1602797"/>
                  </a:lnTo>
                  <a:lnTo>
                    <a:pt x="800480" y="1605494"/>
                  </a:lnTo>
                  <a:lnTo>
                    <a:pt x="821741" y="1608086"/>
                  </a:lnTo>
                  <a:lnTo>
                    <a:pt x="843059" y="1610608"/>
                  </a:lnTo>
                  <a:lnTo>
                    <a:pt x="864414" y="1613083"/>
                  </a:lnTo>
                  <a:lnTo>
                    <a:pt x="885795" y="1615527"/>
                  </a:lnTo>
                  <a:lnTo>
                    <a:pt x="907193" y="1617950"/>
                  </a:lnTo>
                  <a:lnTo>
                    <a:pt x="928602" y="1620359"/>
                  </a:lnTo>
                  <a:lnTo>
                    <a:pt x="950018" y="1622758"/>
                  </a:lnTo>
                  <a:lnTo>
                    <a:pt x="972233" y="1624358"/>
                  </a:lnTo>
                  <a:lnTo>
                    <a:pt x="994981" y="1625425"/>
                  </a:lnTo>
                  <a:lnTo>
                    <a:pt x="1018083" y="1626136"/>
                  </a:lnTo>
                  <a:lnTo>
                    <a:pt x="1040629" y="1626610"/>
                  </a:lnTo>
                  <a:lnTo>
                    <a:pt x="1062803" y="1626926"/>
                  </a:lnTo>
                  <a:lnTo>
                    <a:pt x="1084729" y="1627136"/>
                  </a:lnTo>
                  <a:lnTo>
                    <a:pt x="1107284" y="1627277"/>
                  </a:lnTo>
                  <a:lnTo>
                    <a:pt x="1130258" y="1627371"/>
                  </a:lnTo>
                  <a:lnTo>
                    <a:pt x="1153512" y="1627433"/>
                  </a:lnTo>
                  <a:lnTo>
                    <a:pt x="1176158" y="1626681"/>
                  </a:lnTo>
                  <a:lnTo>
                    <a:pt x="1198400" y="1625386"/>
                  </a:lnTo>
                  <a:lnTo>
                    <a:pt x="1220371" y="1623729"/>
                  </a:lnTo>
                  <a:lnTo>
                    <a:pt x="1242956" y="1621830"/>
                  </a:lnTo>
                  <a:lnTo>
                    <a:pt x="1265950" y="1619771"/>
                  </a:lnTo>
                  <a:lnTo>
                    <a:pt x="1289217" y="1617604"/>
                  </a:lnTo>
                  <a:lnTo>
                    <a:pt x="1312666" y="1615366"/>
                  </a:lnTo>
                  <a:lnTo>
                    <a:pt x="1336236" y="1613080"/>
                  </a:lnTo>
                  <a:lnTo>
                    <a:pt x="1359887" y="1610762"/>
                  </a:lnTo>
                  <a:lnTo>
                    <a:pt x="1382797" y="1607630"/>
                  </a:lnTo>
                  <a:lnTo>
                    <a:pt x="1405215" y="1603954"/>
                  </a:lnTo>
                  <a:lnTo>
                    <a:pt x="1427304" y="1599916"/>
                  </a:lnTo>
                  <a:lnTo>
                    <a:pt x="1449174" y="1594842"/>
                  </a:lnTo>
                  <a:lnTo>
                    <a:pt x="1470897" y="1589078"/>
                  </a:lnTo>
                  <a:lnTo>
                    <a:pt x="1492523" y="1582855"/>
                  </a:lnTo>
                  <a:lnTo>
                    <a:pt x="1513291" y="1577118"/>
                  </a:lnTo>
                  <a:lnTo>
                    <a:pt x="1533486" y="1571707"/>
                  </a:lnTo>
                  <a:lnTo>
                    <a:pt x="1553299" y="1566511"/>
                  </a:lnTo>
                  <a:lnTo>
                    <a:pt x="1573652" y="1559873"/>
                  </a:lnTo>
                  <a:lnTo>
                    <a:pt x="1594364" y="1552272"/>
                  </a:lnTo>
                  <a:lnTo>
                    <a:pt x="1615316" y="1544030"/>
                  </a:lnTo>
                  <a:lnTo>
                    <a:pt x="1634840" y="1535360"/>
                  </a:lnTo>
                  <a:lnTo>
                    <a:pt x="1653412" y="1526405"/>
                  </a:lnTo>
                  <a:lnTo>
                    <a:pt x="1671350" y="1517260"/>
                  </a:lnTo>
                  <a:lnTo>
                    <a:pt x="1689659" y="1507195"/>
                  </a:lnTo>
                  <a:lnTo>
                    <a:pt x="1708214" y="1496516"/>
                  </a:lnTo>
                  <a:lnTo>
                    <a:pt x="1726935" y="1485428"/>
                  </a:lnTo>
                  <a:lnTo>
                    <a:pt x="1760435" y="1462525"/>
                  </a:lnTo>
                  <a:lnTo>
                    <a:pt x="1791199" y="1439116"/>
                  </a:lnTo>
                  <a:lnTo>
                    <a:pt x="1820747" y="1415483"/>
                  </a:lnTo>
                  <a:lnTo>
                    <a:pt x="1847638" y="1389634"/>
                  </a:lnTo>
                  <a:lnTo>
                    <a:pt x="1872025" y="1362270"/>
                  </a:lnTo>
                  <a:lnTo>
                    <a:pt x="1893447" y="1334233"/>
                  </a:lnTo>
                  <a:lnTo>
                    <a:pt x="1913551" y="1305898"/>
                  </a:lnTo>
                  <a:lnTo>
                    <a:pt x="1932276" y="1276635"/>
                  </a:lnTo>
                  <a:lnTo>
                    <a:pt x="1948535" y="1245109"/>
                  </a:lnTo>
                  <a:lnTo>
                    <a:pt x="1961583" y="1214693"/>
                  </a:lnTo>
                  <a:lnTo>
                    <a:pt x="1971086" y="1184507"/>
                  </a:lnTo>
                  <a:lnTo>
                    <a:pt x="1975309" y="1152569"/>
                  </a:lnTo>
                  <a:lnTo>
                    <a:pt x="1979303" y="1121971"/>
                  </a:lnTo>
                  <a:lnTo>
                    <a:pt x="1982930" y="1093290"/>
                  </a:lnTo>
                  <a:lnTo>
                    <a:pt x="1984542" y="1067314"/>
                  </a:lnTo>
                  <a:lnTo>
                    <a:pt x="1985577" y="1032088"/>
                  </a:lnTo>
                  <a:lnTo>
                    <a:pt x="1985832" y="102033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SMARTInkShape-119"/>
            <p:cNvSpPr/>
            <p:nvPr/>
          </p:nvSpPr>
          <p:spPr>
            <a:xfrm>
              <a:off x="1357200" y="4779360"/>
              <a:ext cx="206640" cy="3564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06737" h="35694">
                  <a:moveTo>
                    <a:pt x="0" y="35693"/>
                  </a:moveTo>
                  <a:lnTo>
                    <a:pt x="31226" y="35693"/>
                  </a:lnTo>
                  <a:lnTo>
                    <a:pt x="58988" y="33576"/>
                  </a:lnTo>
                  <a:lnTo>
                    <a:pt x="89880" y="25750"/>
                  </a:lnTo>
                  <a:lnTo>
                    <a:pt x="120853" y="21469"/>
                  </a:lnTo>
                  <a:lnTo>
                    <a:pt x="149902" y="13804"/>
                  </a:lnTo>
                  <a:lnTo>
                    <a:pt x="182983" y="7704"/>
                  </a:lnTo>
                  <a:lnTo>
                    <a:pt x="186282" y="7509"/>
                  </a:lnTo>
                  <a:lnTo>
                    <a:pt x="192065" y="5175"/>
                  </a:lnTo>
                  <a:lnTo>
                    <a:pt x="197281" y="2285"/>
                  </a:lnTo>
                  <a:lnTo>
                    <a:pt x="206736" y="64"/>
                  </a:lnTo>
                  <a:lnTo>
                    <a:pt x="203248" y="0"/>
                  </a:lnTo>
                  <a:lnTo>
                    <a:pt x="202173" y="785"/>
                  </a:lnTo>
                  <a:lnTo>
                    <a:pt x="200025" y="711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9720" bIns="-97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SMARTInkShape-120"/>
            <p:cNvSpPr/>
            <p:nvPr/>
          </p:nvSpPr>
          <p:spPr>
            <a:xfrm>
              <a:off x="1478520" y="4851000"/>
              <a:ext cx="6840" cy="41220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7145" h="412490">
                  <a:moveTo>
                    <a:pt x="7144" y="6850"/>
                  </a:moveTo>
                  <a:lnTo>
                    <a:pt x="7144" y="0"/>
                  </a:lnTo>
                  <a:lnTo>
                    <a:pt x="7144" y="31629"/>
                  </a:lnTo>
                  <a:lnTo>
                    <a:pt x="7144" y="66173"/>
                  </a:lnTo>
                  <a:lnTo>
                    <a:pt x="7144" y="96797"/>
                  </a:lnTo>
                  <a:lnTo>
                    <a:pt x="7144" y="128510"/>
                  </a:lnTo>
                  <a:lnTo>
                    <a:pt x="7144" y="156051"/>
                  </a:lnTo>
                  <a:lnTo>
                    <a:pt x="7144" y="188200"/>
                  </a:lnTo>
                  <a:lnTo>
                    <a:pt x="7144" y="218187"/>
                  </a:lnTo>
                  <a:lnTo>
                    <a:pt x="7144" y="247974"/>
                  </a:lnTo>
                  <a:lnTo>
                    <a:pt x="7144" y="280788"/>
                  </a:lnTo>
                  <a:lnTo>
                    <a:pt x="6350" y="310179"/>
                  </a:lnTo>
                  <a:lnTo>
                    <a:pt x="1490" y="343962"/>
                  </a:lnTo>
                  <a:lnTo>
                    <a:pt x="196" y="379003"/>
                  </a:lnTo>
                  <a:lnTo>
                    <a:pt x="3" y="412489"/>
                  </a:lnTo>
                  <a:lnTo>
                    <a:pt x="0" y="39975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2"/>
          <p:cNvSpPr txBox="1"/>
          <p:nvPr/>
        </p:nvSpPr>
        <p:spPr>
          <a:xfrm>
            <a:off x="2023920" y="76212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256" name="WordArt 3"/>
          <p:cNvSpPr txBox="1"/>
          <p:nvPr/>
        </p:nvSpPr>
        <p:spPr>
          <a:xfrm>
            <a:off x="1733400" y="1600200"/>
            <a:ext cx="5639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around permanent magnet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19000" y="250524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magnets have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590840" y="3057480"/>
            <a:ext cx="61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lux lines per uni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6"/>
          <p:cNvGrpSpPr/>
          <p:nvPr/>
        </p:nvGrpSpPr>
        <p:grpSpPr>
          <a:xfrm>
            <a:off x="493920" y="2826360"/>
            <a:ext cx="1831320" cy="1990080"/>
            <a:chOff x="493920" y="2826360"/>
            <a:chExt cx="1831320" cy="1990080"/>
          </a:xfrm>
        </p:grpSpPr>
        <p:sp>
          <p:nvSpPr>
            <p:cNvPr id="260" name="Rectangle 7"/>
            <p:cNvSpPr/>
            <p:nvPr/>
          </p:nvSpPr>
          <p:spPr>
            <a:xfrm>
              <a:off x="504720" y="4483080"/>
              <a:ext cx="68292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Group 8"/>
            <p:cNvGrpSpPr/>
            <p:nvPr/>
          </p:nvGrpSpPr>
          <p:grpSpPr>
            <a:xfrm>
              <a:off x="493920" y="2826360"/>
              <a:ext cx="1831320" cy="1895760"/>
              <a:chOff x="493920" y="2826360"/>
              <a:chExt cx="1831320" cy="1895760"/>
            </a:xfrm>
          </p:grpSpPr>
          <p:sp>
            <p:nvSpPr>
              <p:cNvPr id="262" name="AutoShape 9"/>
              <p:cNvSpPr/>
              <p:nvPr/>
            </p:nvSpPr>
            <p:spPr>
              <a:xfrm rot="21560400">
                <a:off x="504360" y="2836440"/>
                <a:ext cx="1809720" cy="1874880"/>
              </a:xfrm>
              <a:custGeom>
                <a:avLst/>
                <a:gdLst>
                  <a:gd name="textAreaLeft" fmla="*/ 0 w 1809720"/>
                  <a:gd name="textAreaRight" fmla="*/ 1810080 w 1809720"/>
                  <a:gd name="textAreaTop" fmla="*/ 0 h 1874880"/>
                  <a:gd name="textAreaBottom" fmla="*/ 1079640 h 18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835" y="12928"/>
                    </a:moveTo>
                    <a:cubicBezTo>
                      <a:pt x="5546" y="12256"/>
                      <a:pt x="5398" y="11531"/>
                      <a:pt x="5398" y="10800"/>
                    </a:cubicBezTo>
                    <a:cubicBezTo>
                      <a:pt x="5398" y="7816"/>
                      <a:pt x="7816" y="5398"/>
                      <a:pt x="10800" y="5398"/>
                    </a:cubicBezTo>
                    <a:cubicBezTo>
                      <a:pt x="13783" y="5398"/>
                      <a:pt x="16202" y="7816"/>
                      <a:pt x="16202" y="10800"/>
                    </a:cubicBezTo>
                    <a:cubicBezTo>
                      <a:pt x="16202" y="11531"/>
                      <a:pt x="16053" y="12256"/>
                      <a:pt x="15764" y="12928"/>
                    </a:cubicBezTo>
                    <a:lnTo>
                      <a:pt x="20725" y="15056"/>
                    </a:lnTo>
                    <a:cubicBezTo>
                      <a:pt x="21302" y="13711"/>
                      <a:pt x="21600" y="1226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2263"/>
                      <a:pt x="297" y="13711"/>
                      <a:pt x="874" y="15056"/>
                    </a:cubicBezTo>
                    <a:lnTo>
                      <a:pt x="5835" y="12928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10"/>
              <p:cNvSpPr/>
              <p:nvPr/>
            </p:nvSpPr>
            <p:spPr>
              <a:xfrm rot="4656600">
                <a:off x="427680" y="4037760"/>
                <a:ext cx="798480" cy="4636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Rectangle 11"/>
              <p:cNvSpPr/>
              <p:nvPr/>
            </p:nvSpPr>
            <p:spPr>
              <a:xfrm flipH="1" rot="16943400">
                <a:off x="1595520" y="4041720"/>
                <a:ext cx="798480" cy="461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WordArt 12"/>
            <p:cNvSpPr txBox="1"/>
            <p:nvPr/>
          </p:nvSpPr>
          <p:spPr>
            <a:xfrm rot="20821800">
              <a:off x="723600" y="4130640"/>
              <a:ext cx="2491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6" name="WordArt 13"/>
            <p:cNvSpPr txBox="1"/>
            <p:nvPr/>
          </p:nvSpPr>
          <p:spPr>
            <a:xfrm rot="676200">
              <a:off x="1852200" y="4128840"/>
              <a:ext cx="2494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67" name="Group 14"/>
          <p:cNvGrpSpPr/>
          <p:nvPr/>
        </p:nvGrpSpPr>
        <p:grpSpPr>
          <a:xfrm>
            <a:off x="6764760" y="2859840"/>
            <a:ext cx="1831320" cy="1990080"/>
            <a:chOff x="6764760" y="2859840"/>
            <a:chExt cx="1831320" cy="1990080"/>
          </a:xfrm>
        </p:grpSpPr>
        <p:sp>
          <p:nvSpPr>
            <p:cNvPr id="268" name="Rectangle 15"/>
            <p:cNvSpPr/>
            <p:nvPr/>
          </p:nvSpPr>
          <p:spPr>
            <a:xfrm>
              <a:off x="6775560" y="4516560"/>
              <a:ext cx="68292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16"/>
            <p:cNvGrpSpPr/>
            <p:nvPr/>
          </p:nvGrpSpPr>
          <p:grpSpPr>
            <a:xfrm>
              <a:off x="6764760" y="2859840"/>
              <a:ext cx="1831320" cy="1895760"/>
              <a:chOff x="6764760" y="2859840"/>
              <a:chExt cx="1831320" cy="1895760"/>
            </a:xfrm>
          </p:grpSpPr>
          <p:sp>
            <p:nvSpPr>
              <p:cNvPr id="270" name="AutoShape 17"/>
              <p:cNvSpPr/>
              <p:nvPr/>
            </p:nvSpPr>
            <p:spPr>
              <a:xfrm rot="21560400">
                <a:off x="6775200" y="2869920"/>
                <a:ext cx="1809720" cy="1874880"/>
              </a:xfrm>
              <a:custGeom>
                <a:avLst/>
                <a:gdLst>
                  <a:gd name="textAreaLeft" fmla="*/ 0 w 1809720"/>
                  <a:gd name="textAreaRight" fmla="*/ 1810080 w 1809720"/>
                  <a:gd name="textAreaTop" fmla="*/ 0 h 1874880"/>
                  <a:gd name="textAreaBottom" fmla="*/ 1079640 h 18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835" y="12928"/>
                    </a:moveTo>
                    <a:cubicBezTo>
                      <a:pt x="5546" y="12256"/>
                      <a:pt x="5398" y="11531"/>
                      <a:pt x="5398" y="10800"/>
                    </a:cubicBezTo>
                    <a:cubicBezTo>
                      <a:pt x="5398" y="7816"/>
                      <a:pt x="7816" y="5398"/>
                      <a:pt x="10800" y="5398"/>
                    </a:cubicBezTo>
                    <a:cubicBezTo>
                      <a:pt x="13783" y="5398"/>
                      <a:pt x="16202" y="7816"/>
                      <a:pt x="16202" y="10800"/>
                    </a:cubicBezTo>
                    <a:cubicBezTo>
                      <a:pt x="16202" y="11531"/>
                      <a:pt x="16053" y="12256"/>
                      <a:pt x="15764" y="12928"/>
                    </a:cubicBezTo>
                    <a:lnTo>
                      <a:pt x="20725" y="15056"/>
                    </a:lnTo>
                    <a:cubicBezTo>
                      <a:pt x="21302" y="13711"/>
                      <a:pt x="21600" y="1226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2263"/>
                      <a:pt x="297" y="13711"/>
                      <a:pt x="874" y="15056"/>
                    </a:cubicBezTo>
                    <a:lnTo>
                      <a:pt x="5835" y="12928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18"/>
              <p:cNvSpPr/>
              <p:nvPr/>
            </p:nvSpPr>
            <p:spPr>
              <a:xfrm rot="4656600">
                <a:off x="6698520" y="4071240"/>
                <a:ext cx="798480" cy="4636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19"/>
              <p:cNvSpPr/>
              <p:nvPr/>
            </p:nvSpPr>
            <p:spPr>
              <a:xfrm flipH="1" rot="16943400">
                <a:off x="7866360" y="4075200"/>
                <a:ext cx="798480" cy="461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WordArt 20"/>
            <p:cNvSpPr txBox="1"/>
            <p:nvPr/>
          </p:nvSpPr>
          <p:spPr>
            <a:xfrm rot="20821800">
              <a:off x="6994440" y="4164120"/>
              <a:ext cx="2491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4" name="WordArt 21"/>
            <p:cNvSpPr txBox="1"/>
            <p:nvPr/>
          </p:nvSpPr>
          <p:spPr>
            <a:xfrm rot="676200">
              <a:off x="8123040" y="4162320"/>
              <a:ext cx="2494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75" name="Group 22"/>
          <p:cNvGrpSpPr/>
          <p:nvPr/>
        </p:nvGrpSpPr>
        <p:grpSpPr>
          <a:xfrm>
            <a:off x="749160" y="2517120"/>
            <a:ext cx="1425960" cy="2776320"/>
            <a:chOff x="749160" y="2517120"/>
            <a:chExt cx="1425960" cy="2776320"/>
          </a:xfrm>
        </p:grpSpPr>
        <p:sp>
          <p:nvSpPr>
            <p:cNvPr id="276" name="Arc 23"/>
            <p:cNvSpPr/>
            <p:nvPr/>
          </p:nvSpPr>
          <p:spPr>
            <a:xfrm flipV="1" rot="5339400">
              <a:off x="438840" y="3582000"/>
              <a:ext cx="1973160" cy="863280"/>
            </a:xfrm>
            <a:custGeom>
              <a:avLst/>
              <a:gdLst>
                <a:gd name="textAreaLeft" fmla="*/ 0 w 1973160"/>
                <a:gd name="textAreaRight" fmla="*/ 1973520 w 1973160"/>
                <a:gd name="textAreaTop" fmla="*/ 360 h 863280"/>
                <a:gd name="textAreaBottom" fmla="*/ 864000 h 863280"/>
              </a:gdLst>
              <a:ahLst/>
              <a:rect l="textAreaLeft" t="textAreaTop" r="textAreaRight" b="textAreaBottom"/>
              <a:pathLst>
                <a:path fill="none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</a:path>
                <a:path stroke="0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  <a:lnTo>
                    <a:pt x="0" y="11739"/>
                  </a:lnTo>
                  <a:lnTo>
                    <a:pt x="18131" y="-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rc 24"/>
            <p:cNvSpPr/>
            <p:nvPr/>
          </p:nvSpPr>
          <p:spPr>
            <a:xfrm flipV="1" rot="5339400">
              <a:off x="249480" y="3384360"/>
              <a:ext cx="2367000" cy="1044360"/>
            </a:xfrm>
            <a:custGeom>
              <a:avLst/>
              <a:gdLst>
                <a:gd name="textAreaLeft" fmla="*/ 0 w 2367000"/>
                <a:gd name="textAreaRight" fmla="*/ 2367360 w 2367000"/>
                <a:gd name="textAreaTop" fmla="*/ -360 h 1044360"/>
                <a:gd name="textAreaBottom" fmla="*/ 1044360 h 1044360"/>
              </a:gdLst>
              <a:ahLst/>
              <a:rect l="textAreaLeft" t="textAreaTop" r="textAreaRight" b="textAreaBottom"/>
              <a:pathLst>
                <a:path fill="none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</a:path>
                <a:path stroke="0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  <a:lnTo>
                    <a:pt x="0" y="11739"/>
                  </a:lnTo>
                  <a:lnTo>
                    <a:pt x="18131" y="-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Arc 25"/>
            <p:cNvSpPr/>
            <p:nvPr/>
          </p:nvSpPr>
          <p:spPr>
            <a:xfrm flipV="1" rot="5339400">
              <a:off x="154800" y="3259440"/>
              <a:ext cx="2584440" cy="1217520"/>
            </a:xfrm>
            <a:custGeom>
              <a:avLst/>
              <a:gdLst>
                <a:gd name="textAreaLeft" fmla="*/ 0 w 2584440"/>
                <a:gd name="textAreaRight" fmla="*/ 2584800 w 2584440"/>
                <a:gd name="textAreaTop" fmla="*/ 360 h 1217520"/>
                <a:gd name="textAreaBottom" fmla="*/ 1218240 h 1217520"/>
              </a:gdLst>
              <a:ahLst/>
              <a:rect l="textAreaLeft" t="textAreaTop" r="textAreaRight" b="textAreaBottom"/>
              <a:pathLst>
                <a:path fill="none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</a:path>
                <a:path stroke="0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  <a:lnTo>
                    <a:pt x="0" y="11739"/>
                  </a:lnTo>
                  <a:lnTo>
                    <a:pt x="18131" y="-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Arc 26"/>
            <p:cNvSpPr/>
            <p:nvPr/>
          </p:nvSpPr>
          <p:spPr>
            <a:xfrm flipV="1" rot="5339400">
              <a:off x="719280" y="3898080"/>
              <a:ext cx="1401480" cy="518760"/>
            </a:xfrm>
            <a:custGeom>
              <a:avLst/>
              <a:gdLst>
                <a:gd name="textAreaLeft" fmla="*/ 0 w 1401480"/>
                <a:gd name="textAreaRight" fmla="*/ 1401840 w 1401480"/>
                <a:gd name="textAreaTop" fmla="*/ -360 h 518760"/>
                <a:gd name="textAreaBottom" fmla="*/ 518760 h 518760"/>
              </a:gdLst>
              <a:ahLst/>
              <a:rect l="textAreaLeft" t="textAreaTop" r="textAreaRight" b="textAreaBottom"/>
              <a:pathLst>
                <a:path fill="none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</a:path>
                <a:path stroke="0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  <a:lnTo>
                    <a:pt x="0" y="11739"/>
                  </a:lnTo>
                  <a:lnTo>
                    <a:pt x="18131" y="-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Arc 27"/>
            <p:cNvSpPr/>
            <p:nvPr/>
          </p:nvSpPr>
          <p:spPr>
            <a:xfrm flipV="1" rot="5339400">
              <a:off x="647640" y="3790800"/>
              <a:ext cx="1563480" cy="687240"/>
            </a:xfrm>
            <a:custGeom>
              <a:avLst/>
              <a:gdLst>
                <a:gd name="textAreaLeft" fmla="*/ 0 w 1563480"/>
                <a:gd name="textAreaRight" fmla="*/ 1563840 w 1563480"/>
                <a:gd name="textAreaTop" fmla="*/ -360 h 687240"/>
                <a:gd name="textAreaBottom" fmla="*/ 687240 h 687240"/>
              </a:gdLst>
              <a:ahLst/>
              <a:rect l="textAreaLeft" t="textAreaTop" r="textAreaRight" b="textAreaBottom"/>
              <a:pathLst>
                <a:path fill="none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</a:path>
                <a:path stroke="0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  <a:lnTo>
                    <a:pt x="0" y="11739"/>
                  </a:lnTo>
                  <a:lnTo>
                    <a:pt x="18131" y="-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Arc 28"/>
            <p:cNvSpPr/>
            <p:nvPr/>
          </p:nvSpPr>
          <p:spPr>
            <a:xfrm flipV="1" rot="5339400">
              <a:off x="85680" y="3216240"/>
              <a:ext cx="2752560" cy="1377720"/>
            </a:xfrm>
            <a:custGeom>
              <a:avLst/>
              <a:gdLst>
                <a:gd name="textAreaLeft" fmla="*/ 0 w 2752560"/>
                <a:gd name="textAreaRight" fmla="*/ 2752920 w 2752560"/>
                <a:gd name="textAreaTop" fmla="*/ -360 h 1377720"/>
                <a:gd name="textAreaBottom" fmla="*/ 1377720 h 1377720"/>
              </a:gdLst>
              <a:ahLst/>
              <a:rect l="textAreaLeft" t="textAreaTop" r="textAreaRight" b="textAreaBottom"/>
              <a:pathLst>
                <a:path fill="none" w="21600" h="24614">
                  <a:moveTo>
                    <a:pt x="17885" y="0"/>
                  </a:moveTo>
                  <a:cubicBezTo>
                    <a:pt x="20306" y="3574"/>
                    <a:pt x="21600" y="7792"/>
                    <a:pt x="21600" y="12110"/>
                  </a:cubicBezTo>
                  <a:cubicBezTo>
                    <a:pt x="21600" y="16590"/>
                    <a:pt x="20206" y="20960"/>
                    <a:pt x="17612" y="24613"/>
                  </a:cubicBezTo>
                </a:path>
                <a:path stroke="0" w="21600" h="24614">
                  <a:moveTo>
                    <a:pt x="17885" y="0"/>
                  </a:moveTo>
                  <a:cubicBezTo>
                    <a:pt x="20306" y="3574"/>
                    <a:pt x="21600" y="7792"/>
                    <a:pt x="21600" y="12110"/>
                  </a:cubicBezTo>
                  <a:cubicBezTo>
                    <a:pt x="21600" y="16590"/>
                    <a:pt x="20206" y="20960"/>
                    <a:pt x="17612" y="24613"/>
                  </a:cubicBezTo>
                  <a:lnTo>
                    <a:pt x="0" y="12110"/>
                  </a:lnTo>
                  <a:lnTo>
                    <a:pt x="17885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29"/>
          <p:cNvGrpSpPr/>
          <p:nvPr/>
        </p:nvGrpSpPr>
        <p:grpSpPr>
          <a:xfrm>
            <a:off x="7055640" y="2668320"/>
            <a:ext cx="1287720" cy="2660040"/>
            <a:chOff x="7055640" y="2668320"/>
            <a:chExt cx="1287720" cy="2660040"/>
          </a:xfrm>
        </p:grpSpPr>
        <p:sp>
          <p:nvSpPr>
            <p:cNvPr id="283" name="Arc 30"/>
            <p:cNvSpPr/>
            <p:nvPr/>
          </p:nvSpPr>
          <p:spPr>
            <a:xfrm flipV="1" rot="5339400">
              <a:off x="6721920" y="3731400"/>
              <a:ext cx="1973160" cy="863280"/>
            </a:xfrm>
            <a:custGeom>
              <a:avLst/>
              <a:gdLst>
                <a:gd name="textAreaLeft" fmla="*/ 0 w 1973160"/>
                <a:gd name="textAreaRight" fmla="*/ 1973520 w 1973160"/>
                <a:gd name="textAreaTop" fmla="*/ 360 h 863280"/>
                <a:gd name="textAreaBottom" fmla="*/ 864000 h 863280"/>
              </a:gdLst>
              <a:ahLst/>
              <a:rect l="textAreaLeft" t="textAreaTop" r="textAreaRight" b="textAreaBottom"/>
              <a:pathLst>
                <a:path fill="none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</a:path>
                <a:path stroke="0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  <a:lnTo>
                    <a:pt x="0" y="11739"/>
                  </a:lnTo>
                  <a:lnTo>
                    <a:pt x="18131" y="-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rc 31"/>
            <p:cNvSpPr/>
            <p:nvPr/>
          </p:nvSpPr>
          <p:spPr>
            <a:xfrm flipV="1" rot="5339400">
              <a:off x="7002360" y="4004640"/>
              <a:ext cx="1401480" cy="518760"/>
            </a:xfrm>
            <a:custGeom>
              <a:avLst/>
              <a:gdLst>
                <a:gd name="textAreaLeft" fmla="*/ 0 w 1401480"/>
                <a:gd name="textAreaRight" fmla="*/ 1401840 w 1401480"/>
                <a:gd name="textAreaTop" fmla="*/ -360 h 518760"/>
                <a:gd name="textAreaBottom" fmla="*/ 518760 h 518760"/>
              </a:gdLst>
              <a:ahLst/>
              <a:rect l="textAreaLeft" t="textAreaTop" r="textAreaRight" b="textAreaBottom"/>
              <a:pathLst>
                <a:path fill="none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</a:path>
                <a:path stroke="0" w="21600" h="23560">
                  <a:moveTo>
                    <a:pt x="18131" y="-1"/>
                  </a:moveTo>
                  <a:cubicBezTo>
                    <a:pt x="20395" y="3496"/>
                    <a:pt x="21600" y="7573"/>
                    <a:pt x="21600" y="11739"/>
                  </a:cubicBezTo>
                  <a:cubicBezTo>
                    <a:pt x="21600" y="15937"/>
                    <a:pt x="20376" y="20045"/>
                    <a:pt x="18078" y="23559"/>
                  </a:cubicBezTo>
                  <a:lnTo>
                    <a:pt x="0" y="11739"/>
                  </a:lnTo>
                  <a:lnTo>
                    <a:pt x="18131" y="-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rc 32"/>
            <p:cNvSpPr/>
            <p:nvPr/>
          </p:nvSpPr>
          <p:spPr>
            <a:xfrm flipV="1" rot="5339400">
              <a:off x="6380280" y="3376800"/>
              <a:ext cx="2638440" cy="1241640"/>
            </a:xfrm>
            <a:custGeom>
              <a:avLst/>
              <a:gdLst>
                <a:gd name="textAreaLeft" fmla="*/ 0 w 2638440"/>
                <a:gd name="textAreaRight" fmla="*/ 2638800 w 2638440"/>
                <a:gd name="textAreaTop" fmla="*/ -360 h 1241640"/>
                <a:gd name="textAreaBottom" fmla="*/ 1241640 h 1241640"/>
              </a:gdLst>
              <a:ahLst/>
              <a:rect l="textAreaLeft" t="textAreaTop" r="textAreaRight" b="textAreaBottom"/>
              <a:pathLst>
                <a:path fill="none" w="21600" h="24503">
                  <a:moveTo>
                    <a:pt x="17960" y="0"/>
                  </a:moveTo>
                  <a:cubicBezTo>
                    <a:pt x="20333" y="3551"/>
                    <a:pt x="21600" y="7727"/>
                    <a:pt x="21600" y="11999"/>
                  </a:cubicBezTo>
                  <a:cubicBezTo>
                    <a:pt x="21600" y="16479"/>
                    <a:pt x="20206" y="20849"/>
                    <a:pt x="17612" y="24502"/>
                  </a:cubicBezTo>
                </a:path>
                <a:path stroke="0" w="21600" h="24503">
                  <a:moveTo>
                    <a:pt x="17960" y="0"/>
                  </a:moveTo>
                  <a:cubicBezTo>
                    <a:pt x="20333" y="3551"/>
                    <a:pt x="21600" y="7727"/>
                    <a:pt x="21600" y="11999"/>
                  </a:cubicBezTo>
                  <a:cubicBezTo>
                    <a:pt x="21600" y="16479"/>
                    <a:pt x="20206" y="20849"/>
                    <a:pt x="17612" y="24502"/>
                  </a:cubicBezTo>
                  <a:lnTo>
                    <a:pt x="0" y="11999"/>
                  </a:lnTo>
                  <a:lnTo>
                    <a:pt x="1796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WordArt 33"/>
          <p:cNvSpPr txBox="1"/>
          <p:nvPr/>
        </p:nvSpPr>
        <p:spPr>
          <a:xfrm>
            <a:off x="6289560" y="5987880"/>
            <a:ext cx="2428920" cy="4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Weak magnet</a:t>
            </a:r>
            <a:endParaRPr b="0" lang="en-US" sz="3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grpSp>
        <p:nvGrpSpPr>
          <p:cNvPr id="287" name="Group 34"/>
          <p:cNvGrpSpPr/>
          <p:nvPr/>
        </p:nvGrpSpPr>
        <p:grpSpPr>
          <a:xfrm>
            <a:off x="536400" y="4557600"/>
            <a:ext cx="1944360" cy="1795680"/>
            <a:chOff x="536400" y="4557600"/>
            <a:chExt cx="1944360" cy="1795680"/>
          </a:xfrm>
        </p:grpSpPr>
        <p:grpSp>
          <p:nvGrpSpPr>
            <p:cNvPr id="288" name="Group 35"/>
            <p:cNvGrpSpPr/>
            <p:nvPr/>
          </p:nvGrpSpPr>
          <p:grpSpPr>
            <a:xfrm>
              <a:off x="536400" y="4557600"/>
              <a:ext cx="1944360" cy="1795680"/>
              <a:chOff x="536400" y="4557600"/>
              <a:chExt cx="1944360" cy="1795680"/>
            </a:xfrm>
          </p:grpSpPr>
          <p:sp>
            <p:nvSpPr>
              <p:cNvPr id="289" name="Freeform 36"/>
              <p:cNvSpPr/>
              <p:nvPr/>
            </p:nvSpPr>
            <p:spPr>
              <a:xfrm>
                <a:off x="536400" y="4557600"/>
                <a:ext cx="1944360" cy="1030320"/>
              </a:xfrm>
              <a:custGeom>
                <a:avLst/>
                <a:gdLst>
                  <a:gd name="textAreaLeft" fmla="*/ 0 w 1944360"/>
                  <a:gd name="textAreaRight" fmla="*/ 1944360 w 1944360"/>
                  <a:gd name="textAreaTop" fmla="*/ 0 h 1030320"/>
                  <a:gd name="textAreaBottom" fmla="*/ 1030680 h 1030320"/>
                </a:gdLst>
                <a:ahLst/>
                <a:rect l="textAreaLeft" t="textAreaTop" r="textAreaRight" b="textAreaBottom"/>
                <a:pathLst>
                  <a:path w="1225" h="649">
                    <a:moveTo>
                      <a:pt x="0" y="155"/>
                    </a:moveTo>
                    <a:lnTo>
                      <a:pt x="567" y="0"/>
                    </a:lnTo>
                    <a:lnTo>
                      <a:pt x="1225" y="174"/>
                    </a:lnTo>
                    <a:lnTo>
                      <a:pt x="750" y="649"/>
                    </a:lnTo>
                    <a:lnTo>
                      <a:pt x="338" y="649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Group 37"/>
              <p:cNvGrpSpPr/>
              <p:nvPr/>
            </p:nvGrpSpPr>
            <p:grpSpPr>
              <a:xfrm>
                <a:off x="784080" y="4629240"/>
                <a:ext cx="1293120" cy="1535760"/>
                <a:chOff x="784080" y="4629240"/>
                <a:chExt cx="1293120" cy="1535760"/>
              </a:xfrm>
            </p:grpSpPr>
            <p:grpSp>
              <p:nvGrpSpPr>
                <p:cNvPr id="291" name="Group 38"/>
                <p:cNvGrpSpPr/>
                <p:nvPr/>
              </p:nvGrpSpPr>
              <p:grpSpPr>
                <a:xfrm>
                  <a:off x="799560" y="4629240"/>
                  <a:ext cx="493200" cy="564480"/>
                  <a:chOff x="799560" y="4629240"/>
                  <a:chExt cx="493200" cy="564480"/>
                </a:xfrm>
              </p:grpSpPr>
              <p:sp>
                <p:nvSpPr>
                  <p:cNvPr id="292" name="Oval 39"/>
                  <p:cNvSpPr/>
                  <p:nvPr/>
                </p:nvSpPr>
                <p:spPr>
                  <a:xfrm>
                    <a:off x="799560" y="4629240"/>
                    <a:ext cx="493200" cy="11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Freeform 40"/>
                  <p:cNvSpPr/>
                  <p:nvPr/>
                </p:nvSpPr>
                <p:spPr>
                  <a:xfrm>
                    <a:off x="973800" y="4743000"/>
                    <a:ext cx="131400" cy="450720"/>
                  </a:xfrm>
                  <a:custGeom>
                    <a:avLst/>
                    <a:gdLst>
                      <a:gd name="textAreaLeft" fmla="*/ 0 w 131400"/>
                      <a:gd name="textAreaRight" fmla="*/ 131760 w 131400"/>
                      <a:gd name="textAreaTop" fmla="*/ 0 h 450720"/>
                      <a:gd name="textAreaBottom" fmla="*/ 451080 h 450720"/>
                    </a:gdLst>
                    <a:ahLst/>
                    <a:rect l="textAreaLeft" t="textAreaTop" r="textAreaRight" b="textAreaBottom"/>
                    <a:pathLst>
                      <a:path w="156" h="558">
                        <a:moveTo>
                          <a:pt x="0" y="0"/>
                        </a:moveTo>
                        <a:lnTo>
                          <a:pt x="156" y="0"/>
                        </a:lnTo>
                        <a:lnTo>
                          <a:pt x="83" y="5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" name="Group 41"/>
                <p:cNvGrpSpPr/>
                <p:nvPr/>
              </p:nvGrpSpPr>
              <p:grpSpPr>
                <a:xfrm>
                  <a:off x="1583640" y="4673520"/>
                  <a:ext cx="493560" cy="564120"/>
                  <a:chOff x="1583640" y="4673520"/>
                  <a:chExt cx="493560" cy="564120"/>
                </a:xfrm>
              </p:grpSpPr>
              <p:sp>
                <p:nvSpPr>
                  <p:cNvPr id="295" name="Oval 42"/>
                  <p:cNvSpPr/>
                  <p:nvPr/>
                </p:nvSpPr>
                <p:spPr>
                  <a:xfrm>
                    <a:off x="1583640" y="4673520"/>
                    <a:ext cx="493560" cy="11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Freeform 43"/>
                  <p:cNvSpPr/>
                  <p:nvPr/>
                </p:nvSpPr>
                <p:spPr>
                  <a:xfrm>
                    <a:off x="1758240" y="4787280"/>
                    <a:ext cx="131760" cy="45036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0 h 450360"/>
                      <a:gd name="textAreaBottom" fmla="*/ 450720 h 450360"/>
                    </a:gdLst>
                    <a:ahLst/>
                    <a:rect l="textAreaLeft" t="textAreaTop" r="textAreaRight" b="textAreaBottom"/>
                    <a:pathLst>
                      <a:path w="156" h="558">
                        <a:moveTo>
                          <a:pt x="0" y="0"/>
                        </a:moveTo>
                        <a:lnTo>
                          <a:pt x="156" y="0"/>
                        </a:lnTo>
                        <a:lnTo>
                          <a:pt x="83" y="5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7" name="Group 44"/>
                <p:cNvGrpSpPr/>
                <p:nvPr/>
              </p:nvGrpSpPr>
              <p:grpSpPr>
                <a:xfrm>
                  <a:off x="1090080" y="5311440"/>
                  <a:ext cx="493200" cy="564480"/>
                  <a:chOff x="1090080" y="5311440"/>
                  <a:chExt cx="493200" cy="564480"/>
                </a:xfrm>
              </p:grpSpPr>
              <p:sp>
                <p:nvSpPr>
                  <p:cNvPr id="298" name="Oval 45"/>
                  <p:cNvSpPr/>
                  <p:nvPr/>
                </p:nvSpPr>
                <p:spPr>
                  <a:xfrm>
                    <a:off x="1090080" y="5311440"/>
                    <a:ext cx="493200" cy="11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Freeform 46"/>
                  <p:cNvSpPr/>
                  <p:nvPr/>
                </p:nvSpPr>
                <p:spPr>
                  <a:xfrm>
                    <a:off x="1264320" y="5425200"/>
                    <a:ext cx="131400" cy="450720"/>
                  </a:xfrm>
                  <a:custGeom>
                    <a:avLst/>
                    <a:gdLst>
                      <a:gd name="textAreaLeft" fmla="*/ 0 w 131400"/>
                      <a:gd name="textAreaRight" fmla="*/ 131760 w 131400"/>
                      <a:gd name="textAreaTop" fmla="*/ 0 h 450720"/>
                      <a:gd name="textAreaBottom" fmla="*/ 451080 h 450720"/>
                    </a:gdLst>
                    <a:ahLst/>
                    <a:rect l="textAreaLeft" t="textAreaTop" r="textAreaRight" b="textAreaBottom"/>
                    <a:pathLst>
                      <a:path w="156" h="558">
                        <a:moveTo>
                          <a:pt x="0" y="0"/>
                        </a:moveTo>
                        <a:lnTo>
                          <a:pt x="156" y="0"/>
                        </a:lnTo>
                        <a:lnTo>
                          <a:pt x="83" y="5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0" name="Group 47"/>
                <p:cNvGrpSpPr/>
                <p:nvPr/>
              </p:nvGrpSpPr>
              <p:grpSpPr>
                <a:xfrm>
                  <a:off x="784080" y="5035320"/>
                  <a:ext cx="493200" cy="564480"/>
                  <a:chOff x="784080" y="5035320"/>
                  <a:chExt cx="493200" cy="564480"/>
                </a:xfrm>
              </p:grpSpPr>
              <p:sp>
                <p:nvSpPr>
                  <p:cNvPr id="301" name="Oval 48"/>
                  <p:cNvSpPr/>
                  <p:nvPr/>
                </p:nvSpPr>
                <p:spPr>
                  <a:xfrm>
                    <a:off x="784080" y="5035320"/>
                    <a:ext cx="493200" cy="11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Freeform 49"/>
                  <p:cNvSpPr/>
                  <p:nvPr/>
                </p:nvSpPr>
                <p:spPr>
                  <a:xfrm>
                    <a:off x="958320" y="5149080"/>
                    <a:ext cx="131400" cy="450720"/>
                  </a:xfrm>
                  <a:custGeom>
                    <a:avLst/>
                    <a:gdLst>
                      <a:gd name="textAreaLeft" fmla="*/ 0 w 131400"/>
                      <a:gd name="textAreaRight" fmla="*/ 131760 w 131400"/>
                      <a:gd name="textAreaTop" fmla="*/ 0 h 450720"/>
                      <a:gd name="textAreaBottom" fmla="*/ 451080 h 450720"/>
                    </a:gdLst>
                    <a:ahLst/>
                    <a:rect l="textAreaLeft" t="textAreaTop" r="textAreaRight" b="textAreaBottom"/>
                    <a:pathLst>
                      <a:path w="156" h="558">
                        <a:moveTo>
                          <a:pt x="0" y="0"/>
                        </a:moveTo>
                        <a:lnTo>
                          <a:pt x="156" y="0"/>
                        </a:lnTo>
                        <a:lnTo>
                          <a:pt x="83" y="5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3" name="Group 50"/>
                <p:cNvGrpSpPr/>
                <p:nvPr/>
              </p:nvGrpSpPr>
              <p:grpSpPr>
                <a:xfrm>
                  <a:off x="1104120" y="4803480"/>
                  <a:ext cx="493560" cy="564480"/>
                  <a:chOff x="1104120" y="4803480"/>
                  <a:chExt cx="493560" cy="564480"/>
                </a:xfrm>
              </p:grpSpPr>
              <p:sp>
                <p:nvSpPr>
                  <p:cNvPr id="304" name="Oval 51"/>
                  <p:cNvSpPr/>
                  <p:nvPr/>
                </p:nvSpPr>
                <p:spPr>
                  <a:xfrm>
                    <a:off x="1104120" y="4803480"/>
                    <a:ext cx="493560" cy="11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Freeform 52"/>
                  <p:cNvSpPr/>
                  <p:nvPr/>
                </p:nvSpPr>
                <p:spPr>
                  <a:xfrm>
                    <a:off x="1278720" y="4917240"/>
                    <a:ext cx="131760" cy="45072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0 h 450720"/>
                      <a:gd name="textAreaBottom" fmla="*/ 451080 h 450720"/>
                    </a:gdLst>
                    <a:ahLst/>
                    <a:rect l="textAreaLeft" t="textAreaTop" r="textAreaRight" b="textAreaBottom"/>
                    <a:pathLst>
                      <a:path w="156" h="558">
                        <a:moveTo>
                          <a:pt x="0" y="0"/>
                        </a:moveTo>
                        <a:lnTo>
                          <a:pt x="156" y="0"/>
                        </a:lnTo>
                        <a:lnTo>
                          <a:pt x="83" y="5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" name="Group 53"/>
                <p:cNvGrpSpPr/>
                <p:nvPr/>
              </p:nvGrpSpPr>
              <p:grpSpPr>
                <a:xfrm>
                  <a:off x="1307520" y="4992480"/>
                  <a:ext cx="493200" cy="564480"/>
                  <a:chOff x="1307520" y="4992480"/>
                  <a:chExt cx="493200" cy="564480"/>
                </a:xfrm>
              </p:grpSpPr>
              <p:sp>
                <p:nvSpPr>
                  <p:cNvPr id="307" name="Oval 54"/>
                  <p:cNvSpPr/>
                  <p:nvPr/>
                </p:nvSpPr>
                <p:spPr>
                  <a:xfrm>
                    <a:off x="1307520" y="4992480"/>
                    <a:ext cx="493200" cy="11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Freeform 55"/>
                  <p:cNvSpPr/>
                  <p:nvPr/>
                </p:nvSpPr>
                <p:spPr>
                  <a:xfrm>
                    <a:off x="1481760" y="5106240"/>
                    <a:ext cx="131400" cy="450720"/>
                  </a:xfrm>
                  <a:custGeom>
                    <a:avLst/>
                    <a:gdLst>
                      <a:gd name="textAreaLeft" fmla="*/ 0 w 131400"/>
                      <a:gd name="textAreaRight" fmla="*/ 131760 w 131400"/>
                      <a:gd name="textAreaTop" fmla="*/ 0 h 450720"/>
                      <a:gd name="textAreaBottom" fmla="*/ 451080 h 450720"/>
                    </a:gdLst>
                    <a:ahLst/>
                    <a:rect l="textAreaLeft" t="textAreaTop" r="textAreaRight" b="textAreaBottom"/>
                    <a:pathLst>
                      <a:path w="156" h="558">
                        <a:moveTo>
                          <a:pt x="0" y="0"/>
                        </a:moveTo>
                        <a:lnTo>
                          <a:pt x="156" y="0"/>
                        </a:lnTo>
                        <a:lnTo>
                          <a:pt x="83" y="5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Group 56"/>
                <p:cNvGrpSpPr/>
                <p:nvPr/>
              </p:nvGrpSpPr>
              <p:grpSpPr>
                <a:xfrm>
                  <a:off x="1467720" y="5254560"/>
                  <a:ext cx="493560" cy="564120"/>
                  <a:chOff x="1467720" y="5254560"/>
                  <a:chExt cx="493560" cy="564120"/>
                </a:xfrm>
              </p:grpSpPr>
              <p:sp>
                <p:nvSpPr>
                  <p:cNvPr id="310" name="Oval 57"/>
                  <p:cNvSpPr/>
                  <p:nvPr/>
                </p:nvSpPr>
                <p:spPr>
                  <a:xfrm>
                    <a:off x="1467720" y="5254560"/>
                    <a:ext cx="493560" cy="11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Freeform 58"/>
                  <p:cNvSpPr/>
                  <p:nvPr/>
                </p:nvSpPr>
                <p:spPr>
                  <a:xfrm>
                    <a:off x="1642320" y="5368320"/>
                    <a:ext cx="131760" cy="45036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0 h 450360"/>
                      <a:gd name="textAreaBottom" fmla="*/ 450720 h 450360"/>
                    </a:gdLst>
                    <a:ahLst/>
                    <a:rect l="textAreaLeft" t="textAreaTop" r="textAreaRight" b="textAreaBottom"/>
                    <a:pathLst>
                      <a:path w="156" h="558">
                        <a:moveTo>
                          <a:pt x="0" y="0"/>
                        </a:moveTo>
                        <a:lnTo>
                          <a:pt x="156" y="0"/>
                        </a:lnTo>
                        <a:lnTo>
                          <a:pt x="83" y="5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2" name="Group 59"/>
                <p:cNvGrpSpPr/>
                <p:nvPr/>
              </p:nvGrpSpPr>
              <p:grpSpPr>
                <a:xfrm>
                  <a:off x="901080" y="5441760"/>
                  <a:ext cx="493200" cy="564480"/>
                  <a:chOff x="901080" y="5441760"/>
                  <a:chExt cx="493200" cy="564480"/>
                </a:xfrm>
              </p:grpSpPr>
              <p:sp>
                <p:nvSpPr>
                  <p:cNvPr id="313" name="Oval 60"/>
                  <p:cNvSpPr/>
                  <p:nvPr/>
                </p:nvSpPr>
                <p:spPr>
                  <a:xfrm>
                    <a:off x="901080" y="5441760"/>
                    <a:ext cx="493200" cy="11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Freeform 61"/>
                  <p:cNvSpPr/>
                  <p:nvPr/>
                </p:nvSpPr>
                <p:spPr>
                  <a:xfrm>
                    <a:off x="1075320" y="5555520"/>
                    <a:ext cx="131400" cy="450720"/>
                  </a:xfrm>
                  <a:custGeom>
                    <a:avLst/>
                    <a:gdLst>
                      <a:gd name="textAreaLeft" fmla="*/ 0 w 131400"/>
                      <a:gd name="textAreaRight" fmla="*/ 131760 w 131400"/>
                      <a:gd name="textAreaTop" fmla="*/ 0 h 450720"/>
                      <a:gd name="textAreaBottom" fmla="*/ 451080 h 450720"/>
                    </a:gdLst>
                    <a:ahLst/>
                    <a:rect l="textAreaLeft" t="textAreaTop" r="textAreaRight" b="textAreaBottom"/>
                    <a:pathLst>
                      <a:path w="156" h="558">
                        <a:moveTo>
                          <a:pt x="0" y="0"/>
                        </a:moveTo>
                        <a:lnTo>
                          <a:pt x="156" y="0"/>
                        </a:lnTo>
                        <a:lnTo>
                          <a:pt x="83" y="5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5" name="Group 62"/>
                <p:cNvGrpSpPr/>
                <p:nvPr/>
              </p:nvGrpSpPr>
              <p:grpSpPr>
                <a:xfrm>
                  <a:off x="1350360" y="5600520"/>
                  <a:ext cx="493200" cy="564480"/>
                  <a:chOff x="1350360" y="5600520"/>
                  <a:chExt cx="493200" cy="564480"/>
                </a:xfrm>
              </p:grpSpPr>
              <p:sp>
                <p:nvSpPr>
                  <p:cNvPr id="316" name="Oval 63"/>
                  <p:cNvSpPr/>
                  <p:nvPr/>
                </p:nvSpPr>
                <p:spPr>
                  <a:xfrm>
                    <a:off x="1350360" y="5600520"/>
                    <a:ext cx="493200" cy="11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Freeform 64"/>
                  <p:cNvSpPr/>
                  <p:nvPr/>
                </p:nvSpPr>
                <p:spPr>
                  <a:xfrm>
                    <a:off x="1524600" y="5714280"/>
                    <a:ext cx="131400" cy="450720"/>
                  </a:xfrm>
                  <a:custGeom>
                    <a:avLst/>
                    <a:gdLst>
                      <a:gd name="textAreaLeft" fmla="*/ 0 w 131400"/>
                      <a:gd name="textAreaRight" fmla="*/ 131760 w 131400"/>
                      <a:gd name="textAreaTop" fmla="*/ 0 h 450720"/>
                      <a:gd name="textAreaBottom" fmla="*/ 451080 h 450720"/>
                    </a:gdLst>
                    <a:ahLst/>
                    <a:rect l="textAreaLeft" t="textAreaTop" r="textAreaRight" b="textAreaBottom"/>
                    <a:pathLst>
                      <a:path w="156" h="558">
                        <a:moveTo>
                          <a:pt x="0" y="0"/>
                        </a:moveTo>
                        <a:lnTo>
                          <a:pt x="156" y="0"/>
                        </a:lnTo>
                        <a:lnTo>
                          <a:pt x="83" y="5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8" name="Group 65"/>
              <p:cNvGrpSpPr/>
              <p:nvPr/>
            </p:nvGrpSpPr>
            <p:grpSpPr>
              <a:xfrm>
                <a:off x="1840320" y="4651200"/>
                <a:ext cx="504000" cy="638640"/>
                <a:chOff x="1840320" y="4651200"/>
                <a:chExt cx="504000" cy="638640"/>
              </a:xfrm>
            </p:grpSpPr>
            <p:sp>
              <p:nvSpPr>
                <p:cNvPr id="319" name="Oval 66"/>
                <p:cNvSpPr/>
                <p:nvPr/>
              </p:nvSpPr>
              <p:spPr>
                <a:xfrm rot="20452800">
                  <a:off x="1845360" y="4728600"/>
                  <a:ext cx="493200" cy="11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Freeform 67"/>
                <p:cNvSpPr/>
                <p:nvPr/>
              </p:nvSpPr>
              <p:spPr>
                <a:xfrm rot="20452800">
                  <a:off x="2112480" y="4829400"/>
                  <a:ext cx="131400" cy="45108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451080"/>
                    <a:gd name="textAreaBottom" fmla="*/ 451080 h 45108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Group 68"/>
              <p:cNvGrpSpPr/>
              <p:nvPr/>
            </p:nvGrpSpPr>
            <p:grpSpPr>
              <a:xfrm>
                <a:off x="582840" y="4662720"/>
                <a:ext cx="502560" cy="636120"/>
                <a:chOff x="582840" y="4662720"/>
                <a:chExt cx="502560" cy="636120"/>
              </a:xfrm>
            </p:grpSpPr>
            <p:sp>
              <p:nvSpPr>
                <p:cNvPr id="322" name="Oval 69"/>
                <p:cNvSpPr/>
                <p:nvPr/>
              </p:nvSpPr>
              <p:spPr>
                <a:xfrm rot="1215000">
                  <a:off x="587160" y="4744440"/>
                  <a:ext cx="493200" cy="11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Freeform 70"/>
                <p:cNvSpPr/>
                <p:nvPr/>
              </p:nvSpPr>
              <p:spPr>
                <a:xfrm rot="1215000">
                  <a:off x="664200" y="4838760"/>
                  <a:ext cx="131400" cy="45108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451080"/>
                    <a:gd name="textAreaBottom" fmla="*/ 451080 h 45108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Group 71"/>
              <p:cNvGrpSpPr/>
              <p:nvPr/>
            </p:nvGrpSpPr>
            <p:grpSpPr>
              <a:xfrm>
                <a:off x="1785600" y="4991040"/>
                <a:ext cx="493560" cy="565200"/>
                <a:chOff x="1785600" y="4991040"/>
                <a:chExt cx="493560" cy="565200"/>
              </a:xfrm>
            </p:grpSpPr>
            <p:sp>
              <p:nvSpPr>
                <p:cNvPr id="325" name="Oval 72"/>
                <p:cNvSpPr/>
                <p:nvPr/>
              </p:nvSpPr>
              <p:spPr>
                <a:xfrm>
                  <a:off x="1785600" y="4991040"/>
                  <a:ext cx="493560" cy="11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73"/>
                <p:cNvSpPr/>
                <p:nvPr/>
              </p:nvSpPr>
              <p:spPr>
                <a:xfrm>
                  <a:off x="1960200" y="5105160"/>
                  <a:ext cx="131760" cy="45108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451080"/>
                    <a:gd name="textAreaBottom" fmla="*/ 451080 h 45108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Group 74"/>
              <p:cNvGrpSpPr/>
              <p:nvPr/>
            </p:nvGrpSpPr>
            <p:grpSpPr>
              <a:xfrm>
                <a:off x="1089000" y="5788080"/>
                <a:ext cx="493200" cy="565200"/>
                <a:chOff x="1089000" y="5788080"/>
                <a:chExt cx="493200" cy="565200"/>
              </a:xfrm>
            </p:grpSpPr>
            <p:sp>
              <p:nvSpPr>
                <p:cNvPr id="328" name="Oval 75"/>
                <p:cNvSpPr/>
                <p:nvPr/>
              </p:nvSpPr>
              <p:spPr>
                <a:xfrm>
                  <a:off x="1089000" y="5788080"/>
                  <a:ext cx="493200" cy="11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76"/>
                <p:cNvSpPr/>
                <p:nvPr/>
              </p:nvSpPr>
              <p:spPr>
                <a:xfrm>
                  <a:off x="1263240" y="5902200"/>
                  <a:ext cx="131400" cy="45108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451080"/>
                    <a:gd name="textAreaBottom" fmla="*/ 451080 h 45108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0" name="Group 77"/>
            <p:cNvGrpSpPr/>
            <p:nvPr/>
          </p:nvGrpSpPr>
          <p:grpSpPr>
            <a:xfrm>
              <a:off x="623880" y="5226120"/>
              <a:ext cx="493560" cy="565200"/>
              <a:chOff x="623880" y="5226120"/>
              <a:chExt cx="493560" cy="565200"/>
            </a:xfrm>
          </p:grpSpPr>
          <p:sp>
            <p:nvSpPr>
              <p:cNvPr id="331" name="Oval 78"/>
              <p:cNvSpPr/>
              <p:nvPr/>
            </p:nvSpPr>
            <p:spPr>
              <a:xfrm>
                <a:off x="623880" y="5226120"/>
                <a:ext cx="493560" cy="1159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6c6c6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Freeform 79"/>
              <p:cNvSpPr/>
              <p:nvPr/>
            </p:nvSpPr>
            <p:spPr>
              <a:xfrm>
                <a:off x="798480" y="5340240"/>
                <a:ext cx="131760" cy="4510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451080"/>
                  <a:gd name="textAreaBottom" fmla="*/ 451080 h 451080"/>
                </a:gdLst>
                <a:ahLst/>
                <a:rect l="textAreaLeft" t="textAreaTop" r="textAreaRight" b="textAreaBottom"/>
                <a:pathLst>
                  <a:path w="156" h="558">
                    <a:moveTo>
                      <a:pt x="0" y="0"/>
                    </a:moveTo>
                    <a:lnTo>
                      <a:pt x="156" y="0"/>
                    </a:lnTo>
                    <a:lnTo>
                      <a:pt x="83" y="5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3" name="WordArt 80"/>
          <p:cNvSpPr txBox="1"/>
          <p:nvPr/>
        </p:nvSpPr>
        <p:spPr>
          <a:xfrm>
            <a:off x="353880" y="6134040"/>
            <a:ext cx="2428920" cy="4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Strong magnet</a:t>
            </a:r>
            <a:endParaRPr b="0" lang="en-US" sz="3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grpSp>
        <p:nvGrpSpPr>
          <p:cNvPr id="334" name="Group 81"/>
          <p:cNvGrpSpPr/>
          <p:nvPr/>
        </p:nvGrpSpPr>
        <p:grpSpPr>
          <a:xfrm>
            <a:off x="6750000" y="4614840"/>
            <a:ext cx="1944720" cy="1277280"/>
            <a:chOff x="6750000" y="4614840"/>
            <a:chExt cx="1944720" cy="1277280"/>
          </a:xfrm>
        </p:grpSpPr>
        <p:sp>
          <p:nvSpPr>
            <p:cNvPr id="335" name="Freeform 82"/>
            <p:cNvSpPr/>
            <p:nvPr/>
          </p:nvSpPr>
          <p:spPr>
            <a:xfrm>
              <a:off x="6750000" y="4614840"/>
              <a:ext cx="1944720" cy="103032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25" h="649">
                  <a:moveTo>
                    <a:pt x="0" y="155"/>
                  </a:moveTo>
                  <a:lnTo>
                    <a:pt x="567" y="0"/>
                  </a:lnTo>
                  <a:lnTo>
                    <a:pt x="1225" y="174"/>
                  </a:lnTo>
                  <a:lnTo>
                    <a:pt x="750" y="649"/>
                  </a:lnTo>
                  <a:lnTo>
                    <a:pt x="338" y="649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Group 83"/>
            <p:cNvGrpSpPr/>
            <p:nvPr/>
          </p:nvGrpSpPr>
          <p:grpSpPr>
            <a:xfrm>
              <a:off x="6944760" y="4706280"/>
              <a:ext cx="1456200" cy="1185840"/>
              <a:chOff x="6944760" y="4706280"/>
              <a:chExt cx="1456200" cy="1185840"/>
            </a:xfrm>
          </p:grpSpPr>
          <p:grpSp>
            <p:nvGrpSpPr>
              <p:cNvPr id="337" name="Group 84"/>
              <p:cNvGrpSpPr/>
              <p:nvPr/>
            </p:nvGrpSpPr>
            <p:grpSpPr>
              <a:xfrm>
                <a:off x="7903440" y="4706280"/>
                <a:ext cx="497520" cy="576360"/>
                <a:chOff x="7903440" y="4706280"/>
                <a:chExt cx="497520" cy="576360"/>
              </a:xfrm>
            </p:grpSpPr>
            <p:sp>
              <p:nvSpPr>
                <p:cNvPr id="338" name="Oval 85"/>
                <p:cNvSpPr/>
                <p:nvPr/>
              </p:nvSpPr>
              <p:spPr>
                <a:xfrm rot="21473400">
                  <a:off x="7905240" y="4714920"/>
                  <a:ext cx="493560" cy="11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Freeform 86"/>
                <p:cNvSpPr/>
                <p:nvPr/>
              </p:nvSpPr>
              <p:spPr>
                <a:xfrm rot="21473400">
                  <a:off x="8089920" y="4829040"/>
                  <a:ext cx="131760" cy="45108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451080"/>
                    <a:gd name="textAreaBottom" fmla="*/ 451080 h 45108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Group 87"/>
              <p:cNvGrpSpPr/>
              <p:nvPr/>
            </p:nvGrpSpPr>
            <p:grpSpPr>
              <a:xfrm>
                <a:off x="6944760" y="4720680"/>
                <a:ext cx="497520" cy="575640"/>
                <a:chOff x="6944760" y="4720680"/>
                <a:chExt cx="497520" cy="575640"/>
              </a:xfrm>
            </p:grpSpPr>
            <p:sp>
              <p:nvSpPr>
                <p:cNvPr id="341" name="Oval 88"/>
                <p:cNvSpPr/>
                <p:nvPr/>
              </p:nvSpPr>
              <p:spPr>
                <a:xfrm rot="21473400">
                  <a:off x="6946560" y="4729320"/>
                  <a:ext cx="493560" cy="11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Freeform 89"/>
                <p:cNvSpPr/>
                <p:nvPr/>
              </p:nvSpPr>
              <p:spPr>
                <a:xfrm rot="21473400">
                  <a:off x="7131240" y="4843080"/>
                  <a:ext cx="131760" cy="45072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450720"/>
                    <a:gd name="textAreaBottom" fmla="*/ 451080 h 45072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Group 90"/>
              <p:cNvGrpSpPr/>
              <p:nvPr/>
            </p:nvGrpSpPr>
            <p:grpSpPr>
              <a:xfrm>
                <a:off x="7249680" y="4982400"/>
                <a:ext cx="497520" cy="576360"/>
                <a:chOff x="7249680" y="4982400"/>
                <a:chExt cx="497520" cy="576360"/>
              </a:xfrm>
            </p:grpSpPr>
            <p:sp>
              <p:nvSpPr>
                <p:cNvPr id="344" name="Oval 91"/>
                <p:cNvSpPr/>
                <p:nvPr/>
              </p:nvSpPr>
              <p:spPr>
                <a:xfrm rot="21473400">
                  <a:off x="7251480" y="4991040"/>
                  <a:ext cx="493560" cy="11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Freeform 92"/>
                <p:cNvSpPr/>
                <p:nvPr/>
              </p:nvSpPr>
              <p:spPr>
                <a:xfrm rot="21473400">
                  <a:off x="7436160" y="5105160"/>
                  <a:ext cx="131760" cy="45108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451080"/>
                    <a:gd name="textAreaBottom" fmla="*/ 451080 h 45108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Group 93"/>
              <p:cNvGrpSpPr/>
              <p:nvPr/>
            </p:nvGrpSpPr>
            <p:grpSpPr>
              <a:xfrm>
                <a:off x="7684560" y="5010840"/>
                <a:ext cx="497520" cy="576360"/>
                <a:chOff x="7684560" y="5010840"/>
                <a:chExt cx="497520" cy="576360"/>
              </a:xfrm>
            </p:grpSpPr>
            <p:sp>
              <p:nvSpPr>
                <p:cNvPr id="347" name="Oval 94"/>
                <p:cNvSpPr/>
                <p:nvPr/>
              </p:nvSpPr>
              <p:spPr>
                <a:xfrm rot="21473400">
                  <a:off x="7686360" y="5019480"/>
                  <a:ext cx="493560" cy="11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Freeform 95"/>
                <p:cNvSpPr/>
                <p:nvPr/>
              </p:nvSpPr>
              <p:spPr>
                <a:xfrm rot="21473400">
                  <a:off x="7871040" y="5133600"/>
                  <a:ext cx="131760" cy="45108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451080"/>
                    <a:gd name="textAreaBottom" fmla="*/ 451080 h 45108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Group 96"/>
              <p:cNvGrpSpPr/>
              <p:nvPr/>
            </p:nvGrpSpPr>
            <p:grpSpPr>
              <a:xfrm>
                <a:off x="7452720" y="5315760"/>
                <a:ext cx="497520" cy="576360"/>
                <a:chOff x="7452720" y="5315760"/>
                <a:chExt cx="497520" cy="576360"/>
              </a:xfrm>
            </p:grpSpPr>
            <p:sp>
              <p:nvSpPr>
                <p:cNvPr id="350" name="Oval 97"/>
                <p:cNvSpPr/>
                <p:nvPr/>
              </p:nvSpPr>
              <p:spPr>
                <a:xfrm rot="21473400">
                  <a:off x="7454520" y="5324400"/>
                  <a:ext cx="493560" cy="11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Freeform 98"/>
                <p:cNvSpPr/>
                <p:nvPr/>
              </p:nvSpPr>
              <p:spPr>
                <a:xfrm rot="21473400">
                  <a:off x="7639200" y="5438520"/>
                  <a:ext cx="131760" cy="45108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451080"/>
                    <a:gd name="textAreaBottom" fmla="*/ 451080 h 45108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3" descr="earthmag"/>
          <p:cNvPicPr/>
          <p:nvPr/>
        </p:nvPicPr>
        <p:blipFill>
          <a:blip r:embed="rId1"/>
          <a:stretch/>
        </p:blipFill>
        <p:spPr>
          <a:xfrm>
            <a:off x="5334120" y="2590920"/>
            <a:ext cx="4160880" cy="39542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earthpoles"/>
          <p:cNvPicPr/>
          <p:nvPr/>
        </p:nvPicPr>
        <p:blipFill>
          <a:blip r:embed="rId2"/>
          <a:stretch/>
        </p:blipFill>
        <p:spPr>
          <a:xfrm>
            <a:off x="-304920" y="1444680"/>
            <a:ext cx="5791320" cy="54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1027" descr="FG19_30B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2050"/>
          <p:cNvGrpSpPr/>
          <p:nvPr/>
        </p:nvGrpSpPr>
        <p:grpSpPr>
          <a:xfrm>
            <a:off x="1561680" y="1668600"/>
            <a:ext cx="6085080" cy="4296600"/>
            <a:chOff x="1561680" y="1668600"/>
            <a:chExt cx="6085080" cy="4296600"/>
          </a:xfrm>
        </p:grpSpPr>
        <p:sp>
          <p:nvSpPr>
            <p:cNvPr id="358" name="Freeform 2051"/>
            <p:cNvSpPr/>
            <p:nvPr/>
          </p:nvSpPr>
          <p:spPr>
            <a:xfrm rot="20386200">
              <a:off x="2361960" y="534348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052"/>
            <p:cNvSpPr/>
            <p:nvPr/>
          </p:nvSpPr>
          <p:spPr>
            <a:xfrm rot="19747200">
              <a:off x="3143160" y="516276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053"/>
            <p:cNvSpPr/>
            <p:nvPr/>
          </p:nvSpPr>
          <p:spPr>
            <a:xfrm flipH="1" rot="4438800">
              <a:off x="6318360" y="4108320"/>
              <a:ext cx="164880" cy="16560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2054"/>
            <p:cNvSpPr/>
            <p:nvPr/>
          </p:nvSpPr>
          <p:spPr>
            <a:xfrm flipH="1" rot="4438800">
              <a:off x="6578280" y="411768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2055"/>
            <p:cNvSpPr/>
            <p:nvPr/>
          </p:nvSpPr>
          <p:spPr>
            <a:xfrm flipH="1" rot="11911800">
              <a:off x="6416280" y="4984200"/>
              <a:ext cx="164880" cy="16560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2056"/>
            <p:cNvSpPr/>
            <p:nvPr/>
          </p:nvSpPr>
          <p:spPr>
            <a:xfrm flipH="1" rot="13373400">
              <a:off x="4539600" y="576612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2057"/>
            <p:cNvSpPr/>
            <p:nvPr/>
          </p:nvSpPr>
          <p:spPr>
            <a:xfrm flipH="1" rot="13373400">
              <a:off x="4692240" y="531792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2058"/>
            <p:cNvSpPr/>
            <p:nvPr/>
          </p:nvSpPr>
          <p:spPr>
            <a:xfrm flipH="1" rot="12538800">
              <a:off x="6377400" y="5441400"/>
              <a:ext cx="164880" cy="16524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2059"/>
            <p:cNvSpPr/>
            <p:nvPr/>
          </p:nvSpPr>
          <p:spPr>
            <a:xfrm flipH="1" rot="10058400">
              <a:off x="7396560" y="5365080"/>
              <a:ext cx="165240" cy="16560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2060"/>
            <p:cNvSpPr/>
            <p:nvPr/>
          </p:nvSpPr>
          <p:spPr>
            <a:xfrm rot="6838800">
              <a:off x="2513880" y="390528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2061"/>
            <p:cNvSpPr/>
            <p:nvPr/>
          </p:nvSpPr>
          <p:spPr>
            <a:xfrm rot="5868000">
              <a:off x="2656800" y="411444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2062"/>
            <p:cNvSpPr/>
            <p:nvPr/>
          </p:nvSpPr>
          <p:spPr>
            <a:xfrm rot="5860800">
              <a:off x="2361600" y="4124160"/>
              <a:ext cx="164880" cy="1652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2063"/>
            <p:cNvSpPr/>
            <p:nvPr/>
          </p:nvSpPr>
          <p:spPr>
            <a:xfrm flipV="1" rot="1213800">
              <a:off x="2390400" y="212544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2064"/>
            <p:cNvSpPr/>
            <p:nvPr/>
          </p:nvSpPr>
          <p:spPr>
            <a:xfrm flipH="1" flipV="1" rot="17161200">
              <a:off x="6606360" y="335088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2065"/>
            <p:cNvSpPr/>
            <p:nvPr/>
          </p:nvSpPr>
          <p:spPr>
            <a:xfrm flipH="1" flipV="1" rot="8226600">
              <a:off x="4568400" y="170244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2066"/>
            <p:cNvSpPr/>
            <p:nvPr/>
          </p:nvSpPr>
          <p:spPr>
            <a:xfrm flipH="1" flipV="1" rot="9061200">
              <a:off x="6405840" y="2027520"/>
              <a:ext cx="165240" cy="16452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4520"/>
                <a:gd name="textAreaBottom" fmla="*/ 164520 h 16452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2067"/>
            <p:cNvSpPr/>
            <p:nvPr/>
          </p:nvSpPr>
          <p:spPr>
            <a:xfrm flipH="1" flipV="1" rot="11541600">
              <a:off x="7425720" y="2102040"/>
              <a:ext cx="165240" cy="16560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5600"/>
                <a:gd name="textAreaBottom" fmla="*/ 16632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2068"/>
            <p:cNvSpPr/>
            <p:nvPr/>
          </p:nvSpPr>
          <p:spPr>
            <a:xfrm flipV="1" rot="14761200">
              <a:off x="2542320" y="356400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Group 2069"/>
            <p:cNvGrpSpPr/>
            <p:nvPr/>
          </p:nvGrpSpPr>
          <p:grpSpPr>
            <a:xfrm>
              <a:off x="1561680" y="1787400"/>
              <a:ext cx="6085080" cy="4059360"/>
              <a:chOff x="1561680" y="1787400"/>
              <a:chExt cx="6085080" cy="4059360"/>
            </a:xfrm>
          </p:grpSpPr>
          <p:grpSp>
            <p:nvGrpSpPr>
              <p:cNvPr id="377" name="Group 2070"/>
              <p:cNvGrpSpPr/>
              <p:nvPr/>
            </p:nvGrpSpPr>
            <p:grpSpPr>
              <a:xfrm>
                <a:off x="1561680" y="3789360"/>
                <a:ext cx="6056640" cy="2057400"/>
                <a:chOff x="1561680" y="3789360"/>
                <a:chExt cx="6056640" cy="2057400"/>
              </a:xfrm>
            </p:grpSpPr>
            <p:sp>
              <p:nvSpPr>
                <p:cNvPr id="378" name="Oval 2071"/>
                <p:cNvSpPr/>
                <p:nvPr/>
              </p:nvSpPr>
              <p:spPr>
                <a:xfrm>
                  <a:off x="2324160" y="3886200"/>
                  <a:ext cx="4572000" cy="15238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Oval 2072"/>
                <p:cNvSpPr/>
                <p:nvPr/>
              </p:nvSpPr>
              <p:spPr>
                <a:xfrm>
                  <a:off x="1943280" y="3789360"/>
                  <a:ext cx="5257800" cy="205740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Arc 2073"/>
                <p:cNvSpPr/>
                <p:nvPr/>
              </p:nvSpPr>
              <p:spPr>
                <a:xfrm flipH="1">
                  <a:off x="1561320" y="3886200"/>
                  <a:ext cx="1752840" cy="1790640"/>
                </a:xfrm>
                <a:custGeom>
                  <a:avLst/>
                  <a:gdLst>
                    <a:gd name="textAreaLeft" fmla="*/ -360 w 1752840"/>
                    <a:gd name="textAreaRight" fmla="*/ 1752840 w 1752840"/>
                    <a:gd name="textAreaTop" fmla="*/ 0 h 1790640"/>
                    <a:gd name="textAreaBottom" fmla="*/ 1791000 h 1790640"/>
                  </a:gdLst>
                  <a:ahLst/>
                  <a:rect l="textAreaLeft" t="textAreaTop" r="textAreaRight" b="textAreaBottom"/>
                  <a:pathLst>
                    <a:path fill="none" w="21600" h="3385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5974"/>
                        <a:pt x="20271" y="30246"/>
                        <a:pt x="17790" y="33849"/>
                      </a:cubicBezTo>
                    </a:path>
                    <a:path stroke="0" w="21600" h="3385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5974"/>
                        <a:pt x="20271" y="30246"/>
                        <a:pt x="17790" y="33849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Arc 2074"/>
                <p:cNvSpPr/>
                <p:nvPr/>
              </p:nvSpPr>
              <p:spPr>
                <a:xfrm>
                  <a:off x="5865840" y="3946320"/>
                  <a:ext cx="1752480" cy="1743120"/>
                </a:xfrm>
                <a:custGeom>
                  <a:avLst/>
                  <a:gdLst>
                    <a:gd name="textAreaLeft" fmla="*/ 0 w 1752480"/>
                    <a:gd name="textAreaRight" fmla="*/ 1752840 w 1752480"/>
                    <a:gd name="textAreaTop" fmla="*/ 0 h 1743120"/>
                    <a:gd name="textAreaBottom" fmla="*/ 1743480 h 1743120"/>
                  </a:gdLst>
                  <a:ahLst/>
                  <a:rect l="textAreaLeft" t="textAreaTop" r="textAreaRight" b="textAreaBottom"/>
                  <a:pathLst>
                    <a:path fill="none" w="21600" h="32945">
                      <a:moveTo>
                        <a:pt x="6185" y="-1"/>
                      </a:moveTo>
                      <a:cubicBezTo>
                        <a:pt x="15332" y="2733"/>
                        <a:pt x="21600" y="11147"/>
                        <a:pt x="21600" y="20695"/>
                      </a:cubicBezTo>
                      <a:cubicBezTo>
                        <a:pt x="21600" y="25069"/>
                        <a:pt x="20271" y="29341"/>
                        <a:pt x="17790" y="32944"/>
                      </a:cubicBezTo>
                    </a:path>
                    <a:path stroke="0" w="21600" h="32945">
                      <a:moveTo>
                        <a:pt x="6185" y="-1"/>
                      </a:moveTo>
                      <a:cubicBezTo>
                        <a:pt x="15332" y="2733"/>
                        <a:pt x="21600" y="11147"/>
                        <a:pt x="21600" y="20695"/>
                      </a:cubicBezTo>
                      <a:cubicBezTo>
                        <a:pt x="21600" y="25069"/>
                        <a:pt x="20271" y="29341"/>
                        <a:pt x="17790" y="32944"/>
                      </a:cubicBezTo>
                      <a:lnTo>
                        <a:pt x="0" y="20695"/>
                      </a:lnTo>
                      <a:lnTo>
                        <a:pt x="6185" y="-1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head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Group 2075"/>
              <p:cNvGrpSpPr/>
              <p:nvPr/>
            </p:nvGrpSpPr>
            <p:grpSpPr>
              <a:xfrm>
                <a:off x="1590120" y="1787400"/>
                <a:ext cx="6056640" cy="2057400"/>
                <a:chOff x="1590120" y="1787400"/>
                <a:chExt cx="6056640" cy="2057400"/>
              </a:xfrm>
            </p:grpSpPr>
            <p:grpSp>
              <p:nvGrpSpPr>
                <p:cNvPr id="383" name="Group 2076"/>
                <p:cNvGrpSpPr/>
                <p:nvPr/>
              </p:nvGrpSpPr>
              <p:grpSpPr>
                <a:xfrm>
                  <a:off x="1590120" y="1787400"/>
                  <a:ext cx="6056640" cy="2057400"/>
                  <a:chOff x="1590120" y="1787400"/>
                  <a:chExt cx="6056640" cy="2057400"/>
                </a:xfrm>
              </p:grpSpPr>
              <p:sp>
                <p:nvSpPr>
                  <p:cNvPr id="384" name="Oval 2077"/>
                  <p:cNvSpPr/>
                  <p:nvPr/>
                </p:nvSpPr>
                <p:spPr>
                  <a:xfrm flipV="1">
                    <a:off x="2352600" y="2223360"/>
                    <a:ext cx="4572000" cy="15238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Oval 2078"/>
                  <p:cNvSpPr/>
                  <p:nvPr/>
                </p:nvSpPr>
                <p:spPr>
                  <a:xfrm flipV="1">
                    <a:off x="1971720" y="1786680"/>
                    <a:ext cx="5257800" cy="20574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Arc 2079"/>
                  <p:cNvSpPr/>
                  <p:nvPr/>
                </p:nvSpPr>
                <p:spPr>
                  <a:xfrm flipH="1" flipV="1">
                    <a:off x="1589760" y="1957320"/>
                    <a:ext cx="1752840" cy="1790640"/>
                  </a:xfrm>
                  <a:custGeom>
                    <a:avLst/>
                    <a:gdLst>
                      <a:gd name="textAreaLeft" fmla="*/ -360 w 1752840"/>
                      <a:gd name="textAreaRight" fmla="*/ 1752840 w 1752840"/>
                      <a:gd name="textAreaTop" fmla="*/ 360 h 1790640"/>
                      <a:gd name="textAreaBottom" fmla="*/ 1791360 h 1790640"/>
                    </a:gdLst>
                    <a:ahLst/>
                    <a:rect l="textAreaLeft" t="textAreaTop" r="textAreaRight" b="textAreaBottom"/>
                    <a:pathLst>
                      <a:path fill="none" w="21600" h="3385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5974"/>
                          <a:pt x="20271" y="30246"/>
                          <a:pt x="17790" y="33849"/>
                        </a:cubicBezTo>
                      </a:path>
                      <a:path stroke="0" w="21600" h="3385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5974"/>
                          <a:pt x="20271" y="30246"/>
                          <a:pt x="17790" y="33849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Arc 2080"/>
                  <p:cNvSpPr/>
                  <p:nvPr/>
                </p:nvSpPr>
                <p:spPr>
                  <a:xfrm flipV="1">
                    <a:off x="5894280" y="1944720"/>
                    <a:ext cx="1752480" cy="1743120"/>
                  </a:xfrm>
                  <a:custGeom>
                    <a:avLst/>
                    <a:gdLst>
                      <a:gd name="textAreaLeft" fmla="*/ 0 w 1752480"/>
                      <a:gd name="textAreaRight" fmla="*/ 1752840 w 1752480"/>
                      <a:gd name="textAreaTop" fmla="*/ 360 h 1743120"/>
                      <a:gd name="textAreaBottom" fmla="*/ 1743840 h 1743120"/>
                    </a:gdLst>
                    <a:ahLst/>
                    <a:rect l="textAreaLeft" t="textAreaTop" r="textAreaRight" b="textAreaBottom"/>
                    <a:pathLst>
                      <a:path fill="none" w="21600" h="32945">
                        <a:moveTo>
                          <a:pt x="6185" y="-1"/>
                        </a:moveTo>
                        <a:cubicBezTo>
                          <a:pt x="15332" y="2733"/>
                          <a:pt x="21600" y="11147"/>
                          <a:pt x="21600" y="20695"/>
                        </a:cubicBezTo>
                        <a:cubicBezTo>
                          <a:pt x="21600" y="25069"/>
                          <a:pt x="20271" y="29341"/>
                          <a:pt x="17790" y="32944"/>
                        </a:cubicBezTo>
                      </a:path>
                      <a:path stroke="0" w="21600" h="32945">
                        <a:moveTo>
                          <a:pt x="6185" y="-1"/>
                        </a:moveTo>
                        <a:cubicBezTo>
                          <a:pt x="15332" y="2733"/>
                          <a:pt x="21600" y="11147"/>
                          <a:pt x="21600" y="20695"/>
                        </a:cubicBezTo>
                        <a:cubicBezTo>
                          <a:pt x="21600" y="25069"/>
                          <a:pt x="20271" y="29341"/>
                          <a:pt x="17790" y="32944"/>
                        </a:cubicBezTo>
                        <a:lnTo>
                          <a:pt x="0" y="20695"/>
                        </a:lnTo>
                        <a:lnTo>
                          <a:pt x="6185" y="-1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head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8" name="Freeform 2081"/>
                <p:cNvSpPr/>
                <p:nvPr/>
              </p:nvSpPr>
              <p:spPr>
                <a:xfrm flipV="1" rot="1852800">
                  <a:off x="3171600" y="2305800"/>
                  <a:ext cx="165240" cy="16488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Freeform 2082"/>
                <p:cNvSpPr/>
                <p:nvPr/>
              </p:nvSpPr>
              <p:spPr>
                <a:xfrm flipH="1" flipV="1" rot="17161200">
                  <a:off x="6346080" y="3359880"/>
                  <a:ext cx="164880" cy="16524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Freeform 2083"/>
                <p:cNvSpPr/>
                <p:nvPr/>
              </p:nvSpPr>
              <p:spPr>
                <a:xfrm flipH="1" flipV="1" rot="9688200">
                  <a:off x="6444000" y="2484360"/>
                  <a:ext cx="165240" cy="16488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Freeform 2084"/>
                <p:cNvSpPr/>
                <p:nvPr/>
              </p:nvSpPr>
              <p:spPr>
                <a:xfrm flipH="1" flipV="1" rot="8226600">
                  <a:off x="4720680" y="2150640"/>
                  <a:ext cx="165240" cy="16488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Freeform 2085"/>
                <p:cNvSpPr/>
                <p:nvPr/>
              </p:nvSpPr>
              <p:spPr>
                <a:xfrm flipV="1" rot="15732000">
                  <a:off x="2685600" y="3353760"/>
                  <a:ext cx="165240" cy="16488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3" name="Freeform 2086"/>
            <p:cNvSpPr/>
            <p:nvPr/>
          </p:nvSpPr>
          <p:spPr>
            <a:xfrm flipV="1" rot="15739200">
              <a:off x="2390760" y="334440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2087"/>
          <p:cNvGrpSpPr/>
          <p:nvPr/>
        </p:nvGrpSpPr>
        <p:grpSpPr>
          <a:xfrm>
            <a:off x="2876400" y="3429000"/>
            <a:ext cx="3352680" cy="762120"/>
            <a:chOff x="2876400" y="3429000"/>
            <a:chExt cx="3352680" cy="762120"/>
          </a:xfrm>
        </p:grpSpPr>
        <p:sp>
          <p:nvSpPr>
            <p:cNvPr id="395" name="Rectangle 2088"/>
            <p:cNvSpPr/>
            <p:nvPr/>
          </p:nvSpPr>
          <p:spPr>
            <a:xfrm>
              <a:off x="2876400" y="3429000"/>
              <a:ext cx="167616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2089"/>
            <p:cNvSpPr/>
            <p:nvPr/>
          </p:nvSpPr>
          <p:spPr>
            <a:xfrm>
              <a:off x="4552560" y="3429000"/>
              <a:ext cx="1676520" cy="762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WordArt 2090"/>
            <p:cNvSpPr txBox="1"/>
            <p:nvPr/>
          </p:nvSpPr>
          <p:spPr>
            <a:xfrm>
              <a:off x="3028680" y="3581640"/>
              <a:ext cx="304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98" name="WordArt 2091"/>
            <p:cNvSpPr txBox="1"/>
            <p:nvPr/>
          </p:nvSpPr>
          <p:spPr>
            <a:xfrm>
              <a:off x="5848200" y="3581640"/>
              <a:ext cx="3045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399" name="WordArt 2092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400" name="WordArt 2093"/>
          <p:cNvSpPr txBox="1"/>
          <p:nvPr/>
        </p:nvSpPr>
        <p:spPr>
          <a:xfrm>
            <a:off x="1733400" y="1162080"/>
            <a:ext cx="5639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around permanent magnet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01" name="Text Box 2094"/>
          <p:cNvSpPr/>
          <p:nvPr/>
        </p:nvSpPr>
        <p:spPr>
          <a:xfrm>
            <a:off x="704880" y="5797440"/>
            <a:ext cx="805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c Flux lines come out of th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e and go in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U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1026"/>
          <p:cNvGrpSpPr/>
          <p:nvPr/>
        </p:nvGrpSpPr>
        <p:grpSpPr>
          <a:xfrm>
            <a:off x="3124080" y="2380320"/>
            <a:ext cx="2952720" cy="2682720"/>
            <a:chOff x="3124080" y="2380320"/>
            <a:chExt cx="2952720" cy="2682720"/>
          </a:xfrm>
        </p:grpSpPr>
        <p:sp>
          <p:nvSpPr>
            <p:cNvPr id="403" name="Freeform 1027"/>
            <p:cNvSpPr/>
            <p:nvPr/>
          </p:nvSpPr>
          <p:spPr>
            <a:xfrm flipV="1" rot="11581800">
              <a:off x="5544720" y="452844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1028"/>
            <p:cNvSpPr/>
            <p:nvPr/>
          </p:nvSpPr>
          <p:spPr>
            <a:xfrm flipV="1" rot="13696200">
              <a:off x="4485600" y="4863600"/>
              <a:ext cx="165600" cy="16452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-360 h 164520"/>
                <a:gd name="textAreaBottom" fmla="*/ 164520 h 16452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1029"/>
            <p:cNvSpPr/>
            <p:nvPr/>
          </p:nvSpPr>
          <p:spPr>
            <a:xfrm flipH="1" flipV="1" rot="18666000">
              <a:off x="4493520" y="4407480"/>
              <a:ext cx="164880" cy="16524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1030"/>
            <p:cNvSpPr/>
            <p:nvPr/>
          </p:nvSpPr>
          <p:spPr>
            <a:xfrm flipH="1" flipV="1" rot="18518400">
              <a:off x="4489920" y="3871440"/>
              <a:ext cx="165600" cy="165240"/>
            </a:xfrm>
            <a:custGeom>
              <a:avLst/>
              <a:gdLst>
                <a:gd name="textAreaLeft" fmla="*/ 360 w 165600"/>
                <a:gd name="textAreaRight" fmla="*/ 166320 w 16560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1031"/>
            <p:cNvSpPr/>
            <p:nvPr/>
          </p:nvSpPr>
          <p:spPr>
            <a:xfrm flipH="1" flipV="1" rot="21258600">
              <a:off x="3459600" y="449316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1032"/>
            <p:cNvSpPr/>
            <p:nvPr/>
          </p:nvSpPr>
          <p:spPr>
            <a:xfrm flipV="1" rot="15221400">
              <a:off x="3752640" y="411732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1033"/>
            <p:cNvSpPr/>
            <p:nvPr/>
          </p:nvSpPr>
          <p:spPr>
            <a:xfrm flipV="1" rot="12460200">
              <a:off x="5260680" y="407412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Group 1034"/>
            <p:cNvGrpSpPr/>
            <p:nvPr/>
          </p:nvGrpSpPr>
          <p:grpSpPr>
            <a:xfrm>
              <a:off x="3124080" y="2484360"/>
              <a:ext cx="2952720" cy="2457360"/>
              <a:chOff x="3124080" y="2484360"/>
              <a:chExt cx="2952720" cy="2457360"/>
            </a:xfrm>
          </p:grpSpPr>
          <p:sp>
            <p:nvSpPr>
              <p:cNvPr id="411" name="Oval 1035"/>
              <p:cNvSpPr/>
              <p:nvPr/>
            </p:nvSpPr>
            <p:spPr>
              <a:xfrm flipV="1">
                <a:off x="3162240" y="2882520"/>
                <a:ext cx="2876400" cy="1619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Oval 1036"/>
              <p:cNvSpPr/>
              <p:nvPr/>
            </p:nvSpPr>
            <p:spPr>
              <a:xfrm flipV="1">
                <a:off x="3124080" y="2484000"/>
                <a:ext cx="2952720" cy="2457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Oval 1037"/>
              <p:cNvSpPr/>
              <p:nvPr/>
            </p:nvSpPr>
            <p:spPr>
              <a:xfrm flipV="1">
                <a:off x="3143160" y="3130560"/>
                <a:ext cx="2819520" cy="1123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Oval 1038"/>
              <p:cNvSpPr/>
              <p:nvPr/>
            </p:nvSpPr>
            <p:spPr>
              <a:xfrm flipV="1">
                <a:off x="3181320" y="3377160"/>
                <a:ext cx="2781360" cy="590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1039"/>
              <p:cNvSpPr/>
              <p:nvPr/>
            </p:nvSpPr>
            <p:spPr>
              <a:xfrm flipH="1">
                <a:off x="3266640" y="3676680"/>
                <a:ext cx="264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Freeform 1040"/>
            <p:cNvSpPr/>
            <p:nvPr/>
          </p:nvSpPr>
          <p:spPr>
            <a:xfrm flipH="1" flipV="1" rot="18622200">
              <a:off x="5175000" y="3586320"/>
              <a:ext cx="164880" cy="16488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041"/>
            <p:cNvSpPr/>
            <p:nvPr/>
          </p:nvSpPr>
          <p:spPr>
            <a:xfrm flipH="1" flipV="1" rot="18578400">
              <a:off x="4494240" y="328896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042"/>
            <p:cNvSpPr/>
            <p:nvPr/>
          </p:nvSpPr>
          <p:spPr>
            <a:xfrm flipH="1" flipV="1" rot="19630200">
              <a:off x="5239080" y="313740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043"/>
            <p:cNvSpPr/>
            <p:nvPr/>
          </p:nvSpPr>
          <p:spPr>
            <a:xfrm flipH="1" flipV="1" rot="17784000">
              <a:off x="3801240" y="310356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044"/>
            <p:cNvSpPr/>
            <p:nvPr/>
          </p:nvSpPr>
          <p:spPr>
            <a:xfrm flipH="1" flipV="1" rot="18739800">
              <a:off x="4491720" y="2795400"/>
              <a:ext cx="164880" cy="16524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045"/>
            <p:cNvSpPr/>
            <p:nvPr/>
          </p:nvSpPr>
          <p:spPr>
            <a:xfrm flipV="1" rot="13687800">
              <a:off x="4398120" y="2413800"/>
              <a:ext cx="165240" cy="1656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360 h 165600"/>
                <a:gd name="textAreaBottom" fmla="*/ 16632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046"/>
            <p:cNvSpPr/>
            <p:nvPr/>
          </p:nvSpPr>
          <p:spPr>
            <a:xfrm flipV="1" rot="15732000">
              <a:off x="5466960" y="270720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047"/>
            <p:cNvSpPr/>
            <p:nvPr/>
          </p:nvSpPr>
          <p:spPr>
            <a:xfrm flipV="1" rot="11413200">
              <a:off x="3561840" y="2698560"/>
              <a:ext cx="165240" cy="1645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-360 h 164520"/>
                <a:gd name="textAreaBottom" fmla="*/ 164520 h 16452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048"/>
            <p:cNvSpPr/>
            <p:nvPr/>
          </p:nvSpPr>
          <p:spPr>
            <a:xfrm flipH="1" flipV="1" rot="18655800">
              <a:off x="3879000" y="3585240"/>
              <a:ext cx="164880" cy="16524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Group 1049"/>
          <p:cNvGrpSpPr/>
          <p:nvPr/>
        </p:nvGrpSpPr>
        <p:grpSpPr>
          <a:xfrm>
            <a:off x="914400" y="3257640"/>
            <a:ext cx="7315200" cy="761760"/>
            <a:chOff x="914400" y="3257640"/>
            <a:chExt cx="7315200" cy="761760"/>
          </a:xfrm>
        </p:grpSpPr>
        <p:sp>
          <p:nvSpPr>
            <p:cNvPr id="426" name="Rectangle 1050"/>
            <p:cNvSpPr/>
            <p:nvPr/>
          </p:nvSpPr>
          <p:spPr>
            <a:xfrm>
              <a:off x="5905440" y="3257640"/>
              <a:ext cx="1162080" cy="761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1051"/>
            <p:cNvSpPr/>
            <p:nvPr/>
          </p:nvSpPr>
          <p:spPr>
            <a:xfrm>
              <a:off x="7067520" y="3257640"/>
              <a:ext cx="116208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WordArt 1052"/>
            <p:cNvSpPr txBox="1"/>
            <p:nvPr/>
          </p:nvSpPr>
          <p:spPr>
            <a:xfrm>
              <a:off x="6012000" y="3409920"/>
              <a:ext cx="3632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29" name="WordArt 1053"/>
            <p:cNvSpPr txBox="1"/>
            <p:nvPr/>
          </p:nvSpPr>
          <p:spPr>
            <a:xfrm>
              <a:off x="7775640" y="339084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30" name="Rectangle 1054"/>
            <p:cNvSpPr/>
            <p:nvPr/>
          </p:nvSpPr>
          <p:spPr>
            <a:xfrm>
              <a:off x="914400" y="3257640"/>
              <a:ext cx="1181160" cy="761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055"/>
            <p:cNvSpPr/>
            <p:nvPr/>
          </p:nvSpPr>
          <p:spPr>
            <a:xfrm>
              <a:off x="2095560" y="3257640"/>
              <a:ext cx="118116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WordArt 1056"/>
            <p:cNvSpPr txBox="1"/>
            <p:nvPr/>
          </p:nvSpPr>
          <p:spPr>
            <a:xfrm>
              <a:off x="1020600" y="339084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33" name="WordArt 1057"/>
            <p:cNvSpPr txBox="1"/>
            <p:nvPr/>
          </p:nvSpPr>
          <p:spPr>
            <a:xfrm>
              <a:off x="2765520" y="339084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434" name="Text Box 1058"/>
          <p:cNvSpPr/>
          <p:nvPr/>
        </p:nvSpPr>
        <p:spPr>
          <a:xfrm>
            <a:off x="704880" y="5797440"/>
            <a:ext cx="805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c Flux lines come out of th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e and go in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U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WordArt 1059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436" name="WordArt 1060"/>
          <p:cNvSpPr txBox="1"/>
          <p:nvPr/>
        </p:nvSpPr>
        <p:spPr>
          <a:xfrm>
            <a:off x="1733400" y="1162080"/>
            <a:ext cx="5639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around permanent magnet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37" name="SMARTInkShape-121"/>
          <p:cNvSpPr/>
          <p:nvPr/>
        </p:nvSpPr>
        <p:spPr>
          <a:xfrm>
            <a:off x="3965400" y="3184560"/>
            <a:ext cx="276480" cy="108000"/>
          </a:xfrm>
          <a:custGeom>
            <a:avLst/>
            <a:gdLst>
              <a:gd name="textAreaLeft" fmla="*/ 0 w 276480"/>
              <a:gd name="textAreaRight" fmla="*/ 276840 w 2764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75842" h="108502">
                <a:moveTo>
                  <a:pt x="275841" y="0"/>
                </a:moveTo>
                <a:lnTo>
                  <a:pt x="248539" y="4480"/>
                </a:lnTo>
                <a:lnTo>
                  <a:pt x="220134" y="9182"/>
                </a:lnTo>
                <a:lnTo>
                  <a:pt x="192428" y="14712"/>
                </a:lnTo>
                <a:lnTo>
                  <a:pt x="166885" y="22461"/>
                </a:lnTo>
                <a:lnTo>
                  <a:pt x="142304" y="31197"/>
                </a:lnTo>
                <a:lnTo>
                  <a:pt x="118149" y="41165"/>
                </a:lnTo>
                <a:lnTo>
                  <a:pt x="94185" y="53533"/>
                </a:lnTo>
                <a:lnTo>
                  <a:pt x="70305" y="66967"/>
                </a:lnTo>
                <a:lnTo>
                  <a:pt x="46462" y="80875"/>
                </a:lnTo>
                <a:lnTo>
                  <a:pt x="22636" y="94994"/>
                </a:lnTo>
                <a:lnTo>
                  <a:pt x="0" y="108501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MARTInkShape-122"/>
          <p:cNvSpPr/>
          <p:nvPr/>
        </p:nvSpPr>
        <p:spPr>
          <a:xfrm>
            <a:off x="3943440" y="3757680"/>
            <a:ext cx="11160" cy="17280"/>
          </a:xfrm>
          <a:custGeom>
            <a:avLst/>
            <a:gdLst>
              <a:gd name="textAreaLeft" fmla="*/ 0 w 11160"/>
              <a:gd name="textAreaRight" fmla="*/ 11520 w 111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210" h="17421">
                <a:moveTo>
                  <a:pt x="0" y="0"/>
                </a:moveTo>
                <a:lnTo>
                  <a:pt x="5856" y="7376"/>
                </a:lnTo>
                <a:lnTo>
                  <a:pt x="7721" y="12057"/>
                </a:lnTo>
                <a:lnTo>
                  <a:pt x="11196" y="16784"/>
                </a:lnTo>
                <a:lnTo>
                  <a:pt x="12209" y="17420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8080" bIns="-2808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SMARTInkShape-Group50"/>
          <p:cNvGrpSpPr/>
          <p:nvPr/>
        </p:nvGrpSpPr>
        <p:grpSpPr>
          <a:xfrm>
            <a:off x="3900600" y="3738600"/>
            <a:ext cx="163440" cy="60120"/>
            <a:chOff x="3900600" y="3738600"/>
            <a:chExt cx="163440" cy="60120"/>
          </a:xfrm>
        </p:grpSpPr>
        <p:sp>
          <p:nvSpPr>
            <p:cNvPr id="440" name="SMARTInkShape-123"/>
            <p:cNvSpPr/>
            <p:nvPr/>
          </p:nvSpPr>
          <p:spPr>
            <a:xfrm>
              <a:off x="3950280" y="3760560"/>
              <a:ext cx="39600" cy="1080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9654" h="11126">
                  <a:moveTo>
                    <a:pt x="11677" y="11042"/>
                  </a:moveTo>
                  <a:lnTo>
                    <a:pt x="1403" y="11125"/>
                  </a:lnTo>
                  <a:lnTo>
                    <a:pt x="738" y="10334"/>
                  </a:lnTo>
                  <a:lnTo>
                    <a:pt x="0" y="7339"/>
                  </a:lnTo>
                  <a:lnTo>
                    <a:pt x="1390" y="6222"/>
                  </a:lnTo>
                  <a:lnTo>
                    <a:pt x="10932" y="4651"/>
                  </a:lnTo>
                  <a:lnTo>
                    <a:pt x="-25883" y="0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SMARTInkShape-124"/>
            <p:cNvSpPr/>
            <p:nvPr/>
          </p:nvSpPr>
          <p:spPr>
            <a:xfrm>
              <a:off x="3900600" y="3780000"/>
              <a:ext cx="1800" cy="18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960" h="18881">
                  <a:moveTo>
                    <a:pt x="1106" y="0"/>
                  </a:moveTo>
                  <a:lnTo>
                    <a:pt x="939" y="615"/>
                  </a:lnTo>
                  <a:lnTo>
                    <a:pt x="0" y="10262"/>
                  </a:lnTo>
                  <a:lnTo>
                    <a:pt x="1959" y="18880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SMARTInkShape-125"/>
            <p:cNvSpPr/>
            <p:nvPr/>
          </p:nvSpPr>
          <p:spPr>
            <a:xfrm>
              <a:off x="3958200" y="3738600"/>
              <a:ext cx="105840" cy="187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5806" h="19043">
                  <a:moveTo>
                    <a:pt x="85566" y="7827"/>
                  </a:moveTo>
                  <a:lnTo>
                    <a:pt x="56699" y="10527"/>
                  </a:lnTo>
                  <a:lnTo>
                    <a:pt x="22729" y="16561"/>
                  </a:lnTo>
                  <a:lnTo>
                    <a:pt x="0" y="18973"/>
                  </a:lnTo>
                  <a:lnTo>
                    <a:pt x="3075" y="19042"/>
                  </a:lnTo>
                  <a:lnTo>
                    <a:pt x="36813" y="11794"/>
                  </a:lnTo>
                  <a:lnTo>
                    <a:pt x="63019" y="6420"/>
                  </a:lnTo>
                  <a:lnTo>
                    <a:pt x="96359" y="594"/>
                  </a:lnTo>
                  <a:lnTo>
                    <a:pt x="105805" y="0"/>
                  </a:lnTo>
                </a:path>
              </a:pathLst>
            </a:custGeom>
            <a:noFill/>
            <a:ln w="1908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SMARTInkShape-Group51"/>
          <p:cNvGrpSpPr/>
          <p:nvPr/>
        </p:nvGrpSpPr>
        <p:grpSpPr>
          <a:xfrm>
            <a:off x="3322800" y="3105000"/>
            <a:ext cx="2493720" cy="1730520"/>
            <a:chOff x="3322800" y="3105000"/>
            <a:chExt cx="2493720" cy="1730520"/>
          </a:xfrm>
        </p:grpSpPr>
        <p:sp>
          <p:nvSpPr>
            <p:cNvPr id="444" name="SMARTInkShape-126"/>
            <p:cNvSpPr/>
            <p:nvPr/>
          </p:nvSpPr>
          <p:spPr>
            <a:xfrm>
              <a:off x="4104360" y="4772520"/>
              <a:ext cx="84960" cy="6300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85092" h="63070">
                  <a:moveTo>
                    <a:pt x="85091" y="0"/>
                  </a:moveTo>
                  <a:lnTo>
                    <a:pt x="76756" y="4533"/>
                  </a:lnTo>
                  <a:lnTo>
                    <a:pt x="44825" y="24099"/>
                  </a:lnTo>
                  <a:lnTo>
                    <a:pt x="14462" y="47889"/>
                  </a:lnTo>
                  <a:lnTo>
                    <a:pt x="0" y="63069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SMARTInkShape-127"/>
            <p:cNvSpPr/>
            <p:nvPr/>
          </p:nvSpPr>
          <p:spPr>
            <a:xfrm>
              <a:off x="3971880" y="3735720"/>
              <a:ext cx="101520" cy="32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01626" h="3326">
                  <a:moveTo>
                    <a:pt x="101625" y="0"/>
                  </a:moveTo>
                  <a:lnTo>
                    <a:pt x="94628" y="55"/>
                  </a:lnTo>
                  <a:lnTo>
                    <a:pt x="59211" y="219"/>
                  </a:lnTo>
                  <a:lnTo>
                    <a:pt x="24949" y="1085"/>
                  </a:lnTo>
                  <a:lnTo>
                    <a:pt x="0" y="332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120" bIns="-421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SMARTInkShape-128"/>
            <p:cNvSpPr/>
            <p:nvPr/>
          </p:nvSpPr>
          <p:spPr>
            <a:xfrm>
              <a:off x="3322800" y="3105000"/>
              <a:ext cx="444600" cy="3668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445025" h="367268">
                  <a:moveTo>
                    <a:pt x="445024" y="0"/>
                  </a:moveTo>
                  <a:lnTo>
                    <a:pt x="443797" y="776"/>
                  </a:lnTo>
                  <a:lnTo>
                    <a:pt x="414731" y="19703"/>
                  </a:lnTo>
                  <a:lnTo>
                    <a:pt x="385937" y="40815"/>
                  </a:lnTo>
                  <a:lnTo>
                    <a:pt x="357265" y="62633"/>
                  </a:lnTo>
                  <a:lnTo>
                    <a:pt x="328647" y="82914"/>
                  </a:lnTo>
                  <a:lnTo>
                    <a:pt x="302169" y="104627"/>
                  </a:lnTo>
                  <a:lnTo>
                    <a:pt x="277172" y="126713"/>
                  </a:lnTo>
                  <a:lnTo>
                    <a:pt x="252834" y="147112"/>
                  </a:lnTo>
                  <a:lnTo>
                    <a:pt x="228787" y="168879"/>
                  </a:lnTo>
                  <a:lnTo>
                    <a:pt x="204870" y="190988"/>
                  </a:lnTo>
                  <a:lnTo>
                    <a:pt x="169887" y="220491"/>
                  </a:lnTo>
                  <a:lnTo>
                    <a:pt x="139060" y="245461"/>
                  </a:lnTo>
                  <a:lnTo>
                    <a:pt x="109818" y="271821"/>
                  </a:lnTo>
                  <a:lnTo>
                    <a:pt x="81839" y="295065"/>
                  </a:lnTo>
                  <a:lnTo>
                    <a:pt x="52766" y="324253"/>
                  </a:lnTo>
                  <a:lnTo>
                    <a:pt x="26557" y="353606"/>
                  </a:lnTo>
                  <a:lnTo>
                    <a:pt x="12807" y="362866"/>
                  </a:lnTo>
                  <a:lnTo>
                    <a:pt x="0" y="3672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SMARTInkShape-129"/>
            <p:cNvSpPr/>
            <p:nvPr/>
          </p:nvSpPr>
          <p:spPr>
            <a:xfrm>
              <a:off x="3819960" y="4596480"/>
              <a:ext cx="420840" cy="2044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421118" h="204577">
                  <a:moveTo>
                    <a:pt x="421117" y="204576"/>
                  </a:moveTo>
                  <a:lnTo>
                    <a:pt x="416914" y="203066"/>
                  </a:lnTo>
                  <a:lnTo>
                    <a:pt x="397894" y="196133"/>
                  </a:lnTo>
                  <a:lnTo>
                    <a:pt x="379658" y="189130"/>
                  </a:lnTo>
                  <a:lnTo>
                    <a:pt x="344579" y="174999"/>
                  </a:lnTo>
                  <a:lnTo>
                    <a:pt x="310468" y="160781"/>
                  </a:lnTo>
                  <a:lnTo>
                    <a:pt x="276786" y="146524"/>
                  </a:lnTo>
                  <a:lnTo>
                    <a:pt x="243296" y="132251"/>
                  </a:lnTo>
                  <a:lnTo>
                    <a:pt x="209890" y="115852"/>
                  </a:lnTo>
                  <a:lnTo>
                    <a:pt x="176523" y="97981"/>
                  </a:lnTo>
                  <a:lnTo>
                    <a:pt x="143171" y="79455"/>
                  </a:lnTo>
                  <a:lnTo>
                    <a:pt x="111945" y="60638"/>
                  </a:lnTo>
                  <a:lnTo>
                    <a:pt x="81398" y="42485"/>
                  </a:lnTo>
                  <a:lnTo>
                    <a:pt x="49300" y="26480"/>
                  </a:lnTo>
                  <a:lnTo>
                    <a:pt x="16514" y="931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SMARTInkShape-130"/>
            <p:cNvSpPr/>
            <p:nvPr/>
          </p:nvSpPr>
          <p:spPr>
            <a:xfrm>
              <a:off x="5702760" y="4126680"/>
              <a:ext cx="113760" cy="16164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13921" h="161743">
                  <a:moveTo>
                    <a:pt x="113920" y="0"/>
                  </a:moveTo>
                  <a:lnTo>
                    <a:pt x="104738" y="17254"/>
                  </a:lnTo>
                  <a:lnTo>
                    <a:pt x="88372" y="45357"/>
                  </a:lnTo>
                  <a:lnTo>
                    <a:pt x="68442" y="73792"/>
                  </a:lnTo>
                  <a:lnTo>
                    <a:pt x="45339" y="104442"/>
                  </a:lnTo>
                  <a:lnTo>
                    <a:pt x="18385" y="138659"/>
                  </a:lnTo>
                  <a:lnTo>
                    <a:pt x="0" y="16174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SMARTInkShape-Group52"/>
          <p:cNvGrpSpPr/>
          <p:nvPr/>
        </p:nvGrpSpPr>
        <p:grpSpPr>
          <a:xfrm>
            <a:off x="30240" y="3535200"/>
            <a:ext cx="934920" cy="401760"/>
            <a:chOff x="30240" y="3535200"/>
            <a:chExt cx="934920" cy="401760"/>
          </a:xfrm>
        </p:grpSpPr>
        <p:sp>
          <p:nvSpPr>
            <p:cNvPr id="450" name="SMARTInkShape-131"/>
            <p:cNvSpPr/>
            <p:nvPr/>
          </p:nvSpPr>
          <p:spPr>
            <a:xfrm>
              <a:off x="30240" y="3671280"/>
              <a:ext cx="934920" cy="7884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34776" h="78582">
                  <a:moveTo>
                    <a:pt x="934775" y="0"/>
                  </a:moveTo>
                  <a:lnTo>
                    <a:pt x="928625" y="6150"/>
                  </a:lnTo>
                  <a:lnTo>
                    <a:pt x="921568" y="7056"/>
                  </a:lnTo>
                  <a:lnTo>
                    <a:pt x="910639" y="7135"/>
                  </a:lnTo>
                  <a:lnTo>
                    <a:pt x="906057" y="9256"/>
                  </a:lnTo>
                  <a:lnTo>
                    <a:pt x="901374" y="12051"/>
                  </a:lnTo>
                  <a:lnTo>
                    <a:pt x="894275" y="14418"/>
                  </a:lnTo>
                  <a:lnTo>
                    <a:pt x="886351" y="19000"/>
                  </a:lnTo>
                  <a:lnTo>
                    <a:pt x="851307" y="27487"/>
                  </a:lnTo>
                  <a:lnTo>
                    <a:pt x="819832" y="34085"/>
                  </a:lnTo>
                  <a:lnTo>
                    <a:pt x="784672" y="40413"/>
                  </a:lnTo>
                  <a:lnTo>
                    <a:pt x="749027" y="46332"/>
                  </a:lnTo>
                  <a:lnTo>
                    <a:pt x="715551" y="50074"/>
                  </a:lnTo>
                  <a:lnTo>
                    <a:pt x="680952" y="55517"/>
                  </a:lnTo>
                  <a:lnTo>
                    <a:pt x="652135" y="56666"/>
                  </a:lnTo>
                  <a:lnTo>
                    <a:pt x="617272" y="60846"/>
                  </a:lnTo>
                  <a:lnTo>
                    <a:pt x="589258" y="63272"/>
                  </a:lnTo>
                  <a:lnTo>
                    <a:pt x="560849" y="63991"/>
                  </a:lnTo>
                  <a:lnTo>
                    <a:pt x="532323" y="64204"/>
                  </a:lnTo>
                  <a:lnTo>
                    <a:pt x="503763" y="64267"/>
                  </a:lnTo>
                  <a:lnTo>
                    <a:pt x="471400" y="68078"/>
                  </a:lnTo>
                  <a:lnTo>
                    <a:pt x="440468" y="70442"/>
                  </a:lnTo>
                  <a:lnTo>
                    <a:pt x="411194" y="71142"/>
                  </a:lnTo>
                  <a:lnTo>
                    <a:pt x="378620" y="71350"/>
                  </a:lnTo>
                  <a:lnTo>
                    <a:pt x="347625" y="75203"/>
                  </a:lnTo>
                  <a:lnTo>
                    <a:pt x="314541" y="77580"/>
                  </a:lnTo>
                  <a:lnTo>
                    <a:pt x="283395" y="78284"/>
                  </a:lnTo>
                  <a:lnTo>
                    <a:pt x="250266" y="78493"/>
                  </a:lnTo>
                  <a:lnTo>
                    <a:pt x="219107" y="78554"/>
                  </a:lnTo>
                  <a:lnTo>
                    <a:pt x="189766" y="78573"/>
                  </a:lnTo>
                  <a:lnTo>
                    <a:pt x="160965" y="78578"/>
                  </a:lnTo>
                  <a:lnTo>
                    <a:pt x="132322" y="78580"/>
                  </a:lnTo>
                  <a:lnTo>
                    <a:pt x="99935" y="78580"/>
                  </a:lnTo>
                  <a:lnTo>
                    <a:pt x="64842" y="78581"/>
                  </a:lnTo>
                  <a:lnTo>
                    <a:pt x="32863" y="78581"/>
                  </a:lnTo>
                  <a:lnTo>
                    <a:pt x="0" y="78581"/>
                  </a:lnTo>
                  <a:lnTo>
                    <a:pt x="32863" y="7858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SMARTInkShape-132"/>
            <p:cNvSpPr/>
            <p:nvPr/>
          </p:nvSpPr>
          <p:spPr>
            <a:xfrm>
              <a:off x="194040" y="3535200"/>
              <a:ext cx="235080" cy="4017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35166" h="400051">
                  <a:moveTo>
                    <a:pt x="235165" y="0"/>
                  </a:moveTo>
                  <a:lnTo>
                    <a:pt x="235165" y="3792"/>
                  </a:lnTo>
                  <a:lnTo>
                    <a:pt x="233048" y="7771"/>
                  </a:lnTo>
                  <a:lnTo>
                    <a:pt x="230256" y="12185"/>
                  </a:lnTo>
                  <a:lnTo>
                    <a:pt x="222514" y="31128"/>
                  </a:lnTo>
                  <a:lnTo>
                    <a:pt x="206546" y="63302"/>
                  </a:lnTo>
                  <a:lnTo>
                    <a:pt x="197317" y="78288"/>
                  </a:lnTo>
                  <a:lnTo>
                    <a:pt x="165030" y="107131"/>
                  </a:lnTo>
                  <a:lnTo>
                    <a:pt x="134383" y="135875"/>
                  </a:lnTo>
                  <a:lnTo>
                    <a:pt x="99332" y="161631"/>
                  </a:lnTo>
                  <a:lnTo>
                    <a:pt x="63702" y="189237"/>
                  </a:lnTo>
                  <a:lnTo>
                    <a:pt x="42280" y="203179"/>
                  </a:lnTo>
                  <a:lnTo>
                    <a:pt x="9308" y="229739"/>
                  </a:lnTo>
                  <a:lnTo>
                    <a:pt x="2351" y="241108"/>
                  </a:lnTo>
                  <a:lnTo>
                    <a:pt x="0" y="252061"/>
                  </a:lnTo>
                  <a:lnTo>
                    <a:pt x="3385" y="263245"/>
                  </a:lnTo>
                  <a:lnTo>
                    <a:pt x="9385" y="269927"/>
                  </a:lnTo>
                  <a:lnTo>
                    <a:pt x="16550" y="276336"/>
                  </a:lnTo>
                  <a:lnTo>
                    <a:pt x="31850" y="293386"/>
                  </a:lnTo>
                  <a:lnTo>
                    <a:pt x="61125" y="312041"/>
                  </a:lnTo>
                  <a:lnTo>
                    <a:pt x="91964" y="326260"/>
                  </a:lnTo>
                  <a:lnTo>
                    <a:pt x="116751" y="340003"/>
                  </a:lnTo>
                  <a:lnTo>
                    <a:pt x="142055" y="355900"/>
                  </a:lnTo>
                  <a:lnTo>
                    <a:pt x="173358" y="377444"/>
                  </a:lnTo>
                  <a:lnTo>
                    <a:pt x="206590" y="4000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SMARTInkShape-Group53"/>
          <p:cNvGrpSpPr/>
          <p:nvPr/>
        </p:nvGrpSpPr>
        <p:grpSpPr>
          <a:xfrm>
            <a:off x="8151840" y="3522600"/>
            <a:ext cx="777960" cy="214200"/>
            <a:chOff x="8151840" y="3522600"/>
            <a:chExt cx="777960" cy="214200"/>
          </a:xfrm>
        </p:grpSpPr>
        <p:sp>
          <p:nvSpPr>
            <p:cNvPr id="453" name="SMARTInkShape-133"/>
            <p:cNvSpPr/>
            <p:nvPr/>
          </p:nvSpPr>
          <p:spPr>
            <a:xfrm>
              <a:off x="8151840" y="3629520"/>
              <a:ext cx="777960" cy="3528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778670" h="35417">
                  <a:moveTo>
                    <a:pt x="778669" y="14288"/>
                  </a:moveTo>
                  <a:lnTo>
                    <a:pt x="772518" y="14288"/>
                  </a:lnTo>
                  <a:lnTo>
                    <a:pt x="768027" y="10495"/>
                  </a:lnTo>
                  <a:lnTo>
                    <a:pt x="761768" y="8633"/>
                  </a:lnTo>
                  <a:lnTo>
                    <a:pt x="727098" y="3439"/>
                  </a:lnTo>
                  <a:lnTo>
                    <a:pt x="694868" y="679"/>
                  </a:lnTo>
                  <a:lnTo>
                    <a:pt x="660515" y="134"/>
                  </a:lnTo>
                  <a:lnTo>
                    <a:pt x="627508" y="40"/>
                  </a:lnTo>
                  <a:lnTo>
                    <a:pt x="592593" y="12"/>
                  </a:lnTo>
                  <a:lnTo>
                    <a:pt x="568174" y="5"/>
                  </a:lnTo>
                  <a:lnTo>
                    <a:pt x="541447" y="2"/>
                  </a:lnTo>
                  <a:lnTo>
                    <a:pt x="513693" y="1"/>
                  </a:lnTo>
                  <a:lnTo>
                    <a:pt x="485483" y="1"/>
                  </a:lnTo>
                  <a:lnTo>
                    <a:pt x="457070" y="0"/>
                  </a:lnTo>
                  <a:lnTo>
                    <a:pt x="426450" y="2117"/>
                  </a:lnTo>
                  <a:lnTo>
                    <a:pt x="394321" y="4910"/>
                  </a:lnTo>
                  <a:lnTo>
                    <a:pt x="361520" y="6151"/>
                  </a:lnTo>
                  <a:lnTo>
                    <a:pt x="330538" y="6702"/>
                  </a:lnTo>
                  <a:lnTo>
                    <a:pt x="300893" y="7741"/>
                  </a:lnTo>
                  <a:lnTo>
                    <a:pt x="271842" y="10849"/>
                  </a:lnTo>
                  <a:lnTo>
                    <a:pt x="240939" y="12759"/>
                  </a:lnTo>
                  <a:lnTo>
                    <a:pt x="210271" y="14402"/>
                  </a:lnTo>
                  <a:lnTo>
                    <a:pt x="183413" y="17778"/>
                  </a:lnTo>
                  <a:lnTo>
                    <a:pt x="156129" y="19808"/>
                  </a:lnTo>
                  <a:lnTo>
                    <a:pt x="129716" y="21503"/>
                  </a:lnTo>
                  <a:lnTo>
                    <a:pt x="96995" y="26127"/>
                  </a:lnTo>
                  <a:lnTo>
                    <a:pt x="67986" y="27850"/>
                  </a:lnTo>
                  <a:lnTo>
                    <a:pt x="38564" y="30549"/>
                  </a:lnTo>
                  <a:lnTo>
                    <a:pt x="15164" y="35265"/>
                  </a:lnTo>
                  <a:lnTo>
                    <a:pt x="12490" y="35416"/>
                  </a:lnTo>
                  <a:lnTo>
                    <a:pt x="7403" y="33468"/>
                  </a:lnTo>
                  <a:lnTo>
                    <a:pt x="0" y="285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0080" bIns="-1008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SMARTInkShape-134"/>
            <p:cNvSpPr/>
            <p:nvPr/>
          </p:nvSpPr>
          <p:spPr>
            <a:xfrm>
              <a:off x="8431920" y="3522600"/>
              <a:ext cx="210240" cy="21420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0444" h="214219">
                  <a:moveTo>
                    <a:pt x="69536" y="14193"/>
                  </a:moveTo>
                  <a:lnTo>
                    <a:pt x="88217" y="13400"/>
                  </a:lnTo>
                  <a:lnTo>
                    <a:pt x="117499" y="8539"/>
                  </a:lnTo>
                  <a:lnTo>
                    <a:pt x="145395" y="5374"/>
                  </a:lnTo>
                  <a:lnTo>
                    <a:pt x="176155" y="986"/>
                  </a:lnTo>
                  <a:lnTo>
                    <a:pt x="205771" y="0"/>
                  </a:lnTo>
                  <a:lnTo>
                    <a:pt x="207984" y="763"/>
                  </a:lnTo>
                  <a:lnTo>
                    <a:pt x="209460" y="2065"/>
                  </a:lnTo>
                  <a:lnTo>
                    <a:pt x="210443" y="3726"/>
                  </a:lnTo>
                  <a:lnTo>
                    <a:pt x="210305" y="4834"/>
                  </a:lnTo>
                  <a:lnTo>
                    <a:pt x="209419" y="5572"/>
                  </a:lnTo>
                  <a:lnTo>
                    <a:pt x="208036" y="6065"/>
                  </a:lnTo>
                  <a:lnTo>
                    <a:pt x="187982" y="16906"/>
                  </a:lnTo>
                  <a:lnTo>
                    <a:pt x="156109" y="21256"/>
                  </a:lnTo>
                  <a:lnTo>
                    <a:pt x="128613" y="26781"/>
                  </a:lnTo>
                  <a:lnTo>
                    <a:pt x="100357" y="34239"/>
                  </a:lnTo>
                  <a:lnTo>
                    <a:pt x="71876" y="45356"/>
                  </a:lnTo>
                  <a:lnTo>
                    <a:pt x="38042" y="58743"/>
                  </a:lnTo>
                  <a:lnTo>
                    <a:pt x="26169" y="68124"/>
                  </a:lnTo>
                  <a:lnTo>
                    <a:pt x="4519" y="96643"/>
                  </a:lnTo>
                  <a:lnTo>
                    <a:pt x="0" y="115352"/>
                  </a:lnTo>
                  <a:lnTo>
                    <a:pt x="3177" y="129003"/>
                  </a:lnTo>
                  <a:lnTo>
                    <a:pt x="21944" y="160961"/>
                  </a:lnTo>
                  <a:lnTo>
                    <a:pt x="37968" y="191351"/>
                  </a:lnTo>
                  <a:lnTo>
                    <a:pt x="55248" y="21421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SMARTInkShape-135"/>
          <p:cNvSpPr/>
          <p:nvPr/>
        </p:nvSpPr>
        <p:spPr>
          <a:xfrm>
            <a:off x="6951600" y="3137040"/>
            <a:ext cx="54000" cy="85680"/>
          </a:xfrm>
          <a:custGeom>
            <a:avLst/>
            <a:gdLst>
              <a:gd name="textAreaLeft" fmla="*/ 0 w 54000"/>
              <a:gd name="textAreaRight" fmla="*/ 54360 w 540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53788" h="85214">
                <a:moveTo>
                  <a:pt x="20118" y="85213"/>
                </a:moveTo>
                <a:lnTo>
                  <a:pt x="16325" y="85213"/>
                </a:lnTo>
                <a:lnTo>
                  <a:pt x="15208" y="84420"/>
                </a:lnTo>
                <a:lnTo>
                  <a:pt x="14463" y="83097"/>
                </a:lnTo>
                <a:lnTo>
                  <a:pt x="1642" y="48986"/>
                </a:lnTo>
                <a:lnTo>
                  <a:pt x="0" y="38421"/>
                </a:lnTo>
                <a:lnTo>
                  <a:pt x="1387" y="30550"/>
                </a:lnTo>
                <a:lnTo>
                  <a:pt x="13211" y="8340"/>
                </a:lnTo>
                <a:lnTo>
                  <a:pt x="15514" y="5389"/>
                </a:lnTo>
                <a:lnTo>
                  <a:pt x="24422" y="2111"/>
                </a:lnTo>
                <a:lnTo>
                  <a:pt x="53787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9960" bIns="399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SMARTInkShape-Group57"/>
          <p:cNvGrpSpPr/>
          <p:nvPr/>
        </p:nvGrpSpPr>
        <p:grpSpPr>
          <a:xfrm>
            <a:off x="5823000" y="4884840"/>
            <a:ext cx="1085760" cy="387360"/>
            <a:chOff x="5823000" y="4884840"/>
            <a:chExt cx="1085760" cy="387360"/>
          </a:xfrm>
        </p:grpSpPr>
        <p:sp>
          <p:nvSpPr>
            <p:cNvPr id="457" name="SMARTInkShape-136"/>
            <p:cNvSpPr/>
            <p:nvPr/>
          </p:nvSpPr>
          <p:spPr>
            <a:xfrm>
              <a:off x="6778440" y="5118120"/>
              <a:ext cx="130320" cy="1540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30473" h="154098">
                  <a:moveTo>
                    <a:pt x="0" y="0"/>
                  </a:moveTo>
                  <a:lnTo>
                    <a:pt x="2753" y="4823"/>
                  </a:lnTo>
                  <a:lnTo>
                    <a:pt x="25690" y="40017"/>
                  </a:lnTo>
                  <a:lnTo>
                    <a:pt x="54711" y="75581"/>
                  </a:lnTo>
                  <a:lnTo>
                    <a:pt x="86328" y="109137"/>
                  </a:lnTo>
                  <a:lnTo>
                    <a:pt x="130472" y="15409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SMARTInkShape-137"/>
            <p:cNvSpPr/>
            <p:nvPr/>
          </p:nvSpPr>
          <p:spPr>
            <a:xfrm>
              <a:off x="6456960" y="4884840"/>
              <a:ext cx="10800" cy="5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0898" h="55817">
                  <a:moveTo>
                    <a:pt x="0" y="0"/>
                  </a:moveTo>
                  <a:lnTo>
                    <a:pt x="2125" y="13096"/>
                  </a:lnTo>
                  <a:lnTo>
                    <a:pt x="7576" y="-22316"/>
                  </a:lnTo>
                  <a:lnTo>
                    <a:pt x="10897" y="-97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0440" bIns="1044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SMARTInkShape-138"/>
            <p:cNvSpPr/>
            <p:nvPr/>
          </p:nvSpPr>
          <p:spPr>
            <a:xfrm>
              <a:off x="5823000" y="5024520"/>
              <a:ext cx="360" cy="5400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80" h="54267">
                  <a:moveTo>
                    <a:pt x="379" y="0"/>
                  </a:moveTo>
                  <a:lnTo>
                    <a:pt x="119" y="26652"/>
                  </a:lnTo>
                  <a:lnTo>
                    <a:pt x="0" y="-1127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8640" bIns="864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SMARTInkShape-139"/>
            <p:cNvSpPr/>
            <p:nvPr/>
          </p:nvSpPr>
          <p:spPr>
            <a:xfrm>
              <a:off x="6830280" y="4992480"/>
              <a:ext cx="16920" cy="12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17249" h="129794">
                  <a:moveTo>
                    <a:pt x="17248" y="0"/>
                  </a:moveTo>
                  <a:lnTo>
                    <a:pt x="15673" y="11846"/>
                  </a:lnTo>
                  <a:lnTo>
                    <a:pt x="10449" y="51162"/>
                  </a:lnTo>
                  <a:lnTo>
                    <a:pt x="6966" y="77372"/>
                  </a:lnTo>
                  <a:lnTo>
                    <a:pt x="3096" y="106495"/>
                  </a:lnTo>
                  <a:lnTo>
                    <a:pt x="0" y="12979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rock02-2572"/>
          <p:cNvPicPr/>
          <p:nvPr/>
        </p:nvPicPr>
        <p:blipFill>
          <a:blip r:embed="rId1"/>
          <a:stretch/>
        </p:blipFill>
        <p:spPr>
          <a:xfrm>
            <a:off x="-1676520" y="-1523880"/>
            <a:ext cx="8128080" cy="6095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W0819_21"/>
          <p:cNvPicPr/>
          <p:nvPr/>
        </p:nvPicPr>
        <p:blipFill>
          <a:blip r:embed="rId2"/>
          <a:stretch/>
        </p:blipFill>
        <p:spPr>
          <a:xfrm>
            <a:off x="4952880" y="0"/>
            <a:ext cx="4038840" cy="766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997560" y="3225960"/>
            <a:ext cx="2325960" cy="767520"/>
            <a:chOff x="997560" y="3225960"/>
            <a:chExt cx="2325960" cy="767520"/>
          </a:xfrm>
        </p:grpSpPr>
        <p:grpSp>
          <p:nvGrpSpPr>
            <p:cNvPr id="462" name="Group 3"/>
            <p:cNvGrpSpPr/>
            <p:nvPr/>
          </p:nvGrpSpPr>
          <p:grpSpPr>
            <a:xfrm>
              <a:off x="997560" y="3225960"/>
              <a:ext cx="2325960" cy="767520"/>
              <a:chOff x="997560" y="3225960"/>
              <a:chExt cx="2325960" cy="767520"/>
            </a:xfrm>
          </p:grpSpPr>
          <p:sp>
            <p:nvSpPr>
              <p:cNvPr id="463" name="Rectangle 4"/>
              <p:cNvSpPr/>
              <p:nvPr/>
            </p:nvSpPr>
            <p:spPr>
              <a:xfrm rot="10808400">
                <a:off x="2160360" y="3230280"/>
                <a:ext cx="1162080" cy="7617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5"/>
              <p:cNvSpPr/>
              <p:nvPr/>
            </p:nvSpPr>
            <p:spPr>
              <a:xfrm rot="10808400">
                <a:off x="998280" y="3227400"/>
                <a:ext cx="1162080" cy="761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WordArt 6"/>
            <p:cNvSpPr txBox="1"/>
            <p:nvPr/>
          </p:nvSpPr>
          <p:spPr>
            <a:xfrm>
              <a:off x="2838600" y="340020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66" name="WordArt 7"/>
            <p:cNvSpPr txBox="1"/>
            <p:nvPr/>
          </p:nvSpPr>
          <p:spPr>
            <a:xfrm>
              <a:off x="1135080" y="338112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467" name="Group 8"/>
          <p:cNvGrpSpPr/>
          <p:nvPr/>
        </p:nvGrpSpPr>
        <p:grpSpPr>
          <a:xfrm>
            <a:off x="5907240" y="3257640"/>
            <a:ext cx="2361600" cy="761760"/>
            <a:chOff x="5907240" y="3257640"/>
            <a:chExt cx="2361600" cy="761760"/>
          </a:xfrm>
        </p:grpSpPr>
        <p:sp>
          <p:nvSpPr>
            <p:cNvPr id="468" name="Rectangle 9"/>
            <p:cNvSpPr/>
            <p:nvPr/>
          </p:nvSpPr>
          <p:spPr>
            <a:xfrm>
              <a:off x="5907240" y="3257640"/>
              <a:ext cx="1180800" cy="761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7088040" y="3257640"/>
              <a:ext cx="118080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WordArt 11"/>
            <p:cNvSpPr txBox="1"/>
            <p:nvPr/>
          </p:nvSpPr>
          <p:spPr>
            <a:xfrm>
              <a:off x="6013080" y="3390840"/>
              <a:ext cx="3632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71" name="WordArt 12"/>
            <p:cNvSpPr txBox="1"/>
            <p:nvPr/>
          </p:nvSpPr>
          <p:spPr>
            <a:xfrm>
              <a:off x="7758000" y="3390840"/>
              <a:ext cx="3632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472" name="Text Box 13"/>
          <p:cNvSpPr/>
          <p:nvPr/>
        </p:nvSpPr>
        <p:spPr>
          <a:xfrm>
            <a:off x="704880" y="5797440"/>
            <a:ext cx="805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c Flux lines come out of th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e and go in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U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WordArt 14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474" name="WordArt 15"/>
          <p:cNvSpPr txBox="1"/>
          <p:nvPr/>
        </p:nvSpPr>
        <p:spPr>
          <a:xfrm>
            <a:off x="1733400" y="1162080"/>
            <a:ext cx="5639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around permanent magnet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475" name="Group 16"/>
          <p:cNvGrpSpPr/>
          <p:nvPr/>
        </p:nvGrpSpPr>
        <p:grpSpPr>
          <a:xfrm>
            <a:off x="3409920" y="3733920"/>
            <a:ext cx="2355480" cy="1790640"/>
            <a:chOff x="3409920" y="3733920"/>
            <a:chExt cx="2355480" cy="1790640"/>
          </a:xfrm>
        </p:grpSpPr>
        <p:sp>
          <p:nvSpPr>
            <p:cNvPr id="476" name="Arc 17"/>
            <p:cNvSpPr/>
            <p:nvPr/>
          </p:nvSpPr>
          <p:spPr>
            <a:xfrm flipH="1">
              <a:off x="5123880" y="3943440"/>
              <a:ext cx="641160" cy="1562040"/>
            </a:xfrm>
            <a:custGeom>
              <a:avLst/>
              <a:gdLst>
                <a:gd name="textAreaLeft" fmla="*/ 0 w 641160"/>
                <a:gd name="textAreaRight" fmla="*/ 641160 w 64116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Arc 18"/>
            <p:cNvSpPr/>
            <p:nvPr/>
          </p:nvSpPr>
          <p:spPr>
            <a:xfrm>
              <a:off x="3409920" y="3943440"/>
              <a:ext cx="698400" cy="158112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19"/>
            <p:cNvSpPr/>
            <p:nvPr/>
          </p:nvSpPr>
          <p:spPr>
            <a:xfrm flipV="1" rot="9172800">
              <a:off x="4706640" y="462636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20"/>
            <p:cNvSpPr/>
            <p:nvPr/>
          </p:nvSpPr>
          <p:spPr>
            <a:xfrm flipV="1" rot="11391600">
              <a:off x="5222160" y="377136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21"/>
            <p:cNvSpPr/>
            <p:nvPr/>
          </p:nvSpPr>
          <p:spPr>
            <a:xfrm flipH="1" flipV="1" rot="13264200">
              <a:off x="4012560" y="4950360"/>
              <a:ext cx="164880" cy="16524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Freeform 22"/>
            <p:cNvSpPr/>
            <p:nvPr/>
          </p:nvSpPr>
          <p:spPr>
            <a:xfrm flipV="1" rot="6352200">
              <a:off x="3728160" y="4122000"/>
              <a:ext cx="165600" cy="1652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23"/>
            <p:cNvSpPr/>
            <p:nvPr/>
          </p:nvSpPr>
          <p:spPr>
            <a:xfrm flipV="1" rot="10363200">
              <a:off x="5346000" y="409572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24"/>
            <p:cNvSpPr/>
            <p:nvPr/>
          </p:nvSpPr>
          <p:spPr>
            <a:xfrm flipH="1" flipV="1" rot="14206200">
              <a:off x="5065200" y="488880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25"/>
            <p:cNvSpPr/>
            <p:nvPr/>
          </p:nvSpPr>
          <p:spPr>
            <a:xfrm flipH="1" flipV="1" rot="12615000">
              <a:off x="4239360" y="461700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26"/>
            <p:cNvSpPr/>
            <p:nvPr/>
          </p:nvSpPr>
          <p:spPr>
            <a:xfrm flipH="1" flipV="1" rot="10033800">
              <a:off x="3750120" y="3779640"/>
              <a:ext cx="165240" cy="16452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4520"/>
                <a:gd name="textAreaBottom" fmla="*/ 164520 h 16452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Arc 27"/>
            <p:cNvSpPr/>
            <p:nvPr/>
          </p:nvSpPr>
          <p:spPr>
            <a:xfrm flipH="1">
              <a:off x="4726080" y="3733920"/>
              <a:ext cx="946080" cy="1485720"/>
            </a:xfrm>
            <a:custGeom>
              <a:avLst/>
              <a:gdLst>
                <a:gd name="textAreaLeft" fmla="*/ 360 w 946080"/>
                <a:gd name="textAreaRight" fmla="*/ 946800 w 94608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fill="none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</a:path>
                <a:path stroke="0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  <a:lnTo>
                    <a:pt x="929" y="21600"/>
                  </a:lnTo>
                  <a:lnTo>
                    <a:pt x="-1" y="1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Arc 28"/>
            <p:cNvSpPr/>
            <p:nvPr/>
          </p:nvSpPr>
          <p:spPr>
            <a:xfrm>
              <a:off x="3443400" y="3733920"/>
              <a:ext cx="946080" cy="148572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fill="none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</a:path>
                <a:path stroke="0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  <a:lnTo>
                    <a:pt x="929" y="21600"/>
                  </a:lnTo>
                  <a:lnTo>
                    <a:pt x="-1" y="1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29"/>
          <p:cNvGrpSpPr/>
          <p:nvPr/>
        </p:nvGrpSpPr>
        <p:grpSpPr>
          <a:xfrm>
            <a:off x="3429000" y="1752120"/>
            <a:ext cx="2317320" cy="1847880"/>
            <a:chOff x="3429000" y="1752120"/>
            <a:chExt cx="2317320" cy="1847880"/>
          </a:xfrm>
        </p:grpSpPr>
        <p:sp>
          <p:nvSpPr>
            <p:cNvPr id="489" name="Arc 30"/>
            <p:cNvSpPr/>
            <p:nvPr/>
          </p:nvSpPr>
          <p:spPr>
            <a:xfrm flipV="1">
              <a:off x="3429000" y="1751760"/>
              <a:ext cx="679320" cy="154332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-360 h 1543320"/>
                <a:gd name="textAreaBottom" fmla="*/ 1543320 h 154332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Arc 31"/>
            <p:cNvSpPr/>
            <p:nvPr/>
          </p:nvSpPr>
          <p:spPr>
            <a:xfrm flipH="1" flipV="1">
              <a:off x="5066640" y="1751760"/>
              <a:ext cx="679320" cy="1543320"/>
            </a:xfrm>
            <a:custGeom>
              <a:avLst/>
              <a:gdLst>
                <a:gd name="textAreaLeft" fmla="*/ -360 w 679320"/>
                <a:gd name="textAreaRight" fmla="*/ 679320 w 679320"/>
                <a:gd name="textAreaTop" fmla="*/ -360 h 1543320"/>
                <a:gd name="textAreaBottom" fmla="*/ 1543320 h 154332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" name="Group 32"/>
            <p:cNvGrpSpPr/>
            <p:nvPr/>
          </p:nvGrpSpPr>
          <p:grpSpPr>
            <a:xfrm>
              <a:off x="3449520" y="2095200"/>
              <a:ext cx="2241720" cy="1504800"/>
              <a:chOff x="3449520" y="2095200"/>
              <a:chExt cx="2241720" cy="1504800"/>
            </a:xfrm>
          </p:grpSpPr>
          <p:sp>
            <p:nvSpPr>
              <p:cNvPr id="492" name="Freeform 33"/>
              <p:cNvSpPr/>
              <p:nvPr/>
            </p:nvSpPr>
            <p:spPr>
              <a:xfrm flipH="1" flipV="1" rot="1329600">
                <a:off x="4735080" y="2541600"/>
                <a:ext cx="165240" cy="165240"/>
              </a:xfrm>
              <a:custGeom>
                <a:avLst/>
                <a:gdLst>
                  <a:gd name="textAreaLeft" fmla="*/ -360 w 165240"/>
                  <a:gd name="textAreaRight" fmla="*/ 165240 w 165240"/>
                  <a:gd name="textAreaTop" fmla="*/ -36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Freeform 34"/>
              <p:cNvSpPr/>
              <p:nvPr/>
            </p:nvSpPr>
            <p:spPr>
              <a:xfrm flipH="1" flipV="1" rot="20909400">
                <a:off x="5195160" y="3350880"/>
                <a:ext cx="165240" cy="165240"/>
              </a:xfrm>
              <a:custGeom>
                <a:avLst/>
                <a:gdLst>
                  <a:gd name="textAreaLeft" fmla="*/ -360 w 165240"/>
                  <a:gd name="textAreaRight" fmla="*/ 165240 w 165240"/>
                  <a:gd name="textAreaTop" fmla="*/ -36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Freeform 35"/>
              <p:cNvSpPr/>
              <p:nvPr/>
            </p:nvSpPr>
            <p:spPr>
              <a:xfrm flipH="1" flipV="1" rot="1339200">
                <a:off x="5037480" y="2263320"/>
                <a:ext cx="165240" cy="165600"/>
              </a:xfrm>
              <a:custGeom>
                <a:avLst/>
                <a:gdLst>
                  <a:gd name="textAreaLeft" fmla="*/ -360 w 165240"/>
                  <a:gd name="textAreaRight" fmla="*/ 165240 w 165240"/>
                  <a:gd name="textAreaTop" fmla="*/ 360 h 165600"/>
                  <a:gd name="textAreaBottom" fmla="*/ 166320 h 16560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Freeform 36"/>
              <p:cNvSpPr/>
              <p:nvPr/>
            </p:nvSpPr>
            <p:spPr>
              <a:xfrm flipH="1" flipV="1" rot="2933400">
                <a:off x="3994560" y="2256480"/>
                <a:ext cx="164880" cy="165240"/>
              </a:xfrm>
              <a:custGeom>
                <a:avLst/>
                <a:gdLst>
                  <a:gd name="textAreaLeft" fmla="*/ 360 w 164880"/>
                  <a:gd name="textAreaRight" fmla="*/ 165600 w 164880"/>
                  <a:gd name="textAreaTop" fmla="*/ -36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Freeform 37"/>
              <p:cNvSpPr/>
              <p:nvPr/>
            </p:nvSpPr>
            <p:spPr>
              <a:xfrm flipV="1" rot="19738200">
                <a:off x="4237200" y="2646360"/>
                <a:ext cx="164880" cy="1648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360 h 164880"/>
                  <a:gd name="textAreaBottom" fmla="*/ 165600 h 16488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Freeform 38"/>
              <p:cNvSpPr/>
              <p:nvPr/>
            </p:nvSpPr>
            <p:spPr>
              <a:xfrm flipV="1" rot="15895800">
                <a:off x="5346000" y="3020040"/>
                <a:ext cx="164880" cy="16560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360 h 165600"/>
                  <a:gd name="textAreaBottom" fmla="*/ 166320 h 16560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39"/>
              <p:cNvSpPr/>
              <p:nvPr/>
            </p:nvSpPr>
            <p:spPr>
              <a:xfrm flipV="1" rot="116400">
                <a:off x="3588840" y="3103920"/>
                <a:ext cx="165240" cy="16524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-36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Arc 40"/>
              <p:cNvSpPr/>
              <p:nvPr/>
            </p:nvSpPr>
            <p:spPr>
              <a:xfrm flipH="1" flipV="1">
                <a:off x="4745160" y="2094840"/>
                <a:ext cx="946080" cy="14857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-360 h 1485720"/>
                  <a:gd name="textAreaBottom" fmla="*/ 1485720 h 1485720"/>
                </a:gdLst>
                <a:ahLst/>
                <a:rect l="textAreaLeft" t="textAreaTop" r="textAreaRight" b="textAreaBottom"/>
                <a:pathLst>
                  <a:path fill="none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</a:path>
                  <a:path stroke="0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  <a:lnTo>
                      <a:pt x="929" y="21600"/>
                    </a:lnTo>
                    <a:lnTo>
                      <a:pt x="-1" y="1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Arc 41"/>
              <p:cNvSpPr/>
              <p:nvPr/>
            </p:nvSpPr>
            <p:spPr>
              <a:xfrm flipV="1">
                <a:off x="3449520" y="2113920"/>
                <a:ext cx="946440" cy="1485720"/>
              </a:xfrm>
              <a:custGeom>
                <a:avLst/>
                <a:gdLst>
                  <a:gd name="textAreaLeft" fmla="*/ 0 w 946440"/>
                  <a:gd name="textAreaRight" fmla="*/ 946800 w 946440"/>
                  <a:gd name="textAreaTop" fmla="*/ -360 h 1485720"/>
                  <a:gd name="textAreaBottom" fmla="*/ 1485720 h 1485720"/>
                </a:gdLst>
                <a:ahLst/>
                <a:rect l="textAreaLeft" t="textAreaTop" r="textAreaRight" b="textAreaBottom"/>
                <a:pathLst>
                  <a:path fill="none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</a:path>
                  <a:path stroke="0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  <a:lnTo>
                      <a:pt x="929" y="21600"/>
                    </a:lnTo>
                    <a:lnTo>
                      <a:pt x="-1" y="1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42"/>
              <p:cNvSpPr/>
              <p:nvPr/>
            </p:nvSpPr>
            <p:spPr>
              <a:xfrm flipV="1" rot="116400">
                <a:off x="3828600" y="3358080"/>
                <a:ext cx="165240" cy="16524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-36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2" name="SMARTInkShape-140"/>
          <p:cNvSpPr/>
          <p:nvPr/>
        </p:nvSpPr>
        <p:spPr>
          <a:xfrm>
            <a:off x="3351240" y="2322360"/>
            <a:ext cx="506520" cy="1135080"/>
          </a:xfrm>
          <a:custGeom>
            <a:avLst/>
            <a:gdLst>
              <a:gd name="textAreaLeft" fmla="*/ 0 w 506520"/>
              <a:gd name="textAreaRight" fmla="*/ 506880 w 50652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w="507207" h="1135820">
                <a:moveTo>
                  <a:pt x="0" y="1128675"/>
                </a:moveTo>
                <a:lnTo>
                  <a:pt x="0" y="1135811"/>
                </a:lnTo>
                <a:lnTo>
                  <a:pt x="0" y="1131702"/>
                </a:lnTo>
                <a:lnTo>
                  <a:pt x="0" y="1135120"/>
                </a:lnTo>
                <a:lnTo>
                  <a:pt x="6702" y="1135792"/>
                </a:lnTo>
                <a:lnTo>
                  <a:pt x="41547" y="1135819"/>
                </a:lnTo>
                <a:lnTo>
                  <a:pt x="77258" y="1135819"/>
                </a:lnTo>
                <a:lnTo>
                  <a:pt x="84023" y="1130910"/>
                </a:lnTo>
                <a:lnTo>
                  <a:pt x="88408" y="1129668"/>
                </a:lnTo>
                <a:lnTo>
                  <a:pt x="111274" y="1127940"/>
                </a:lnTo>
                <a:lnTo>
                  <a:pt x="121316" y="1123033"/>
                </a:lnTo>
                <a:lnTo>
                  <a:pt x="145254" y="1121558"/>
                </a:lnTo>
                <a:lnTo>
                  <a:pt x="146842" y="1120755"/>
                </a:lnTo>
                <a:lnTo>
                  <a:pt x="147901" y="1119427"/>
                </a:lnTo>
                <a:lnTo>
                  <a:pt x="148607" y="1117747"/>
                </a:lnTo>
                <a:lnTo>
                  <a:pt x="149871" y="1116627"/>
                </a:lnTo>
                <a:lnTo>
                  <a:pt x="153392" y="1115383"/>
                </a:lnTo>
                <a:lnTo>
                  <a:pt x="162121" y="1113790"/>
                </a:lnTo>
                <a:lnTo>
                  <a:pt x="169127" y="1109536"/>
                </a:lnTo>
                <a:lnTo>
                  <a:pt x="176229" y="1107129"/>
                </a:lnTo>
                <a:lnTo>
                  <a:pt x="193323" y="1094589"/>
                </a:lnTo>
                <a:lnTo>
                  <a:pt x="195557" y="1094044"/>
                </a:lnTo>
                <a:lnTo>
                  <a:pt x="207207" y="1087446"/>
                </a:lnTo>
                <a:lnTo>
                  <a:pt x="209576" y="1086901"/>
                </a:lnTo>
                <a:lnTo>
                  <a:pt x="216701" y="1082343"/>
                </a:lnTo>
                <a:lnTo>
                  <a:pt x="226220" y="1074485"/>
                </a:lnTo>
                <a:lnTo>
                  <a:pt x="235744" y="1069993"/>
                </a:lnTo>
                <a:lnTo>
                  <a:pt x="261937" y="1046107"/>
                </a:lnTo>
                <a:lnTo>
                  <a:pt x="271462" y="1041457"/>
                </a:lnTo>
                <a:lnTo>
                  <a:pt x="302419" y="1011986"/>
                </a:lnTo>
                <a:lnTo>
                  <a:pt x="305064" y="1007228"/>
                </a:lnTo>
                <a:lnTo>
                  <a:pt x="307034" y="1002467"/>
                </a:lnTo>
                <a:lnTo>
                  <a:pt x="340524" y="966750"/>
                </a:lnTo>
                <a:lnTo>
                  <a:pt x="346870" y="959607"/>
                </a:lnTo>
                <a:lnTo>
                  <a:pt x="351533" y="950082"/>
                </a:lnTo>
                <a:lnTo>
                  <a:pt x="378630" y="915852"/>
                </a:lnTo>
                <a:lnTo>
                  <a:pt x="396875" y="895371"/>
                </a:lnTo>
                <a:lnTo>
                  <a:pt x="401540" y="885799"/>
                </a:lnTo>
                <a:lnTo>
                  <a:pt x="411358" y="873883"/>
                </a:lnTo>
                <a:lnTo>
                  <a:pt x="415865" y="864357"/>
                </a:lnTo>
                <a:lnTo>
                  <a:pt x="424164" y="851039"/>
                </a:lnTo>
                <a:lnTo>
                  <a:pt x="430154" y="836223"/>
                </a:lnTo>
                <a:lnTo>
                  <a:pt x="433273" y="831215"/>
                </a:lnTo>
                <a:lnTo>
                  <a:pt x="435823" y="823933"/>
                </a:lnTo>
                <a:lnTo>
                  <a:pt x="440459" y="816749"/>
                </a:lnTo>
                <a:lnTo>
                  <a:pt x="442979" y="809593"/>
                </a:lnTo>
                <a:lnTo>
                  <a:pt x="447607" y="801652"/>
                </a:lnTo>
                <a:lnTo>
                  <a:pt x="450124" y="791185"/>
                </a:lnTo>
                <a:lnTo>
                  <a:pt x="451689" y="789382"/>
                </a:lnTo>
                <a:lnTo>
                  <a:pt x="453526" y="788179"/>
                </a:lnTo>
                <a:lnTo>
                  <a:pt x="455567" y="782610"/>
                </a:lnTo>
                <a:lnTo>
                  <a:pt x="457268" y="775637"/>
                </a:lnTo>
                <a:lnTo>
                  <a:pt x="462711" y="764693"/>
                </a:lnTo>
                <a:lnTo>
                  <a:pt x="463255" y="762196"/>
                </a:lnTo>
                <a:lnTo>
                  <a:pt x="470399" y="747696"/>
                </a:lnTo>
                <a:lnTo>
                  <a:pt x="472217" y="726098"/>
                </a:lnTo>
                <a:lnTo>
                  <a:pt x="477630" y="712251"/>
                </a:lnTo>
                <a:lnTo>
                  <a:pt x="479227" y="702490"/>
                </a:lnTo>
                <a:lnTo>
                  <a:pt x="484246" y="692918"/>
                </a:lnTo>
                <a:lnTo>
                  <a:pt x="487757" y="672966"/>
                </a:lnTo>
                <a:lnTo>
                  <a:pt x="490624" y="667375"/>
                </a:lnTo>
                <a:lnTo>
                  <a:pt x="492617" y="654894"/>
                </a:lnTo>
                <a:lnTo>
                  <a:pt x="493653" y="644505"/>
                </a:lnTo>
                <a:lnTo>
                  <a:pt x="499062" y="627227"/>
                </a:lnTo>
                <a:lnTo>
                  <a:pt x="500054" y="591513"/>
                </a:lnTo>
                <a:lnTo>
                  <a:pt x="502175" y="586195"/>
                </a:lnTo>
                <a:lnTo>
                  <a:pt x="504970" y="581185"/>
                </a:lnTo>
                <a:lnTo>
                  <a:pt x="506764" y="571502"/>
                </a:lnTo>
                <a:lnTo>
                  <a:pt x="507198" y="537009"/>
                </a:lnTo>
                <a:lnTo>
                  <a:pt x="507206" y="501557"/>
                </a:lnTo>
                <a:lnTo>
                  <a:pt x="507206" y="466108"/>
                </a:lnTo>
                <a:lnTo>
                  <a:pt x="506412" y="445143"/>
                </a:lnTo>
                <a:lnTo>
                  <a:pt x="501055" y="423497"/>
                </a:lnTo>
                <a:lnTo>
                  <a:pt x="499465" y="409620"/>
                </a:lnTo>
                <a:lnTo>
                  <a:pt x="493937" y="391596"/>
                </a:lnTo>
                <a:lnTo>
                  <a:pt x="490936" y="370957"/>
                </a:lnTo>
                <a:lnTo>
                  <a:pt x="487304" y="357008"/>
                </a:lnTo>
                <a:lnTo>
                  <a:pt x="485183" y="338229"/>
                </a:lnTo>
                <a:lnTo>
                  <a:pt x="476968" y="307012"/>
                </a:lnTo>
                <a:lnTo>
                  <a:pt x="473111" y="292817"/>
                </a:lnTo>
                <a:lnTo>
                  <a:pt x="470907" y="269833"/>
                </a:lnTo>
                <a:lnTo>
                  <a:pt x="454703" y="237793"/>
                </a:lnTo>
                <a:lnTo>
                  <a:pt x="444625" y="202367"/>
                </a:lnTo>
                <a:lnTo>
                  <a:pt x="434240" y="170272"/>
                </a:lnTo>
                <a:lnTo>
                  <a:pt x="419010" y="138008"/>
                </a:lnTo>
                <a:lnTo>
                  <a:pt x="403219" y="103162"/>
                </a:lnTo>
                <a:lnTo>
                  <a:pt x="392464" y="71308"/>
                </a:lnTo>
                <a:lnTo>
                  <a:pt x="387748" y="59202"/>
                </a:lnTo>
                <a:lnTo>
                  <a:pt x="378564" y="31663"/>
                </a:lnTo>
                <a:lnTo>
                  <a:pt x="373110" y="21541"/>
                </a:lnTo>
                <a:lnTo>
                  <a:pt x="372565" y="19111"/>
                </a:lnTo>
                <a:lnTo>
                  <a:pt x="364350" y="45"/>
                </a:lnTo>
                <a:lnTo>
                  <a:pt x="364340" y="0"/>
                </a:lnTo>
                <a:lnTo>
                  <a:pt x="364331" y="16963"/>
                </a:lnTo>
                <a:lnTo>
                  <a:pt x="366448" y="21541"/>
                </a:lnTo>
                <a:lnTo>
                  <a:pt x="368123" y="23873"/>
                </a:lnTo>
                <a:lnTo>
                  <a:pt x="370482" y="34740"/>
                </a:lnTo>
                <a:lnTo>
                  <a:pt x="373553" y="64754"/>
                </a:lnTo>
                <a:lnTo>
                  <a:pt x="377117" y="78691"/>
                </a:lnTo>
                <a:lnTo>
                  <a:pt x="378531" y="111890"/>
                </a:lnTo>
                <a:lnTo>
                  <a:pt x="378613" y="144426"/>
                </a:lnTo>
                <a:lnTo>
                  <a:pt x="378619" y="178060"/>
                </a:lnTo>
                <a:lnTo>
                  <a:pt x="378619" y="199977"/>
                </a:lnTo>
                <a:lnTo>
                  <a:pt x="378619" y="192400"/>
                </a:lnTo>
                <a:lnTo>
                  <a:pt x="376502" y="186561"/>
                </a:lnTo>
                <a:lnTo>
                  <a:pt x="373709" y="181320"/>
                </a:lnTo>
                <a:lnTo>
                  <a:pt x="372137" y="173113"/>
                </a:lnTo>
                <a:lnTo>
                  <a:pt x="370877" y="160980"/>
                </a:lnTo>
                <a:lnTo>
                  <a:pt x="365350" y="137956"/>
                </a:lnTo>
                <a:lnTo>
                  <a:pt x="363597" y="103937"/>
                </a:lnTo>
                <a:lnTo>
                  <a:pt x="357632" y="70352"/>
                </a:lnTo>
                <a:lnTo>
                  <a:pt x="357190" y="37124"/>
                </a:lnTo>
                <a:lnTo>
                  <a:pt x="357983" y="36643"/>
                </a:lnTo>
                <a:lnTo>
                  <a:pt x="364037" y="35719"/>
                </a:lnTo>
                <a:lnTo>
                  <a:pt x="389940" y="54021"/>
                </a:lnTo>
                <a:lnTo>
                  <a:pt x="423332" y="69217"/>
                </a:lnTo>
                <a:lnTo>
                  <a:pt x="432525" y="75428"/>
                </a:lnTo>
                <a:lnTo>
                  <a:pt x="442912" y="7854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MARTInkShape-141"/>
          <p:cNvSpPr/>
          <p:nvPr/>
        </p:nvSpPr>
        <p:spPr>
          <a:xfrm>
            <a:off x="4994280" y="2217600"/>
            <a:ext cx="914400" cy="1297080"/>
          </a:xfrm>
          <a:custGeom>
            <a:avLst/>
            <a:gdLst>
              <a:gd name="textAreaLeft" fmla="*/ 0 w 914400"/>
              <a:gd name="textAreaRight" fmla="*/ 914760 w 91440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914390" h="1296764">
                <a:moveTo>
                  <a:pt x="914389" y="1282563"/>
                </a:moveTo>
                <a:lnTo>
                  <a:pt x="908238" y="1282563"/>
                </a:lnTo>
                <a:lnTo>
                  <a:pt x="907907" y="1283356"/>
                </a:lnTo>
                <a:lnTo>
                  <a:pt x="907540" y="1286355"/>
                </a:lnTo>
                <a:lnTo>
                  <a:pt x="906648" y="1287472"/>
                </a:lnTo>
                <a:lnTo>
                  <a:pt x="900110" y="1289704"/>
                </a:lnTo>
                <a:lnTo>
                  <a:pt x="885668" y="1289706"/>
                </a:lnTo>
                <a:lnTo>
                  <a:pt x="879664" y="1291823"/>
                </a:lnTo>
                <a:lnTo>
                  <a:pt x="874349" y="1294616"/>
                </a:lnTo>
                <a:lnTo>
                  <a:pt x="866101" y="1296188"/>
                </a:lnTo>
                <a:lnTo>
                  <a:pt x="848725" y="1296763"/>
                </a:lnTo>
                <a:lnTo>
                  <a:pt x="843401" y="1294695"/>
                </a:lnTo>
                <a:lnTo>
                  <a:pt x="840870" y="1293032"/>
                </a:lnTo>
                <a:lnTo>
                  <a:pt x="829723" y="1290691"/>
                </a:lnTo>
                <a:lnTo>
                  <a:pt x="799997" y="1288970"/>
                </a:lnTo>
                <a:lnTo>
                  <a:pt x="766516" y="1279067"/>
                </a:lnTo>
                <a:lnTo>
                  <a:pt x="734364" y="1271946"/>
                </a:lnTo>
                <a:lnTo>
                  <a:pt x="698958" y="1258654"/>
                </a:lnTo>
                <a:lnTo>
                  <a:pt x="667059" y="1244454"/>
                </a:lnTo>
                <a:lnTo>
                  <a:pt x="634400" y="1230174"/>
                </a:lnTo>
                <a:lnTo>
                  <a:pt x="612638" y="1219856"/>
                </a:lnTo>
                <a:lnTo>
                  <a:pt x="582660" y="1199087"/>
                </a:lnTo>
                <a:lnTo>
                  <a:pt x="547550" y="1177714"/>
                </a:lnTo>
                <a:lnTo>
                  <a:pt x="518871" y="1158517"/>
                </a:lnTo>
                <a:lnTo>
                  <a:pt x="484921" y="1135670"/>
                </a:lnTo>
                <a:lnTo>
                  <a:pt x="454149" y="1108588"/>
                </a:lnTo>
                <a:lnTo>
                  <a:pt x="419763" y="1080144"/>
                </a:lnTo>
                <a:lnTo>
                  <a:pt x="385791" y="1046818"/>
                </a:lnTo>
                <a:lnTo>
                  <a:pt x="377038" y="1036500"/>
                </a:lnTo>
                <a:lnTo>
                  <a:pt x="366061" y="1018097"/>
                </a:lnTo>
                <a:lnTo>
                  <a:pt x="334624" y="982574"/>
                </a:lnTo>
                <a:lnTo>
                  <a:pt x="315764" y="952859"/>
                </a:lnTo>
                <a:lnTo>
                  <a:pt x="294877" y="920204"/>
                </a:lnTo>
                <a:lnTo>
                  <a:pt x="275536" y="888975"/>
                </a:lnTo>
                <a:lnTo>
                  <a:pt x="256105" y="853848"/>
                </a:lnTo>
                <a:lnTo>
                  <a:pt x="244725" y="824551"/>
                </a:lnTo>
                <a:lnTo>
                  <a:pt x="230130" y="791130"/>
                </a:lnTo>
                <a:lnTo>
                  <a:pt x="219369" y="761362"/>
                </a:lnTo>
                <a:lnTo>
                  <a:pt x="204690" y="727642"/>
                </a:lnTo>
                <a:lnTo>
                  <a:pt x="193323" y="695111"/>
                </a:lnTo>
                <a:lnTo>
                  <a:pt x="187227" y="662139"/>
                </a:lnTo>
                <a:lnTo>
                  <a:pt x="175410" y="626992"/>
                </a:lnTo>
                <a:lnTo>
                  <a:pt x="164609" y="591592"/>
                </a:lnTo>
                <a:lnTo>
                  <a:pt x="154833" y="557641"/>
                </a:lnTo>
                <a:lnTo>
                  <a:pt x="147645" y="529785"/>
                </a:lnTo>
                <a:lnTo>
                  <a:pt x="140488" y="501423"/>
                </a:lnTo>
                <a:lnTo>
                  <a:pt x="137133" y="472911"/>
                </a:lnTo>
                <a:lnTo>
                  <a:pt x="132347" y="444355"/>
                </a:lnTo>
                <a:lnTo>
                  <a:pt x="129694" y="415785"/>
                </a:lnTo>
                <a:lnTo>
                  <a:pt x="125115" y="387212"/>
                </a:lnTo>
                <a:lnTo>
                  <a:pt x="122524" y="358638"/>
                </a:lnTo>
                <a:lnTo>
                  <a:pt x="117964" y="330063"/>
                </a:lnTo>
                <a:lnTo>
                  <a:pt x="115378" y="301488"/>
                </a:lnTo>
                <a:lnTo>
                  <a:pt x="114612" y="272913"/>
                </a:lnTo>
                <a:lnTo>
                  <a:pt x="114385" y="244338"/>
                </a:lnTo>
                <a:lnTo>
                  <a:pt x="109399" y="211147"/>
                </a:lnTo>
                <a:lnTo>
                  <a:pt x="107590" y="176957"/>
                </a:lnTo>
                <a:lnTo>
                  <a:pt x="107233" y="147037"/>
                </a:lnTo>
                <a:lnTo>
                  <a:pt x="101460" y="118990"/>
                </a:lnTo>
                <a:lnTo>
                  <a:pt x="94792" y="95223"/>
                </a:lnTo>
                <a:lnTo>
                  <a:pt x="92924" y="83344"/>
                </a:lnTo>
                <a:lnTo>
                  <a:pt x="78962" y="48465"/>
                </a:lnTo>
                <a:lnTo>
                  <a:pt x="78038" y="47874"/>
                </a:lnTo>
                <a:lnTo>
                  <a:pt x="71731" y="46740"/>
                </a:lnTo>
                <a:lnTo>
                  <a:pt x="67725" y="50500"/>
                </a:lnTo>
                <a:lnTo>
                  <a:pt x="65812" y="54471"/>
                </a:lnTo>
                <a:lnTo>
                  <a:pt x="65303" y="56641"/>
                </a:lnTo>
                <a:lnTo>
                  <a:pt x="59575" y="66621"/>
                </a:lnTo>
                <a:lnTo>
                  <a:pt x="51084" y="101590"/>
                </a:lnTo>
                <a:lnTo>
                  <a:pt x="40148" y="136199"/>
                </a:lnTo>
                <a:lnTo>
                  <a:pt x="32305" y="171821"/>
                </a:lnTo>
                <a:lnTo>
                  <a:pt x="22742" y="207531"/>
                </a:lnTo>
                <a:lnTo>
                  <a:pt x="10106" y="241099"/>
                </a:lnTo>
                <a:lnTo>
                  <a:pt x="7167" y="260551"/>
                </a:lnTo>
                <a:lnTo>
                  <a:pt x="985" y="260966"/>
                </a:lnTo>
                <a:lnTo>
                  <a:pt x="4077" y="260994"/>
                </a:lnTo>
                <a:lnTo>
                  <a:pt x="5095" y="260205"/>
                </a:lnTo>
                <a:lnTo>
                  <a:pt x="6227" y="257210"/>
                </a:lnTo>
                <a:lnTo>
                  <a:pt x="7128" y="222752"/>
                </a:lnTo>
                <a:lnTo>
                  <a:pt x="7925" y="213247"/>
                </a:lnTo>
                <a:lnTo>
                  <a:pt x="17775" y="177564"/>
                </a:lnTo>
                <a:lnTo>
                  <a:pt x="24893" y="145287"/>
                </a:lnTo>
                <a:lnTo>
                  <a:pt x="34393" y="113662"/>
                </a:lnTo>
                <a:lnTo>
                  <a:pt x="42906" y="80048"/>
                </a:lnTo>
                <a:lnTo>
                  <a:pt x="55823" y="45724"/>
                </a:lnTo>
                <a:lnTo>
                  <a:pt x="65907" y="18615"/>
                </a:lnTo>
                <a:lnTo>
                  <a:pt x="68973" y="13577"/>
                </a:lnTo>
                <a:lnTo>
                  <a:pt x="71104" y="5271"/>
                </a:lnTo>
                <a:lnTo>
                  <a:pt x="71363" y="0"/>
                </a:lnTo>
                <a:lnTo>
                  <a:pt x="71427" y="20607"/>
                </a:lnTo>
                <a:lnTo>
                  <a:pt x="62608" y="54027"/>
                </a:lnTo>
                <a:lnTo>
                  <a:pt x="47516" y="87186"/>
                </a:lnTo>
                <a:lnTo>
                  <a:pt x="24458" y="120513"/>
                </a:lnTo>
                <a:lnTo>
                  <a:pt x="3181" y="155306"/>
                </a:lnTo>
                <a:lnTo>
                  <a:pt x="1408" y="158466"/>
                </a:lnTo>
                <a:lnTo>
                  <a:pt x="26" y="167778"/>
                </a:lnTo>
                <a:lnTo>
                  <a:pt x="0" y="164239"/>
                </a:lnTo>
                <a:lnTo>
                  <a:pt x="2111" y="160319"/>
                </a:lnTo>
                <a:lnTo>
                  <a:pt x="4901" y="155931"/>
                </a:lnTo>
                <a:lnTo>
                  <a:pt x="6141" y="151336"/>
                </a:lnTo>
                <a:lnTo>
                  <a:pt x="26535" y="127517"/>
                </a:lnTo>
                <a:lnTo>
                  <a:pt x="59460" y="92019"/>
                </a:lnTo>
                <a:lnTo>
                  <a:pt x="73061" y="76931"/>
                </a:lnTo>
                <a:lnTo>
                  <a:pt x="102315" y="57077"/>
                </a:lnTo>
                <a:lnTo>
                  <a:pt x="113806" y="54478"/>
                </a:lnTo>
                <a:lnTo>
                  <a:pt x="123719" y="53964"/>
                </a:lnTo>
                <a:lnTo>
                  <a:pt x="142864" y="6098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MARTInkShape-142"/>
          <p:cNvSpPr/>
          <p:nvPr/>
        </p:nvSpPr>
        <p:spPr>
          <a:xfrm>
            <a:off x="4986360" y="3657600"/>
            <a:ext cx="871560" cy="1300320"/>
          </a:xfrm>
          <a:custGeom>
            <a:avLst/>
            <a:gdLst>
              <a:gd name="textAreaLeft" fmla="*/ 0 w 871560"/>
              <a:gd name="textAreaRight" fmla="*/ 871920 w 871560"/>
              <a:gd name="textAreaTop" fmla="*/ 0 h 1300320"/>
              <a:gd name="textAreaBottom" fmla="*/ 1300680 h 1300320"/>
            </a:gdLst>
            <a:ahLst/>
            <a:rect l="textAreaLeft" t="textAreaTop" r="textAreaRight" b="textAreaBottom"/>
            <a:pathLst>
              <a:path w="871526" h="1299610">
                <a:moveTo>
                  <a:pt x="871525" y="0"/>
                </a:moveTo>
                <a:lnTo>
                  <a:pt x="867733" y="0"/>
                </a:lnTo>
                <a:lnTo>
                  <a:pt x="866615" y="794"/>
                </a:lnTo>
                <a:lnTo>
                  <a:pt x="865871" y="2117"/>
                </a:lnTo>
                <a:lnTo>
                  <a:pt x="864468" y="6850"/>
                </a:lnTo>
                <a:lnTo>
                  <a:pt x="838163" y="7936"/>
                </a:lnTo>
                <a:lnTo>
                  <a:pt x="830243" y="12053"/>
                </a:lnTo>
                <a:lnTo>
                  <a:pt x="802018" y="16273"/>
                </a:lnTo>
                <a:lnTo>
                  <a:pt x="782732" y="25662"/>
                </a:lnTo>
                <a:lnTo>
                  <a:pt x="749874" y="34022"/>
                </a:lnTo>
                <a:lnTo>
                  <a:pt x="714407" y="47685"/>
                </a:lnTo>
                <a:lnTo>
                  <a:pt x="682826" y="61918"/>
                </a:lnTo>
                <a:lnTo>
                  <a:pt x="647575" y="76201"/>
                </a:lnTo>
                <a:lnTo>
                  <a:pt x="611897" y="91281"/>
                </a:lnTo>
                <a:lnTo>
                  <a:pt x="576181" y="112051"/>
                </a:lnTo>
                <a:lnTo>
                  <a:pt x="540463" y="137539"/>
                </a:lnTo>
                <a:lnTo>
                  <a:pt x="510663" y="155803"/>
                </a:lnTo>
                <a:lnTo>
                  <a:pt x="476018" y="188616"/>
                </a:lnTo>
                <a:lnTo>
                  <a:pt x="442057" y="223129"/>
                </a:lnTo>
                <a:lnTo>
                  <a:pt x="416909" y="253603"/>
                </a:lnTo>
                <a:lnTo>
                  <a:pt x="392920" y="286221"/>
                </a:lnTo>
                <a:lnTo>
                  <a:pt x="369085" y="321531"/>
                </a:lnTo>
                <a:lnTo>
                  <a:pt x="345270" y="357196"/>
                </a:lnTo>
                <a:lnTo>
                  <a:pt x="331129" y="386558"/>
                </a:lnTo>
                <a:lnTo>
                  <a:pt x="313871" y="419992"/>
                </a:lnTo>
                <a:lnTo>
                  <a:pt x="298968" y="453554"/>
                </a:lnTo>
                <a:lnTo>
                  <a:pt x="282677" y="485849"/>
                </a:lnTo>
                <a:lnTo>
                  <a:pt x="268868" y="512696"/>
                </a:lnTo>
                <a:lnTo>
                  <a:pt x="255515" y="540759"/>
                </a:lnTo>
                <a:lnTo>
                  <a:pt x="245386" y="569183"/>
                </a:lnTo>
                <a:lnTo>
                  <a:pt x="233477" y="597713"/>
                </a:lnTo>
                <a:lnTo>
                  <a:pt x="223775" y="626275"/>
                </a:lnTo>
                <a:lnTo>
                  <a:pt x="211199" y="654845"/>
                </a:lnTo>
                <a:lnTo>
                  <a:pt x="198211" y="684213"/>
                </a:lnTo>
                <a:lnTo>
                  <a:pt x="188190" y="716904"/>
                </a:lnTo>
                <a:lnTo>
                  <a:pt x="176313" y="747051"/>
                </a:lnTo>
                <a:lnTo>
                  <a:pt x="167414" y="776885"/>
                </a:lnTo>
                <a:lnTo>
                  <a:pt x="158956" y="809714"/>
                </a:lnTo>
                <a:lnTo>
                  <a:pt x="147543" y="840696"/>
                </a:lnTo>
                <a:lnTo>
                  <a:pt x="138781" y="874658"/>
                </a:lnTo>
                <a:lnTo>
                  <a:pt x="131158" y="909857"/>
                </a:lnTo>
                <a:lnTo>
                  <a:pt x="123872" y="945421"/>
                </a:lnTo>
                <a:lnTo>
                  <a:pt x="116687" y="981094"/>
                </a:lnTo>
                <a:lnTo>
                  <a:pt x="109530" y="1016800"/>
                </a:lnTo>
                <a:lnTo>
                  <a:pt x="103177" y="1052514"/>
                </a:lnTo>
                <a:lnTo>
                  <a:pt x="100148" y="1088232"/>
                </a:lnTo>
                <a:lnTo>
                  <a:pt x="95369" y="1123156"/>
                </a:lnTo>
                <a:lnTo>
                  <a:pt x="92807" y="1153966"/>
                </a:lnTo>
                <a:lnTo>
                  <a:pt x="88167" y="1183203"/>
                </a:lnTo>
                <a:lnTo>
                  <a:pt x="87234" y="1211180"/>
                </a:lnTo>
                <a:lnTo>
                  <a:pt x="91511" y="1242369"/>
                </a:lnTo>
                <a:lnTo>
                  <a:pt x="94574" y="1262136"/>
                </a:lnTo>
                <a:lnTo>
                  <a:pt x="98928" y="1283038"/>
                </a:lnTo>
                <a:lnTo>
                  <a:pt x="99683" y="1293854"/>
                </a:lnTo>
                <a:lnTo>
                  <a:pt x="100582" y="1295957"/>
                </a:lnTo>
                <a:lnTo>
                  <a:pt x="101975" y="1297359"/>
                </a:lnTo>
                <a:lnTo>
                  <a:pt x="106123" y="1299609"/>
                </a:lnTo>
                <a:lnTo>
                  <a:pt x="106463" y="1299000"/>
                </a:lnTo>
                <a:lnTo>
                  <a:pt x="107117" y="1283355"/>
                </a:lnTo>
                <a:lnTo>
                  <a:pt x="100991" y="1253100"/>
                </a:lnTo>
                <a:lnTo>
                  <a:pt x="92360" y="1221029"/>
                </a:lnTo>
                <a:lnTo>
                  <a:pt x="85794" y="1185790"/>
                </a:lnTo>
                <a:lnTo>
                  <a:pt x="75884" y="1150134"/>
                </a:lnTo>
                <a:lnTo>
                  <a:pt x="64241" y="1114424"/>
                </a:lnTo>
                <a:lnTo>
                  <a:pt x="52370" y="1078706"/>
                </a:lnTo>
                <a:lnTo>
                  <a:pt x="40468" y="1042988"/>
                </a:lnTo>
                <a:lnTo>
                  <a:pt x="28563" y="1017156"/>
                </a:lnTo>
                <a:lnTo>
                  <a:pt x="19038" y="1005429"/>
                </a:lnTo>
                <a:lnTo>
                  <a:pt x="14275" y="1002483"/>
                </a:lnTo>
                <a:lnTo>
                  <a:pt x="11894" y="1001697"/>
                </a:lnTo>
                <a:lnTo>
                  <a:pt x="10306" y="1000379"/>
                </a:lnTo>
                <a:lnTo>
                  <a:pt x="8542" y="996798"/>
                </a:lnTo>
                <a:lnTo>
                  <a:pt x="7279" y="996320"/>
                </a:lnTo>
                <a:lnTo>
                  <a:pt x="5642" y="996795"/>
                </a:lnTo>
                <a:lnTo>
                  <a:pt x="1104" y="999467"/>
                </a:lnTo>
                <a:lnTo>
                  <a:pt x="484" y="1001949"/>
                </a:lnTo>
                <a:lnTo>
                  <a:pt x="0" y="1036077"/>
                </a:lnTo>
                <a:lnTo>
                  <a:pt x="787" y="1045473"/>
                </a:lnTo>
                <a:lnTo>
                  <a:pt x="12173" y="1078862"/>
                </a:lnTo>
                <a:lnTo>
                  <a:pt x="16780" y="1089623"/>
                </a:lnTo>
                <a:lnTo>
                  <a:pt x="25708" y="1097581"/>
                </a:lnTo>
                <a:lnTo>
                  <a:pt x="61120" y="1119855"/>
                </a:lnTo>
                <a:lnTo>
                  <a:pt x="89009" y="1130321"/>
                </a:lnTo>
                <a:lnTo>
                  <a:pt x="122611" y="1140496"/>
                </a:lnTo>
                <a:lnTo>
                  <a:pt x="157150" y="114300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MARTInkShape-143"/>
          <p:cNvSpPr/>
          <p:nvPr/>
        </p:nvSpPr>
        <p:spPr>
          <a:xfrm>
            <a:off x="3359160" y="3763800"/>
            <a:ext cx="992160" cy="1100160"/>
          </a:xfrm>
          <a:custGeom>
            <a:avLst/>
            <a:gdLst>
              <a:gd name="textAreaLeft" fmla="*/ 0 w 992160"/>
              <a:gd name="textAreaRight" fmla="*/ 992520 w 99216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991902" h="1099010">
                <a:moveTo>
                  <a:pt x="13207" y="0"/>
                </a:moveTo>
                <a:lnTo>
                  <a:pt x="0" y="0"/>
                </a:lnTo>
                <a:lnTo>
                  <a:pt x="9589" y="0"/>
                </a:lnTo>
                <a:lnTo>
                  <a:pt x="44134" y="11857"/>
                </a:lnTo>
                <a:lnTo>
                  <a:pt x="75444" y="24136"/>
                </a:lnTo>
                <a:lnTo>
                  <a:pt x="106745" y="35762"/>
                </a:lnTo>
                <a:lnTo>
                  <a:pt x="137767" y="47631"/>
                </a:lnTo>
                <a:lnTo>
                  <a:pt x="173034" y="59532"/>
                </a:lnTo>
                <a:lnTo>
                  <a:pt x="204380" y="74760"/>
                </a:lnTo>
                <a:lnTo>
                  <a:pt x="234326" y="93055"/>
                </a:lnTo>
                <a:lnTo>
                  <a:pt x="263172" y="111955"/>
                </a:lnTo>
                <a:lnTo>
                  <a:pt x="291800" y="130976"/>
                </a:lnTo>
                <a:lnTo>
                  <a:pt x="322502" y="150021"/>
                </a:lnTo>
                <a:lnTo>
                  <a:pt x="355113" y="172862"/>
                </a:lnTo>
                <a:lnTo>
                  <a:pt x="385280" y="195395"/>
                </a:lnTo>
                <a:lnTo>
                  <a:pt x="418873" y="219836"/>
                </a:lnTo>
                <a:lnTo>
                  <a:pt x="448674" y="243979"/>
                </a:lnTo>
                <a:lnTo>
                  <a:pt x="477491" y="276588"/>
                </a:lnTo>
                <a:lnTo>
                  <a:pt x="506114" y="306783"/>
                </a:lnTo>
                <a:lnTo>
                  <a:pt x="534698" y="335678"/>
                </a:lnTo>
                <a:lnTo>
                  <a:pt x="557572" y="369225"/>
                </a:lnTo>
                <a:lnTo>
                  <a:pt x="579494" y="401723"/>
                </a:lnTo>
                <a:lnTo>
                  <a:pt x="602728" y="434688"/>
                </a:lnTo>
                <a:lnTo>
                  <a:pt x="622604" y="469834"/>
                </a:lnTo>
                <a:lnTo>
                  <a:pt x="637828" y="497897"/>
                </a:lnTo>
                <a:lnTo>
                  <a:pt x="656274" y="526320"/>
                </a:lnTo>
                <a:lnTo>
                  <a:pt x="672146" y="554850"/>
                </a:lnTo>
                <a:lnTo>
                  <a:pt x="686903" y="583412"/>
                </a:lnTo>
                <a:lnTo>
                  <a:pt x="701330" y="611983"/>
                </a:lnTo>
                <a:lnTo>
                  <a:pt x="714865" y="640557"/>
                </a:lnTo>
                <a:lnTo>
                  <a:pt x="725049" y="669132"/>
                </a:lnTo>
                <a:lnTo>
                  <a:pt x="737767" y="697707"/>
                </a:lnTo>
                <a:lnTo>
                  <a:pt x="750796" y="726282"/>
                </a:lnTo>
                <a:lnTo>
                  <a:pt x="760830" y="755650"/>
                </a:lnTo>
                <a:lnTo>
                  <a:pt x="773505" y="788341"/>
                </a:lnTo>
                <a:lnTo>
                  <a:pt x="787314" y="818488"/>
                </a:lnTo>
                <a:lnTo>
                  <a:pt x="800667" y="847529"/>
                </a:lnTo>
                <a:lnTo>
                  <a:pt x="810796" y="875448"/>
                </a:lnTo>
                <a:lnTo>
                  <a:pt x="825923" y="908735"/>
                </a:lnTo>
                <a:lnTo>
                  <a:pt x="834243" y="936269"/>
                </a:lnTo>
                <a:lnTo>
                  <a:pt x="844165" y="970226"/>
                </a:lnTo>
                <a:lnTo>
                  <a:pt x="858678" y="999864"/>
                </a:lnTo>
                <a:lnTo>
                  <a:pt x="866614" y="1021479"/>
                </a:lnTo>
                <a:lnTo>
                  <a:pt x="873744" y="1053472"/>
                </a:lnTo>
                <a:lnTo>
                  <a:pt x="886269" y="1085168"/>
                </a:lnTo>
                <a:lnTo>
                  <a:pt x="890778" y="1091448"/>
                </a:lnTo>
                <a:lnTo>
                  <a:pt x="891559" y="1096328"/>
                </a:lnTo>
                <a:lnTo>
                  <a:pt x="890875" y="1097598"/>
                </a:lnTo>
                <a:lnTo>
                  <a:pt x="889625" y="1098445"/>
                </a:lnTo>
                <a:lnTo>
                  <a:pt x="887999" y="1099009"/>
                </a:lnTo>
                <a:lnTo>
                  <a:pt x="886914" y="1098592"/>
                </a:lnTo>
                <a:lnTo>
                  <a:pt x="886191" y="1097519"/>
                </a:lnTo>
                <a:lnTo>
                  <a:pt x="885708" y="1096011"/>
                </a:lnTo>
                <a:lnTo>
                  <a:pt x="879217" y="1085620"/>
                </a:lnTo>
                <a:lnTo>
                  <a:pt x="878679" y="1083316"/>
                </a:lnTo>
                <a:lnTo>
                  <a:pt x="856467" y="1047823"/>
                </a:lnTo>
                <a:lnTo>
                  <a:pt x="838599" y="1014109"/>
                </a:lnTo>
                <a:lnTo>
                  <a:pt x="819362" y="978654"/>
                </a:lnTo>
                <a:lnTo>
                  <a:pt x="798981" y="949317"/>
                </a:lnTo>
                <a:lnTo>
                  <a:pt x="781432" y="915888"/>
                </a:lnTo>
                <a:lnTo>
                  <a:pt x="759298" y="886119"/>
                </a:lnTo>
                <a:lnTo>
                  <a:pt x="744548" y="857308"/>
                </a:lnTo>
                <a:lnTo>
                  <a:pt x="722545" y="825332"/>
                </a:lnTo>
                <a:lnTo>
                  <a:pt x="692292" y="793389"/>
                </a:lnTo>
                <a:lnTo>
                  <a:pt x="691874" y="819703"/>
                </a:lnTo>
                <a:lnTo>
                  <a:pt x="701808" y="855359"/>
                </a:lnTo>
                <a:lnTo>
                  <a:pt x="711790" y="886245"/>
                </a:lnTo>
                <a:lnTo>
                  <a:pt x="728225" y="919981"/>
                </a:lnTo>
                <a:lnTo>
                  <a:pt x="746759" y="953603"/>
                </a:lnTo>
                <a:lnTo>
                  <a:pt x="760957" y="981402"/>
                </a:lnTo>
                <a:lnTo>
                  <a:pt x="780771" y="1013536"/>
                </a:lnTo>
                <a:lnTo>
                  <a:pt x="804675" y="1042815"/>
                </a:lnTo>
                <a:lnTo>
                  <a:pt x="829780" y="1072187"/>
                </a:lnTo>
                <a:lnTo>
                  <a:pt x="853762" y="1087687"/>
                </a:lnTo>
                <a:lnTo>
                  <a:pt x="868068" y="1091421"/>
                </a:lnTo>
                <a:lnTo>
                  <a:pt x="892858" y="1092856"/>
                </a:lnTo>
                <a:lnTo>
                  <a:pt x="913761" y="1085205"/>
                </a:lnTo>
                <a:lnTo>
                  <a:pt x="927738" y="1076399"/>
                </a:lnTo>
                <a:lnTo>
                  <a:pt x="960952" y="1045234"/>
                </a:lnTo>
                <a:lnTo>
                  <a:pt x="991901" y="101441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SMARTInkShape-Group62"/>
          <p:cNvGrpSpPr/>
          <p:nvPr/>
        </p:nvGrpSpPr>
        <p:grpSpPr>
          <a:xfrm>
            <a:off x="4294080" y="3343320"/>
            <a:ext cx="542880" cy="250920"/>
            <a:chOff x="4294080" y="3343320"/>
            <a:chExt cx="542880" cy="250920"/>
          </a:xfrm>
        </p:grpSpPr>
        <p:sp>
          <p:nvSpPr>
            <p:cNvPr id="507" name="SMARTInkShape-144"/>
            <p:cNvSpPr/>
            <p:nvPr/>
          </p:nvSpPr>
          <p:spPr>
            <a:xfrm>
              <a:off x="4294080" y="3343320"/>
              <a:ext cx="6840" cy="2361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7145" h="235287">
                  <a:moveTo>
                    <a:pt x="7144" y="0"/>
                  </a:moveTo>
                  <a:lnTo>
                    <a:pt x="7144" y="3792"/>
                  </a:lnTo>
                  <a:lnTo>
                    <a:pt x="6350" y="4909"/>
                  </a:lnTo>
                  <a:lnTo>
                    <a:pt x="5027" y="5654"/>
                  </a:lnTo>
                  <a:lnTo>
                    <a:pt x="3351" y="6151"/>
                  </a:lnTo>
                  <a:lnTo>
                    <a:pt x="2234" y="7276"/>
                  </a:lnTo>
                  <a:lnTo>
                    <a:pt x="993" y="10642"/>
                  </a:lnTo>
                  <a:lnTo>
                    <a:pt x="39" y="43092"/>
                  </a:lnTo>
                  <a:lnTo>
                    <a:pt x="3" y="73574"/>
                  </a:lnTo>
                  <a:lnTo>
                    <a:pt x="1" y="107438"/>
                  </a:lnTo>
                  <a:lnTo>
                    <a:pt x="0" y="142912"/>
                  </a:lnTo>
                  <a:lnTo>
                    <a:pt x="0" y="172944"/>
                  </a:lnTo>
                  <a:lnTo>
                    <a:pt x="0" y="206673"/>
                  </a:lnTo>
                  <a:lnTo>
                    <a:pt x="0" y="235286"/>
                  </a:lnTo>
                  <a:lnTo>
                    <a:pt x="0" y="2286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SMARTInkShape-145"/>
            <p:cNvSpPr/>
            <p:nvPr/>
          </p:nvSpPr>
          <p:spPr>
            <a:xfrm>
              <a:off x="4308120" y="3371760"/>
              <a:ext cx="105840" cy="1854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06074" h="184523">
                  <a:moveTo>
                    <a:pt x="7057" y="0"/>
                  </a:moveTo>
                  <a:lnTo>
                    <a:pt x="906" y="0"/>
                  </a:lnTo>
                  <a:lnTo>
                    <a:pt x="575" y="794"/>
                  </a:lnTo>
                  <a:lnTo>
                    <a:pt x="0" y="9943"/>
                  </a:lnTo>
                  <a:lnTo>
                    <a:pt x="8736" y="43064"/>
                  </a:lnTo>
                  <a:lnTo>
                    <a:pt x="21492" y="73572"/>
                  </a:lnTo>
                  <a:lnTo>
                    <a:pt x="26966" y="85880"/>
                  </a:lnTo>
                  <a:lnTo>
                    <a:pt x="46882" y="121395"/>
                  </a:lnTo>
                  <a:lnTo>
                    <a:pt x="64169" y="154904"/>
                  </a:lnTo>
                  <a:lnTo>
                    <a:pt x="88718" y="181635"/>
                  </a:lnTo>
                  <a:lnTo>
                    <a:pt x="93092" y="183914"/>
                  </a:lnTo>
                  <a:lnTo>
                    <a:pt x="95370" y="184522"/>
                  </a:lnTo>
                  <a:lnTo>
                    <a:pt x="96889" y="184133"/>
                  </a:lnTo>
                  <a:lnTo>
                    <a:pt x="97901" y="183081"/>
                  </a:lnTo>
                  <a:lnTo>
                    <a:pt x="99026" y="179794"/>
                  </a:lnTo>
                  <a:lnTo>
                    <a:pt x="102027" y="147255"/>
                  </a:lnTo>
                  <a:lnTo>
                    <a:pt x="106073" y="124690"/>
                  </a:lnTo>
                  <a:lnTo>
                    <a:pt x="100832" y="91534"/>
                  </a:lnTo>
                  <a:lnTo>
                    <a:pt x="99979" y="59879"/>
                  </a:lnTo>
                  <a:lnTo>
                    <a:pt x="99927" y="26609"/>
                  </a:lnTo>
                  <a:lnTo>
                    <a:pt x="99926" y="1428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SMARTInkShape-146"/>
            <p:cNvSpPr/>
            <p:nvPr/>
          </p:nvSpPr>
          <p:spPr>
            <a:xfrm>
              <a:off x="4730040" y="3407760"/>
              <a:ext cx="106920" cy="1864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07033" h="185738">
                  <a:moveTo>
                    <a:pt x="42738" y="0"/>
                  </a:moveTo>
                  <a:lnTo>
                    <a:pt x="42738" y="3792"/>
                  </a:lnTo>
                  <a:lnTo>
                    <a:pt x="40621" y="7771"/>
                  </a:lnTo>
                  <a:lnTo>
                    <a:pt x="32795" y="20585"/>
                  </a:lnTo>
                  <a:lnTo>
                    <a:pt x="21252" y="54373"/>
                  </a:lnTo>
                  <a:lnTo>
                    <a:pt x="7015" y="87598"/>
                  </a:lnTo>
                  <a:lnTo>
                    <a:pt x="1286" y="110877"/>
                  </a:lnTo>
                  <a:lnTo>
                    <a:pt x="0" y="140402"/>
                  </a:lnTo>
                  <a:lnTo>
                    <a:pt x="4164" y="149978"/>
                  </a:lnTo>
                  <a:lnTo>
                    <a:pt x="23521" y="173411"/>
                  </a:lnTo>
                  <a:lnTo>
                    <a:pt x="34575" y="180850"/>
                  </a:lnTo>
                  <a:lnTo>
                    <a:pt x="47904" y="184289"/>
                  </a:lnTo>
                  <a:lnTo>
                    <a:pt x="83499" y="185681"/>
                  </a:lnTo>
                  <a:lnTo>
                    <a:pt x="107032" y="1857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SMARTInkShape-147"/>
            <p:cNvSpPr/>
            <p:nvPr/>
          </p:nvSpPr>
          <p:spPr>
            <a:xfrm>
              <a:off x="4479840" y="3436560"/>
              <a:ext cx="92880" cy="14328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92843" h="142789">
                  <a:moveTo>
                    <a:pt x="14261" y="7057"/>
                  </a:moveTo>
                  <a:lnTo>
                    <a:pt x="14261" y="906"/>
                  </a:lnTo>
                  <a:lnTo>
                    <a:pt x="13467" y="575"/>
                  </a:lnTo>
                  <a:lnTo>
                    <a:pt x="8110" y="0"/>
                  </a:lnTo>
                  <a:lnTo>
                    <a:pt x="7779" y="765"/>
                  </a:lnTo>
                  <a:lnTo>
                    <a:pt x="7204" y="6071"/>
                  </a:lnTo>
                  <a:lnTo>
                    <a:pt x="2225" y="12565"/>
                  </a:lnTo>
                  <a:lnTo>
                    <a:pt x="974" y="16913"/>
                  </a:lnTo>
                  <a:lnTo>
                    <a:pt x="0" y="48663"/>
                  </a:lnTo>
                  <a:lnTo>
                    <a:pt x="772" y="66810"/>
                  </a:lnTo>
                  <a:lnTo>
                    <a:pt x="5678" y="80147"/>
                  </a:lnTo>
                  <a:lnTo>
                    <a:pt x="28565" y="113717"/>
                  </a:lnTo>
                  <a:lnTo>
                    <a:pt x="40456" y="125260"/>
                  </a:lnTo>
                  <a:lnTo>
                    <a:pt x="45218" y="127060"/>
                  </a:lnTo>
                  <a:lnTo>
                    <a:pt x="47599" y="126746"/>
                  </a:lnTo>
                  <a:lnTo>
                    <a:pt x="52361" y="124281"/>
                  </a:lnTo>
                  <a:lnTo>
                    <a:pt x="53948" y="122513"/>
                  </a:lnTo>
                  <a:lnTo>
                    <a:pt x="62592" y="106997"/>
                  </a:lnTo>
                  <a:lnTo>
                    <a:pt x="71477" y="75831"/>
                  </a:lnTo>
                  <a:lnTo>
                    <a:pt x="77829" y="52423"/>
                  </a:lnTo>
                  <a:lnTo>
                    <a:pt x="78542" y="16905"/>
                  </a:lnTo>
                  <a:lnTo>
                    <a:pt x="78554" y="8208"/>
                  </a:lnTo>
                  <a:lnTo>
                    <a:pt x="78555" y="43423"/>
                  </a:lnTo>
                  <a:lnTo>
                    <a:pt x="79348" y="66673"/>
                  </a:lnTo>
                  <a:lnTo>
                    <a:pt x="85830" y="99286"/>
                  </a:lnTo>
                  <a:lnTo>
                    <a:pt x="91222" y="115262"/>
                  </a:lnTo>
                  <a:lnTo>
                    <a:pt x="92842" y="14278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SMARTInkShape-148"/>
            <p:cNvSpPr/>
            <p:nvPr/>
          </p:nvSpPr>
          <p:spPr>
            <a:xfrm>
              <a:off x="4630680" y="3422160"/>
              <a:ext cx="84600" cy="154440"/>
            </a:xfrm>
            <a:custGeom>
              <a:avLst/>
              <a:gdLst>
                <a:gd name="textAreaLeft" fmla="*/ 0 w 84600"/>
                <a:gd name="textAreaRight" fmla="*/ 84600 w 846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84725" h="153851">
                  <a:moveTo>
                    <a:pt x="6143" y="0"/>
                  </a:moveTo>
                  <a:lnTo>
                    <a:pt x="6143" y="3792"/>
                  </a:lnTo>
                  <a:lnTo>
                    <a:pt x="6937" y="4910"/>
                  </a:lnTo>
                  <a:lnTo>
                    <a:pt x="8259" y="5655"/>
                  </a:lnTo>
                  <a:lnTo>
                    <a:pt x="9935" y="6151"/>
                  </a:lnTo>
                  <a:lnTo>
                    <a:pt x="11052" y="7276"/>
                  </a:lnTo>
                  <a:lnTo>
                    <a:pt x="12294" y="10642"/>
                  </a:lnTo>
                  <a:lnTo>
                    <a:pt x="13261" y="40929"/>
                  </a:lnTo>
                  <a:lnTo>
                    <a:pt x="6583" y="76482"/>
                  </a:lnTo>
                  <a:lnTo>
                    <a:pt x="5407" y="100030"/>
                  </a:lnTo>
                  <a:lnTo>
                    <a:pt x="0" y="119849"/>
                  </a:lnTo>
                  <a:lnTo>
                    <a:pt x="1560" y="126820"/>
                  </a:lnTo>
                  <a:lnTo>
                    <a:pt x="4785" y="135208"/>
                  </a:lnTo>
                  <a:lnTo>
                    <a:pt x="5237" y="137764"/>
                  </a:lnTo>
                  <a:lnTo>
                    <a:pt x="7857" y="142720"/>
                  </a:lnTo>
                  <a:lnTo>
                    <a:pt x="9667" y="145153"/>
                  </a:lnTo>
                  <a:lnTo>
                    <a:pt x="13795" y="147856"/>
                  </a:lnTo>
                  <a:lnTo>
                    <a:pt x="30169" y="153850"/>
                  </a:lnTo>
                  <a:lnTo>
                    <a:pt x="51343" y="149666"/>
                  </a:lnTo>
                  <a:lnTo>
                    <a:pt x="60193" y="144446"/>
                  </a:lnTo>
                  <a:lnTo>
                    <a:pt x="84724" y="12144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1030320" y="3257640"/>
            <a:ext cx="7053840" cy="780480"/>
            <a:chOff x="1030320" y="3257640"/>
            <a:chExt cx="7053840" cy="780480"/>
          </a:xfrm>
        </p:grpSpPr>
        <p:grpSp>
          <p:nvGrpSpPr>
            <p:cNvPr id="513" name="Group 3"/>
            <p:cNvGrpSpPr/>
            <p:nvPr/>
          </p:nvGrpSpPr>
          <p:grpSpPr>
            <a:xfrm>
              <a:off x="5758200" y="3270600"/>
              <a:ext cx="2325960" cy="767520"/>
              <a:chOff x="5758200" y="3270600"/>
              <a:chExt cx="2325960" cy="767520"/>
            </a:xfrm>
          </p:grpSpPr>
          <p:grpSp>
            <p:nvGrpSpPr>
              <p:cNvPr id="514" name="Group 4"/>
              <p:cNvGrpSpPr/>
              <p:nvPr/>
            </p:nvGrpSpPr>
            <p:grpSpPr>
              <a:xfrm>
                <a:off x="5758200" y="3270600"/>
                <a:ext cx="2325960" cy="767520"/>
                <a:chOff x="5758200" y="3270600"/>
                <a:chExt cx="2325960" cy="767520"/>
              </a:xfrm>
            </p:grpSpPr>
            <p:sp>
              <p:nvSpPr>
                <p:cNvPr id="515" name="Rectangle 5"/>
                <p:cNvSpPr/>
                <p:nvPr/>
              </p:nvSpPr>
              <p:spPr>
                <a:xfrm rot="10808400">
                  <a:off x="6921000" y="3274920"/>
                  <a:ext cx="1162080" cy="76176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Rectangle 6"/>
                <p:cNvSpPr/>
                <p:nvPr/>
              </p:nvSpPr>
              <p:spPr>
                <a:xfrm rot="10808400">
                  <a:off x="5758920" y="3272040"/>
                  <a:ext cx="1162080" cy="7617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7" name="WordArt 7"/>
              <p:cNvSpPr txBox="1"/>
              <p:nvPr/>
            </p:nvSpPr>
            <p:spPr>
              <a:xfrm>
                <a:off x="7599240" y="3444840"/>
                <a:ext cx="3636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Black"/>
                  </a:rPr>
                  <a:t>N</a:t>
                </a:r>
                <a:endPara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  <a:ea typeface="Arial Black"/>
                </a:endParaRPr>
              </a:p>
            </p:txBody>
          </p:sp>
          <p:sp>
            <p:nvSpPr>
              <p:cNvPr id="518" name="WordArt 8"/>
              <p:cNvSpPr txBox="1"/>
              <p:nvPr/>
            </p:nvSpPr>
            <p:spPr>
              <a:xfrm>
                <a:off x="5895720" y="3425760"/>
                <a:ext cx="3636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Black"/>
                  </a:rPr>
                  <a:t>S</a:t>
                </a:r>
                <a:endPara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519" name="Group 9"/>
            <p:cNvGrpSpPr/>
            <p:nvPr/>
          </p:nvGrpSpPr>
          <p:grpSpPr>
            <a:xfrm>
              <a:off x="1030320" y="3257640"/>
              <a:ext cx="2362320" cy="761760"/>
              <a:chOff x="1030320" y="3257640"/>
              <a:chExt cx="2362320" cy="761760"/>
            </a:xfrm>
          </p:grpSpPr>
          <p:sp>
            <p:nvSpPr>
              <p:cNvPr id="520" name="Rectangle 10"/>
              <p:cNvSpPr/>
              <p:nvPr/>
            </p:nvSpPr>
            <p:spPr>
              <a:xfrm>
                <a:off x="1030320" y="3257640"/>
                <a:ext cx="1181160" cy="7617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11"/>
              <p:cNvSpPr/>
              <p:nvPr/>
            </p:nvSpPr>
            <p:spPr>
              <a:xfrm>
                <a:off x="2211480" y="3257640"/>
                <a:ext cx="1181160" cy="761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WordArt 12"/>
              <p:cNvSpPr txBox="1"/>
              <p:nvPr/>
            </p:nvSpPr>
            <p:spPr>
              <a:xfrm>
                <a:off x="1136520" y="3390840"/>
                <a:ext cx="3636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Black"/>
                  </a:rPr>
                  <a:t>N</a:t>
                </a:r>
                <a:endPara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  <a:ea typeface="Arial Black"/>
                </a:endParaRPr>
              </a:p>
            </p:txBody>
          </p:sp>
          <p:sp>
            <p:nvSpPr>
              <p:cNvPr id="523" name="WordArt 13"/>
              <p:cNvSpPr txBox="1"/>
              <p:nvPr/>
            </p:nvSpPr>
            <p:spPr>
              <a:xfrm>
                <a:off x="2881440" y="3390840"/>
                <a:ext cx="3636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Black"/>
                  </a:rPr>
                  <a:t>S</a:t>
                </a:r>
                <a:endPara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524" name="Text Box 14"/>
          <p:cNvSpPr/>
          <p:nvPr/>
        </p:nvSpPr>
        <p:spPr>
          <a:xfrm>
            <a:off x="704880" y="5797440"/>
            <a:ext cx="805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c Flux lines come out of th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e and go in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U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WordArt 15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526" name="WordArt 16"/>
          <p:cNvSpPr txBox="1"/>
          <p:nvPr/>
        </p:nvSpPr>
        <p:spPr>
          <a:xfrm>
            <a:off x="1733400" y="1162080"/>
            <a:ext cx="5639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around permanent magnet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527" name="Group 17"/>
          <p:cNvGrpSpPr/>
          <p:nvPr/>
        </p:nvGrpSpPr>
        <p:grpSpPr>
          <a:xfrm>
            <a:off x="3409920" y="3733920"/>
            <a:ext cx="2279160" cy="1790640"/>
            <a:chOff x="3409920" y="3733920"/>
            <a:chExt cx="2279160" cy="1790640"/>
          </a:xfrm>
        </p:grpSpPr>
        <p:sp>
          <p:nvSpPr>
            <p:cNvPr id="528" name="Arc 18"/>
            <p:cNvSpPr/>
            <p:nvPr/>
          </p:nvSpPr>
          <p:spPr>
            <a:xfrm>
              <a:off x="3409920" y="3943440"/>
              <a:ext cx="698400" cy="158112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9"/>
            <p:cNvSpPr/>
            <p:nvPr/>
          </p:nvSpPr>
          <p:spPr>
            <a:xfrm flipV="1" rot="19841400">
              <a:off x="4706640" y="460800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20"/>
            <p:cNvSpPr/>
            <p:nvPr/>
          </p:nvSpPr>
          <p:spPr>
            <a:xfrm flipH="1" flipV="1" rot="2331600">
              <a:off x="3993840" y="4926600"/>
              <a:ext cx="164880" cy="16524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1"/>
            <p:cNvSpPr/>
            <p:nvPr/>
          </p:nvSpPr>
          <p:spPr>
            <a:xfrm flipV="1" rot="17020200">
              <a:off x="3728160" y="410328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Arc 22"/>
            <p:cNvSpPr/>
            <p:nvPr/>
          </p:nvSpPr>
          <p:spPr>
            <a:xfrm flipH="1">
              <a:off x="5047560" y="3962520"/>
              <a:ext cx="641160" cy="1562040"/>
            </a:xfrm>
            <a:custGeom>
              <a:avLst/>
              <a:gdLst>
                <a:gd name="textAreaLeft" fmla="*/ 0 w 641160"/>
                <a:gd name="textAreaRight" fmla="*/ 641160 w 64116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23"/>
            <p:cNvSpPr/>
            <p:nvPr/>
          </p:nvSpPr>
          <p:spPr>
            <a:xfrm flipV="1" rot="459600">
              <a:off x="5132520" y="3813120"/>
              <a:ext cx="164880" cy="1652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Freeform 24"/>
            <p:cNvSpPr/>
            <p:nvPr/>
          </p:nvSpPr>
          <p:spPr>
            <a:xfrm flipV="1" rot="21031200">
              <a:off x="5270040" y="409680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Freeform 25"/>
            <p:cNvSpPr/>
            <p:nvPr/>
          </p:nvSpPr>
          <p:spPr>
            <a:xfrm flipH="1" flipV="1" rot="3274200">
              <a:off x="4988520" y="488880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Freeform 26"/>
            <p:cNvSpPr/>
            <p:nvPr/>
          </p:nvSpPr>
          <p:spPr>
            <a:xfrm flipH="1" flipV="1" rot="1683000">
              <a:off x="4239360" y="459792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Freeform 27"/>
            <p:cNvSpPr/>
            <p:nvPr/>
          </p:nvSpPr>
          <p:spPr>
            <a:xfrm flipH="1" flipV="1" rot="20701800">
              <a:off x="3751200" y="376056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Arc 28"/>
            <p:cNvSpPr/>
            <p:nvPr/>
          </p:nvSpPr>
          <p:spPr>
            <a:xfrm flipH="1">
              <a:off x="4726080" y="3733920"/>
              <a:ext cx="946080" cy="1485720"/>
            </a:xfrm>
            <a:custGeom>
              <a:avLst/>
              <a:gdLst>
                <a:gd name="textAreaLeft" fmla="*/ 360 w 946080"/>
                <a:gd name="textAreaRight" fmla="*/ 946800 w 94608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fill="none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</a:path>
                <a:path stroke="0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  <a:lnTo>
                    <a:pt x="929" y="21600"/>
                  </a:lnTo>
                  <a:lnTo>
                    <a:pt x="-1" y="1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Arc 29"/>
            <p:cNvSpPr/>
            <p:nvPr/>
          </p:nvSpPr>
          <p:spPr>
            <a:xfrm>
              <a:off x="3443400" y="3733920"/>
              <a:ext cx="946080" cy="148572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fill="none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</a:path>
                <a:path stroke="0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  <a:lnTo>
                    <a:pt x="929" y="21600"/>
                  </a:lnTo>
                  <a:lnTo>
                    <a:pt x="-1" y="1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Group 30"/>
          <p:cNvGrpSpPr/>
          <p:nvPr/>
        </p:nvGrpSpPr>
        <p:grpSpPr>
          <a:xfrm>
            <a:off x="3429000" y="1752120"/>
            <a:ext cx="2317320" cy="1847880"/>
            <a:chOff x="3429000" y="1752120"/>
            <a:chExt cx="2317320" cy="1847880"/>
          </a:xfrm>
        </p:grpSpPr>
        <p:sp>
          <p:nvSpPr>
            <p:cNvPr id="541" name="Arc 31"/>
            <p:cNvSpPr/>
            <p:nvPr/>
          </p:nvSpPr>
          <p:spPr>
            <a:xfrm flipV="1">
              <a:off x="3429000" y="1751760"/>
              <a:ext cx="679320" cy="154332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-360 h 1543320"/>
                <a:gd name="textAreaBottom" fmla="*/ 1543320 h 154332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Arc 32"/>
            <p:cNvSpPr/>
            <p:nvPr/>
          </p:nvSpPr>
          <p:spPr>
            <a:xfrm flipH="1" flipV="1">
              <a:off x="5066640" y="1751760"/>
              <a:ext cx="679320" cy="1543320"/>
            </a:xfrm>
            <a:custGeom>
              <a:avLst/>
              <a:gdLst>
                <a:gd name="textAreaLeft" fmla="*/ -360 w 679320"/>
                <a:gd name="textAreaRight" fmla="*/ 679320 w 679320"/>
                <a:gd name="textAreaTop" fmla="*/ -360 h 1543320"/>
                <a:gd name="textAreaBottom" fmla="*/ 1543320 h 154332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Group 33"/>
            <p:cNvGrpSpPr/>
            <p:nvPr/>
          </p:nvGrpSpPr>
          <p:grpSpPr>
            <a:xfrm>
              <a:off x="3449520" y="2095200"/>
              <a:ext cx="2241720" cy="1504800"/>
              <a:chOff x="3449520" y="2095200"/>
              <a:chExt cx="2241720" cy="1504800"/>
            </a:xfrm>
          </p:grpSpPr>
          <p:sp>
            <p:nvSpPr>
              <p:cNvPr id="544" name="Freeform 34"/>
              <p:cNvSpPr/>
              <p:nvPr/>
            </p:nvSpPr>
            <p:spPr>
              <a:xfrm flipH="1" flipV="1" rot="11997600">
                <a:off x="4706280" y="2549520"/>
                <a:ext cx="164520" cy="165240"/>
              </a:xfrm>
              <a:custGeom>
                <a:avLst/>
                <a:gdLst>
                  <a:gd name="textAreaLeft" fmla="*/ -360 w 164520"/>
                  <a:gd name="textAreaRight" fmla="*/ 164520 w 164520"/>
                  <a:gd name="textAreaTop" fmla="*/ -36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35"/>
              <p:cNvSpPr/>
              <p:nvPr/>
            </p:nvSpPr>
            <p:spPr>
              <a:xfrm flipH="1" flipV="1" rot="9976800">
                <a:off x="5105520" y="3308400"/>
                <a:ext cx="164880" cy="164880"/>
              </a:xfrm>
              <a:custGeom>
                <a:avLst/>
                <a:gdLst>
                  <a:gd name="textAreaLeft" fmla="*/ 360 w 164880"/>
                  <a:gd name="textAreaRight" fmla="*/ 165600 w 164880"/>
                  <a:gd name="textAreaTop" fmla="*/ 360 h 164880"/>
                  <a:gd name="textAreaBottom" fmla="*/ 165600 h 16488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36"/>
              <p:cNvSpPr/>
              <p:nvPr/>
            </p:nvSpPr>
            <p:spPr>
              <a:xfrm flipH="1" flipV="1" rot="12817200">
                <a:off x="5009760" y="2172600"/>
                <a:ext cx="165240" cy="165240"/>
              </a:xfrm>
              <a:custGeom>
                <a:avLst/>
                <a:gdLst>
                  <a:gd name="textAreaLeft" fmla="*/ -360 w 165240"/>
                  <a:gd name="textAreaRight" fmla="*/ 165240 w 165240"/>
                  <a:gd name="textAreaTop" fmla="*/ -36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37"/>
              <p:cNvSpPr/>
              <p:nvPr/>
            </p:nvSpPr>
            <p:spPr>
              <a:xfrm flipH="1" flipV="1" rot="13601400">
                <a:off x="3975480" y="2203920"/>
                <a:ext cx="165240" cy="165240"/>
              </a:xfrm>
              <a:custGeom>
                <a:avLst/>
                <a:gdLst>
                  <a:gd name="textAreaLeft" fmla="*/ -360 w 165240"/>
                  <a:gd name="textAreaRight" fmla="*/ 165240 w 165240"/>
                  <a:gd name="textAreaTop" fmla="*/ -36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38"/>
              <p:cNvSpPr/>
              <p:nvPr/>
            </p:nvSpPr>
            <p:spPr>
              <a:xfrm flipV="1" rot="8806200">
                <a:off x="4237200" y="2626200"/>
                <a:ext cx="164880" cy="1652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-36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39"/>
              <p:cNvSpPr/>
              <p:nvPr/>
            </p:nvSpPr>
            <p:spPr>
              <a:xfrm flipV="1" rot="4963800">
                <a:off x="5322960" y="3039840"/>
                <a:ext cx="164880" cy="1648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360 h 164880"/>
                  <a:gd name="textAreaBottom" fmla="*/ 165600 h 16488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40"/>
              <p:cNvSpPr/>
              <p:nvPr/>
            </p:nvSpPr>
            <p:spPr>
              <a:xfrm flipV="1" rot="10783800">
                <a:off x="3588840" y="3086280"/>
                <a:ext cx="165240" cy="16488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360 h 164880"/>
                  <a:gd name="textAreaBottom" fmla="*/ 165600 h 16488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Arc 41"/>
              <p:cNvSpPr/>
              <p:nvPr/>
            </p:nvSpPr>
            <p:spPr>
              <a:xfrm flipH="1" flipV="1">
                <a:off x="4745160" y="2094840"/>
                <a:ext cx="946080" cy="14857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-360 h 1485720"/>
                  <a:gd name="textAreaBottom" fmla="*/ 1485720 h 1485720"/>
                </a:gdLst>
                <a:ahLst/>
                <a:rect l="textAreaLeft" t="textAreaTop" r="textAreaRight" b="textAreaBottom"/>
                <a:pathLst>
                  <a:path fill="none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</a:path>
                  <a:path stroke="0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  <a:lnTo>
                      <a:pt x="929" y="21600"/>
                    </a:lnTo>
                    <a:lnTo>
                      <a:pt x="-1" y="1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Arc 42"/>
              <p:cNvSpPr/>
              <p:nvPr/>
            </p:nvSpPr>
            <p:spPr>
              <a:xfrm flipV="1">
                <a:off x="3449520" y="2113920"/>
                <a:ext cx="946440" cy="1485720"/>
              </a:xfrm>
              <a:custGeom>
                <a:avLst/>
                <a:gdLst>
                  <a:gd name="textAreaLeft" fmla="*/ 0 w 946440"/>
                  <a:gd name="textAreaRight" fmla="*/ 946800 w 946440"/>
                  <a:gd name="textAreaTop" fmla="*/ -360 h 1485720"/>
                  <a:gd name="textAreaBottom" fmla="*/ 1485720 h 1485720"/>
                </a:gdLst>
                <a:ahLst/>
                <a:rect l="textAreaLeft" t="textAreaTop" r="textAreaRight" b="textAreaBottom"/>
                <a:pathLst>
                  <a:path fill="none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</a:path>
                  <a:path stroke="0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  <a:lnTo>
                      <a:pt x="929" y="21600"/>
                    </a:lnTo>
                    <a:lnTo>
                      <a:pt x="-1" y="1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43"/>
              <p:cNvSpPr/>
              <p:nvPr/>
            </p:nvSpPr>
            <p:spPr>
              <a:xfrm flipV="1" rot="10783800">
                <a:off x="3828600" y="3339000"/>
                <a:ext cx="165240" cy="16524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-36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1542600" y="3789360"/>
            <a:ext cx="6056640" cy="2175480"/>
            <a:chOff x="1542600" y="3789360"/>
            <a:chExt cx="6056640" cy="2175480"/>
          </a:xfrm>
        </p:grpSpPr>
        <p:grpSp>
          <p:nvGrpSpPr>
            <p:cNvPr id="555" name="Group 3"/>
            <p:cNvGrpSpPr/>
            <p:nvPr/>
          </p:nvGrpSpPr>
          <p:grpSpPr>
            <a:xfrm>
              <a:off x="1542600" y="3789360"/>
              <a:ext cx="6056640" cy="2057400"/>
              <a:chOff x="1542600" y="3789360"/>
              <a:chExt cx="6056640" cy="2057400"/>
            </a:xfrm>
          </p:grpSpPr>
          <p:sp>
            <p:nvSpPr>
              <p:cNvPr id="556" name="Oval 4"/>
              <p:cNvSpPr/>
              <p:nvPr/>
            </p:nvSpPr>
            <p:spPr>
              <a:xfrm>
                <a:off x="2305080" y="3886200"/>
                <a:ext cx="4572000" cy="1523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Oval 5"/>
              <p:cNvSpPr/>
              <p:nvPr/>
            </p:nvSpPr>
            <p:spPr>
              <a:xfrm>
                <a:off x="1924200" y="3789360"/>
                <a:ext cx="5257800" cy="2057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Arc 6"/>
              <p:cNvSpPr/>
              <p:nvPr/>
            </p:nvSpPr>
            <p:spPr>
              <a:xfrm flipH="1">
                <a:off x="1542240" y="3886200"/>
                <a:ext cx="1752840" cy="1790640"/>
              </a:xfrm>
              <a:custGeom>
                <a:avLst/>
                <a:gdLst>
                  <a:gd name="textAreaLeft" fmla="*/ -360 w 1752840"/>
                  <a:gd name="textAreaRight" fmla="*/ 1752840 w 1752840"/>
                  <a:gd name="textAreaTop" fmla="*/ 0 h 1790640"/>
                  <a:gd name="textAreaBottom" fmla="*/ 1791000 h 1790640"/>
                </a:gdLst>
                <a:ahLst/>
                <a:rect l="textAreaLeft" t="textAreaTop" r="textAreaRight" b="textAreaBottom"/>
                <a:pathLst>
                  <a:path fill="none" w="21600" h="3385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5974"/>
                      <a:pt x="20271" y="30246"/>
                      <a:pt x="17790" y="33849"/>
                    </a:cubicBezTo>
                  </a:path>
                  <a:path stroke="0" w="21600" h="3385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5974"/>
                      <a:pt x="20271" y="30246"/>
                      <a:pt x="17790" y="3384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Arc 7"/>
              <p:cNvSpPr/>
              <p:nvPr/>
            </p:nvSpPr>
            <p:spPr>
              <a:xfrm>
                <a:off x="5846760" y="3946320"/>
                <a:ext cx="1752480" cy="1743120"/>
              </a:xfrm>
              <a:custGeom>
                <a:avLst/>
                <a:gdLst>
                  <a:gd name="textAreaLeft" fmla="*/ 0 w 1752480"/>
                  <a:gd name="textAreaRight" fmla="*/ 1752840 w 1752480"/>
                  <a:gd name="textAreaTop" fmla="*/ 0 h 1743120"/>
                  <a:gd name="textAreaBottom" fmla="*/ 1743480 h 1743120"/>
                </a:gdLst>
                <a:ahLst/>
                <a:rect l="textAreaLeft" t="textAreaTop" r="textAreaRight" b="textAreaBottom"/>
                <a:pathLst>
                  <a:path fill="none" w="21600" h="32945">
                    <a:moveTo>
                      <a:pt x="6185" y="-1"/>
                    </a:moveTo>
                    <a:cubicBezTo>
                      <a:pt x="15332" y="2733"/>
                      <a:pt x="21600" y="11147"/>
                      <a:pt x="21600" y="20695"/>
                    </a:cubicBezTo>
                    <a:cubicBezTo>
                      <a:pt x="21600" y="25069"/>
                      <a:pt x="20271" y="29341"/>
                      <a:pt x="17790" y="32944"/>
                    </a:cubicBezTo>
                  </a:path>
                  <a:path stroke="0" w="21600" h="32945">
                    <a:moveTo>
                      <a:pt x="6185" y="-1"/>
                    </a:moveTo>
                    <a:cubicBezTo>
                      <a:pt x="15332" y="2733"/>
                      <a:pt x="21600" y="11147"/>
                      <a:pt x="21600" y="20695"/>
                    </a:cubicBezTo>
                    <a:cubicBezTo>
                      <a:pt x="21600" y="25069"/>
                      <a:pt x="20271" y="29341"/>
                      <a:pt x="17790" y="32944"/>
                    </a:cubicBezTo>
                    <a:lnTo>
                      <a:pt x="0" y="20695"/>
                    </a:lnTo>
                    <a:lnTo>
                      <a:pt x="6185" y="-1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Freeform 8"/>
            <p:cNvSpPr/>
            <p:nvPr/>
          </p:nvSpPr>
          <p:spPr>
            <a:xfrm rot="20386200">
              <a:off x="2343240" y="534312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9"/>
            <p:cNvSpPr/>
            <p:nvPr/>
          </p:nvSpPr>
          <p:spPr>
            <a:xfrm rot="19747200">
              <a:off x="3124080" y="516204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10"/>
            <p:cNvSpPr/>
            <p:nvPr/>
          </p:nvSpPr>
          <p:spPr>
            <a:xfrm flipH="1" rot="4438800">
              <a:off x="6298560" y="410796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11"/>
            <p:cNvSpPr/>
            <p:nvPr/>
          </p:nvSpPr>
          <p:spPr>
            <a:xfrm flipH="1" rot="4438800">
              <a:off x="6559560" y="411732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12"/>
            <p:cNvSpPr/>
            <p:nvPr/>
          </p:nvSpPr>
          <p:spPr>
            <a:xfrm flipH="1" rot="11911800">
              <a:off x="6396120" y="498384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Freeform 13"/>
            <p:cNvSpPr/>
            <p:nvPr/>
          </p:nvSpPr>
          <p:spPr>
            <a:xfrm flipH="1" rot="13373400">
              <a:off x="4520880" y="576576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14"/>
            <p:cNvSpPr/>
            <p:nvPr/>
          </p:nvSpPr>
          <p:spPr>
            <a:xfrm flipH="1" rot="13373400">
              <a:off x="4672440" y="531756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15"/>
            <p:cNvSpPr/>
            <p:nvPr/>
          </p:nvSpPr>
          <p:spPr>
            <a:xfrm flipH="1" rot="12538800">
              <a:off x="6357960" y="544140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16"/>
            <p:cNvSpPr/>
            <p:nvPr/>
          </p:nvSpPr>
          <p:spPr>
            <a:xfrm flipH="1" rot="10058400">
              <a:off x="7378200" y="536544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17"/>
            <p:cNvSpPr/>
            <p:nvPr/>
          </p:nvSpPr>
          <p:spPr>
            <a:xfrm rot="6838800">
              <a:off x="2495160" y="3904920"/>
              <a:ext cx="164880" cy="1652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18"/>
            <p:cNvSpPr/>
            <p:nvPr/>
          </p:nvSpPr>
          <p:spPr>
            <a:xfrm rot="5868000">
              <a:off x="2638080" y="4114440"/>
              <a:ext cx="164880" cy="1652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19"/>
            <p:cNvSpPr/>
            <p:nvPr/>
          </p:nvSpPr>
          <p:spPr>
            <a:xfrm rot="5860800">
              <a:off x="2342880" y="412416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Group 20"/>
          <p:cNvGrpSpPr/>
          <p:nvPr/>
        </p:nvGrpSpPr>
        <p:grpSpPr>
          <a:xfrm>
            <a:off x="1571400" y="1669320"/>
            <a:ext cx="6056640" cy="2175480"/>
            <a:chOff x="1571400" y="1669320"/>
            <a:chExt cx="6056640" cy="2175480"/>
          </a:xfrm>
        </p:grpSpPr>
        <p:grpSp>
          <p:nvGrpSpPr>
            <p:cNvPr id="573" name="Group 21"/>
            <p:cNvGrpSpPr/>
            <p:nvPr/>
          </p:nvGrpSpPr>
          <p:grpSpPr>
            <a:xfrm>
              <a:off x="1571400" y="1787400"/>
              <a:ext cx="6056640" cy="2057400"/>
              <a:chOff x="1571400" y="1787400"/>
              <a:chExt cx="6056640" cy="2057400"/>
            </a:xfrm>
          </p:grpSpPr>
          <p:sp>
            <p:nvSpPr>
              <p:cNvPr id="574" name="Oval 22"/>
              <p:cNvSpPr/>
              <p:nvPr/>
            </p:nvSpPr>
            <p:spPr>
              <a:xfrm flipV="1">
                <a:off x="2333880" y="2223360"/>
                <a:ext cx="4572000" cy="1523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Oval 23"/>
              <p:cNvSpPr/>
              <p:nvPr/>
            </p:nvSpPr>
            <p:spPr>
              <a:xfrm flipV="1">
                <a:off x="1953000" y="1786680"/>
                <a:ext cx="5257800" cy="2057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Arc 24"/>
              <p:cNvSpPr/>
              <p:nvPr/>
            </p:nvSpPr>
            <p:spPr>
              <a:xfrm flipH="1" flipV="1">
                <a:off x="1571040" y="1957320"/>
                <a:ext cx="1752840" cy="1790640"/>
              </a:xfrm>
              <a:custGeom>
                <a:avLst/>
                <a:gdLst>
                  <a:gd name="textAreaLeft" fmla="*/ -360 w 1752840"/>
                  <a:gd name="textAreaRight" fmla="*/ 1752840 w 1752840"/>
                  <a:gd name="textAreaTop" fmla="*/ 360 h 1790640"/>
                  <a:gd name="textAreaBottom" fmla="*/ 1791360 h 1790640"/>
                </a:gdLst>
                <a:ahLst/>
                <a:rect l="textAreaLeft" t="textAreaTop" r="textAreaRight" b="textAreaBottom"/>
                <a:pathLst>
                  <a:path fill="none" w="21600" h="3385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5974"/>
                      <a:pt x="20271" y="30246"/>
                      <a:pt x="17790" y="33849"/>
                    </a:cubicBezTo>
                  </a:path>
                  <a:path stroke="0" w="21600" h="3385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5974"/>
                      <a:pt x="20271" y="30246"/>
                      <a:pt x="17790" y="3384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Arc 25"/>
              <p:cNvSpPr/>
              <p:nvPr/>
            </p:nvSpPr>
            <p:spPr>
              <a:xfrm flipV="1">
                <a:off x="5875560" y="1944720"/>
                <a:ext cx="1752480" cy="1743120"/>
              </a:xfrm>
              <a:custGeom>
                <a:avLst/>
                <a:gdLst>
                  <a:gd name="textAreaLeft" fmla="*/ 0 w 1752480"/>
                  <a:gd name="textAreaRight" fmla="*/ 1752840 w 1752480"/>
                  <a:gd name="textAreaTop" fmla="*/ 360 h 1743120"/>
                  <a:gd name="textAreaBottom" fmla="*/ 1743840 h 1743120"/>
                </a:gdLst>
                <a:ahLst/>
                <a:rect l="textAreaLeft" t="textAreaTop" r="textAreaRight" b="textAreaBottom"/>
                <a:pathLst>
                  <a:path fill="none" w="21600" h="32945">
                    <a:moveTo>
                      <a:pt x="6185" y="-1"/>
                    </a:moveTo>
                    <a:cubicBezTo>
                      <a:pt x="15332" y="2733"/>
                      <a:pt x="21600" y="11147"/>
                      <a:pt x="21600" y="20695"/>
                    </a:cubicBezTo>
                    <a:cubicBezTo>
                      <a:pt x="21600" y="25069"/>
                      <a:pt x="20271" y="29341"/>
                      <a:pt x="17790" y="32944"/>
                    </a:cubicBezTo>
                  </a:path>
                  <a:path stroke="0" w="21600" h="32945">
                    <a:moveTo>
                      <a:pt x="6185" y="-1"/>
                    </a:moveTo>
                    <a:cubicBezTo>
                      <a:pt x="15332" y="2733"/>
                      <a:pt x="21600" y="11147"/>
                      <a:pt x="21600" y="20695"/>
                    </a:cubicBezTo>
                    <a:cubicBezTo>
                      <a:pt x="21600" y="25069"/>
                      <a:pt x="20271" y="29341"/>
                      <a:pt x="17790" y="32944"/>
                    </a:cubicBezTo>
                    <a:lnTo>
                      <a:pt x="0" y="20695"/>
                    </a:lnTo>
                    <a:lnTo>
                      <a:pt x="6185" y="-1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Freeform 26"/>
            <p:cNvSpPr/>
            <p:nvPr/>
          </p:nvSpPr>
          <p:spPr>
            <a:xfrm flipV="1" rot="1213800">
              <a:off x="2371680" y="2125440"/>
              <a:ext cx="164880" cy="164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-360 h 164520"/>
                <a:gd name="textAreaBottom" fmla="*/ 164520 h 16452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27"/>
            <p:cNvSpPr/>
            <p:nvPr/>
          </p:nvSpPr>
          <p:spPr>
            <a:xfrm flipV="1" rot="1852800">
              <a:off x="3152880" y="230652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28"/>
            <p:cNvSpPr/>
            <p:nvPr/>
          </p:nvSpPr>
          <p:spPr>
            <a:xfrm flipH="1" flipV="1" rot="17161200">
              <a:off x="6327360" y="336060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29"/>
            <p:cNvSpPr/>
            <p:nvPr/>
          </p:nvSpPr>
          <p:spPr>
            <a:xfrm flipH="1" flipV="1" rot="17161200">
              <a:off x="6588360" y="335124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Freeform 30"/>
            <p:cNvSpPr/>
            <p:nvPr/>
          </p:nvSpPr>
          <p:spPr>
            <a:xfrm flipH="1" flipV="1" rot="9688200">
              <a:off x="6424920" y="248400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Freeform 31"/>
            <p:cNvSpPr/>
            <p:nvPr/>
          </p:nvSpPr>
          <p:spPr>
            <a:xfrm flipH="1" flipV="1" rot="8226600">
              <a:off x="4549680" y="170280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32"/>
            <p:cNvSpPr/>
            <p:nvPr/>
          </p:nvSpPr>
          <p:spPr>
            <a:xfrm flipH="1" flipV="1" rot="8226600">
              <a:off x="4701240" y="215100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33"/>
            <p:cNvSpPr/>
            <p:nvPr/>
          </p:nvSpPr>
          <p:spPr>
            <a:xfrm flipH="1" flipV="1" rot="9061200">
              <a:off x="6386760" y="202716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34"/>
            <p:cNvSpPr/>
            <p:nvPr/>
          </p:nvSpPr>
          <p:spPr>
            <a:xfrm flipH="1" flipV="1" rot="11541600">
              <a:off x="7407000" y="210312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35"/>
            <p:cNvSpPr/>
            <p:nvPr/>
          </p:nvSpPr>
          <p:spPr>
            <a:xfrm flipV="1" rot="14761200">
              <a:off x="2523960" y="3563640"/>
              <a:ext cx="164880" cy="1652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36"/>
            <p:cNvSpPr/>
            <p:nvPr/>
          </p:nvSpPr>
          <p:spPr>
            <a:xfrm flipV="1" rot="15732000">
              <a:off x="2666880" y="3354120"/>
              <a:ext cx="164880" cy="1652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Freeform 37"/>
            <p:cNvSpPr/>
            <p:nvPr/>
          </p:nvSpPr>
          <p:spPr>
            <a:xfrm flipV="1" rot="15739200">
              <a:off x="2372040" y="334476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Group 38"/>
          <p:cNvGrpSpPr/>
          <p:nvPr/>
        </p:nvGrpSpPr>
        <p:grpSpPr>
          <a:xfrm>
            <a:off x="2876400" y="3429000"/>
            <a:ext cx="3352680" cy="762120"/>
            <a:chOff x="2876400" y="3429000"/>
            <a:chExt cx="3352680" cy="762120"/>
          </a:xfrm>
        </p:grpSpPr>
        <p:sp>
          <p:nvSpPr>
            <p:cNvPr id="591" name="Rectangle 39"/>
            <p:cNvSpPr/>
            <p:nvPr/>
          </p:nvSpPr>
          <p:spPr>
            <a:xfrm>
              <a:off x="2876400" y="3429000"/>
              <a:ext cx="167616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40"/>
            <p:cNvSpPr/>
            <p:nvPr/>
          </p:nvSpPr>
          <p:spPr>
            <a:xfrm>
              <a:off x="4552560" y="3429000"/>
              <a:ext cx="1676520" cy="762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WordArt 41"/>
            <p:cNvSpPr txBox="1"/>
            <p:nvPr/>
          </p:nvSpPr>
          <p:spPr>
            <a:xfrm>
              <a:off x="3028680" y="3581640"/>
              <a:ext cx="304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94" name="WordArt 42"/>
            <p:cNvSpPr txBox="1"/>
            <p:nvPr/>
          </p:nvSpPr>
          <p:spPr>
            <a:xfrm>
              <a:off x="5848200" y="3581640"/>
              <a:ext cx="3045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595" name="Group 43"/>
          <p:cNvGrpSpPr/>
          <p:nvPr/>
        </p:nvGrpSpPr>
        <p:grpSpPr>
          <a:xfrm>
            <a:off x="1711440" y="3807000"/>
            <a:ext cx="1072800" cy="1072800"/>
            <a:chOff x="1711440" y="3807000"/>
            <a:chExt cx="1072800" cy="1072800"/>
          </a:xfrm>
        </p:grpSpPr>
        <p:sp>
          <p:nvSpPr>
            <p:cNvPr id="596" name="Oval 44"/>
            <p:cNvSpPr/>
            <p:nvPr/>
          </p:nvSpPr>
          <p:spPr>
            <a:xfrm rot="19218600">
              <a:off x="1866600" y="3962520"/>
              <a:ext cx="762120" cy="76176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AutoShape 45"/>
            <p:cNvSpPr/>
            <p:nvPr/>
          </p:nvSpPr>
          <p:spPr>
            <a:xfrm rot="19218600">
              <a:off x="1920960" y="4134960"/>
              <a:ext cx="628920" cy="453600"/>
            </a:xfrm>
            <a:prstGeom prst="leftArrow">
              <a:avLst>
                <a:gd name="adj1" fmla="val 50000"/>
                <a:gd name="adj2" fmla="val 3466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46"/>
            <p:cNvSpPr/>
            <p:nvPr/>
          </p:nvSpPr>
          <p:spPr>
            <a:xfrm rot="19218600">
              <a:off x="2221200" y="4128480"/>
              <a:ext cx="317520" cy="223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WordArt 47"/>
            <p:cNvSpPr txBox="1"/>
            <p:nvPr/>
          </p:nvSpPr>
          <p:spPr>
            <a:xfrm rot="19218600">
              <a:off x="2052360" y="4417920"/>
              <a:ext cx="84240" cy="12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122000"/>
                  </a:gradFill>
                  <a:latin typeface="Arial Black"/>
                </a:rPr>
                <a:t>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122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00" name="WordArt 48"/>
            <p:cNvSpPr txBox="1"/>
            <p:nvPr/>
          </p:nvSpPr>
          <p:spPr>
            <a:xfrm rot="19218600">
              <a:off x="2408400" y="4117680"/>
              <a:ext cx="8424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122000"/>
                  </a:gradFill>
                  <a:latin typeface="Arial Black"/>
                </a:rPr>
                <a:t>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122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01" name="Group 49"/>
          <p:cNvGrpSpPr/>
          <p:nvPr/>
        </p:nvGrpSpPr>
        <p:grpSpPr>
          <a:xfrm>
            <a:off x="2605680" y="4938840"/>
            <a:ext cx="941760" cy="942120"/>
            <a:chOff x="2605680" y="4938840"/>
            <a:chExt cx="941760" cy="942120"/>
          </a:xfrm>
        </p:grpSpPr>
        <p:sp>
          <p:nvSpPr>
            <p:cNvPr id="602" name="Oval 50"/>
            <p:cNvSpPr/>
            <p:nvPr/>
          </p:nvSpPr>
          <p:spPr>
            <a:xfrm rot="11758200">
              <a:off x="2695680" y="5028480"/>
              <a:ext cx="761760" cy="76212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AutoShape 51"/>
            <p:cNvSpPr/>
            <p:nvPr/>
          </p:nvSpPr>
          <p:spPr>
            <a:xfrm rot="11758200">
              <a:off x="2783880" y="5181480"/>
              <a:ext cx="628200" cy="453960"/>
            </a:xfrm>
            <a:prstGeom prst="leftArrow">
              <a:avLst>
                <a:gd name="adj1" fmla="val 50000"/>
                <a:gd name="adj2" fmla="val 3459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52"/>
            <p:cNvSpPr/>
            <p:nvPr/>
          </p:nvSpPr>
          <p:spPr>
            <a:xfrm rot="11758200">
              <a:off x="2758320" y="5244840"/>
              <a:ext cx="317160" cy="223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WordArt 53"/>
            <p:cNvSpPr txBox="1"/>
            <p:nvPr/>
          </p:nvSpPr>
          <p:spPr>
            <a:xfrm rot="11758200">
              <a:off x="3232080" y="5394240"/>
              <a:ext cx="8352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480000"/>
                  </a:gradFill>
                  <a:latin typeface="Arial Black"/>
                </a:rPr>
                <a:t>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48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06" name="WordArt 54"/>
            <p:cNvSpPr txBox="1"/>
            <p:nvPr/>
          </p:nvSpPr>
          <p:spPr>
            <a:xfrm rot="11758200">
              <a:off x="2783880" y="5268240"/>
              <a:ext cx="83880" cy="12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480000"/>
                  </a:gradFill>
                  <a:latin typeface="Arial Black"/>
                </a:rPr>
                <a:t>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48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07" name="Group 55"/>
          <p:cNvGrpSpPr/>
          <p:nvPr/>
        </p:nvGrpSpPr>
        <p:grpSpPr>
          <a:xfrm>
            <a:off x="5625360" y="4987080"/>
            <a:ext cx="941040" cy="941040"/>
            <a:chOff x="5625360" y="4987080"/>
            <a:chExt cx="941040" cy="941040"/>
          </a:xfrm>
        </p:grpSpPr>
        <p:sp>
          <p:nvSpPr>
            <p:cNvPr id="608" name="Oval 56"/>
            <p:cNvSpPr/>
            <p:nvPr/>
          </p:nvSpPr>
          <p:spPr>
            <a:xfrm rot="9847800">
              <a:off x="5715000" y="5076360"/>
              <a:ext cx="761760" cy="76176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AutoShape 57"/>
            <p:cNvSpPr/>
            <p:nvPr/>
          </p:nvSpPr>
          <p:spPr>
            <a:xfrm rot="9847800">
              <a:off x="5800320" y="5217120"/>
              <a:ext cx="628560" cy="453960"/>
            </a:xfrm>
            <a:prstGeom prst="leftArrow">
              <a:avLst>
                <a:gd name="adj1" fmla="val 50000"/>
                <a:gd name="adj2" fmla="val 34615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58"/>
            <p:cNvSpPr/>
            <p:nvPr/>
          </p:nvSpPr>
          <p:spPr>
            <a:xfrm rot="9847800">
              <a:off x="5774760" y="5384520"/>
              <a:ext cx="317520" cy="223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WordArt 59"/>
            <p:cNvSpPr txBox="1"/>
            <p:nvPr/>
          </p:nvSpPr>
          <p:spPr>
            <a:xfrm rot="9847800">
              <a:off x="6246000" y="5329080"/>
              <a:ext cx="838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7254000"/>
                  </a:gradFill>
                  <a:latin typeface="Arial Black"/>
                </a:rPr>
                <a:t>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7254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12" name="WordArt 60"/>
            <p:cNvSpPr txBox="1"/>
            <p:nvPr/>
          </p:nvSpPr>
          <p:spPr>
            <a:xfrm rot="9847800">
              <a:off x="5799960" y="5458680"/>
              <a:ext cx="83880" cy="12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7254000"/>
                  </a:gradFill>
                  <a:latin typeface="Arial Black"/>
                </a:rPr>
                <a:t>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7254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13" name="Group 61"/>
          <p:cNvGrpSpPr/>
          <p:nvPr/>
        </p:nvGrpSpPr>
        <p:grpSpPr>
          <a:xfrm>
            <a:off x="6467760" y="4057920"/>
            <a:ext cx="1046880" cy="1046880"/>
            <a:chOff x="6467760" y="4057920"/>
            <a:chExt cx="1046880" cy="1046880"/>
          </a:xfrm>
        </p:grpSpPr>
        <p:sp>
          <p:nvSpPr>
            <p:cNvPr id="614" name="Oval 62"/>
            <p:cNvSpPr/>
            <p:nvPr/>
          </p:nvSpPr>
          <p:spPr>
            <a:xfrm rot="3519000">
              <a:off x="6609960" y="4200120"/>
              <a:ext cx="761760" cy="76176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AutoShape 63"/>
            <p:cNvSpPr/>
            <p:nvPr/>
          </p:nvSpPr>
          <p:spPr>
            <a:xfrm rot="3519000">
              <a:off x="6658920" y="4338720"/>
              <a:ext cx="628560" cy="453960"/>
            </a:xfrm>
            <a:prstGeom prst="leftArrow">
              <a:avLst>
                <a:gd name="adj1" fmla="val 50000"/>
                <a:gd name="adj2" fmla="val 34615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64"/>
            <p:cNvSpPr/>
            <p:nvPr/>
          </p:nvSpPr>
          <p:spPr>
            <a:xfrm rot="3519000">
              <a:off x="6912000" y="4613760"/>
              <a:ext cx="317520" cy="223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WordArt 65"/>
            <p:cNvSpPr txBox="1"/>
            <p:nvPr/>
          </p:nvSpPr>
          <p:spPr>
            <a:xfrm rot="3519000">
              <a:off x="6832440" y="4346280"/>
              <a:ext cx="838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9944000"/>
                  </a:gradFill>
                  <a:latin typeface="Arial Black"/>
                </a:rPr>
                <a:t>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9944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18" name="WordArt 66"/>
            <p:cNvSpPr txBox="1"/>
            <p:nvPr/>
          </p:nvSpPr>
          <p:spPr>
            <a:xfrm rot="3519000">
              <a:off x="7078320" y="4741560"/>
              <a:ext cx="838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9944000"/>
                  </a:gradFill>
                  <a:latin typeface="Arial Black"/>
                </a:rPr>
                <a:t>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9944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19" name="Group 67"/>
          <p:cNvGrpSpPr/>
          <p:nvPr/>
        </p:nvGrpSpPr>
        <p:grpSpPr>
          <a:xfrm>
            <a:off x="4256640" y="5256720"/>
            <a:ext cx="763560" cy="763560"/>
            <a:chOff x="4256640" y="5256720"/>
            <a:chExt cx="763560" cy="763560"/>
          </a:xfrm>
        </p:grpSpPr>
        <p:sp>
          <p:nvSpPr>
            <p:cNvPr id="620" name="Oval 68"/>
            <p:cNvSpPr/>
            <p:nvPr/>
          </p:nvSpPr>
          <p:spPr>
            <a:xfrm rot="10806600">
              <a:off x="4257360" y="5257080"/>
              <a:ext cx="762120" cy="76212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AutoShape 69"/>
            <p:cNvSpPr/>
            <p:nvPr/>
          </p:nvSpPr>
          <p:spPr>
            <a:xfrm rot="10806600">
              <a:off x="4345200" y="5403600"/>
              <a:ext cx="628560" cy="453960"/>
            </a:xfrm>
            <a:prstGeom prst="leftArrow">
              <a:avLst>
                <a:gd name="adj1" fmla="val 50000"/>
                <a:gd name="adj2" fmla="val 34615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70"/>
            <p:cNvSpPr/>
            <p:nvPr/>
          </p:nvSpPr>
          <p:spPr>
            <a:xfrm rot="10806600">
              <a:off x="4313160" y="5519880"/>
              <a:ext cx="317520" cy="223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WordArt 71"/>
            <p:cNvSpPr txBox="1"/>
            <p:nvPr/>
          </p:nvSpPr>
          <p:spPr>
            <a:xfrm rot="10806600">
              <a:off x="4800600" y="5565600"/>
              <a:ext cx="838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334000"/>
                  </a:gradFill>
                  <a:latin typeface="Arial Black"/>
                </a:rPr>
                <a:t>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334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24" name="WordArt 72"/>
            <p:cNvSpPr txBox="1"/>
            <p:nvPr/>
          </p:nvSpPr>
          <p:spPr>
            <a:xfrm rot="10806600">
              <a:off x="4335480" y="5568840"/>
              <a:ext cx="8424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334000"/>
                  </a:gradFill>
                  <a:latin typeface="Arial Black"/>
                </a:rPr>
                <a:t>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334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25" name="Group 73"/>
          <p:cNvGrpSpPr/>
          <p:nvPr/>
        </p:nvGrpSpPr>
        <p:grpSpPr>
          <a:xfrm>
            <a:off x="1802160" y="2544840"/>
            <a:ext cx="1044000" cy="1043640"/>
            <a:chOff x="1802160" y="2544840"/>
            <a:chExt cx="1044000" cy="1043640"/>
          </a:xfrm>
        </p:grpSpPr>
        <p:sp>
          <p:nvSpPr>
            <p:cNvPr id="626" name="Oval 74"/>
            <p:cNvSpPr/>
            <p:nvPr/>
          </p:nvSpPr>
          <p:spPr>
            <a:xfrm rot="3559200">
              <a:off x="1942920" y="2685600"/>
              <a:ext cx="761760" cy="76176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AutoShape 75"/>
            <p:cNvSpPr/>
            <p:nvPr/>
          </p:nvSpPr>
          <p:spPr>
            <a:xfrm rot="3559200">
              <a:off x="1991520" y="2824200"/>
              <a:ext cx="628560" cy="453600"/>
            </a:xfrm>
            <a:prstGeom prst="leftArrow">
              <a:avLst>
                <a:gd name="adj1" fmla="val 50000"/>
                <a:gd name="adj2" fmla="val 3464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Rectangle 76"/>
            <p:cNvSpPr/>
            <p:nvPr/>
          </p:nvSpPr>
          <p:spPr>
            <a:xfrm rot="3559200">
              <a:off x="2243160" y="3101400"/>
              <a:ext cx="317520" cy="223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WordArt 77"/>
            <p:cNvSpPr txBox="1"/>
            <p:nvPr/>
          </p:nvSpPr>
          <p:spPr>
            <a:xfrm rot="3559200">
              <a:off x="2167560" y="2830320"/>
              <a:ext cx="84240" cy="12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9842000"/>
                  </a:gradFill>
                  <a:latin typeface="Arial Black"/>
                </a:rPr>
                <a:t>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9842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30" name="WordArt 78"/>
            <p:cNvSpPr txBox="1"/>
            <p:nvPr/>
          </p:nvSpPr>
          <p:spPr>
            <a:xfrm rot="3559200">
              <a:off x="2407320" y="3228840"/>
              <a:ext cx="84240" cy="12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9842000"/>
                  </a:gradFill>
                  <a:latin typeface="Arial Black"/>
                </a:rPr>
                <a:t>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9842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31" name="Group 79"/>
          <p:cNvGrpSpPr/>
          <p:nvPr/>
        </p:nvGrpSpPr>
        <p:grpSpPr>
          <a:xfrm>
            <a:off x="2667960" y="1686960"/>
            <a:ext cx="930600" cy="930600"/>
            <a:chOff x="2667960" y="1686960"/>
            <a:chExt cx="930600" cy="930600"/>
          </a:xfrm>
        </p:grpSpPr>
        <p:sp>
          <p:nvSpPr>
            <p:cNvPr id="632" name="Oval 80"/>
            <p:cNvSpPr/>
            <p:nvPr/>
          </p:nvSpPr>
          <p:spPr>
            <a:xfrm rot="9916800">
              <a:off x="2751840" y="1771200"/>
              <a:ext cx="762120" cy="76176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AutoShape 81"/>
            <p:cNvSpPr/>
            <p:nvPr/>
          </p:nvSpPr>
          <p:spPr>
            <a:xfrm rot="9916800">
              <a:off x="2837880" y="1911960"/>
              <a:ext cx="628560" cy="453960"/>
            </a:xfrm>
            <a:prstGeom prst="leftArrow">
              <a:avLst>
                <a:gd name="adj1" fmla="val 50000"/>
                <a:gd name="adj2" fmla="val 34615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 82"/>
            <p:cNvSpPr/>
            <p:nvPr/>
          </p:nvSpPr>
          <p:spPr>
            <a:xfrm rot="9916800">
              <a:off x="2811240" y="2074680"/>
              <a:ext cx="317520" cy="223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WordArt 83"/>
            <p:cNvSpPr txBox="1"/>
            <p:nvPr/>
          </p:nvSpPr>
          <p:spPr>
            <a:xfrm rot="9916800">
              <a:off x="3285360" y="2027160"/>
              <a:ext cx="838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7122000"/>
                  </a:gradFill>
                  <a:latin typeface="Arial Black"/>
                </a:rPr>
                <a:t>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7122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36" name="WordArt 84"/>
            <p:cNvSpPr txBox="1"/>
            <p:nvPr/>
          </p:nvSpPr>
          <p:spPr>
            <a:xfrm rot="9916800">
              <a:off x="2836080" y="2148840"/>
              <a:ext cx="83880" cy="12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7122000"/>
                  </a:gradFill>
                  <a:latin typeface="Arial Black"/>
                </a:rPr>
                <a:t>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7122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37" name="Group 85"/>
          <p:cNvGrpSpPr/>
          <p:nvPr/>
        </p:nvGrpSpPr>
        <p:grpSpPr>
          <a:xfrm>
            <a:off x="5616000" y="1738440"/>
            <a:ext cx="960120" cy="960480"/>
            <a:chOff x="5616000" y="1738440"/>
            <a:chExt cx="960120" cy="960480"/>
          </a:xfrm>
        </p:grpSpPr>
        <p:sp>
          <p:nvSpPr>
            <p:cNvPr id="638" name="Oval 86"/>
            <p:cNvSpPr/>
            <p:nvPr/>
          </p:nvSpPr>
          <p:spPr>
            <a:xfrm rot="11881800">
              <a:off x="5715000" y="1837440"/>
              <a:ext cx="761760" cy="76212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AutoShape 87"/>
            <p:cNvSpPr/>
            <p:nvPr/>
          </p:nvSpPr>
          <p:spPr>
            <a:xfrm rot="11881800">
              <a:off x="5802840" y="1991520"/>
              <a:ext cx="628920" cy="453960"/>
            </a:xfrm>
            <a:prstGeom prst="leftArrow">
              <a:avLst>
                <a:gd name="adj1" fmla="val 50000"/>
                <a:gd name="adj2" fmla="val 34635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88"/>
            <p:cNvSpPr/>
            <p:nvPr/>
          </p:nvSpPr>
          <p:spPr>
            <a:xfrm rot="11881800">
              <a:off x="5779440" y="2048760"/>
              <a:ext cx="317520" cy="223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WordArt 89"/>
            <p:cNvSpPr txBox="1"/>
            <p:nvPr/>
          </p:nvSpPr>
          <p:spPr>
            <a:xfrm rot="11881800">
              <a:off x="6249240" y="2209320"/>
              <a:ext cx="838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180000"/>
                  </a:gradFill>
                  <a:latin typeface="Arial Black"/>
                </a:rPr>
                <a:t>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18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42" name="WordArt 90"/>
            <p:cNvSpPr txBox="1"/>
            <p:nvPr/>
          </p:nvSpPr>
          <p:spPr>
            <a:xfrm rot="11881800">
              <a:off x="5806440" y="2070000"/>
              <a:ext cx="8424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180000"/>
                  </a:gradFill>
                  <a:latin typeface="Arial Black"/>
                </a:rPr>
                <a:t>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18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43" name="Group 91"/>
          <p:cNvGrpSpPr/>
          <p:nvPr/>
        </p:nvGrpSpPr>
        <p:grpSpPr>
          <a:xfrm>
            <a:off x="6510240" y="2652480"/>
            <a:ext cx="1076400" cy="1076040"/>
            <a:chOff x="6510240" y="2652480"/>
            <a:chExt cx="1076400" cy="1076040"/>
          </a:xfrm>
        </p:grpSpPr>
        <p:sp>
          <p:nvSpPr>
            <p:cNvPr id="644" name="Oval 92"/>
            <p:cNvSpPr/>
            <p:nvPr/>
          </p:nvSpPr>
          <p:spPr>
            <a:xfrm rot="19062600">
              <a:off x="6667200" y="2809440"/>
              <a:ext cx="762120" cy="76176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AutoShape 93"/>
            <p:cNvSpPr/>
            <p:nvPr/>
          </p:nvSpPr>
          <p:spPr>
            <a:xfrm rot="19062600">
              <a:off x="6721200" y="2982240"/>
              <a:ext cx="628920" cy="453960"/>
            </a:xfrm>
            <a:prstGeom prst="leftArrow">
              <a:avLst>
                <a:gd name="adj1" fmla="val 50000"/>
                <a:gd name="adj2" fmla="val 34635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Rectangle 94"/>
            <p:cNvSpPr/>
            <p:nvPr/>
          </p:nvSpPr>
          <p:spPr>
            <a:xfrm rot="19062600">
              <a:off x="7016760" y="2970000"/>
              <a:ext cx="317520" cy="223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WordArt 95"/>
            <p:cNvSpPr txBox="1"/>
            <p:nvPr/>
          </p:nvSpPr>
          <p:spPr>
            <a:xfrm rot="19062600">
              <a:off x="6859440" y="3271320"/>
              <a:ext cx="8424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458000"/>
                  </a:gradFill>
                  <a:latin typeface="Arial Black"/>
                </a:rPr>
                <a:t>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458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48" name="WordArt 96"/>
            <p:cNvSpPr txBox="1"/>
            <p:nvPr/>
          </p:nvSpPr>
          <p:spPr>
            <a:xfrm rot="19062600">
              <a:off x="7200720" y="2955240"/>
              <a:ext cx="84240" cy="12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458000"/>
                  </a:gradFill>
                  <a:latin typeface="Arial Black"/>
                </a:rPr>
                <a:t>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458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49" name="Group 97"/>
          <p:cNvGrpSpPr/>
          <p:nvPr/>
        </p:nvGrpSpPr>
        <p:grpSpPr>
          <a:xfrm>
            <a:off x="4276080" y="1618200"/>
            <a:ext cx="763200" cy="763560"/>
            <a:chOff x="4276080" y="1618200"/>
            <a:chExt cx="763200" cy="763560"/>
          </a:xfrm>
        </p:grpSpPr>
        <p:sp>
          <p:nvSpPr>
            <p:cNvPr id="650" name="Oval 98"/>
            <p:cNvSpPr/>
            <p:nvPr/>
          </p:nvSpPr>
          <p:spPr>
            <a:xfrm rot="10806600">
              <a:off x="4276800" y="1618560"/>
              <a:ext cx="761760" cy="76212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AutoShape 99"/>
            <p:cNvSpPr/>
            <p:nvPr/>
          </p:nvSpPr>
          <p:spPr>
            <a:xfrm rot="10806600">
              <a:off x="4363560" y="1765080"/>
              <a:ext cx="628200" cy="453960"/>
            </a:xfrm>
            <a:prstGeom prst="leftArrow">
              <a:avLst>
                <a:gd name="adj1" fmla="val 50000"/>
                <a:gd name="adj2" fmla="val 3459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Rectangle 100"/>
            <p:cNvSpPr/>
            <p:nvPr/>
          </p:nvSpPr>
          <p:spPr>
            <a:xfrm rot="10806600">
              <a:off x="4331520" y="1881360"/>
              <a:ext cx="317160" cy="223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WordArt 101"/>
            <p:cNvSpPr txBox="1"/>
            <p:nvPr/>
          </p:nvSpPr>
          <p:spPr>
            <a:xfrm rot="10806600">
              <a:off x="4818960" y="1927080"/>
              <a:ext cx="838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334000"/>
                  </a:gradFill>
                  <a:latin typeface="Arial Black"/>
                </a:rPr>
                <a:t>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334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54" name="WordArt 102"/>
            <p:cNvSpPr txBox="1"/>
            <p:nvPr/>
          </p:nvSpPr>
          <p:spPr>
            <a:xfrm rot="10806600">
              <a:off x="4353840" y="1930320"/>
              <a:ext cx="838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334000"/>
                  </a:gradFill>
                  <a:latin typeface="Arial Black"/>
                </a:rPr>
                <a:t>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334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655" name="WordArt 103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656" name="WordArt 104"/>
          <p:cNvSpPr txBox="1"/>
          <p:nvPr/>
        </p:nvSpPr>
        <p:spPr>
          <a:xfrm>
            <a:off x="1733400" y="1162080"/>
            <a:ext cx="5639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around permanent magnet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57" name="Text Box 105"/>
          <p:cNvSpPr/>
          <p:nvPr/>
        </p:nvSpPr>
        <p:spPr>
          <a:xfrm>
            <a:off x="704880" y="5797440"/>
            <a:ext cx="805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sses always point in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ame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gnetic flux l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at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reeform 2"/>
          <p:cNvSpPr/>
          <p:nvPr/>
        </p:nvSpPr>
        <p:spPr>
          <a:xfrm flipV="1" rot="11581800">
            <a:off x="5411880" y="4166280"/>
            <a:ext cx="164880" cy="164880"/>
          </a:xfrm>
          <a:custGeom>
            <a:avLst/>
            <a:gdLst>
              <a:gd name="textAreaLeft" fmla="*/ 0 w 164880"/>
              <a:gd name="textAreaRight" fmla="*/ 165240 w 164880"/>
              <a:gd name="textAreaTop" fmla="*/ 360 h 164880"/>
              <a:gd name="textAreaBottom" fmla="*/ 165600 h 16488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reeform 3"/>
          <p:cNvSpPr/>
          <p:nvPr/>
        </p:nvSpPr>
        <p:spPr>
          <a:xfrm flipV="1" rot="13696200">
            <a:off x="4351680" y="4501440"/>
            <a:ext cx="165600" cy="165240"/>
          </a:xfrm>
          <a:custGeom>
            <a:avLst/>
            <a:gdLst>
              <a:gd name="textAreaLeft" fmla="*/ 0 w 165600"/>
              <a:gd name="textAreaRight" fmla="*/ 165960 w 165600"/>
              <a:gd name="textAreaTop" fmla="*/ -360 h 165240"/>
              <a:gd name="textAreaBottom" fmla="*/ 165240 h 16524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reeform 4"/>
          <p:cNvSpPr/>
          <p:nvPr/>
        </p:nvSpPr>
        <p:spPr>
          <a:xfrm flipH="1" flipV="1" rot="18666000">
            <a:off x="4359960" y="4045320"/>
            <a:ext cx="165240" cy="164880"/>
          </a:xfrm>
          <a:custGeom>
            <a:avLst/>
            <a:gdLst>
              <a:gd name="textAreaLeft" fmla="*/ -360 w 165240"/>
              <a:gd name="textAreaRight" fmla="*/ 165240 w 165240"/>
              <a:gd name="textAreaTop" fmla="*/ 360 h 164880"/>
              <a:gd name="textAreaBottom" fmla="*/ 165600 h 16488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Freeform 5"/>
          <p:cNvSpPr/>
          <p:nvPr/>
        </p:nvSpPr>
        <p:spPr>
          <a:xfrm flipH="1" flipV="1" rot="18518400">
            <a:off x="4357440" y="3508920"/>
            <a:ext cx="165600" cy="164520"/>
          </a:xfrm>
          <a:custGeom>
            <a:avLst/>
            <a:gdLst>
              <a:gd name="textAreaLeft" fmla="*/ 360 w 165600"/>
              <a:gd name="textAreaRight" fmla="*/ 166320 w 165600"/>
              <a:gd name="textAreaTop" fmla="*/ -360 h 164520"/>
              <a:gd name="textAreaBottom" fmla="*/ 164520 h 16452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reeform 6"/>
          <p:cNvSpPr/>
          <p:nvPr/>
        </p:nvSpPr>
        <p:spPr>
          <a:xfrm flipH="1" flipV="1" rot="21258600">
            <a:off x="3326400" y="4132440"/>
            <a:ext cx="164880" cy="164520"/>
          </a:xfrm>
          <a:custGeom>
            <a:avLst/>
            <a:gdLst>
              <a:gd name="textAreaLeft" fmla="*/ 360 w 164880"/>
              <a:gd name="textAreaRight" fmla="*/ 165600 w 164880"/>
              <a:gd name="textAreaTop" fmla="*/ -360 h 164520"/>
              <a:gd name="textAreaBottom" fmla="*/ 164520 h 16452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reeform 7"/>
          <p:cNvSpPr/>
          <p:nvPr/>
        </p:nvSpPr>
        <p:spPr>
          <a:xfrm flipV="1" rot="15221400">
            <a:off x="3618720" y="3755160"/>
            <a:ext cx="165240" cy="165240"/>
          </a:xfrm>
          <a:custGeom>
            <a:avLst/>
            <a:gdLst>
              <a:gd name="textAreaLeft" fmla="*/ 0 w 165240"/>
              <a:gd name="textAreaRight" fmla="*/ 165600 w 165240"/>
              <a:gd name="textAreaTop" fmla="*/ -360 h 165240"/>
              <a:gd name="textAreaBottom" fmla="*/ 165240 h 16524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reeform 8"/>
          <p:cNvSpPr/>
          <p:nvPr/>
        </p:nvSpPr>
        <p:spPr>
          <a:xfrm flipV="1" rot="12460200">
            <a:off x="5126760" y="3711960"/>
            <a:ext cx="165240" cy="164880"/>
          </a:xfrm>
          <a:custGeom>
            <a:avLst/>
            <a:gdLst>
              <a:gd name="textAreaLeft" fmla="*/ 0 w 165240"/>
              <a:gd name="textAreaRight" fmla="*/ 165600 w 165240"/>
              <a:gd name="textAreaTop" fmla="*/ 360 h 164880"/>
              <a:gd name="textAreaBottom" fmla="*/ 165600 h 16488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Group 9"/>
          <p:cNvGrpSpPr/>
          <p:nvPr/>
        </p:nvGrpSpPr>
        <p:grpSpPr>
          <a:xfrm>
            <a:off x="2990880" y="2122560"/>
            <a:ext cx="2952720" cy="2457360"/>
            <a:chOff x="2990880" y="2122560"/>
            <a:chExt cx="2952720" cy="2457360"/>
          </a:xfrm>
        </p:grpSpPr>
        <p:sp>
          <p:nvSpPr>
            <p:cNvPr id="666" name="Oval 10"/>
            <p:cNvSpPr/>
            <p:nvPr/>
          </p:nvSpPr>
          <p:spPr>
            <a:xfrm flipV="1">
              <a:off x="3029040" y="2520720"/>
              <a:ext cx="2876400" cy="1619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Oval 11"/>
            <p:cNvSpPr/>
            <p:nvPr/>
          </p:nvSpPr>
          <p:spPr>
            <a:xfrm flipV="1">
              <a:off x="2990880" y="2122200"/>
              <a:ext cx="2952720" cy="2457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Oval 12"/>
            <p:cNvSpPr/>
            <p:nvPr/>
          </p:nvSpPr>
          <p:spPr>
            <a:xfrm flipV="1">
              <a:off x="3009960" y="2768400"/>
              <a:ext cx="2819520" cy="1123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Oval 13"/>
            <p:cNvSpPr/>
            <p:nvPr/>
          </p:nvSpPr>
          <p:spPr>
            <a:xfrm flipV="1">
              <a:off x="3048120" y="3015360"/>
              <a:ext cx="2781360" cy="590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14"/>
            <p:cNvSpPr/>
            <p:nvPr/>
          </p:nvSpPr>
          <p:spPr>
            <a:xfrm flipH="1">
              <a:off x="3133440" y="3314880"/>
              <a:ext cx="264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Freeform 15"/>
          <p:cNvSpPr/>
          <p:nvPr/>
        </p:nvSpPr>
        <p:spPr>
          <a:xfrm flipH="1" flipV="1" rot="18622200">
            <a:off x="5041080" y="3223440"/>
            <a:ext cx="165240" cy="165600"/>
          </a:xfrm>
          <a:custGeom>
            <a:avLst/>
            <a:gdLst>
              <a:gd name="textAreaLeft" fmla="*/ -360 w 165240"/>
              <a:gd name="textAreaRight" fmla="*/ 165240 w 165240"/>
              <a:gd name="textAreaTop" fmla="*/ 360 h 165600"/>
              <a:gd name="textAreaBottom" fmla="*/ 166320 h 16560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reeform 16"/>
          <p:cNvSpPr/>
          <p:nvPr/>
        </p:nvSpPr>
        <p:spPr>
          <a:xfrm flipH="1" flipV="1" rot="18578400">
            <a:off x="4360320" y="2926440"/>
            <a:ext cx="164880" cy="164880"/>
          </a:xfrm>
          <a:custGeom>
            <a:avLst/>
            <a:gdLst>
              <a:gd name="textAreaLeft" fmla="*/ 360 w 164880"/>
              <a:gd name="textAreaRight" fmla="*/ 165600 w 164880"/>
              <a:gd name="textAreaTop" fmla="*/ 360 h 164880"/>
              <a:gd name="textAreaBottom" fmla="*/ 165600 h 16488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Freeform 17"/>
          <p:cNvSpPr/>
          <p:nvPr/>
        </p:nvSpPr>
        <p:spPr>
          <a:xfrm flipH="1" flipV="1" rot="19630200">
            <a:off x="5105880" y="2775600"/>
            <a:ext cx="165240" cy="165240"/>
          </a:xfrm>
          <a:custGeom>
            <a:avLst/>
            <a:gdLst>
              <a:gd name="textAreaLeft" fmla="*/ -360 w 165240"/>
              <a:gd name="textAreaRight" fmla="*/ 165240 w 165240"/>
              <a:gd name="textAreaTop" fmla="*/ -360 h 165240"/>
              <a:gd name="textAreaBottom" fmla="*/ 165240 h 16524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reeform 18"/>
          <p:cNvSpPr/>
          <p:nvPr/>
        </p:nvSpPr>
        <p:spPr>
          <a:xfrm flipH="1" flipV="1" rot="17784000">
            <a:off x="3668400" y="2742120"/>
            <a:ext cx="165240" cy="164880"/>
          </a:xfrm>
          <a:custGeom>
            <a:avLst/>
            <a:gdLst>
              <a:gd name="textAreaLeft" fmla="*/ -360 w 165240"/>
              <a:gd name="textAreaRight" fmla="*/ 165240 w 165240"/>
              <a:gd name="textAreaTop" fmla="*/ 360 h 164880"/>
              <a:gd name="textAreaBottom" fmla="*/ 165600 h 16488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Freeform 19"/>
          <p:cNvSpPr/>
          <p:nvPr/>
        </p:nvSpPr>
        <p:spPr>
          <a:xfrm flipH="1" flipV="1" rot="18739800">
            <a:off x="4358880" y="2433240"/>
            <a:ext cx="165240" cy="165240"/>
          </a:xfrm>
          <a:custGeom>
            <a:avLst/>
            <a:gdLst>
              <a:gd name="textAreaLeft" fmla="*/ -360 w 165240"/>
              <a:gd name="textAreaRight" fmla="*/ 165240 w 165240"/>
              <a:gd name="textAreaTop" fmla="*/ -360 h 165240"/>
              <a:gd name="textAreaBottom" fmla="*/ 165240 h 16524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reeform 20"/>
          <p:cNvSpPr/>
          <p:nvPr/>
        </p:nvSpPr>
        <p:spPr>
          <a:xfrm flipV="1" rot="13687800">
            <a:off x="4360680" y="2051640"/>
            <a:ext cx="164880" cy="164880"/>
          </a:xfrm>
          <a:custGeom>
            <a:avLst/>
            <a:gdLst>
              <a:gd name="textAreaLeft" fmla="*/ 0 w 164880"/>
              <a:gd name="textAreaRight" fmla="*/ 165240 w 164880"/>
              <a:gd name="textAreaTop" fmla="*/ 360 h 164880"/>
              <a:gd name="textAreaBottom" fmla="*/ 165600 h 16488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Freeform 21"/>
          <p:cNvSpPr/>
          <p:nvPr/>
        </p:nvSpPr>
        <p:spPr>
          <a:xfrm flipV="1" rot="15732000">
            <a:off x="5334120" y="2346120"/>
            <a:ext cx="164880" cy="164880"/>
          </a:xfrm>
          <a:custGeom>
            <a:avLst/>
            <a:gdLst>
              <a:gd name="textAreaLeft" fmla="*/ 0 w 164880"/>
              <a:gd name="textAreaRight" fmla="*/ 165240 w 164880"/>
              <a:gd name="textAreaTop" fmla="*/ 360 h 164880"/>
              <a:gd name="textAreaBottom" fmla="*/ 165600 h 16488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Freeform 22"/>
          <p:cNvSpPr/>
          <p:nvPr/>
        </p:nvSpPr>
        <p:spPr>
          <a:xfrm flipV="1" rot="11413200">
            <a:off x="3428640" y="2336040"/>
            <a:ext cx="165240" cy="164880"/>
          </a:xfrm>
          <a:custGeom>
            <a:avLst/>
            <a:gdLst>
              <a:gd name="textAreaLeft" fmla="*/ 0 w 165240"/>
              <a:gd name="textAreaRight" fmla="*/ 165600 w 165240"/>
              <a:gd name="textAreaTop" fmla="*/ 360 h 164880"/>
              <a:gd name="textAreaBottom" fmla="*/ 165600 h 16488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23"/>
          <p:cNvSpPr/>
          <p:nvPr/>
        </p:nvSpPr>
        <p:spPr>
          <a:xfrm>
            <a:off x="5772240" y="2895480"/>
            <a:ext cx="1162080" cy="762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24"/>
          <p:cNvSpPr/>
          <p:nvPr/>
        </p:nvSpPr>
        <p:spPr>
          <a:xfrm>
            <a:off x="6934320" y="2895480"/>
            <a:ext cx="11620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WordArt 25"/>
          <p:cNvSpPr txBox="1"/>
          <p:nvPr/>
        </p:nvSpPr>
        <p:spPr>
          <a:xfrm>
            <a:off x="5878440" y="3048120"/>
            <a:ext cx="36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2" name="WordArt 26"/>
          <p:cNvSpPr txBox="1"/>
          <p:nvPr/>
        </p:nvSpPr>
        <p:spPr>
          <a:xfrm>
            <a:off x="7642080" y="3029040"/>
            <a:ext cx="36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3" name="Rectangle 27"/>
          <p:cNvSpPr/>
          <p:nvPr/>
        </p:nvSpPr>
        <p:spPr>
          <a:xfrm>
            <a:off x="781200" y="2895480"/>
            <a:ext cx="1180800" cy="762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28"/>
          <p:cNvSpPr/>
          <p:nvPr/>
        </p:nvSpPr>
        <p:spPr>
          <a:xfrm>
            <a:off x="1962000" y="2895480"/>
            <a:ext cx="118116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reeform 29"/>
          <p:cNvSpPr/>
          <p:nvPr/>
        </p:nvSpPr>
        <p:spPr>
          <a:xfrm flipH="1" flipV="1" rot="18655800">
            <a:off x="3745800" y="3223080"/>
            <a:ext cx="165240" cy="165240"/>
          </a:xfrm>
          <a:custGeom>
            <a:avLst/>
            <a:gdLst>
              <a:gd name="textAreaLeft" fmla="*/ -360 w 165240"/>
              <a:gd name="textAreaRight" fmla="*/ 165240 w 165240"/>
              <a:gd name="textAreaTop" fmla="*/ -360 h 165240"/>
              <a:gd name="textAreaBottom" fmla="*/ 165240 h 165240"/>
            </a:gdLst>
            <a:ahLst/>
            <a:rect l="textAreaLeft" t="textAreaTop" r="textAreaRight" b="textAreaBottom"/>
            <a:pathLst>
              <a:path w="104" h="104">
                <a:moveTo>
                  <a:pt x="0" y="64"/>
                </a:moveTo>
                <a:lnTo>
                  <a:pt x="72" y="0"/>
                </a:lnTo>
                <a:lnTo>
                  <a:pt x="104" y="10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WordArt 30"/>
          <p:cNvSpPr txBox="1"/>
          <p:nvPr/>
        </p:nvSpPr>
        <p:spPr>
          <a:xfrm>
            <a:off x="887400" y="3029040"/>
            <a:ext cx="36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7" name="WordArt 31"/>
          <p:cNvSpPr txBox="1"/>
          <p:nvPr/>
        </p:nvSpPr>
        <p:spPr>
          <a:xfrm>
            <a:off x="2631960" y="3029040"/>
            <a:ext cx="36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688" name="Group 32"/>
          <p:cNvGrpSpPr/>
          <p:nvPr/>
        </p:nvGrpSpPr>
        <p:grpSpPr>
          <a:xfrm>
            <a:off x="4047480" y="2971080"/>
            <a:ext cx="763200" cy="763560"/>
            <a:chOff x="4047480" y="2971080"/>
            <a:chExt cx="763200" cy="763560"/>
          </a:xfrm>
        </p:grpSpPr>
        <p:sp>
          <p:nvSpPr>
            <p:cNvPr id="689" name="Oval 33"/>
            <p:cNvSpPr/>
            <p:nvPr/>
          </p:nvSpPr>
          <p:spPr>
            <a:xfrm rot="6600">
              <a:off x="4047840" y="2971800"/>
              <a:ext cx="761760" cy="76212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AutoShape 34"/>
            <p:cNvSpPr/>
            <p:nvPr/>
          </p:nvSpPr>
          <p:spPr>
            <a:xfrm rot="6600">
              <a:off x="4094640" y="3133440"/>
              <a:ext cx="628200" cy="453960"/>
            </a:xfrm>
            <a:prstGeom prst="leftArrow">
              <a:avLst>
                <a:gd name="adj1" fmla="val 50000"/>
                <a:gd name="adj2" fmla="val 3459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35"/>
            <p:cNvSpPr/>
            <p:nvPr/>
          </p:nvSpPr>
          <p:spPr>
            <a:xfrm rot="6600">
              <a:off x="4437720" y="3247200"/>
              <a:ext cx="317160" cy="223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WordArt 36"/>
            <p:cNvSpPr txBox="1"/>
            <p:nvPr/>
          </p:nvSpPr>
          <p:spPr>
            <a:xfrm rot="6600">
              <a:off x="4183200" y="3300120"/>
              <a:ext cx="8352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334000"/>
                  </a:gradFill>
                  <a:latin typeface="Arial Black"/>
                </a:rPr>
                <a:t>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334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93" name="WordArt 37"/>
            <p:cNvSpPr txBox="1"/>
            <p:nvPr/>
          </p:nvSpPr>
          <p:spPr>
            <a:xfrm rot="6600">
              <a:off x="4648680" y="3296880"/>
              <a:ext cx="838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334000"/>
                  </a:gradFill>
                  <a:latin typeface="Arial Black"/>
                </a:rPr>
                <a:t>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334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694" name="WordArt 38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695" name="Text Box 39"/>
          <p:cNvSpPr/>
          <p:nvPr/>
        </p:nvSpPr>
        <p:spPr>
          <a:xfrm>
            <a:off x="514440" y="5378400"/>
            <a:ext cx="805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sses always point in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ame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gnetic flux l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at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1026"/>
          <p:cNvGrpSpPr/>
          <p:nvPr/>
        </p:nvGrpSpPr>
        <p:grpSpPr>
          <a:xfrm>
            <a:off x="1584360" y="3524400"/>
            <a:ext cx="3352680" cy="761760"/>
            <a:chOff x="1584360" y="3524400"/>
            <a:chExt cx="3352680" cy="761760"/>
          </a:xfrm>
        </p:grpSpPr>
        <p:sp>
          <p:nvSpPr>
            <p:cNvPr id="697" name="Rectangle 1027"/>
            <p:cNvSpPr/>
            <p:nvPr/>
          </p:nvSpPr>
          <p:spPr>
            <a:xfrm>
              <a:off x="1584360" y="3524400"/>
              <a:ext cx="16761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Rectangle 1028"/>
            <p:cNvSpPr/>
            <p:nvPr/>
          </p:nvSpPr>
          <p:spPr>
            <a:xfrm>
              <a:off x="3260520" y="3524400"/>
              <a:ext cx="167652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WordArt 1029"/>
            <p:cNvSpPr txBox="1"/>
            <p:nvPr/>
          </p:nvSpPr>
          <p:spPr>
            <a:xfrm>
              <a:off x="1736640" y="3676680"/>
              <a:ext cx="30492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700" name="WordArt 1030"/>
            <p:cNvSpPr txBox="1"/>
            <p:nvPr/>
          </p:nvSpPr>
          <p:spPr>
            <a:xfrm>
              <a:off x="4556160" y="3676680"/>
              <a:ext cx="30456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701" name="Picture 1031" descr=""/>
          <p:cNvPicPr/>
          <p:nvPr/>
        </p:nvPicPr>
        <p:blipFill>
          <a:blip r:embed="rId1"/>
          <a:stretch/>
        </p:blipFill>
        <p:spPr>
          <a:xfrm>
            <a:off x="6729480" y="3073320"/>
            <a:ext cx="2376360" cy="3727440"/>
          </a:xfrm>
          <a:prstGeom prst="rect">
            <a:avLst/>
          </a:prstGeom>
          <a:ln w="0">
            <a:noFill/>
          </a:ln>
        </p:spPr>
      </p:pic>
      <p:sp>
        <p:nvSpPr>
          <p:cNvPr id="702" name="AutoShape 1032"/>
          <p:cNvSpPr/>
          <p:nvPr/>
        </p:nvSpPr>
        <p:spPr>
          <a:xfrm>
            <a:off x="3948120" y="324000"/>
            <a:ext cx="5162400" cy="2284200"/>
          </a:xfrm>
          <a:prstGeom prst="cloudCallout">
            <a:avLst>
              <a:gd name="adj1" fmla="val 13500"/>
              <a:gd name="adj2" fmla="val 8342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033"/>
          <p:cNvSpPr/>
          <p:nvPr/>
        </p:nvSpPr>
        <p:spPr>
          <a:xfrm>
            <a:off x="4317840" y="571680"/>
            <a:ext cx="465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QUESTION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ich direction would a compass point if placed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t point 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1034"/>
          <p:cNvSpPr/>
          <p:nvPr/>
        </p:nvSpPr>
        <p:spPr>
          <a:xfrm>
            <a:off x="932040" y="2303640"/>
            <a:ext cx="475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1035"/>
          <p:cNvSpPr/>
          <p:nvPr/>
        </p:nvSpPr>
        <p:spPr>
          <a:xfrm rot="20251200">
            <a:off x="1486080" y="2361960"/>
            <a:ext cx="838080" cy="266760"/>
          </a:xfrm>
          <a:prstGeom prst="rightArrow">
            <a:avLst>
              <a:gd name="adj1" fmla="val 50000"/>
              <a:gd name="adj2" fmla="val 78543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1036"/>
          <p:cNvSpPr/>
          <p:nvPr/>
        </p:nvSpPr>
        <p:spPr>
          <a:xfrm rot="1073400">
            <a:off x="1486080" y="2724120"/>
            <a:ext cx="819000" cy="266760"/>
          </a:xfrm>
          <a:prstGeom prst="rightArrow">
            <a:avLst>
              <a:gd name="adj1" fmla="val 50000"/>
              <a:gd name="adj2" fmla="val 76754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1037"/>
          <p:cNvSpPr/>
          <p:nvPr/>
        </p:nvSpPr>
        <p:spPr>
          <a:xfrm rot="4252200">
            <a:off x="1180440" y="3009600"/>
            <a:ext cx="666720" cy="266760"/>
          </a:xfrm>
          <a:prstGeom prst="rightArrow">
            <a:avLst>
              <a:gd name="adj1" fmla="val 50000"/>
              <a:gd name="adj2" fmla="val 62483"/>
            </a:avLst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1038"/>
          <p:cNvSpPr/>
          <p:nvPr/>
        </p:nvSpPr>
        <p:spPr>
          <a:xfrm>
            <a:off x="1343160" y="2624040"/>
            <a:ext cx="109440" cy="1098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AutoShape 1039"/>
          <p:cNvSpPr/>
          <p:nvPr/>
        </p:nvSpPr>
        <p:spPr>
          <a:xfrm rot="16200000">
            <a:off x="971640" y="2037960"/>
            <a:ext cx="819000" cy="266760"/>
          </a:xfrm>
          <a:prstGeom prst="rightArrow">
            <a:avLst>
              <a:gd name="adj1" fmla="val 50000"/>
              <a:gd name="adj2" fmla="val 76754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1040"/>
          <p:cNvSpPr/>
          <p:nvPr/>
        </p:nvSpPr>
        <p:spPr>
          <a:xfrm>
            <a:off x="0" y="4876920"/>
            <a:ext cx="624852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041"/>
          <p:cNvGrpSpPr/>
          <p:nvPr/>
        </p:nvGrpSpPr>
        <p:grpSpPr>
          <a:xfrm>
            <a:off x="304920" y="5076720"/>
            <a:ext cx="5715000" cy="1520640"/>
            <a:chOff x="304920" y="5076720"/>
            <a:chExt cx="5715000" cy="1520640"/>
          </a:xfrm>
        </p:grpSpPr>
        <p:sp>
          <p:nvSpPr>
            <p:cNvPr id="712" name="AutoShape 1042"/>
            <p:cNvSpPr/>
            <p:nvPr/>
          </p:nvSpPr>
          <p:spPr>
            <a:xfrm rot="20251200">
              <a:off x="1790640" y="5314680"/>
              <a:ext cx="838440" cy="266760"/>
            </a:xfrm>
            <a:prstGeom prst="rightArrow">
              <a:avLst>
                <a:gd name="adj1" fmla="val 50000"/>
                <a:gd name="adj2" fmla="val 78576"/>
              </a:avLst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AutoShape 1043"/>
            <p:cNvSpPr/>
            <p:nvPr/>
          </p:nvSpPr>
          <p:spPr>
            <a:xfrm rot="1073400">
              <a:off x="3238560" y="5391000"/>
              <a:ext cx="819000" cy="266760"/>
            </a:xfrm>
            <a:prstGeom prst="rightArrow">
              <a:avLst>
                <a:gd name="adj1" fmla="val 50000"/>
                <a:gd name="adj2" fmla="val 76754"/>
              </a:avLst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AutoShape 1044"/>
            <p:cNvSpPr/>
            <p:nvPr/>
          </p:nvSpPr>
          <p:spPr>
            <a:xfrm rot="4252200">
              <a:off x="4666680" y="5371920"/>
              <a:ext cx="666720" cy="266760"/>
            </a:xfrm>
            <a:prstGeom prst="rightArrow">
              <a:avLst>
                <a:gd name="adj1" fmla="val 50000"/>
                <a:gd name="adj2" fmla="val 62483"/>
              </a:avLst>
            </a:prstGeom>
            <a:solidFill>
              <a:srgbClr val="ff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045"/>
            <p:cNvSpPr/>
            <p:nvPr/>
          </p:nvSpPr>
          <p:spPr>
            <a:xfrm>
              <a:off x="304920" y="6076800"/>
              <a:ext cx="57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lick on your best answ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AutoShape 1046"/>
            <p:cNvSpPr/>
            <p:nvPr/>
          </p:nvSpPr>
          <p:spPr>
            <a:xfrm rot="16200000">
              <a:off x="704520" y="5352840"/>
              <a:ext cx="819360" cy="266760"/>
            </a:xfrm>
            <a:prstGeom prst="rightArrow">
              <a:avLst>
                <a:gd name="adj1" fmla="val 50000"/>
                <a:gd name="adj2" fmla="val 76788"/>
              </a:avLst>
            </a:pr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7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7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7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1026"/>
          <p:cNvSpPr/>
          <p:nvPr/>
        </p:nvSpPr>
        <p:spPr>
          <a:xfrm>
            <a:off x="933480" y="2305080"/>
            <a:ext cx="476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Group 1027"/>
          <p:cNvGrpSpPr/>
          <p:nvPr/>
        </p:nvGrpSpPr>
        <p:grpSpPr>
          <a:xfrm>
            <a:off x="1584360" y="3524400"/>
            <a:ext cx="3352680" cy="761760"/>
            <a:chOff x="1584360" y="3524400"/>
            <a:chExt cx="3352680" cy="761760"/>
          </a:xfrm>
        </p:grpSpPr>
        <p:sp>
          <p:nvSpPr>
            <p:cNvPr id="719" name="Rectangle 1028"/>
            <p:cNvSpPr/>
            <p:nvPr/>
          </p:nvSpPr>
          <p:spPr>
            <a:xfrm>
              <a:off x="1584360" y="3524400"/>
              <a:ext cx="16761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1029"/>
            <p:cNvSpPr/>
            <p:nvPr/>
          </p:nvSpPr>
          <p:spPr>
            <a:xfrm>
              <a:off x="3260520" y="3524400"/>
              <a:ext cx="167652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WordArt 1030"/>
            <p:cNvSpPr txBox="1"/>
            <p:nvPr/>
          </p:nvSpPr>
          <p:spPr>
            <a:xfrm>
              <a:off x="1736640" y="3676680"/>
              <a:ext cx="30492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722" name="WordArt 1031"/>
            <p:cNvSpPr txBox="1"/>
            <p:nvPr/>
          </p:nvSpPr>
          <p:spPr>
            <a:xfrm>
              <a:off x="4556160" y="3676680"/>
              <a:ext cx="30456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723" name="Picture 1032" descr=""/>
          <p:cNvPicPr/>
          <p:nvPr/>
        </p:nvPicPr>
        <p:blipFill>
          <a:blip r:embed="rId1"/>
          <a:stretch/>
        </p:blipFill>
        <p:spPr>
          <a:xfrm>
            <a:off x="6729480" y="3073320"/>
            <a:ext cx="2376360" cy="3727440"/>
          </a:xfrm>
          <a:prstGeom prst="rect">
            <a:avLst/>
          </a:prstGeom>
          <a:ln w="0">
            <a:noFill/>
          </a:ln>
        </p:spPr>
      </p:pic>
      <p:sp>
        <p:nvSpPr>
          <p:cNvPr id="724" name="AutoShape 1033"/>
          <p:cNvSpPr/>
          <p:nvPr/>
        </p:nvSpPr>
        <p:spPr>
          <a:xfrm>
            <a:off x="3948120" y="324000"/>
            <a:ext cx="5162400" cy="2284200"/>
          </a:xfrm>
          <a:prstGeom prst="cloudCallout">
            <a:avLst>
              <a:gd name="adj1" fmla="val 13500"/>
              <a:gd name="adj2" fmla="val 8342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1034"/>
          <p:cNvSpPr/>
          <p:nvPr/>
        </p:nvSpPr>
        <p:spPr>
          <a:xfrm>
            <a:off x="4317840" y="571680"/>
            <a:ext cx="465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QUESTION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ich direction would a compass point if placed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t poin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1035"/>
          <p:cNvSpPr/>
          <p:nvPr/>
        </p:nvSpPr>
        <p:spPr>
          <a:xfrm>
            <a:off x="0" y="4876920"/>
            <a:ext cx="624852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1036"/>
          <p:cNvSpPr/>
          <p:nvPr/>
        </p:nvSpPr>
        <p:spPr>
          <a:xfrm rot="16200000">
            <a:off x="704520" y="5352840"/>
            <a:ext cx="819360" cy="266760"/>
          </a:xfrm>
          <a:prstGeom prst="rightArrow">
            <a:avLst>
              <a:gd name="adj1" fmla="val 50000"/>
              <a:gd name="adj2" fmla="val 76788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1037"/>
          <p:cNvSpPr/>
          <p:nvPr/>
        </p:nvSpPr>
        <p:spPr>
          <a:xfrm rot="20251200">
            <a:off x="1790640" y="5314680"/>
            <a:ext cx="838440" cy="266760"/>
          </a:xfrm>
          <a:prstGeom prst="rightArrow">
            <a:avLst>
              <a:gd name="adj1" fmla="val 50000"/>
              <a:gd name="adj2" fmla="val 78576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1038"/>
          <p:cNvSpPr/>
          <p:nvPr/>
        </p:nvSpPr>
        <p:spPr>
          <a:xfrm rot="1073400">
            <a:off x="3238560" y="5391000"/>
            <a:ext cx="819000" cy="266760"/>
          </a:xfrm>
          <a:prstGeom prst="rightArrow">
            <a:avLst>
              <a:gd name="adj1" fmla="val 50000"/>
              <a:gd name="adj2" fmla="val 76754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1039"/>
          <p:cNvSpPr/>
          <p:nvPr/>
        </p:nvSpPr>
        <p:spPr>
          <a:xfrm rot="4252200">
            <a:off x="4666680" y="5371920"/>
            <a:ext cx="666720" cy="266760"/>
          </a:xfrm>
          <a:prstGeom prst="rightArrow">
            <a:avLst>
              <a:gd name="adj1" fmla="val 50000"/>
              <a:gd name="adj2" fmla="val 62483"/>
            </a:avLst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040"/>
          <p:cNvSpPr/>
          <p:nvPr/>
        </p:nvSpPr>
        <p:spPr>
          <a:xfrm>
            <a:off x="304920" y="6076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your best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Oval 1041"/>
          <p:cNvSpPr/>
          <p:nvPr/>
        </p:nvSpPr>
        <p:spPr>
          <a:xfrm>
            <a:off x="1341360" y="2624040"/>
            <a:ext cx="109440" cy="1098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1042"/>
          <p:cNvSpPr/>
          <p:nvPr/>
        </p:nvSpPr>
        <p:spPr>
          <a:xfrm>
            <a:off x="743040" y="4857840"/>
            <a:ext cx="799920" cy="1238040"/>
          </a:xfrm>
          <a:custGeom>
            <a:avLst/>
            <a:gdLst>
              <a:gd name="textAreaLeft" fmla="*/ 51840 w 799920"/>
              <a:gd name="textAreaRight" fmla="*/ 748080 w 799920"/>
              <a:gd name="textAreaTop" fmla="*/ 51840 h 1238040"/>
              <a:gd name="textAreaBottom" fmla="*/ 1186200 h 1238040"/>
            </a:gdLst>
            <a:ahLst/>
            <a:rect l="textAreaLeft" t="textAreaTop" r="textAreaRight" b="textAreaBottom"/>
            <a:pathLst>
              <a:path w="21600" h="33425">
                <a:moveTo>
                  <a:pt x="0" y="0"/>
                </a:moveTo>
                <a:lnTo>
                  <a:pt x="21600" y="0"/>
                </a:lnTo>
                <a:lnTo>
                  <a:pt x="21600" y="33425"/>
                </a:lnTo>
                <a:lnTo>
                  <a:pt x="0" y="33425"/>
                </a:lnTo>
                <a:close/>
              </a:path>
              <a:path fill="lightenLess" w="21600" h="334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425">
                <a:moveTo>
                  <a:pt x="21600" y="0"/>
                </a:moveTo>
                <a:lnTo>
                  <a:pt x="21600" y="33425"/>
                </a:lnTo>
                <a:lnTo>
                  <a:pt x="20200" y="32025"/>
                </a:lnTo>
                <a:lnTo>
                  <a:pt x="20200" y="1400"/>
                </a:lnTo>
                <a:close/>
              </a:path>
              <a:path fill="darkenLess" w="21600" h="33425">
                <a:moveTo>
                  <a:pt x="21600" y="33425"/>
                </a:moveTo>
                <a:lnTo>
                  <a:pt x="0" y="33425"/>
                </a:lnTo>
                <a:lnTo>
                  <a:pt x="1400" y="32025"/>
                </a:lnTo>
                <a:lnTo>
                  <a:pt x="20200" y="32025"/>
                </a:lnTo>
                <a:close/>
              </a:path>
              <a:path fill="lighten" w="21600" h="33425">
                <a:moveTo>
                  <a:pt x="0" y="33425"/>
                </a:moveTo>
                <a:lnTo>
                  <a:pt x="0" y="0"/>
                </a:lnTo>
                <a:lnTo>
                  <a:pt x="1400" y="1400"/>
                </a:lnTo>
                <a:lnTo>
                  <a:pt x="1400" y="3202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1043"/>
          <p:cNvSpPr/>
          <p:nvPr/>
        </p:nvSpPr>
        <p:spPr>
          <a:xfrm>
            <a:off x="1619280" y="4876920"/>
            <a:ext cx="1162080" cy="1181160"/>
          </a:xfrm>
          <a:custGeom>
            <a:avLst/>
            <a:gdLst>
              <a:gd name="textAreaLeft" fmla="*/ 75240 w 1162080"/>
              <a:gd name="textAreaRight" fmla="*/ 1086840 w 1162080"/>
              <a:gd name="textAreaTop" fmla="*/ 75240 h 1181160"/>
              <a:gd name="textAreaBottom" fmla="*/ 1105920 h 1181160"/>
            </a:gdLst>
            <a:ahLst/>
            <a:rect l="textAreaLeft" t="textAreaTop" r="textAreaRight" b="textAreaBottom"/>
            <a:pathLst>
              <a:path w="21600" h="21955">
                <a:moveTo>
                  <a:pt x="0" y="0"/>
                </a:moveTo>
                <a:lnTo>
                  <a:pt x="21600" y="0"/>
                </a:lnTo>
                <a:lnTo>
                  <a:pt x="21600" y="21955"/>
                </a:lnTo>
                <a:lnTo>
                  <a:pt x="0" y="21955"/>
                </a:lnTo>
                <a:close/>
              </a:path>
              <a:path fill="lightenLess" w="21600" h="21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55">
                <a:moveTo>
                  <a:pt x="21600" y="0"/>
                </a:moveTo>
                <a:lnTo>
                  <a:pt x="21600" y="21955"/>
                </a:lnTo>
                <a:lnTo>
                  <a:pt x="20200" y="20555"/>
                </a:lnTo>
                <a:lnTo>
                  <a:pt x="20200" y="1400"/>
                </a:lnTo>
                <a:close/>
              </a:path>
              <a:path fill="darkenLess" w="21600" h="21955">
                <a:moveTo>
                  <a:pt x="21600" y="21955"/>
                </a:moveTo>
                <a:lnTo>
                  <a:pt x="0" y="21955"/>
                </a:lnTo>
                <a:lnTo>
                  <a:pt x="1400" y="20555"/>
                </a:lnTo>
                <a:lnTo>
                  <a:pt x="20200" y="20555"/>
                </a:lnTo>
                <a:close/>
              </a:path>
              <a:path fill="lighten" w="21600" h="21955">
                <a:moveTo>
                  <a:pt x="0" y="21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5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AutoShape 1044"/>
          <p:cNvSpPr/>
          <p:nvPr/>
        </p:nvSpPr>
        <p:spPr>
          <a:xfrm>
            <a:off x="3067200" y="4896000"/>
            <a:ext cx="1180800" cy="1143000"/>
          </a:xfrm>
          <a:custGeom>
            <a:avLst/>
            <a:gdLst>
              <a:gd name="textAreaLeft" fmla="*/ 73800 w 1180800"/>
              <a:gd name="textAreaRight" fmla="*/ 1107000 w 1180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2314" h="21600">
                <a:moveTo>
                  <a:pt x="0" y="0"/>
                </a:moveTo>
                <a:lnTo>
                  <a:pt x="22314" y="0"/>
                </a:lnTo>
                <a:lnTo>
                  <a:pt x="22314" y="21600"/>
                </a:lnTo>
                <a:lnTo>
                  <a:pt x="0" y="21600"/>
                </a:lnTo>
                <a:close/>
              </a:path>
              <a:path fill="lightenLess" w="22314" h="21600">
                <a:moveTo>
                  <a:pt x="0" y="0"/>
                </a:moveTo>
                <a:lnTo>
                  <a:pt x="22314" y="0"/>
                </a:lnTo>
                <a:lnTo>
                  <a:pt x="20914" y="1400"/>
                </a:lnTo>
                <a:lnTo>
                  <a:pt x="1400" y="1400"/>
                </a:lnTo>
                <a:close/>
              </a:path>
              <a:path fill="darken" w="22314" h="21600">
                <a:moveTo>
                  <a:pt x="22314" y="0"/>
                </a:moveTo>
                <a:lnTo>
                  <a:pt x="22314" y="21600"/>
                </a:lnTo>
                <a:lnTo>
                  <a:pt x="20914" y="20200"/>
                </a:lnTo>
                <a:lnTo>
                  <a:pt x="20914" y="1400"/>
                </a:lnTo>
                <a:close/>
              </a:path>
              <a:path fill="darkenLess" w="22314" h="21600">
                <a:moveTo>
                  <a:pt x="22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14" y="20200"/>
                </a:lnTo>
                <a:close/>
              </a:path>
              <a:path fill="lighten" w="22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utoShape 1045"/>
          <p:cNvSpPr/>
          <p:nvPr/>
        </p:nvSpPr>
        <p:spPr>
          <a:xfrm>
            <a:off x="4495680" y="4838760"/>
            <a:ext cx="1123920" cy="1219320"/>
          </a:xfrm>
          <a:custGeom>
            <a:avLst/>
            <a:gdLst>
              <a:gd name="textAreaLeft" fmla="*/ 72720 w 1123920"/>
              <a:gd name="textAreaRight" fmla="*/ 1051200 w 1123920"/>
              <a:gd name="textAreaTop" fmla="*/ 72720 h 1219320"/>
              <a:gd name="textAreaBottom" fmla="*/ 1146600 h 1219320"/>
            </a:gdLst>
            <a:ahLst/>
            <a:rect l="textAreaLeft" t="textAreaTop" r="textAreaRight" b="textAreaBottom"/>
            <a:pathLst>
              <a:path w="21600" h="23433">
                <a:moveTo>
                  <a:pt x="0" y="0"/>
                </a:moveTo>
                <a:lnTo>
                  <a:pt x="21600" y="0"/>
                </a:lnTo>
                <a:lnTo>
                  <a:pt x="21600" y="23433"/>
                </a:lnTo>
                <a:lnTo>
                  <a:pt x="0" y="23433"/>
                </a:lnTo>
                <a:close/>
              </a:path>
              <a:path fill="lightenLess" w="21600" h="234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33">
                <a:moveTo>
                  <a:pt x="21600" y="0"/>
                </a:moveTo>
                <a:lnTo>
                  <a:pt x="21600" y="23433"/>
                </a:lnTo>
                <a:lnTo>
                  <a:pt x="20200" y="22033"/>
                </a:lnTo>
                <a:lnTo>
                  <a:pt x="20200" y="1400"/>
                </a:lnTo>
                <a:close/>
              </a:path>
              <a:path fill="darkenLess" w="21600" h="23433">
                <a:moveTo>
                  <a:pt x="21600" y="23433"/>
                </a:moveTo>
                <a:lnTo>
                  <a:pt x="0" y="23433"/>
                </a:lnTo>
                <a:lnTo>
                  <a:pt x="1400" y="22033"/>
                </a:lnTo>
                <a:lnTo>
                  <a:pt x="20200" y="22033"/>
                </a:lnTo>
                <a:close/>
              </a:path>
              <a:path fill="lighten" w="21600" h="23433">
                <a:moveTo>
                  <a:pt x="0" y="234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3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1026"/>
          <p:cNvSpPr/>
          <p:nvPr/>
        </p:nvSpPr>
        <p:spPr>
          <a:xfrm>
            <a:off x="933480" y="2305080"/>
            <a:ext cx="476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Group 1027"/>
          <p:cNvGrpSpPr/>
          <p:nvPr/>
        </p:nvGrpSpPr>
        <p:grpSpPr>
          <a:xfrm>
            <a:off x="1584360" y="3524400"/>
            <a:ext cx="3352680" cy="761760"/>
            <a:chOff x="1584360" y="3524400"/>
            <a:chExt cx="3352680" cy="761760"/>
          </a:xfrm>
        </p:grpSpPr>
        <p:sp>
          <p:nvSpPr>
            <p:cNvPr id="739" name="Rectangle 1028"/>
            <p:cNvSpPr/>
            <p:nvPr/>
          </p:nvSpPr>
          <p:spPr>
            <a:xfrm>
              <a:off x="1584360" y="3524400"/>
              <a:ext cx="16761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Rectangle 1029"/>
            <p:cNvSpPr/>
            <p:nvPr/>
          </p:nvSpPr>
          <p:spPr>
            <a:xfrm>
              <a:off x="3260520" y="3524400"/>
              <a:ext cx="167652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WordArt 1030"/>
            <p:cNvSpPr txBox="1"/>
            <p:nvPr/>
          </p:nvSpPr>
          <p:spPr>
            <a:xfrm>
              <a:off x="1736640" y="3676680"/>
              <a:ext cx="30492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742" name="WordArt 1031"/>
            <p:cNvSpPr txBox="1"/>
            <p:nvPr/>
          </p:nvSpPr>
          <p:spPr>
            <a:xfrm>
              <a:off x="4556160" y="3676680"/>
              <a:ext cx="30456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743" name="Picture 1032" descr=""/>
          <p:cNvPicPr/>
          <p:nvPr/>
        </p:nvPicPr>
        <p:blipFill>
          <a:blip r:embed="rId1"/>
          <a:stretch/>
        </p:blipFill>
        <p:spPr>
          <a:xfrm>
            <a:off x="6729480" y="3073320"/>
            <a:ext cx="2376360" cy="3727440"/>
          </a:xfrm>
          <a:prstGeom prst="rect">
            <a:avLst/>
          </a:prstGeom>
          <a:ln w="0">
            <a:noFill/>
          </a:ln>
        </p:spPr>
      </p:pic>
      <p:sp>
        <p:nvSpPr>
          <p:cNvPr id="744" name="AutoShape 1033"/>
          <p:cNvSpPr/>
          <p:nvPr/>
        </p:nvSpPr>
        <p:spPr>
          <a:xfrm>
            <a:off x="3948120" y="324000"/>
            <a:ext cx="5162400" cy="2284200"/>
          </a:xfrm>
          <a:prstGeom prst="cloudCallout">
            <a:avLst>
              <a:gd name="adj1" fmla="val 13500"/>
              <a:gd name="adj2" fmla="val 8342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1034"/>
          <p:cNvSpPr/>
          <p:nvPr/>
        </p:nvSpPr>
        <p:spPr>
          <a:xfrm>
            <a:off x="0" y="4876920"/>
            <a:ext cx="624852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1035"/>
          <p:cNvSpPr/>
          <p:nvPr/>
        </p:nvSpPr>
        <p:spPr>
          <a:xfrm rot="20251200">
            <a:off x="1790640" y="5314680"/>
            <a:ext cx="838440" cy="266760"/>
          </a:xfrm>
          <a:prstGeom prst="rightArrow">
            <a:avLst>
              <a:gd name="adj1" fmla="val 50000"/>
              <a:gd name="adj2" fmla="val 78576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1036"/>
          <p:cNvSpPr/>
          <p:nvPr/>
        </p:nvSpPr>
        <p:spPr>
          <a:xfrm rot="1073400">
            <a:off x="3238560" y="5391000"/>
            <a:ext cx="819000" cy="266760"/>
          </a:xfrm>
          <a:prstGeom prst="rightArrow">
            <a:avLst>
              <a:gd name="adj1" fmla="val 50000"/>
              <a:gd name="adj2" fmla="val 76754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1037"/>
          <p:cNvSpPr/>
          <p:nvPr/>
        </p:nvSpPr>
        <p:spPr>
          <a:xfrm rot="4252200">
            <a:off x="4666680" y="5371920"/>
            <a:ext cx="666720" cy="266760"/>
          </a:xfrm>
          <a:prstGeom prst="rightArrow">
            <a:avLst>
              <a:gd name="adj1" fmla="val 50000"/>
              <a:gd name="adj2" fmla="val 62483"/>
            </a:avLst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038"/>
          <p:cNvSpPr/>
          <p:nvPr/>
        </p:nvSpPr>
        <p:spPr>
          <a:xfrm>
            <a:off x="304920" y="5911920"/>
            <a:ext cx="600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on an answer or click on Doc to skip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Oval 1039"/>
          <p:cNvSpPr/>
          <p:nvPr/>
        </p:nvSpPr>
        <p:spPr>
          <a:xfrm>
            <a:off x="1341360" y="2624040"/>
            <a:ext cx="109440" cy="1098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AutoShape 1040"/>
          <p:cNvSpPr/>
          <p:nvPr/>
        </p:nvSpPr>
        <p:spPr>
          <a:xfrm rot="16200000">
            <a:off x="704520" y="5352840"/>
            <a:ext cx="819360" cy="266760"/>
          </a:xfrm>
          <a:prstGeom prst="rightArrow">
            <a:avLst>
              <a:gd name="adj1" fmla="val 50000"/>
              <a:gd name="adj2" fmla="val 76788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041"/>
          <p:cNvSpPr/>
          <p:nvPr/>
        </p:nvSpPr>
        <p:spPr>
          <a:xfrm>
            <a:off x="4317840" y="571680"/>
            <a:ext cx="465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QUESTION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ich direction would a compass point if placed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t point 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AutoShape 104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AutoShape 1043"/>
          <p:cNvSpPr/>
          <p:nvPr/>
        </p:nvSpPr>
        <p:spPr>
          <a:xfrm>
            <a:off x="685800" y="4952880"/>
            <a:ext cx="895320" cy="1067040"/>
          </a:xfrm>
          <a:custGeom>
            <a:avLst/>
            <a:gdLst>
              <a:gd name="textAreaLeft" fmla="*/ 57960 w 895320"/>
              <a:gd name="textAreaRight" fmla="*/ 837360 w 895320"/>
              <a:gd name="textAreaTop" fmla="*/ 57960 h 1067040"/>
              <a:gd name="textAreaBottom" fmla="*/ 1009080 h 1067040"/>
            </a:gdLst>
            <a:ahLst/>
            <a:rect l="textAreaLeft" t="textAreaTop" r="textAreaRight" b="textAreaBottom"/>
            <a:pathLst>
              <a:path w="21600" h="25741">
                <a:moveTo>
                  <a:pt x="0" y="0"/>
                </a:moveTo>
                <a:lnTo>
                  <a:pt x="21600" y="0"/>
                </a:lnTo>
                <a:lnTo>
                  <a:pt x="21600" y="25741"/>
                </a:lnTo>
                <a:lnTo>
                  <a:pt x="0" y="25741"/>
                </a:lnTo>
                <a:close/>
              </a:path>
              <a:path fill="lightenLess" w="21600" h="257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41">
                <a:moveTo>
                  <a:pt x="21600" y="0"/>
                </a:moveTo>
                <a:lnTo>
                  <a:pt x="21600" y="25741"/>
                </a:lnTo>
                <a:lnTo>
                  <a:pt x="20200" y="24341"/>
                </a:lnTo>
                <a:lnTo>
                  <a:pt x="20200" y="1400"/>
                </a:lnTo>
                <a:close/>
              </a:path>
              <a:path fill="darkenLess" w="21600" h="25741">
                <a:moveTo>
                  <a:pt x="21600" y="25741"/>
                </a:moveTo>
                <a:lnTo>
                  <a:pt x="0" y="25741"/>
                </a:lnTo>
                <a:lnTo>
                  <a:pt x="1400" y="24341"/>
                </a:lnTo>
                <a:lnTo>
                  <a:pt x="20200" y="24341"/>
                </a:lnTo>
                <a:close/>
              </a:path>
              <a:path fill="lighten" w="21600" h="25741">
                <a:moveTo>
                  <a:pt x="0" y="257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1044"/>
          <p:cNvSpPr/>
          <p:nvPr/>
        </p:nvSpPr>
        <p:spPr>
          <a:xfrm>
            <a:off x="2971800" y="5010120"/>
            <a:ext cx="2533680" cy="990720"/>
          </a:xfrm>
          <a:custGeom>
            <a:avLst/>
            <a:gdLst>
              <a:gd name="textAreaLeft" fmla="*/ 64080 w 2533680"/>
              <a:gd name="textAreaRight" fmla="*/ 2469600 w 2533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5228" h="21600">
                <a:moveTo>
                  <a:pt x="0" y="0"/>
                </a:moveTo>
                <a:lnTo>
                  <a:pt x="55228" y="0"/>
                </a:lnTo>
                <a:lnTo>
                  <a:pt x="55228" y="21600"/>
                </a:lnTo>
                <a:lnTo>
                  <a:pt x="0" y="21600"/>
                </a:lnTo>
                <a:close/>
              </a:path>
              <a:path fill="lightenLess" w="55228" h="21600">
                <a:moveTo>
                  <a:pt x="0" y="0"/>
                </a:moveTo>
                <a:lnTo>
                  <a:pt x="55228" y="0"/>
                </a:lnTo>
                <a:lnTo>
                  <a:pt x="53828" y="1400"/>
                </a:lnTo>
                <a:lnTo>
                  <a:pt x="1400" y="1400"/>
                </a:lnTo>
                <a:close/>
              </a:path>
              <a:path fill="darken" w="55228" h="21600">
                <a:moveTo>
                  <a:pt x="55228" y="0"/>
                </a:moveTo>
                <a:lnTo>
                  <a:pt x="55228" y="21600"/>
                </a:lnTo>
                <a:lnTo>
                  <a:pt x="53828" y="20200"/>
                </a:lnTo>
                <a:lnTo>
                  <a:pt x="53828" y="1400"/>
                </a:lnTo>
                <a:close/>
              </a:path>
              <a:path fill="darkenLess" w="55228" h="21600">
                <a:moveTo>
                  <a:pt x="55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828" y="20200"/>
                </a:lnTo>
                <a:close/>
              </a:path>
              <a:path fill="lighten" w="55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1045"/>
          <p:cNvSpPr/>
          <p:nvPr/>
        </p:nvSpPr>
        <p:spPr>
          <a:xfrm>
            <a:off x="1619280" y="4971960"/>
            <a:ext cx="1295280" cy="1047960"/>
          </a:xfrm>
          <a:custGeom>
            <a:avLst/>
            <a:gdLst>
              <a:gd name="textAreaLeft" fmla="*/ 67680 w 1295280"/>
              <a:gd name="textAreaRight" fmla="*/ 1227600 w 1295280"/>
              <a:gd name="textAreaTop" fmla="*/ 67680 h 1047960"/>
              <a:gd name="textAreaBottom" fmla="*/ 980280 h 1047960"/>
            </a:gdLst>
            <a:ahLst/>
            <a:rect l="textAreaLeft" t="textAreaTop" r="textAreaRight" b="textAreaBottom"/>
            <a:pathLst>
              <a:path w="26696" h="21600">
                <a:moveTo>
                  <a:pt x="0" y="0"/>
                </a:moveTo>
                <a:lnTo>
                  <a:pt x="26696" y="0"/>
                </a:lnTo>
                <a:lnTo>
                  <a:pt x="26696" y="21600"/>
                </a:lnTo>
                <a:lnTo>
                  <a:pt x="0" y="21600"/>
                </a:lnTo>
                <a:close/>
              </a:path>
              <a:path fill="lightenLess" w="26696" h="21600">
                <a:moveTo>
                  <a:pt x="0" y="0"/>
                </a:moveTo>
                <a:lnTo>
                  <a:pt x="26696" y="0"/>
                </a:lnTo>
                <a:lnTo>
                  <a:pt x="25296" y="1400"/>
                </a:lnTo>
                <a:lnTo>
                  <a:pt x="1400" y="1400"/>
                </a:lnTo>
                <a:close/>
              </a:path>
              <a:path fill="darken" w="26696" h="21600">
                <a:moveTo>
                  <a:pt x="26696" y="0"/>
                </a:moveTo>
                <a:lnTo>
                  <a:pt x="26696" y="21600"/>
                </a:lnTo>
                <a:lnTo>
                  <a:pt x="25296" y="20200"/>
                </a:lnTo>
                <a:lnTo>
                  <a:pt x="25296" y="1400"/>
                </a:lnTo>
                <a:close/>
              </a:path>
              <a:path fill="darkenLess" w="26696" h="21600">
                <a:moveTo>
                  <a:pt x="26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6" y="20200"/>
                </a:lnTo>
                <a:close/>
              </a:path>
              <a:path fill="lighten" w="26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933480" y="2305080"/>
            <a:ext cx="476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Group 3"/>
          <p:cNvGrpSpPr/>
          <p:nvPr/>
        </p:nvGrpSpPr>
        <p:grpSpPr>
          <a:xfrm>
            <a:off x="1584360" y="3524400"/>
            <a:ext cx="3352680" cy="761760"/>
            <a:chOff x="1584360" y="3524400"/>
            <a:chExt cx="3352680" cy="761760"/>
          </a:xfrm>
        </p:grpSpPr>
        <p:sp>
          <p:nvSpPr>
            <p:cNvPr id="759" name="Rectangle 4"/>
            <p:cNvSpPr/>
            <p:nvPr/>
          </p:nvSpPr>
          <p:spPr>
            <a:xfrm>
              <a:off x="1584360" y="3524400"/>
              <a:ext cx="16761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5"/>
            <p:cNvSpPr/>
            <p:nvPr/>
          </p:nvSpPr>
          <p:spPr>
            <a:xfrm>
              <a:off x="3260520" y="3524400"/>
              <a:ext cx="167652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WordArt 6"/>
            <p:cNvSpPr txBox="1"/>
            <p:nvPr/>
          </p:nvSpPr>
          <p:spPr>
            <a:xfrm>
              <a:off x="1736640" y="3676680"/>
              <a:ext cx="30492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762" name="WordArt 7"/>
            <p:cNvSpPr txBox="1"/>
            <p:nvPr/>
          </p:nvSpPr>
          <p:spPr>
            <a:xfrm>
              <a:off x="4556160" y="3676680"/>
              <a:ext cx="30456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763" name="Picture 8" descr=""/>
          <p:cNvPicPr/>
          <p:nvPr/>
        </p:nvPicPr>
        <p:blipFill>
          <a:blip r:embed="rId1"/>
          <a:stretch/>
        </p:blipFill>
        <p:spPr>
          <a:xfrm>
            <a:off x="6729480" y="3073320"/>
            <a:ext cx="2376360" cy="3727440"/>
          </a:xfrm>
          <a:prstGeom prst="rect">
            <a:avLst/>
          </a:prstGeom>
          <a:ln w="0">
            <a:noFill/>
          </a:ln>
        </p:spPr>
      </p:pic>
      <p:sp>
        <p:nvSpPr>
          <p:cNvPr id="764" name="AutoShape 9"/>
          <p:cNvSpPr/>
          <p:nvPr/>
        </p:nvSpPr>
        <p:spPr>
          <a:xfrm>
            <a:off x="3948120" y="324000"/>
            <a:ext cx="5162400" cy="2284200"/>
          </a:xfrm>
          <a:prstGeom prst="cloudCallout">
            <a:avLst>
              <a:gd name="adj1" fmla="val 13500"/>
              <a:gd name="adj2" fmla="val 8342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10"/>
          <p:cNvSpPr/>
          <p:nvPr/>
        </p:nvSpPr>
        <p:spPr>
          <a:xfrm>
            <a:off x="0" y="4876920"/>
            <a:ext cx="624852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AutoShape 11"/>
          <p:cNvSpPr/>
          <p:nvPr/>
        </p:nvSpPr>
        <p:spPr>
          <a:xfrm rot="20251200">
            <a:off x="1790640" y="5314680"/>
            <a:ext cx="838440" cy="266760"/>
          </a:xfrm>
          <a:prstGeom prst="rightArrow">
            <a:avLst>
              <a:gd name="adj1" fmla="val 50000"/>
              <a:gd name="adj2" fmla="val 78576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12"/>
          <p:cNvSpPr/>
          <p:nvPr/>
        </p:nvSpPr>
        <p:spPr>
          <a:xfrm rot="1073400">
            <a:off x="3238560" y="5391000"/>
            <a:ext cx="819000" cy="266760"/>
          </a:xfrm>
          <a:prstGeom prst="rightArrow">
            <a:avLst>
              <a:gd name="adj1" fmla="val 50000"/>
              <a:gd name="adj2" fmla="val 76754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AutoShape 13"/>
          <p:cNvSpPr/>
          <p:nvPr/>
        </p:nvSpPr>
        <p:spPr>
          <a:xfrm rot="4252200">
            <a:off x="4666680" y="5371920"/>
            <a:ext cx="666720" cy="266760"/>
          </a:xfrm>
          <a:prstGeom prst="rightArrow">
            <a:avLst>
              <a:gd name="adj1" fmla="val 50000"/>
              <a:gd name="adj2" fmla="val 62483"/>
            </a:avLst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14"/>
          <p:cNvSpPr/>
          <p:nvPr/>
        </p:nvSpPr>
        <p:spPr>
          <a:xfrm>
            <a:off x="304920" y="6076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your best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Group 15"/>
          <p:cNvGrpSpPr/>
          <p:nvPr/>
        </p:nvGrpSpPr>
        <p:grpSpPr>
          <a:xfrm>
            <a:off x="2517480" y="1432080"/>
            <a:ext cx="2006640" cy="1983960"/>
            <a:chOff x="2517480" y="1432080"/>
            <a:chExt cx="2006640" cy="1983960"/>
          </a:xfrm>
        </p:grpSpPr>
        <p:sp>
          <p:nvSpPr>
            <p:cNvPr id="771" name="AutoShape 16"/>
            <p:cNvSpPr/>
            <p:nvPr/>
          </p:nvSpPr>
          <p:spPr>
            <a:xfrm>
              <a:off x="3289320" y="1432080"/>
              <a:ext cx="450720" cy="772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AutoShape 17"/>
            <p:cNvSpPr/>
            <p:nvPr/>
          </p:nvSpPr>
          <p:spPr>
            <a:xfrm rot="4399800">
              <a:off x="3863880" y="1906920"/>
              <a:ext cx="450720" cy="7725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AutoShape 18"/>
            <p:cNvSpPr/>
            <p:nvPr/>
          </p:nvSpPr>
          <p:spPr>
            <a:xfrm rot="8517600">
              <a:off x="3654360" y="2582640"/>
              <a:ext cx="450720" cy="772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AutoShape 19"/>
            <p:cNvSpPr/>
            <p:nvPr/>
          </p:nvSpPr>
          <p:spPr>
            <a:xfrm rot="13029600">
              <a:off x="2887200" y="2585160"/>
              <a:ext cx="450720" cy="772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AutoShape 20"/>
            <p:cNvSpPr/>
            <p:nvPr/>
          </p:nvSpPr>
          <p:spPr>
            <a:xfrm rot="17181000">
              <a:off x="2725920" y="1906920"/>
              <a:ext cx="450720" cy="7725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Oval 21"/>
            <p:cNvSpPr/>
            <p:nvPr/>
          </p:nvSpPr>
          <p:spPr>
            <a:xfrm>
              <a:off x="3193200" y="2118960"/>
              <a:ext cx="605880" cy="686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Group 22"/>
          <p:cNvGrpSpPr/>
          <p:nvPr/>
        </p:nvGrpSpPr>
        <p:grpSpPr>
          <a:xfrm>
            <a:off x="5641560" y="434880"/>
            <a:ext cx="2006640" cy="1983960"/>
            <a:chOff x="5641560" y="434880"/>
            <a:chExt cx="2006640" cy="1983960"/>
          </a:xfrm>
        </p:grpSpPr>
        <p:sp>
          <p:nvSpPr>
            <p:cNvPr id="778" name="AutoShape 23"/>
            <p:cNvSpPr/>
            <p:nvPr/>
          </p:nvSpPr>
          <p:spPr>
            <a:xfrm>
              <a:off x="6413760" y="434880"/>
              <a:ext cx="450720" cy="772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AutoShape 24"/>
            <p:cNvSpPr/>
            <p:nvPr/>
          </p:nvSpPr>
          <p:spPr>
            <a:xfrm rot="4399800">
              <a:off x="6987960" y="909720"/>
              <a:ext cx="450720" cy="772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AutoShape 25"/>
            <p:cNvSpPr/>
            <p:nvPr/>
          </p:nvSpPr>
          <p:spPr>
            <a:xfrm rot="8517600">
              <a:off x="6778440" y="1585800"/>
              <a:ext cx="450720" cy="772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AutoShape 26"/>
            <p:cNvSpPr/>
            <p:nvPr/>
          </p:nvSpPr>
          <p:spPr>
            <a:xfrm rot="13029600">
              <a:off x="6011280" y="1587960"/>
              <a:ext cx="450720" cy="772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AutoShape 27"/>
            <p:cNvSpPr/>
            <p:nvPr/>
          </p:nvSpPr>
          <p:spPr>
            <a:xfrm rot="17181000">
              <a:off x="5850360" y="909720"/>
              <a:ext cx="450720" cy="772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Oval 28"/>
            <p:cNvSpPr/>
            <p:nvPr/>
          </p:nvSpPr>
          <p:spPr>
            <a:xfrm>
              <a:off x="6317280" y="1121760"/>
              <a:ext cx="606240" cy="686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29"/>
          <p:cNvGrpSpPr/>
          <p:nvPr/>
        </p:nvGrpSpPr>
        <p:grpSpPr>
          <a:xfrm>
            <a:off x="365040" y="2670120"/>
            <a:ext cx="666000" cy="658440"/>
            <a:chOff x="365040" y="2670120"/>
            <a:chExt cx="666000" cy="658440"/>
          </a:xfrm>
        </p:grpSpPr>
        <p:sp>
          <p:nvSpPr>
            <p:cNvPr id="785" name="AutoShape 30"/>
            <p:cNvSpPr/>
            <p:nvPr/>
          </p:nvSpPr>
          <p:spPr>
            <a:xfrm>
              <a:off x="621360" y="2670120"/>
              <a:ext cx="149760" cy="2563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AutoShape 31"/>
            <p:cNvSpPr/>
            <p:nvPr/>
          </p:nvSpPr>
          <p:spPr>
            <a:xfrm rot="4399800">
              <a:off x="811800" y="2827800"/>
              <a:ext cx="149760" cy="256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AutoShape 32"/>
            <p:cNvSpPr/>
            <p:nvPr/>
          </p:nvSpPr>
          <p:spPr>
            <a:xfrm rot="8517600">
              <a:off x="742320" y="3052080"/>
              <a:ext cx="149760" cy="2563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AutoShape 33"/>
            <p:cNvSpPr/>
            <p:nvPr/>
          </p:nvSpPr>
          <p:spPr>
            <a:xfrm rot="13029600">
              <a:off x="487800" y="3052800"/>
              <a:ext cx="149760" cy="2563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AutoShape 34"/>
            <p:cNvSpPr/>
            <p:nvPr/>
          </p:nvSpPr>
          <p:spPr>
            <a:xfrm rot="17181000">
              <a:off x="434160" y="2827440"/>
              <a:ext cx="149760" cy="256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Oval 35"/>
            <p:cNvSpPr/>
            <p:nvPr/>
          </p:nvSpPr>
          <p:spPr>
            <a:xfrm>
              <a:off x="589320" y="2898000"/>
              <a:ext cx="201240" cy="227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Group 36"/>
          <p:cNvGrpSpPr/>
          <p:nvPr/>
        </p:nvGrpSpPr>
        <p:grpSpPr>
          <a:xfrm>
            <a:off x="7966080" y="2270160"/>
            <a:ext cx="666000" cy="658440"/>
            <a:chOff x="7966080" y="2270160"/>
            <a:chExt cx="666000" cy="658440"/>
          </a:xfrm>
        </p:grpSpPr>
        <p:sp>
          <p:nvSpPr>
            <p:cNvPr id="792" name="AutoShape 37"/>
            <p:cNvSpPr/>
            <p:nvPr/>
          </p:nvSpPr>
          <p:spPr>
            <a:xfrm>
              <a:off x="8222400" y="2270160"/>
              <a:ext cx="149760" cy="2563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AutoShape 38"/>
            <p:cNvSpPr/>
            <p:nvPr/>
          </p:nvSpPr>
          <p:spPr>
            <a:xfrm rot="4399800">
              <a:off x="8412840" y="2427840"/>
              <a:ext cx="149760" cy="256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AutoShape 39"/>
            <p:cNvSpPr/>
            <p:nvPr/>
          </p:nvSpPr>
          <p:spPr>
            <a:xfrm rot="8517600">
              <a:off x="8343360" y="2652120"/>
              <a:ext cx="149760" cy="2563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AutoShape 40"/>
            <p:cNvSpPr/>
            <p:nvPr/>
          </p:nvSpPr>
          <p:spPr>
            <a:xfrm rot="13029600">
              <a:off x="8088840" y="2652840"/>
              <a:ext cx="149760" cy="2563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AutoShape 41"/>
            <p:cNvSpPr/>
            <p:nvPr/>
          </p:nvSpPr>
          <p:spPr>
            <a:xfrm rot="17181000">
              <a:off x="8035200" y="2427480"/>
              <a:ext cx="149760" cy="256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Oval 42"/>
            <p:cNvSpPr/>
            <p:nvPr/>
          </p:nvSpPr>
          <p:spPr>
            <a:xfrm>
              <a:off x="8190360" y="2498040"/>
              <a:ext cx="201240" cy="227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Group 43"/>
          <p:cNvGrpSpPr/>
          <p:nvPr/>
        </p:nvGrpSpPr>
        <p:grpSpPr>
          <a:xfrm>
            <a:off x="8194680" y="631800"/>
            <a:ext cx="666000" cy="658440"/>
            <a:chOff x="8194680" y="631800"/>
            <a:chExt cx="666000" cy="658440"/>
          </a:xfrm>
        </p:grpSpPr>
        <p:sp>
          <p:nvSpPr>
            <p:cNvPr id="799" name="AutoShape 44"/>
            <p:cNvSpPr/>
            <p:nvPr/>
          </p:nvSpPr>
          <p:spPr>
            <a:xfrm>
              <a:off x="8451000" y="631800"/>
              <a:ext cx="149760" cy="2563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AutoShape 45"/>
            <p:cNvSpPr/>
            <p:nvPr/>
          </p:nvSpPr>
          <p:spPr>
            <a:xfrm rot="4399800">
              <a:off x="8641440" y="789480"/>
              <a:ext cx="149760" cy="256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AutoShape 46"/>
            <p:cNvSpPr/>
            <p:nvPr/>
          </p:nvSpPr>
          <p:spPr>
            <a:xfrm rot="8517600">
              <a:off x="8571960" y="1013760"/>
              <a:ext cx="149760" cy="2563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utoShape 47"/>
            <p:cNvSpPr/>
            <p:nvPr/>
          </p:nvSpPr>
          <p:spPr>
            <a:xfrm rot="13029600">
              <a:off x="8317440" y="1014480"/>
              <a:ext cx="149760" cy="2563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AutoShape 48"/>
            <p:cNvSpPr/>
            <p:nvPr/>
          </p:nvSpPr>
          <p:spPr>
            <a:xfrm rot="17181000">
              <a:off x="8263800" y="789120"/>
              <a:ext cx="149760" cy="256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Oval 49"/>
            <p:cNvSpPr/>
            <p:nvPr/>
          </p:nvSpPr>
          <p:spPr>
            <a:xfrm>
              <a:off x="8418960" y="859680"/>
              <a:ext cx="201240" cy="227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Group 50"/>
          <p:cNvGrpSpPr/>
          <p:nvPr/>
        </p:nvGrpSpPr>
        <p:grpSpPr>
          <a:xfrm>
            <a:off x="1298520" y="765000"/>
            <a:ext cx="666000" cy="658800"/>
            <a:chOff x="1298520" y="765000"/>
            <a:chExt cx="666000" cy="658800"/>
          </a:xfrm>
        </p:grpSpPr>
        <p:sp>
          <p:nvSpPr>
            <p:cNvPr id="806" name="AutoShape 51"/>
            <p:cNvSpPr/>
            <p:nvPr/>
          </p:nvSpPr>
          <p:spPr>
            <a:xfrm>
              <a:off x="1554840" y="765000"/>
              <a:ext cx="149760" cy="256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AutoShape 52"/>
            <p:cNvSpPr/>
            <p:nvPr/>
          </p:nvSpPr>
          <p:spPr>
            <a:xfrm rot="4399800">
              <a:off x="1745280" y="923040"/>
              <a:ext cx="149760" cy="256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AutoShape 53"/>
            <p:cNvSpPr/>
            <p:nvPr/>
          </p:nvSpPr>
          <p:spPr>
            <a:xfrm rot="8517600">
              <a:off x="1675800" y="1146600"/>
              <a:ext cx="149760" cy="256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AutoShape 54"/>
            <p:cNvSpPr/>
            <p:nvPr/>
          </p:nvSpPr>
          <p:spPr>
            <a:xfrm rot="13029600">
              <a:off x="1421280" y="1147680"/>
              <a:ext cx="149760" cy="256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AutoShape 55"/>
            <p:cNvSpPr/>
            <p:nvPr/>
          </p:nvSpPr>
          <p:spPr>
            <a:xfrm rot="17181000">
              <a:off x="1367640" y="922680"/>
              <a:ext cx="149760" cy="256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Oval 56"/>
            <p:cNvSpPr/>
            <p:nvPr/>
          </p:nvSpPr>
          <p:spPr>
            <a:xfrm>
              <a:off x="1522800" y="993240"/>
              <a:ext cx="201240" cy="228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WordArt 57"/>
          <p:cNvSpPr txBox="1"/>
          <p:nvPr/>
        </p:nvSpPr>
        <p:spPr>
          <a:xfrm>
            <a:off x="5148360" y="971640"/>
            <a:ext cx="30193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antastic!</a:t>
            </a:r>
            <a:endParaRPr b="0" lang="en-US" sz="36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13" name="Group 58"/>
          <p:cNvGrpSpPr/>
          <p:nvPr/>
        </p:nvGrpSpPr>
        <p:grpSpPr>
          <a:xfrm>
            <a:off x="4453920" y="974880"/>
            <a:ext cx="556200" cy="549000"/>
            <a:chOff x="4453920" y="974880"/>
            <a:chExt cx="556200" cy="549000"/>
          </a:xfrm>
        </p:grpSpPr>
        <p:sp>
          <p:nvSpPr>
            <p:cNvPr id="814" name="AutoShape 59"/>
            <p:cNvSpPr/>
            <p:nvPr/>
          </p:nvSpPr>
          <p:spPr>
            <a:xfrm>
              <a:off x="4668120" y="97488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AutoShape 60"/>
            <p:cNvSpPr/>
            <p:nvPr/>
          </p:nvSpPr>
          <p:spPr>
            <a:xfrm rot="4399800">
              <a:off x="4827240" y="1105920"/>
              <a:ext cx="124560" cy="214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AutoShape 61"/>
            <p:cNvSpPr/>
            <p:nvPr/>
          </p:nvSpPr>
          <p:spPr>
            <a:xfrm rot="8517600">
              <a:off x="4768920" y="129348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AutoShape 62"/>
            <p:cNvSpPr/>
            <p:nvPr/>
          </p:nvSpPr>
          <p:spPr>
            <a:xfrm rot="13029600">
              <a:off x="4555800" y="129384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AutoShape 63"/>
            <p:cNvSpPr/>
            <p:nvPr/>
          </p:nvSpPr>
          <p:spPr>
            <a:xfrm rot="17181000">
              <a:off x="4511880" y="1105920"/>
              <a:ext cx="124560" cy="214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64"/>
            <p:cNvSpPr/>
            <p:nvPr/>
          </p:nvSpPr>
          <p:spPr>
            <a:xfrm>
              <a:off x="4641480" y="1164960"/>
              <a:ext cx="168120" cy="190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Oval 65"/>
          <p:cNvSpPr/>
          <p:nvPr/>
        </p:nvSpPr>
        <p:spPr>
          <a:xfrm>
            <a:off x="1341360" y="2624040"/>
            <a:ext cx="109440" cy="1098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AutoShape 66"/>
          <p:cNvSpPr/>
          <p:nvPr/>
        </p:nvSpPr>
        <p:spPr>
          <a:xfrm rot="16200000">
            <a:off x="704520" y="5352840"/>
            <a:ext cx="819360" cy="266760"/>
          </a:xfrm>
          <a:prstGeom prst="rightArrow">
            <a:avLst>
              <a:gd name="adj1" fmla="val 50000"/>
              <a:gd name="adj2" fmla="val 76788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0" dur="1" fill="hold">
                                    <p:stCondLst>
                                      <p:cond evt="end">
                                        <p:tn val="364"/>
                                      </p:cond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evt="end">
                                        <p:tn val="372"/>
                                      </p:cond>
                                    </p:stCondLst>
                                  </p:cTn>
                                  <p:tgtEl>
                                    <p:spTgt spid="7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evt="end">
                                        <p:tn val="380"/>
                                      </p:cond>
                                    </p:stCondLst>
                                  </p:cTn>
                                  <p:tgtEl>
                                    <p:spTgt spid="7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evt="end">
                                        <p:tn val="388"/>
                                      </p:cond>
                                    </p:stCondLst>
                                  </p:cTn>
                                  <p:tgtEl>
                                    <p:spTgt spid="7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2" dur="1" fill="hold">
                                    <p:stCondLst>
                                      <p:cond evt="end">
                                        <p:tn val="396"/>
                                      </p:cond>
                                    </p:stCondLst>
                                  </p:cTn>
                                  <p:tgtEl>
                                    <p:spTgt spid="8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2"/>
          <p:cNvGrpSpPr/>
          <p:nvPr/>
        </p:nvGrpSpPr>
        <p:grpSpPr>
          <a:xfrm>
            <a:off x="171000" y="1820880"/>
            <a:ext cx="6085080" cy="4296600"/>
            <a:chOff x="171000" y="1820880"/>
            <a:chExt cx="6085080" cy="4296600"/>
          </a:xfrm>
        </p:grpSpPr>
        <p:sp>
          <p:nvSpPr>
            <p:cNvPr id="823" name="Freeform 3"/>
            <p:cNvSpPr/>
            <p:nvPr/>
          </p:nvSpPr>
          <p:spPr>
            <a:xfrm rot="20386200">
              <a:off x="971280" y="549576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Freeform 4"/>
            <p:cNvSpPr/>
            <p:nvPr/>
          </p:nvSpPr>
          <p:spPr>
            <a:xfrm rot="19747200">
              <a:off x="1752480" y="531504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Freeform 5"/>
            <p:cNvSpPr/>
            <p:nvPr/>
          </p:nvSpPr>
          <p:spPr>
            <a:xfrm flipH="1" rot="4438800">
              <a:off x="4927680" y="4260600"/>
              <a:ext cx="164880" cy="16560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Freeform 6"/>
            <p:cNvSpPr/>
            <p:nvPr/>
          </p:nvSpPr>
          <p:spPr>
            <a:xfrm flipH="1" rot="4438800">
              <a:off x="5187600" y="426996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Freeform 7"/>
            <p:cNvSpPr/>
            <p:nvPr/>
          </p:nvSpPr>
          <p:spPr>
            <a:xfrm flipH="1" rot="11911800">
              <a:off x="5025600" y="5136480"/>
              <a:ext cx="164880" cy="16560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Freeform 8"/>
            <p:cNvSpPr/>
            <p:nvPr/>
          </p:nvSpPr>
          <p:spPr>
            <a:xfrm flipH="1" rot="13373400">
              <a:off x="3148920" y="591840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Freeform 9"/>
            <p:cNvSpPr/>
            <p:nvPr/>
          </p:nvSpPr>
          <p:spPr>
            <a:xfrm flipH="1" rot="13373400">
              <a:off x="3301560" y="547020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Freeform 10"/>
            <p:cNvSpPr/>
            <p:nvPr/>
          </p:nvSpPr>
          <p:spPr>
            <a:xfrm flipH="1" rot="12538800">
              <a:off x="4986720" y="5593680"/>
              <a:ext cx="164880" cy="16524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1"/>
            <p:cNvSpPr/>
            <p:nvPr/>
          </p:nvSpPr>
          <p:spPr>
            <a:xfrm flipH="1" rot="10058400">
              <a:off x="6005880" y="5517360"/>
              <a:ext cx="165240" cy="16560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2"/>
            <p:cNvSpPr/>
            <p:nvPr/>
          </p:nvSpPr>
          <p:spPr>
            <a:xfrm rot="6838800">
              <a:off x="1123200" y="405756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3"/>
            <p:cNvSpPr/>
            <p:nvPr/>
          </p:nvSpPr>
          <p:spPr>
            <a:xfrm rot="5868000">
              <a:off x="1266120" y="426672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4"/>
            <p:cNvSpPr/>
            <p:nvPr/>
          </p:nvSpPr>
          <p:spPr>
            <a:xfrm rot="5860800">
              <a:off x="970920" y="4276440"/>
              <a:ext cx="164880" cy="1652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5"/>
            <p:cNvSpPr/>
            <p:nvPr/>
          </p:nvSpPr>
          <p:spPr>
            <a:xfrm flipV="1" rot="1213800">
              <a:off x="999720" y="227772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6"/>
            <p:cNvSpPr/>
            <p:nvPr/>
          </p:nvSpPr>
          <p:spPr>
            <a:xfrm flipH="1" flipV="1" rot="17161200">
              <a:off x="5215680" y="350316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7"/>
            <p:cNvSpPr/>
            <p:nvPr/>
          </p:nvSpPr>
          <p:spPr>
            <a:xfrm flipH="1" flipV="1" rot="8226600">
              <a:off x="3177720" y="185472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8"/>
            <p:cNvSpPr/>
            <p:nvPr/>
          </p:nvSpPr>
          <p:spPr>
            <a:xfrm flipH="1" flipV="1" rot="9061200">
              <a:off x="5015160" y="2179800"/>
              <a:ext cx="165240" cy="16452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4520"/>
                <a:gd name="textAreaBottom" fmla="*/ 164520 h 16452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19"/>
            <p:cNvSpPr/>
            <p:nvPr/>
          </p:nvSpPr>
          <p:spPr>
            <a:xfrm flipH="1" flipV="1" rot="11541600">
              <a:off x="6035040" y="2254320"/>
              <a:ext cx="165240" cy="16560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5600"/>
                <a:gd name="textAreaBottom" fmla="*/ 16632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0"/>
            <p:cNvSpPr/>
            <p:nvPr/>
          </p:nvSpPr>
          <p:spPr>
            <a:xfrm flipV="1" rot="14761200">
              <a:off x="1151640" y="371628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Group 21"/>
            <p:cNvGrpSpPr/>
            <p:nvPr/>
          </p:nvGrpSpPr>
          <p:grpSpPr>
            <a:xfrm>
              <a:off x="171000" y="1939680"/>
              <a:ext cx="6085080" cy="4059360"/>
              <a:chOff x="171000" y="1939680"/>
              <a:chExt cx="6085080" cy="4059360"/>
            </a:xfrm>
          </p:grpSpPr>
          <p:grpSp>
            <p:nvGrpSpPr>
              <p:cNvPr id="842" name="Group 22"/>
              <p:cNvGrpSpPr/>
              <p:nvPr/>
            </p:nvGrpSpPr>
            <p:grpSpPr>
              <a:xfrm>
                <a:off x="171000" y="3941640"/>
                <a:ext cx="6056640" cy="2057400"/>
                <a:chOff x="171000" y="3941640"/>
                <a:chExt cx="6056640" cy="2057400"/>
              </a:xfrm>
            </p:grpSpPr>
            <p:sp>
              <p:nvSpPr>
                <p:cNvPr id="843" name="Oval 23"/>
                <p:cNvSpPr/>
                <p:nvPr/>
              </p:nvSpPr>
              <p:spPr>
                <a:xfrm>
                  <a:off x="933480" y="4038480"/>
                  <a:ext cx="4572000" cy="15238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Oval 24"/>
                <p:cNvSpPr/>
                <p:nvPr/>
              </p:nvSpPr>
              <p:spPr>
                <a:xfrm>
                  <a:off x="552600" y="3941640"/>
                  <a:ext cx="5257800" cy="205740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Arc 25"/>
                <p:cNvSpPr/>
                <p:nvPr/>
              </p:nvSpPr>
              <p:spPr>
                <a:xfrm flipH="1">
                  <a:off x="170640" y="4038480"/>
                  <a:ext cx="1752840" cy="1790640"/>
                </a:xfrm>
                <a:custGeom>
                  <a:avLst/>
                  <a:gdLst>
                    <a:gd name="textAreaLeft" fmla="*/ -360 w 1752840"/>
                    <a:gd name="textAreaRight" fmla="*/ 1752840 w 1752840"/>
                    <a:gd name="textAreaTop" fmla="*/ 0 h 1790640"/>
                    <a:gd name="textAreaBottom" fmla="*/ 1791000 h 1790640"/>
                  </a:gdLst>
                  <a:ahLst/>
                  <a:rect l="textAreaLeft" t="textAreaTop" r="textAreaRight" b="textAreaBottom"/>
                  <a:pathLst>
                    <a:path fill="none" w="21600" h="3385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5974"/>
                        <a:pt x="20271" y="30246"/>
                        <a:pt x="17790" y="33849"/>
                      </a:cubicBezTo>
                    </a:path>
                    <a:path stroke="0" w="21600" h="3385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5974"/>
                        <a:pt x="20271" y="30246"/>
                        <a:pt x="17790" y="33849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Arc 26"/>
                <p:cNvSpPr/>
                <p:nvPr/>
              </p:nvSpPr>
              <p:spPr>
                <a:xfrm>
                  <a:off x="4475160" y="4098600"/>
                  <a:ext cx="1752480" cy="1743120"/>
                </a:xfrm>
                <a:custGeom>
                  <a:avLst/>
                  <a:gdLst>
                    <a:gd name="textAreaLeft" fmla="*/ 0 w 1752480"/>
                    <a:gd name="textAreaRight" fmla="*/ 1752840 w 1752480"/>
                    <a:gd name="textAreaTop" fmla="*/ 0 h 1743120"/>
                    <a:gd name="textAreaBottom" fmla="*/ 1743480 h 1743120"/>
                  </a:gdLst>
                  <a:ahLst/>
                  <a:rect l="textAreaLeft" t="textAreaTop" r="textAreaRight" b="textAreaBottom"/>
                  <a:pathLst>
                    <a:path fill="none" w="21600" h="32945">
                      <a:moveTo>
                        <a:pt x="6185" y="-1"/>
                      </a:moveTo>
                      <a:cubicBezTo>
                        <a:pt x="15332" y="2733"/>
                        <a:pt x="21600" y="11147"/>
                        <a:pt x="21600" y="20695"/>
                      </a:cubicBezTo>
                      <a:cubicBezTo>
                        <a:pt x="21600" y="25069"/>
                        <a:pt x="20271" y="29341"/>
                        <a:pt x="17790" y="32944"/>
                      </a:cubicBezTo>
                    </a:path>
                    <a:path stroke="0" w="21600" h="32945">
                      <a:moveTo>
                        <a:pt x="6185" y="-1"/>
                      </a:moveTo>
                      <a:cubicBezTo>
                        <a:pt x="15332" y="2733"/>
                        <a:pt x="21600" y="11147"/>
                        <a:pt x="21600" y="20695"/>
                      </a:cubicBezTo>
                      <a:cubicBezTo>
                        <a:pt x="21600" y="25069"/>
                        <a:pt x="20271" y="29341"/>
                        <a:pt x="17790" y="32944"/>
                      </a:cubicBezTo>
                      <a:lnTo>
                        <a:pt x="0" y="20695"/>
                      </a:lnTo>
                      <a:lnTo>
                        <a:pt x="6185" y="-1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head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Group 27"/>
              <p:cNvGrpSpPr/>
              <p:nvPr/>
            </p:nvGrpSpPr>
            <p:grpSpPr>
              <a:xfrm>
                <a:off x="199440" y="1939680"/>
                <a:ext cx="6056640" cy="2057400"/>
                <a:chOff x="199440" y="1939680"/>
                <a:chExt cx="6056640" cy="2057400"/>
              </a:xfrm>
            </p:grpSpPr>
            <p:grpSp>
              <p:nvGrpSpPr>
                <p:cNvPr id="848" name="Group 28"/>
                <p:cNvGrpSpPr/>
                <p:nvPr/>
              </p:nvGrpSpPr>
              <p:grpSpPr>
                <a:xfrm>
                  <a:off x="199440" y="1939680"/>
                  <a:ext cx="6056640" cy="2057400"/>
                  <a:chOff x="199440" y="1939680"/>
                  <a:chExt cx="6056640" cy="2057400"/>
                </a:xfrm>
              </p:grpSpPr>
              <p:sp>
                <p:nvSpPr>
                  <p:cNvPr id="849" name="Oval 29"/>
                  <p:cNvSpPr/>
                  <p:nvPr/>
                </p:nvSpPr>
                <p:spPr>
                  <a:xfrm flipV="1">
                    <a:off x="961920" y="2375640"/>
                    <a:ext cx="4572000" cy="15238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Oval 30"/>
                  <p:cNvSpPr/>
                  <p:nvPr/>
                </p:nvSpPr>
                <p:spPr>
                  <a:xfrm flipV="1">
                    <a:off x="581040" y="1938960"/>
                    <a:ext cx="5257800" cy="20574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Arc 31"/>
                  <p:cNvSpPr/>
                  <p:nvPr/>
                </p:nvSpPr>
                <p:spPr>
                  <a:xfrm flipH="1" flipV="1">
                    <a:off x="198720" y="2109600"/>
                    <a:ext cx="1752840" cy="1790640"/>
                  </a:xfrm>
                  <a:custGeom>
                    <a:avLst/>
                    <a:gdLst>
                      <a:gd name="textAreaLeft" fmla="*/ -360 w 1752840"/>
                      <a:gd name="textAreaRight" fmla="*/ 1752840 w 1752840"/>
                      <a:gd name="textAreaTop" fmla="*/ 360 h 1790640"/>
                      <a:gd name="textAreaBottom" fmla="*/ 1791360 h 1790640"/>
                    </a:gdLst>
                    <a:ahLst/>
                    <a:rect l="textAreaLeft" t="textAreaTop" r="textAreaRight" b="textAreaBottom"/>
                    <a:pathLst>
                      <a:path fill="none" w="21600" h="3385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5974"/>
                          <a:pt x="20271" y="30246"/>
                          <a:pt x="17790" y="33849"/>
                        </a:cubicBezTo>
                      </a:path>
                      <a:path stroke="0" w="21600" h="3385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5974"/>
                          <a:pt x="20271" y="30246"/>
                          <a:pt x="17790" y="33849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Arc 32"/>
                  <p:cNvSpPr/>
                  <p:nvPr/>
                </p:nvSpPr>
                <p:spPr>
                  <a:xfrm flipV="1">
                    <a:off x="4503600" y="2097000"/>
                    <a:ext cx="1752480" cy="1743120"/>
                  </a:xfrm>
                  <a:custGeom>
                    <a:avLst/>
                    <a:gdLst>
                      <a:gd name="textAreaLeft" fmla="*/ 0 w 1752480"/>
                      <a:gd name="textAreaRight" fmla="*/ 1752840 w 1752480"/>
                      <a:gd name="textAreaTop" fmla="*/ 360 h 1743120"/>
                      <a:gd name="textAreaBottom" fmla="*/ 1743840 h 1743120"/>
                    </a:gdLst>
                    <a:ahLst/>
                    <a:rect l="textAreaLeft" t="textAreaTop" r="textAreaRight" b="textAreaBottom"/>
                    <a:pathLst>
                      <a:path fill="none" w="21600" h="32945">
                        <a:moveTo>
                          <a:pt x="6185" y="-1"/>
                        </a:moveTo>
                        <a:cubicBezTo>
                          <a:pt x="15332" y="2733"/>
                          <a:pt x="21600" y="11147"/>
                          <a:pt x="21600" y="20695"/>
                        </a:cubicBezTo>
                        <a:cubicBezTo>
                          <a:pt x="21600" y="25069"/>
                          <a:pt x="20271" y="29341"/>
                          <a:pt x="17790" y="32944"/>
                        </a:cubicBezTo>
                      </a:path>
                      <a:path stroke="0" w="21600" h="32945">
                        <a:moveTo>
                          <a:pt x="6185" y="-1"/>
                        </a:moveTo>
                        <a:cubicBezTo>
                          <a:pt x="15332" y="2733"/>
                          <a:pt x="21600" y="11147"/>
                          <a:pt x="21600" y="20695"/>
                        </a:cubicBezTo>
                        <a:cubicBezTo>
                          <a:pt x="21600" y="25069"/>
                          <a:pt x="20271" y="29341"/>
                          <a:pt x="17790" y="32944"/>
                        </a:cubicBezTo>
                        <a:lnTo>
                          <a:pt x="0" y="20695"/>
                        </a:lnTo>
                        <a:lnTo>
                          <a:pt x="6185" y="-1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head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3" name="Freeform 33"/>
                <p:cNvSpPr/>
                <p:nvPr/>
              </p:nvSpPr>
              <p:spPr>
                <a:xfrm flipV="1" rot="1852800">
                  <a:off x="1780920" y="2458080"/>
                  <a:ext cx="165240" cy="16488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Freeform 34"/>
                <p:cNvSpPr/>
                <p:nvPr/>
              </p:nvSpPr>
              <p:spPr>
                <a:xfrm flipH="1" flipV="1" rot="17161200">
                  <a:off x="4955400" y="3512160"/>
                  <a:ext cx="164880" cy="16524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Freeform 35"/>
                <p:cNvSpPr/>
                <p:nvPr/>
              </p:nvSpPr>
              <p:spPr>
                <a:xfrm flipH="1" flipV="1" rot="9688200">
                  <a:off x="5053320" y="2636640"/>
                  <a:ext cx="165240" cy="16488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Freeform 36"/>
                <p:cNvSpPr/>
                <p:nvPr/>
              </p:nvSpPr>
              <p:spPr>
                <a:xfrm flipH="1" flipV="1" rot="8226600">
                  <a:off x="3330000" y="2302920"/>
                  <a:ext cx="165240" cy="16488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Freeform 37"/>
                <p:cNvSpPr/>
                <p:nvPr/>
              </p:nvSpPr>
              <p:spPr>
                <a:xfrm flipV="1" rot="15732000">
                  <a:off x="1294920" y="3506040"/>
                  <a:ext cx="165240" cy="16488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8" name="Freeform 38"/>
            <p:cNvSpPr/>
            <p:nvPr/>
          </p:nvSpPr>
          <p:spPr>
            <a:xfrm flipV="1" rot="15739200">
              <a:off x="1000080" y="349668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Text Box 39"/>
          <p:cNvSpPr/>
          <p:nvPr/>
        </p:nvSpPr>
        <p:spPr>
          <a:xfrm>
            <a:off x="933480" y="2305080"/>
            <a:ext cx="476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Group 40"/>
          <p:cNvGrpSpPr/>
          <p:nvPr/>
        </p:nvGrpSpPr>
        <p:grpSpPr>
          <a:xfrm>
            <a:off x="1584360" y="3524400"/>
            <a:ext cx="3352680" cy="761760"/>
            <a:chOff x="1584360" y="3524400"/>
            <a:chExt cx="3352680" cy="761760"/>
          </a:xfrm>
        </p:grpSpPr>
        <p:sp>
          <p:nvSpPr>
            <p:cNvPr id="861" name="Rectangle 41"/>
            <p:cNvSpPr/>
            <p:nvPr/>
          </p:nvSpPr>
          <p:spPr>
            <a:xfrm>
              <a:off x="1584360" y="3524400"/>
              <a:ext cx="16761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Rectangle 42"/>
            <p:cNvSpPr/>
            <p:nvPr/>
          </p:nvSpPr>
          <p:spPr>
            <a:xfrm>
              <a:off x="3260520" y="3524400"/>
              <a:ext cx="167652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WordArt 43"/>
            <p:cNvSpPr txBox="1"/>
            <p:nvPr/>
          </p:nvSpPr>
          <p:spPr>
            <a:xfrm>
              <a:off x="1736640" y="3676680"/>
              <a:ext cx="30492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864" name="WordArt 44"/>
            <p:cNvSpPr txBox="1"/>
            <p:nvPr/>
          </p:nvSpPr>
          <p:spPr>
            <a:xfrm>
              <a:off x="4556160" y="3676680"/>
              <a:ext cx="30456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865" name="Picture 45" descr=""/>
          <p:cNvPicPr/>
          <p:nvPr/>
        </p:nvPicPr>
        <p:blipFill>
          <a:blip r:embed="rId1"/>
          <a:stretch/>
        </p:blipFill>
        <p:spPr>
          <a:xfrm>
            <a:off x="6729480" y="3073320"/>
            <a:ext cx="2376360" cy="3727440"/>
          </a:xfrm>
          <a:prstGeom prst="rect">
            <a:avLst/>
          </a:prstGeom>
          <a:ln w="0">
            <a:noFill/>
          </a:ln>
        </p:spPr>
      </p:pic>
      <p:sp>
        <p:nvSpPr>
          <p:cNvPr id="866" name="AutoShape 46"/>
          <p:cNvSpPr/>
          <p:nvPr/>
        </p:nvSpPr>
        <p:spPr>
          <a:xfrm>
            <a:off x="3948120" y="324000"/>
            <a:ext cx="5162400" cy="2284200"/>
          </a:xfrm>
          <a:prstGeom prst="cloudCallout">
            <a:avLst>
              <a:gd name="adj1" fmla="val 13500"/>
              <a:gd name="adj2" fmla="val 8342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47"/>
          <p:cNvSpPr/>
          <p:nvPr/>
        </p:nvSpPr>
        <p:spPr>
          <a:xfrm>
            <a:off x="0" y="4876920"/>
            <a:ext cx="624852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AutoShape 48"/>
          <p:cNvSpPr/>
          <p:nvPr/>
        </p:nvSpPr>
        <p:spPr>
          <a:xfrm rot="20251200">
            <a:off x="1790640" y="5314680"/>
            <a:ext cx="838440" cy="266760"/>
          </a:xfrm>
          <a:prstGeom prst="rightArrow">
            <a:avLst>
              <a:gd name="adj1" fmla="val 50000"/>
              <a:gd name="adj2" fmla="val 78576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AutoShape 49"/>
          <p:cNvSpPr/>
          <p:nvPr/>
        </p:nvSpPr>
        <p:spPr>
          <a:xfrm rot="1073400">
            <a:off x="3238560" y="5391000"/>
            <a:ext cx="819000" cy="266760"/>
          </a:xfrm>
          <a:prstGeom prst="rightArrow">
            <a:avLst>
              <a:gd name="adj1" fmla="val 50000"/>
              <a:gd name="adj2" fmla="val 76754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AutoShape 50"/>
          <p:cNvSpPr/>
          <p:nvPr/>
        </p:nvSpPr>
        <p:spPr>
          <a:xfrm rot="4252200">
            <a:off x="4666680" y="5371920"/>
            <a:ext cx="666720" cy="266760"/>
          </a:xfrm>
          <a:prstGeom prst="rightArrow">
            <a:avLst>
              <a:gd name="adj1" fmla="val 50000"/>
              <a:gd name="adj2" fmla="val 62483"/>
            </a:avLst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51"/>
          <p:cNvSpPr/>
          <p:nvPr/>
        </p:nvSpPr>
        <p:spPr>
          <a:xfrm>
            <a:off x="304920" y="6076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your best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Group 52"/>
          <p:cNvGrpSpPr/>
          <p:nvPr/>
        </p:nvGrpSpPr>
        <p:grpSpPr>
          <a:xfrm>
            <a:off x="876240" y="2019240"/>
            <a:ext cx="1123920" cy="1104840"/>
            <a:chOff x="876240" y="2019240"/>
            <a:chExt cx="1123920" cy="1104840"/>
          </a:xfrm>
        </p:grpSpPr>
        <p:sp>
          <p:nvSpPr>
            <p:cNvPr id="873" name="Oval 53"/>
            <p:cNvSpPr/>
            <p:nvPr/>
          </p:nvSpPr>
          <p:spPr>
            <a:xfrm>
              <a:off x="876240" y="2019240"/>
              <a:ext cx="1123920" cy="1104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4" name="Group 54"/>
            <p:cNvGrpSpPr/>
            <p:nvPr/>
          </p:nvGrpSpPr>
          <p:grpSpPr>
            <a:xfrm>
              <a:off x="971280" y="2209680"/>
              <a:ext cx="887400" cy="914400"/>
              <a:chOff x="971280" y="2209680"/>
              <a:chExt cx="887400" cy="914400"/>
            </a:xfrm>
          </p:grpSpPr>
          <p:sp>
            <p:nvSpPr>
              <p:cNvPr id="875" name="Oval 55"/>
              <p:cNvSpPr/>
              <p:nvPr/>
            </p:nvSpPr>
            <p:spPr>
              <a:xfrm>
                <a:off x="971280" y="2209680"/>
                <a:ext cx="887400" cy="9144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AutoShape 56"/>
              <p:cNvSpPr/>
              <p:nvPr/>
            </p:nvSpPr>
            <p:spPr>
              <a:xfrm rot="20294400">
                <a:off x="1080720" y="2499840"/>
                <a:ext cx="712800" cy="324000"/>
              </a:xfrm>
              <a:prstGeom prst="rightArrow">
                <a:avLst>
                  <a:gd name="adj1" fmla="val 50000"/>
                  <a:gd name="adj2" fmla="val 55000"/>
                </a:avLst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7" name="Oval 57"/>
          <p:cNvSpPr/>
          <p:nvPr/>
        </p:nvSpPr>
        <p:spPr>
          <a:xfrm>
            <a:off x="1341360" y="2624040"/>
            <a:ext cx="109440" cy="1098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AutoShape 58"/>
          <p:cNvSpPr/>
          <p:nvPr/>
        </p:nvSpPr>
        <p:spPr>
          <a:xfrm rot="16200000">
            <a:off x="704520" y="5352840"/>
            <a:ext cx="819360" cy="266760"/>
          </a:xfrm>
          <a:prstGeom prst="rightArrow">
            <a:avLst>
              <a:gd name="adj1" fmla="val 50000"/>
              <a:gd name="adj2" fmla="val 76788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59"/>
          <p:cNvSpPr/>
          <p:nvPr/>
        </p:nvSpPr>
        <p:spPr>
          <a:xfrm>
            <a:off x="4284720" y="628560"/>
            <a:ext cx="464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compass points in </a:t>
            </a:r>
            <a:br>
              <a:rPr sz="2400"/>
            </a:b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the same direction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s the magnetic field at that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SMARTInkShape-149"/>
          <p:cNvSpPr/>
          <p:nvPr/>
        </p:nvSpPr>
        <p:spPr>
          <a:xfrm>
            <a:off x="879480" y="3086280"/>
            <a:ext cx="185760" cy="242640"/>
          </a:xfrm>
          <a:custGeom>
            <a:avLst/>
            <a:gdLst>
              <a:gd name="textAreaLeft" fmla="*/ 0 w 185760"/>
              <a:gd name="textAreaRight" fmla="*/ 186120 w 18576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85730" h="242747">
                <a:moveTo>
                  <a:pt x="92860" y="71406"/>
                </a:moveTo>
                <a:lnTo>
                  <a:pt x="89068" y="71406"/>
                </a:lnTo>
                <a:lnTo>
                  <a:pt x="87951" y="72199"/>
                </a:lnTo>
                <a:lnTo>
                  <a:pt x="87206" y="73522"/>
                </a:lnTo>
                <a:lnTo>
                  <a:pt x="86709" y="75198"/>
                </a:lnTo>
                <a:lnTo>
                  <a:pt x="66601" y="110603"/>
                </a:lnTo>
                <a:lnTo>
                  <a:pt x="52373" y="145383"/>
                </a:lnTo>
                <a:lnTo>
                  <a:pt x="36679" y="178896"/>
                </a:lnTo>
                <a:lnTo>
                  <a:pt x="19335" y="211510"/>
                </a:lnTo>
                <a:lnTo>
                  <a:pt x="7299" y="234601"/>
                </a:lnTo>
                <a:lnTo>
                  <a:pt x="89" y="242746"/>
                </a:lnTo>
                <a:lnTo>
                  <a:pt x="0" y="232903"/>
                </a:lnTo>
                <a:lnTo>
                  <a:pt x="8811" y="199790"/>
                </a:lnTo>
                <a:lnTo>
                  <a:pt x="12659" y="185645"/>
                </a:lnTo>
                <a:lnTo>
                  <a:pt x="19769" y="155388"/>
                </a:lnTo>
                <a:lnTo>
                  <a:pt x="28710" y="122714"/>
                </a:lnTo>
                <a:lnTo>
                  <a:pt x="41912" y="89302"/>
                </a:lnTo>
                <a:lnTo>
                  <a:pt x="54104" y="58624"/>
                </a:lnTo>
                <a:lnTo>
                  <a:pt x="68990" y="26503"/>
                </a:lnTo>
                <a:lnTo>
                  <a:pt x="76174" y="13563"/>
                </a:lnTo>
                <a:lnTo>
                  <a:pt x="82536" y="8230"/>
                </a:lnTo>
                <a:lnTo>
                  <a:pt x="85705" y="0"/>
                </a:lnTo>
                <a:lnTo>
                  <a:pt x="85713" y="3770"/>
                </a:lnTo>
                <a:lnTo>
                  <a:pt x="87832" y="7743"/>
                </a:lnTo>
                <a:lnTo>
                  <a:pt x="90625" y="12155"/>
                </a:lnTo>
                <a:lnTo>
                  <a:pt x="92198" y="19895"/>
                </a:lnTo>
                <a:lnTo>
                  <a:pt x="93458" y="31890"/>
                </a:lnTo>
                <a:lnTo>
                  <a:pt x="105506" y="67330"/>
                </a:lnTo>
                <a:lnTo>
                  <a:pt x="119912" y="96866"/>
                </a:lnTo>
                <a:lnTo>
                  <a:pt x="140622" y="131852"/>
                </a:lnTo>
                <a:lnTo>
                  <a:pt x="153418" y="148051"/>
                </a:lnTo>
                <a:lnTo>
                  <a:pt x="158163" y="156557"/>
                </a:lnTo>
                <a:lnTo>
                  <a:pt x="163159" y="161638"/>
                </a:lnTo>
                <a:lnTo>
                  <a:pt x="176240" y="169973"/>
                </a:lnTo>
                <a:lnTo>
                  <a:pt x="182237" y="171133"/>
                </a:lnTo>
                <a:lnTo>
                  <a:pt x="178641" y="171415"/>
                </a:lnTo>
                <a:lnTo>
                  <a:pt x="182394" y="171417"/>
                </a:lnTo>
                <a:lnTo>
                  <a:pt x="183506" y="170623"/>
                </a:lnTo>
                <a:lnTo>
                  <a:pt x="185671" y="164470"/>
                </a:lnTo>
                <a:lnTo>
                  <a:pt x="185729" y="16427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0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Group 1026"/>
          <p:cNvGrpSpPr/>
          <p:nvPr/>
        </p:nvGrpSpPr>
        <p:grpSpPr>
          <a:xfrm>
            <a:off x="171000" y="1820880"/>
            <a:ext cx="6085080" cy="4296600"/>
            <a:chOff x="171000" y="1820880"/>
            <a:chExt cx="6085080" cy="4296600"/>
          </a:xfrm>
        </p:grpSpPr>
        <p:sp>
          <p:nvSpPr>
            <p:cNvPr id="882" name="Freeform 1027"/>
            <p:cNvSpPr/>
            <p:nvPr/>
          </p:nvSpPr>
          <p:spPr>
            <a:xfrm rot="20386200">
              <a:off x="971280" y="549576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Freeform 1028"/>
            <p:cNvSpPr/>
            <p:nvPr/>
          </p:nvSpPr>
          <p:spPr>
            <a:xfrm rot="19747200">
              <a:off x="1752480" y="531504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Freeform 1029"/>
            <p:cNvSpPr/>
            <p:nvPr/>
          </p:nvSpPr>
          <p:spPr>
            <a:xfrm flipH="1" rot="4438800">
              <a:off x="4927680" y="4260600"/>
              <a:ext cx="164880" cy="16560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Freeform 1030"/>
            <p:cNvSpPr/>
            <p:nvPr/>
          </p:nvSpPr>
          <p:spPr>
            <a:xfrm flipH="1" rot="4438800">
              <a:off x="5187600" y="426996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Freeform 1031"/>
            <p:cNvSpPr/>
            <p:nvPr/>
          </p:nvSpPr>
          <p:spPr>
            <a:xfrm flipH="1" rot="11911800">
              <a:off x="5025600" y="5136480"/>
              <a:ext cx="164880" cy="16560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Freeform 1032"/>
            <p:cNvSpPr/>
            <p:nvPr/>
          </p:nvSpPr>
          <p:spPr>
            <a:xfrm flipH="1" rot="13373400">
              <a:off x="3148920" y="591840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Freeform 1033"/>
            <p:cNvSpPr/>
            <p:nvPr/>
          </p:nvSpPr>
          <p:spPr>
            <a:xfrm flipH="1" rot="13373400">
              <a:off x="3301560" y="547020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Freeform 1034"/>
            <p:cNvSpPr/>
            <p:nvPr/>
          </p:nvSpPr>
          <p:spPr>
            <a:xfrm flipH="1" rot="12538800">
              <a:off x="4986720" y="5593680"/>
              <a:ext cx="164880" cy="165240"/>
            </a:xfrm>
            <a:custGeom>
              <a:avLst/>
              <a:gdLst>
                <a:gd name="textAreaLeft" fmla="*/ 360 w 164880"/>
                <a:gd name="textAreaRight" fmla="*/ 165600 w 1648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Freeform 1035"/>
            <p:cNvSpPr/>
            <p:nvPr/>
          </p:nvSpPr>
          <p:spPr>
            <a:xfrm flipH="1" rot="10058400">
              <a:off x="6005880" y="5517360"/>
              <a:ext cx="165240" cy="16560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Freeform 1036"/>
            <p:cNvSpPr/>
            <p:nvPr/>
          </p:nvSpPr>
          <p:spPr>
            <a:xfrm rot="6838800">
              <a:off x="1123200" y="405756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Freeform 1037"/>
            <p:cNvSpPr/>
            <p:nvPr/>
          </p:nvSpPr>
          <p:spPr>
            <a:xfrm rot="5868000">
              <a:off x="1266120" y="426672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1038"/>
            <p:cNvSpPr/>
            <p:nvPr/>
          </p:nvSpPr>
          <p:spPr>
            <a:xfrm rot="5860800">
              <a:off x="970920" y="4276440"/>
              <a:ext cx="164880" cy="1652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1039"/>
            <p:cNvSpPr/>
            <p:nvPr/>
          </p:nvSpPr>
          <p:spPr>
            <a:xfrm flipV="1" rot="1213800">
              <a:off x="999720" y="227772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Freeform 1040"/>
            <p:cNvSpPr/>
            <p:nvPr/>
          </p:nvSpPr>
          <p:spPr>
            <a:xfrm flipH="1" flipV="1" rot="17161200">
              <a:off x="5215680" y="3503160"/>
              <a:ext cx="165240" cy="1648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Freeform 1041"/>
            <p:cNvSpPr/>
            <p:nvPr/>
          </p:nvSpPr>
          <p:spPr>
            <a:xfrm flipH="1" flipV="1" rot="8226600">
              <a:off x="3177720" y="185472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Freeform 1042"/>
            <p:cNvSpPr/>
            <p:nvPr/>
          </p:nvSpPr>
          <p:spPr>
            <a:xfrm flipH="1" flipV="1" rot="9061200">
              <a:off x="5015160" y="2179800"/>
              <a:ext cx="165240" cy="16452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4520"/>
                <a:gd name="textAreaBottom" fmla="*/ 164520 h 16452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Freeform 1043"/>
            <p:cNvSpPr/>
            <p:nvPr/>
          </p:nvSpPr>
          <p:spPr>
            <a:xfrm flipH="1" flipV="1" rot="11541600">
              <a:off x="6035040" y="2254320"/>
              <a:ext cx="165240" cy="16560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360 h 165600"/>
                <a:gd name="textAreaBottom" fmla="*/ 16632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Freeform 1044"/>
            <p:cNvSpPr/>
            <p:nvPr/>
          </p:nvSpPr>
          <p:spPr>
            <a:xfrm flipV="1" rot="14761200">
              <a:off x="1151640" y="371628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0" name="Group 1045"/>
            <p:cNvGrpSpPr/>
            <p:nvPr/>
          </p:nvGrpSpPr>
          <p:grpSpPr>
            <a:xfrm>
              <a:off x="171000" y="1939680"/>
              <a:ext cx="6085080" cy="4059360"/>
              <a:chOff x="171000" y="1939680"/>
              <a:chExt cx="6085080" cy="4059360"/>
            </a:xfrm>
          </p:grpSpPr>
          <p:grpSp>
            <p:nvGrpSpPr>
              <p:cNvPr id="901" name="Group 1046"/>
              <p:cNvGrpSpPr/>
              <p:nvPr/>
            </p:nvGrpSpPr>
            <p:grpSpPr>
              <a:xfrm>
                <a:off x="171000" y="3941640"/>
                <a:ext cx="6056640" cy="2057400"/>
                <a:chOff x="171000" y="3941640"/>
                <a:chExt cx="6056640" cy="2057400"/>
              </a:xfrm>
            </p:grpSpPr>
            <p:sp>
              <p:nvSpPr>
                <p:cNvPr id="902" name="Oval 1047"/>
                <p:cNvSpPr/>
                <p:nvPr/>
              </p:nvSpPr>
              <p:spPr>
                <a:xfrm>
                  <a:off x="933480" y="4038480"/>
                  <a:ext cx="4572000" cy="15238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Oval 1048"/>
                <p:cNvSpPr/>
                <p:nvPr/>
              </p:nvSpPr>
              <p:spPr>
                <a:xfrm>
                  <a:off x="552600" y="3941640"/>
                  <a:ext cx="5257800" cy="205740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Arc 1049"/>
                <p:cNvSpPr/>
                <p:nvPr/>
              </p:nvSpPr>
              <p:spPr>
                <a:xfrm flipH="1">
                  <a:off x="170640" y="4038480"/>
                  <a:ext cx="1752840" cy="1790640"/>
                </a:xfrm>
                <a:custGeom>
                  <a:avLst/>
                  <a:gdLst>
                    <a:gd name="textAreaLeft" fmla="*/ -360 w 1752840"/>
                    <a:gd name="textAreaRight" fmla="*/ 1752840 w 1752840"/>
                    <a:gd name="textAreaTop" fmla="*/ 0 h 1790640"/>
                    <a:gd name="textAreaBottom" fmla="*/ 1791000 h 1790640"/>
                  </a:gdLst>
                  <a:ahLst/>
                  <a:rect l="textAreaLeft" t="textAreaTop" r="textAreaRight" b="textAreaBottom"/>
                  <a:pathLst>
                    <a:path fill="none" w="21600" h="3385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5974"/>
                        <a:pt x="20271" y="30246"/>
                        <a:pt x="17790" y="33849"/>
                      </a:cubicBezTo>
                    </a:path>
                    <a:path stroke="0" w="21600" h="3385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5974"/>
                        <a:pt x="20271" y="30246"/>
                        <a:pt x="17790" y="33849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Arc 1050"/>
                <p:cNvSpPr/>
                <p:nvPr/>
              </p:nvSpPr>
              <p:spPr>
                <a:xfrm>
                  <a:off x="4475160" y="4098600"/>
                  <a:ext cx="1752480" cy="1743120"/>
                </a:xfrm>
                <a:custGeom>
                  <a:avLst/>
                  <a:gdLst>
                    <a:gd name="textAreaLeft" fmla="*/ 0 w 1752480"/>
                    <a:gd name="textAreaRight" fmla="*/ 1752840 w 1752480"/>
                    <a:gd name="textAreaTop" fmla="*/ 0 h 1743120"/>
                    <a:gd name="textAreaBottom" fmla="*/ 1743480 h 1743120"/>
                  </a:gdLst>
                  <a:ahLst/>
                  <a:rect l="textAreaLeft" t="textAreaTop" r="textAreaRight" b="textAreaBottom"/>
                  <a:pathLst>
                    <a:path fill="none" w="21600" h="32945">
                      <a:moveTo>
                        <a:pt x="6185" y="-1"/>
                      </a:moveTo>
                      <a:cubicBezTo>
                        <a:pt x="15332" y="2733"/>
                        <a:pt x="21600" y="11147"/>
                        <a:pt x="21600" y="20695"/>
                      </a:cubicBezTo>
                      <a:cubicBezTo>
                        <a:pt x="21600" y="25069"/>
                        <a:pt x="20271" y="29341"/>
                        <a:pt x="17790" y="32944"/>
                      </a:cubicBezTo>
                    </a:path>
                    <a:path stroke="0" w="21600" h="32945">
                      <a:moveTo>
                        <a:pt x="6185" y="-1"/>
                      </a:moveTo>
                      <a:cubicBezTo>
                        <a:pt x="15332" y="2733"/>
                        <a:pt x="21600" y="11147"/>
                        <a:pt x="21600" y="20695"/>
                      </a:cubicBezTo>
                      <a:cubicBezTo>
                        <a:pt x="21600" y="25069"/>
                        <a:pt x="20271" y="29341"/>
                        <a:pt x="17790" y="32944"/>
                      </a:cubicBezTo>
                      <a:lnTo>
                        <a:pt x="0" y="20695"/>
                      </a:lnTo>
                      <a:lnTo>
                        <a:pt x="6185" y="-1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head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Group 1051"/>
              <p:cNvGrpSpPr/>
              <p:nvPr/>
            </p:nvGrpSpPr>
            <p:grpSpPr>
              <a:xfrm>
                <a:off x="199440" y="1939680"/>
                <a:ext cx="6056640" cy="2057400"/>
                <a:chOff x="199440" y="1939680"/>
                <a:chExt cx="6056640" cy="2057400"/>
              </a:xfrm>
            </p:grpSpPr>
            <p:grpSp>
              <p:nvGrpSpPr>
                <p:cNvPr id="907" name="Group 1052"/>
                <p:cNvGrpSpPr/>
                <p:nvPr/>
              </p:nvGrpSpPr>
              <p:grpSpPr>
                <a:xfrm>
                  <a:off x="199440" y="1939680"/>
                  <a:ext cx="6056640" cy="2057400"/>
                  <a:chOff x="199440" y="1939680"/>
                  <a:chExt cx="6056640" cy="2057400"/>
                </a:xfrm>
              </p:grpSpPr>
              <p:sp>
                <p:nvSpPr>
                  <p:cNvPr id="908" name="Oval 1053"/>
                  <p:cNvSpPr/>
                  <p:nvPr/>
                </p:nvSpPr>
                <p:spPr>
                  <a:xfrm flipV="1">
                    <a:off x="961920" y="2375640"/>
                    <a:ext cx="4572000" cy="15238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Oval 1054"/>
                  <p:cNvSpPr/>
                  <p:nvPr/>
                </p:nvSpPr>
                <p:spPr>
                  <a:xfrm flipV="1">
                    <a:off x="581040" y="1938960"/>
                    <a:ext cx="5257800" cy="20574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Arc 1055"/>
                  <p:cNvSpPr/>
                  <p:nvPr/>
                </p:nvSpPr>
                <p:spPr>
                  <a:xfrm flipH="1" flipV="1">
                    <a:off x="198720" y="2109600"/>
                    <a:ext cx="1752840" cy="1790640"/>
                  </a:xfrm>
                  <a:custGeom>
                    <a:avLst/>
                    <a:gdLst>
                      <a:gd name="textAreaLeft" fmla="*/ -360 w 1752840"/>
                      <a:gd name="textAreaRight" fmla="*/ 1752840 w 1752840"/>
                      <a:gd name="textAreaTop" fmla="*/ 360 h 1790640"/>
                      <a:gd name="textAreaBottom" fmla="*/ 1791360 h 1790640"/>
                    </a:gdLst>
                    <a:ahLst/>
                    <a:rect l="textAreaLeft" t="textAreaTop" r="textAreaRight" b="textAreaBottom"/>
                    <a:pathLst>
                      <a:path fill="none" w="21600" h="3385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5974"/>
                          <a:pt x="20271" y="30246"/>
                          <a:pt x="17790" y="33849"/>
                        </a:cubicBezTo>
                      </a:path>
                      <a:path stroke="0" w="21600" h="3385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5974"/>
                          <a:pt x="20271" y="30246"/>
                          <a:pt x="17790" y="33849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Arc 1056"/>
                  <p:cNvSpPr/>
                  <p:nvPr/>
                </p:nvSpPr>
                <p:spPr>
                  <a:xfrm flipV="1">
                    <a:off x="4503600" y="2097000"/>
                    <a:ext cx="1752480" cy="1743120"/>
                  </a:xfrm>
                  <a:custGeom>
                    <a:avLst/>
                    <a:gdLst>
                      <a:gd name="textAreaLeft" fmla="*/ 0 w 1752480"/>
                      <a:gd name="textAreaRight" fmla="*/ 1752840 w 1752480"/>
                      <a:gd name="textAreaTop" fmla="*/ 360 h 1743120"/>
                      <a:gd name="textAreaBottom" fmla="*/ 1743840 h 1743120"/>
                    </a:gdLst>
                    <a:ahLst/>
                    <a:rect l="textAreaLeft" t="textAreaTop" r="textAreaRight" b="textAreaBottom"/>
                    <a:pathLst>
                      <a:path fill="none" w="21600" h="32945">
                        <a:moveTo>
                          <a:pt x="6185" y="-1"/>
                        </a:moveTo>
                        <a:cubicBezTo>
                          <a:pt x="15332" y="2733"/>
                          <a:pt x="21600" y="11147"/>
                          <a:pt x="21600" y="20695"/>
                        </a:cubicBezTo>
                        <a:cubicBezTo>
                          <a:pt x="21600" y="25069"/>
                          <a:pt x="20271" y="29341"/>
                          <a:pt x="17790" y="32944"/>
                        </a:cubicBezTo>
                      </a:path>
                      <a:path stroke="0" w="21600" h="32945">
                        <a:moveTo>
                          <a:pt x="6185" y="-1"/>
                        </a:moveTo>
                        <a:cubicBezTo>
                          <a:pt x="15332" y="2733"/>
                          <a:pt x="21600" y="11147"/>
                          <a:pt x="21600" y="20695"/>
                        </a:cubicBezTo>
                        <a:cubicBezTo>
                          <a:pt x="21600" y="25069"/>
                          <a:pt x="20271" y="29341"/>
                          <a:pt x="17790" y="32944"/>
                        </a:cubicBezTo>
                        <a:lnTo>
                          <a:pt x="0" y="20695"/>
                        </a:lnTo>
                        <a:lnTo>
                          <a:pt x="6185" y="-1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head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2" name="Freeform 1057"/>
                <p:cNvSpPr/>
                <p:nvPr/>
              </p:nvSpPr>
              <p:spPr>
                <a:xfrm flipV="1" rot="1852800">
                  <a:off x="1780920" y="2458080"/>
                  <a:ext cx="165240" cy="16488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Freeform 1058"/>
                <p:cNvSpPr/>
                <p:nvPr/>
              </p:nvSpPr>
              <p:spPr>
                <a:xfrm flipH="1" flipV="1" rot="17161200">
                  <a:off x="4955400" y="3512160"/>
                  <a:ext cx="164880" cy="16524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Freeform 1059"/>
                <p:cNvSpPr/>
                <p:nvPr/>
              </p:nvSpPr>
              <p:spPr>
                <a:xfrm flipH="1" flipV="1" rot="9688200">
                  <a:off x="5053320" y="2636640"/>
                  <a:ext cx="165240" cy="16488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Freeform 1060"/>
                <p:cNvSpPr/>
                <p:nvPr/>
              </p:nvSpPr>
              <p:spPr>
                <a:xfrm flipH="1" flipV="1" rot="8226600">
                  <a:off x="3330000" y="2302920"/>
                  <a:ext cx="165240" cy="16488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Freeform 1061"/>
                <p:cNvSpPr/>
                <p:nvPr/>
              </p:nvSpPr>
              <p:spPr>
                <a:xfrm flipV="1" rot="15732000">
                  <a:off x="1294920" y="3506040"/>
                  <a:ext cx="165240" cy="16488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7" name="Freeform 1062"/>
            <p:cNvSpPr/>
            <p:nvPr/>
          </p:nvSpPr>
          <p:spPr>
            <a:xfrm flipV="1" rot="15739200">
              <a:off x="1000080" y="349668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Group 1063"/>
          <p:cNvGrpSpPr/>
          <p:nvPr/>
        </p:nvGrpSpPr>
        <p:grpSpPr>
          <a:xfrm>
            <a:off x="1584360" y="3524400"/>
            <a:ext cx="3352680" cy="761760"/>
            <a:chOff x="1584360" y="3524400"/>
            <a:chExt cx="3352680" cy="761760"/>
          </a:xfrm>
        </p:grpSpPr>
        <p:sp>
          <p:nvSpPr>
            <p:cNvPr id="919" name="Rectangle 1064"/>
            <p:cNvSpPr/>
            <p:nvPr/>
          </p:nvSpPr>
          <p:spPr>
            <a:xfrm>
              <a:off x="1584360" y="3524400"/>
              <a:ext cx="16761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Rectangle 1065"/>
            <p:cNvSpPr/>
            <p:nvPr/>
          </p:nvSpPr>
          <p:spPr>
            <a:xfrm>
              <a:off x="3260520" y="3524400"/>
              <a:ext cx="167652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WordArt 1066"/>
            <p:cNvSpPr txBox="1"/>
            <p:nvPr/>
          </p:nvSpPr>
          <p:spPr>
            <a:xfrm>
              <a:off x="1736640" y="3676680"/>
              <a:ext cx="30492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922" name="WordArt 1067"/>
            <p:cNvSpPr txBox="1"/>
            <p:nvPr/>
          </p:nvSpPr>
          <p:spPr>
            <a:xfrm>
              <a:off x="4556160" y="3676680"/>
              <a:ext cx="30456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923" name="Picture 1068" descr=""/>
          <p:cNvPicPr/>
          <p:nvPr/>
        </p:nvPicPr>
        <p:blipFill>
          <a:blip r:embed="rId1"/>
          <a:stretch/>
        </p:blipFill>
        <p:spPr>
          <a:xfrm>
            <a:off x="6729480" y="3073320"/>
            <a:ext cx="2376360" cy="3727440"/>
          </a:xfrm>
          <a:prstGeom prst="rect">
            <a:avLst/>
          </a:prstGeom>
          <a:ln w="0">
            <a:noFill/>
          </a:ln>
        </p:spPr>
      </p:pic>
      <p:sp>
        <p:nvSpPr>
          <p:cNvPr id="924" name="Rectangle 1069"/>
          <p:cNvSpPr/>
          <p:nvPr/>
        </p:nvSpPr>
        <p:spPr>
          <a:xfrm>
            <a:off x="0" y="4876920"/>
            <a:ext cx="624852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AutoShape 1070"/>
          <p:cNvSpPr/>
          <p:nvPr/>
        </p:nvSpPr>
        <p:spPr>
          <a:xfrm rot="20251200">
            <a:off x="1790640" y="5314680"/>
            <a:ext cx="838440" cy="266760"/>
          </a:xfrm>
          <a:prstGeom prst="rightArrow">
            <a:avLst>
              <a:gd name="adj1" fmla="val 50000"/>
              <a:gd name="adj2" fmla="val 78576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AutoShape 1071"/>
          <p:cNvSpPr/>
          <p:nvPr/>
        </p:nvSpPr>
        <p:spPr>
          <a:xfrm rot="1073400">
            <a:off x="3238560" y="5391000"/>
            <a:ext cx="819000" cy="266760"/>
          </a:xfrm>
          <a:prstGeom prst="rightArrow">
            <a:avLst>
              <a:gd name="adj1" fmla="val 50000"/>
              <a:gd name="adj2" fmla="val 76754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AutoShape 1072"/>
          <p:cNvSpPr/>
          <p:nvPr/>
        </p:nvSpPr>
        <p:spPr>
          <a:xfrm rot="4252200">
            <a:off x="4666680" y="5371920"/>
            <a:ext cx="666720" cy="266760"/>
          </a:xfrm>
          <a:prstGeom prst="rightArrow">
            <a:avLst>
              <a:gd name="adj1" fmla="val 50000"/>
              <a:gd name="adj2" fmla="val 62483"/>
            </a:avLst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073"/>
          <p:cNvSpPr/>
          <p:nvPr/>
        </p:nvSpPr>
        <p:spPr>
          <a:xfrm>
            <a:off x="304920" y="6076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your best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AutoShape 1074"/>
          <p:cNvSpPr/>
          <p:nvPr/>
        </p:nvSpPr>
        <p:spPr>
          <a:xfrm rot="16200000">
            <a:off x="704520" y="5352840"/>
            <a:ext cx="819360" cy="266760"/>
          </a:xfrm>
          <a:prstGeom prst="rightArrow">
            <a:avLst>
              <a:gd name="adj1" fmla="val 50000"/>
              <a:gd name="adj2" fmla="val 76788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1075"/>
          <p:cNvSpPr/>
          <p:nvPr/>
        </p:nvSpPr>
        <p:spPr>
          <a:xfrm>
            <a:off x="933480" y="2228760"/>
            <a:ext cx="514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Oval 1076"/>
          <p:cNvSpPr/>
          <p:nvPr/>
        </p:nvSpPr>
        <p:spPr>
          <a:xfrm>
            <a:off x="1341360" y="2624040"/>
            <a:ext cx="109440" cy="1098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AutoShape 1077"/>
          <p:cNvSpPr/>
          <p:nvPr/>
        </p:nvSpPr>
        <p:spPr>
          <a:xfrm>
            <a:off x="3948120" y="324000"/>
            <a:ext cx="5162400" cy="2284200"/>
          </a:xfrm>
          <a:prstGeom prst="cloudCallout">
            <a:avLst>
              <a:gd name="adj1" fmla="val 13500"/>
              <a:gd name="adj2" fmla="val 8342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1078"/>
          <p:cNvSpPr/>
          <p:nvPr/>
        </p:nvSpPr>
        <p:spPr>
          <a:xfrm>
            <a:off x="4170240" y="647640"/>
            <a:ext cx="464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compass points in </a:t>
            </a:r>
            <a:br>
              <a:rPr sz="2400"/>
            </a:b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the same direction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s the magnetic field at that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WordArt 1079"/>
          <p:cNvSpPr txBox="1"/>
          <p:nvPr/>
        </p:nvSpPr>
        <p:spPr>
          <a:xfrm>
            <a:off x="3733920" y="252360"/>
            <a:ext cx="1066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int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027" descr="compass01-2572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 Box 2"/>
          <p:cNvSpPr/>
          <p:nvPr/>
        </p:nvSpPr>
        <p:spPr>
          <a:xfrm>
            <a:off x="933480" y="2305080"/>
            <a:ext cx="476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Group 3"/>
          <p:cNvGrpSpPr/>
          <p:nvPr/>
        </p:nvGrpSpPr>
        <p:grpSpPr>
          <a:xfrm>
            <a:off x="1584360" y="3524400"/>
            <a:ext cx="3352680" cy="761760"/>
            <a:chOff x="1584360" y="3524400"/>
            <a:chExt cx="3352680" cy="761760"/>
          </a:xfrm>
        </p:grpSpPr>
        <p:sp>
          <p:nvSpPr>
            <p:cNvPr id="937" name="Rectangle 4"/>
            <p:cNvSpPr/>
            <p:nvPr/>
          </p:nvSpPr>
          <p:spPr>
            <a:xfrm>
              <a:off x="1584360" y="3524400"/>
              <a:ext cx="16761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Rectangle 5"/>
            <p:cNvSpPr/>
            <p:nvPr/>
          </p:nvSpPr>
          <p:spPr>
            <a:xfrm>
              <a:off x="3260520" y="3524400"/>
              <a:ext cx="167652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WordArt 6"/>
            <p:cNvSpPr txBox="1"/>
            <p:nvPr/>
          </p:nvSpPr>
          <p:spPr>
            <a:xfrm>
              <a:off x="1736640" y="3676680"/>
              <a:ext cx="30492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940" name="WordArt 7"/>
            <p:cNvSpPr txBox="1"/>
            <p:nvPr/>
          </p:nvSpPr>
          <p:spPr>
            <a:xfrm>
              <a:off x="4556160" y="3676680"/>
              <a:ext cx="30456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868686"/>
                    </a:outerShdw>
                  </a:effectLst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941" name="Picture 8" descr=""/>
          <p:cNvPicPr/>
          <p:nvPr/>
        </p:nvPicPr>
        <p:blipFill>
          <a:blip r:embed="rId1"/>
          <a:stretch/>
        </p:blipFill>
        <p:spPr>
          <a:xfrm>
            <a:off x="6729480" y="3073320"/>
            <a:ext cx="2376360" cy="3727440"/>
          </a:xfrm>
          <a:prstGeom prst="rect">
            <a:avLst/>
          </a:prstGeom>
          <a:ln w="0">
            <a:noFill/>
          </a:ln>
        </p:spPr>
      </p:pic>
      <p:sp>
        <p:nvSpPr>
          <p:cNvPr id="942" name="AutoShape 9"/>
          <p:cNvSpPr/>
          <p:nvPr/>
        </p:nvSpPr>
        <p:spPr>
          <a:xfrm>
            <a:off x="3948120" y="324000"/>
            <a:ext cx="5162400" cy="2284200"/>
          </a:xfrm>
          <a:prstGeom prst="cloudCallout">
            <a:avLst>
              <a:gd name="adj1" fmla="val 13500"/>
              <a:gd name="adj2" fmla="val 8342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0"/>
          <p:cNvSpPr/>
          <p:nvPr/>
        </p:nvSpPr>
        <p:spPr>
          <a:xfrm>
            <a:off x="4317840" y="571680"/>
            <a:ext cx="465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QUESTION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ich direction would a compass point if placed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t point 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11"/>
          <p:cNvSpPr/>
          <p:nvPr/>
        </p:nvSpPr>
        <p:spPr>
          <a:xfrm>
            <a:off x="0" y="4876920"/>
            <a:ext cx="624852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AutoShape 12"/>
          <p:cNvSpPr/>
          <p:nvPr/>
        </p:nvSpPr>
        <p:spPr>
          <a:xfrm rot="16200000">
            <a:off x="704520" y="5352840"/>
            <a:ext cx="819360" cy="266760"/>
          </a:xfrm>
          <a:prstGeom prst="rightArrow">
            <a:avLst>
              <a:gd name="adj1" fmla="val 50000"/>
              <a:gd name="adj2" fmla="val 76788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AutoShape 13"/>
          <p:cNvSpPr/>
          <p:nvPr/>
        </p:nvSpPr>
        <p:spPr>
          <a:xfrm rot="20251200">
            <a:off x="1790640" y="5314680"/>
            <a:ext cx="838440" cy="266760"/>
          </a:xfrm>
          <a:prstGeom prst="rightArrow">
            <a:avLst>
              <a:gd name="adj1" fmla="val 50000"/>
              <a:gd name="adj2" fmla="val 78576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AutoShape 14"/>
          <p:cNvSpPr/>
          <p:nvPr/>
        </p:nvSpPr>
        <p:spPr>
          <a:xfrm rot="1073400">
            <a:off x="3238560" y="5391000"/>
            <a:ext cx="819000" cy="266760"/>
          </a:xfrm>
          <a:prstGeom prst="rightArrow">
            <a:avLst>
              <a:gd name="adj1" fmla="val 50000"/>
              <a:gd name="adj2" fmla="val 76754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AutoShape 15"/>
          <p:cNvSpPr/>
          <p:nvPr/>
        </p:nvSpPr>
        <p:spPr>
          <a:xfrm rot="4252200">
            <a:off x="4666680" y="5371920"/>
            <a:ext cx="666720" cy="266760"/>
          </a:xfrm>
          <a:prstGeom prst="rightArrow">
            <a:avLst>
              <a:gd name="adj1" fmla="val 50000"/>
              <a:gd name="adj2" fmla="val 62483"/>
            </a:avLst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16"/>
          <p:cNvSpPr/>
          <p:nvPr/>
        </p:nvSpPr>
        <p:spPr>
          <a:xfrm>
            <a:off x="304920" y="6076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your best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Oval 17"/>
          <p:cNvSpPr/>
          <p:nvPr/>
        </p:nvSpPr>
        <p:spPr>
          <a:xfrm>
            <a:off x="1341360" y="2624040"/>
            <a:ext cx="109440" cy="1098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AutoShape 18"/>
          <p:cNvSpPr/>
          <p:nvPr/>
        </p:nvSpPr>
        <p:spPr>
          <a:xfrm>
            <a:off x="743040" y="4857840"/>
            <a:ext cx="799920" cy="1238040"/>
          </a:xfrm>
          <a:custGeom>
            <a:avLst/>
            <a:gdLst>
              <a:gd name="textAreaLeft" fmla="*/ 51840 w 799920"/>
              <a:gd name="textAreaRight" fmla="*/ 748080 w 799920"/>
              <a:gd name="textAreaTop" fmla="*/ 51840 h 1238040"/>
              <a:gd name="textAreaBottom" fmla="*/ 1186200 h 1238040"/>
            </a:gdLst>
            <a:ahLst/>
            <a:rect l="textAreaLeft" t="textAreaTop" r="textAreaRight" b="textAreaBottom"/>
            <a:pathLst>
              <a:path w="21600" h="33425">
                <a:moveTo>
                  <a:pt x="0" y="0"/>
                </a:moveTo>
                <a:lnTo>
                  <a:pt x="21600" y="0"/>
                </a:lnTo>
                <a:lnTo>
                  <a:pt x="21600" y="33425"/>
                </a:lnTo>
                <a:lnTo>
                  <a:pt x="0" y="33425"/>
                </a:lnTo>
                <a:close/>
              </a:path>
              <a:path fill="lightenLess" w="21600" h="334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425">
                <a:moveTo>
                  <a:pt x="21600" y="0"/>
                </a:moveTo>
                <a:lnTo>
                  <a:pt x="21600" y="33425"/>
                </a:lnTo>
                <a:lnTo>
                  <a:pt x="20200" y="32025"/>
                </a:lnTo>
                <a:lnTo>
                  <a:pt x="20200" y="1400"/>
                </a:lnTo>
                <a:close/>
              </a:path>
              <a:path fill="darkenLess" w="21600" h="33425">
                <a:moveTo>
                  <a:pt x="21600" y="33425"/>
                </a:moveTo>
                <a:lnTo>
                  <a:pt x="0" y="33425"/>
                </a:lnTo>
                <a:lnTo>
                  <a:pt x="1400" y="32025"/>
                </a:lnTo>
                <a:lnTo>
                  <a:pt x="20200" y="32025"/>
                </a:lnTo>
                <a:close/>
              </a:path>
              <a:path fill="lighten" w="21600" h="33425">
                <a:moveTo>
                  <a:pt x="0" y="33425"/>
                </a:moveTo>
                <a:lnTo>
                  <a:pt x="0" y="0"/>
                </a:lnTo>
                <a:lnTo>
                  <a:pt x="1400" y="1400"/>
                </a:lnTo>
                <a:lnTo>
                  <a:pt x="1400" y="3202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AutoShape 19"/>
          <p:cNvSpPr/>
          <p:nvPr/>
        </p:nvSpPr>
        <p:spPr>
          <a:xfrm>
            <a:off x="1619280" y="4876920"/>
            <a:ext cx="1162080" cy="1181160"/>
          </a:xfrm>
          <a:custGeom>
            <a:avLst/>
            <a:gdLst>
              <a:gd name="textAreaLeft" fmla="*/ 75240 w 1162080"/>
              <a:gd name="textAreaRight" fmla="*/ 1086840 w 1162080"/>
              <a:gd name="textAreaTop" fmla="*/ 75240 h 1181160"/>
              <a:gd name="textAreaBottom" fmla="*/ 1105920 h 1181160"/>
            </a:gdLst>
            <a:ahLst/>
            <a:rect l="textAreaLeft" t="textAreaTop" r="textAreaRight" b="textAreaBottom"/>
            <a:pathLst>
              <a:path w="21600" h="21955">
                <a:moveTo>
                  <a:pt x="0" y="0"/>
                </a:moveTo>
                <a:lnTo>
                  <a:pt x="21600" y="0"/>
                </a:lnTo>
                <a:lnTo>
                  <a:pt x="21600" y="21955"/>
                </a:lnTo>
                <a:lnTo>
                  <a:pt x="0" y="21955"/>
                </a:lnTo>
                <a:close/>
              </a:path>
              <a:path fill="lightenLess" w="21600" h="21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55">
                <a:moveTo>
                  <a:pt x="21600" y="0"/>
                </a:moveTo>
                <a:lnTo>
                  <a:pt x="21600" y="21955"/>
                </a:lnTo>
                <a:lnTo>
                  <a:pt x="20200" y="20555"/>
                </a:lnTo>
                <a:lnTo>
                  <a:pt x="20200" y="1400"/>
                </a:lnTo>
                <a:close/>
              </a:path>
              <a:path fill="darkenLess" w="21600" h="21955">
                <a:moveTo>
                  <a:pt x="21600" y="21955"/>
                </a:moveTo>
                <a:lnTo>
                  <a:pt x="0" y="21955"/>
                </a:lnTo>
                <a:lnTo>
                  <a:pt x="1400" y="20555"/>
                </a:lnTo>
                <a:lnTo>
                  <a:pt x="20200" y="20555"/>
                </a:lnTo>
                <a:close/>
              </a:path>
              <a:path fill="lighten" w="21600" h="21955">
                <a:moveTo>
                  <a:pt x="0" y="21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5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AutoShape 20"/>
          <p:cNvSpPr/>
          <p:nvPr/>
        </p:nvSpPr>
        <p:spPr>
          <a:xfrm>
            <a:off x="3067200" y="4896000"/>
            <a:ext cx="1180800" cy="1143000"/>
          </a:xfrm>
          <a:custGeom>
            <a:avLst/>
            <a:gdLst>
              <a:gd name="textAreaLeft" fmla="*/ 73800 w 1180800"/>
              <a:gd name="textAreaRight" fmla="*/ 1107000 w 1180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2314" h="21600">
                <a:moveTo>
                  <a:pt x="0" y="0"/>
                </a:moveTo>
                <a:lnTo>
                  <a:pt x="22314" y="0"/>
                </a:lnTo>
                <a:lnTo>
                  <a:pt x="22314" y="21600"/>
                </a:lnTo>
                <a:lnTo>
                  <a:pt x="0" y="21600"/>
                </a:lnTo>
                <a:close/>
              </a:path>
              <a:path fill="lightenLess" w="22314" h="21600">
                <a:moveTo>
                  <a:pt x="0" y="0"/>
                </a:moveTo>
                <a:lnTo>
                  <a:pt x="22314" y="0"/>
                </a:lnTo>
                <a:lnTo>
                  <a:pt x="20914" y="1400"/>
                </a:lnTo>
                <a:lnTo>
                  <a:pt x="1400" y="1400"/>
                </a:lnTo>
                <a:close/>
              </a:path>
              <a:path fill="darken" w="22314" h="21600">
                <a:moveTo>
                  <a:pt x="22314" y="0"/>
                </a:moveTo>
                <a:lnTo>
                  <a:pt x="22314" y="21600"/>
                </a:lnTo>
                <a:lnTo>
                  <a:pt x="20914" y="20200"/>
                </a:lnTo>
                <a:lnTo>
                  <a:pt x="20914" y="1400"/>
                </a:lnTo>
                <a:close/>
              </a:path>
              <a:path fill="darkenLess" w="22314" h="21600">
                <a:moveTo>
                  <a:pt x="22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14" y="20200"/>
                </a:lnTo>
                <a:close/>
              </a:path>
              <a:path fill="lighten" w="22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AutoShape 21"/>
          <p:cNvSpPr/>
          <p:nvPr/>
        </p:nvSpPr>
        <p:spPr>
          <a:xfrm>
            <a:off x="4495680" y="4838760"/>
            <a:ext cx="1123920" cy="1219320"/>
          </a:xfrm>
          <a:custGeom>
            <a:avLst/>
            <a:gdLst>
              <a:gd name="textAreaLeft" fmla="*/ 72720 w 1123920"/>
              <a:gd name="textAreaRight" fmla="*/ 1051200 w 1123920"/>
              <a:gd name="textAreaTop" fmla="*/ 72720 h 1219320"/>
              <a:gd name="textAreaBottom" fmla="*/ 1146600 h 1219320"/>
            </a:gdLst>
            <a:ahLst/>
            <a:rect l="textAreaLeft" t="textAreaTop" r="textAreaRight" b="textAreaBottom"/>
            <a:pathLst>
              <a:path w="21600" h="23433">
                <a:moveTo>
                  <a:pt x="0" y="0"/>
                </a:moveTo>
                <a:lnTo>
                  <a:pt x="21600" y="0"/>
                </a:lnTo>
                <a:lnTo>
                  <a:pt x="21600" y="23433"/>
                </a:lnTo>
                <a:lnTo>
                  <a:pt x="0" y="23433"/>
                </a:lnTo>
                <a:close/>
              </a:path>
              <a:path fill="lightenLess" w="21600" h="234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33">
                <a:moveTo>
                  <a:pt x="21600" y="0"/>
                </a:moveTo>
                <a:lnTo>
                  <a:pt x="21600" y="23433"/>
                </a:lnTo>
                <a:lnTo>
                  <a:pt x="20200" y="22033"/>
                </a:lnTo>
                <a:lnTo>
                  <a:pt x="20200" y="1400"/>
                </a:lnTo>
                <a:close/>
              </a:path>
              <a:path fill="darkenLess" w="21600" h="23433">
                <a:moveTo>
                  <a:pt x="21600" y="23433"/>
                </a:moveTo>
                <a:lnTo>
                  <a:pt x="0" y="23433"/>
                </a:lnTo>
                <a:lnTo>
                  <a:pt x="1400" y="22033"/>
                </a:lnTo>
                <a:lnTo>
                  <a:pt x="20200" y="22033"/>
                </a:lnTo>
                <a:close/>
              </a:path>
              <a:path fill="lighten" w="21600" h="23433">
                <a:moveTo>
                  <a:pt x="0" y="234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3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2"/>
          <p:cNvSpPr/>
          <p:nvPr/>
        </p:nvSpPr>
        <p:spPr>
          <a:xfrm>
            <a:off x="5772240" y="2895480"/>
            <a:ext cx="1162080" cy="762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3"/>
          <p:cNvSpPr/>
          <p:nvPr/>
        </p:nvSpPr>
        <p:spPr>
          <a:xfrm>
            <a:off x="6934320" y="2895480"/>
            <a:ext cx="11620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WordArt 4"/>
          <p:cNvSpPr txBox="1"/>
          <p:nvPr/>
        </p:nvSpPr>
        <p:spPr>
          <a:xfrm>
            <a:off x="5878440" y="3048120"/>
            <a:ext cx="36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58" name="WordArt 5"/>
          <p:cNvSpPr txBox="1"/>
          <p:nvPr/>
        </p:nvSpPr>
        <p:spPr>
          <a:xfrm>
            <a:off x="7642080" y="3029040"/>
            <a:ext cx="36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59" name="Rectangle 6"/>
          <p:cNvSpPr/>
          <p:nvPr/>
        </p:nvSpPr>
        <p:spPr>
          <a:xfrm>
            <a:off x="781200" y="2895480"/>
            <a:ext cx="1180800" cy="762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7"/>
          <p:cNvSpPr/>
          <p:nvPr/>
        </p:nvSpPr>
        <p:spPr>
          <a:xfrm>
            <a:off x="1962000" y="2895480"/>
            <a:ext cx="118116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WordArt 8"/>
          <p:cNvSpPr txBox="1"/>
          <p:nvPr/>
        </p:nvSpPr>
        <p:spPr>
          <a:xfrm>
            <a:off x="887400" y="3029040"/>
            <a:ext cx="36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62" name="WordArt 9"/>
          <p:cNvSpPr txBox="1"/>
          <p:nvPr/>
        </p:nvSpPr>
        <p:spPr>
          <a:xfrm>
            <a:off x="2631960" y="3029040"/>
            <a:ext cx="36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963" name="Group 10"/>
          <p:cNvGrpSpPr/>
          <p:nvPr/>
        </p:nvGrpSpPr>
        <p:grpSpPr>
          <a:xfrm>
            <a:off x="3753000" y="3075120"/>
            <a:ext cx="1387440" cy="419040"/>
            <a:chOff x="3753000" y="3075120"/>
            <a:chExt cx="1387440" cy="419040"/>
          </a:xfrm>
        </p:grpSpPr>
        <p:sp>
          <p:nvSpPr>
            <p:cNvPr id="964" name="Rectangle 11"/>
            <p:cNvSpPr/>
            <p:nvPr/>
          </p:nvSpPr>
          <p:spPr>
            <a:xfrm>
              <a:off x="3753000" y="3075120"/>
              <a:ext cx="1387440" cy="4190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WordArt 12"/>
            <p:cNvSpPr txBox="1"/>
            <p:nvPr/>
          </p:nvSpPr>
          <p:spPr>
            <a:xfrm>
              <a:off x="3857760" y="3142440"/>
              <a:ext cx="1187280" cy="26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IRON CORE</a:t>
              </a:r>
              <a:endParaRPr b="0" lang="en-US" sz="3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66" name="Group 13"/>
          <p:cNvGrpSpPr/>
          <p:nvPr/>
        </p:nvGrpSpPr>
        <p:grpSpPr>
          <a:xfrm>
            <a:off x="5151600" y="2921760"/>
            <a:ext cx="583560" cy="748080"/>
            <a:chOff x="5151600" y="2921760"/>
            <a:chExt cx="583560" cy="748080"/>
          </a:xfrm>
        </p:grpSpPr>
        <p:sp>
          <p:nvSpPr>
            <p:cNvPr id="967" name="Freeform 14"/>
            <p:cNvSpPr/>
            <p:nvPr/>
          </p:nvSpPr>
          <p:spPr>
            <a:xfrm flipH="1" flipV="1" rot="19621800">
              <a:off x="5404320" y="3451680"/>
              <a:ext cx="165240" cy="1652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Freeform 15"/>
            <p:cNvSpPr/>
            <p:nvPr/>
          </p:nvSpPr>
          <p:spPr>
            <a:xfrm flipH="1" flipV="1" rot="18212400">
              <a:off x="5431680" y="2959920"/>
              <a:ext cx="165600" cy="165240"/>
            </a:xfrm>
            <a:custGeom>
              <a:avLst/>
              <a:gdLst>
                <a:gd name="textAreaLeft" fmla="*/ 360 w 165600"/>
                <a:gd name="textAreaRight" fmla="*/ 166320 w 16560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Freeform 16"/>
            <p:cNvSpPr/>
            <p:nvPr/>
          </p:nvSpPr>
          <p:spPr>
            <a:xfrm flipV="1" rot="13687800">
              <a:off x="5493600" y="3223440"/>
              <a:ext cx="165240" cy="1656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360 h 165600"/>
                <a:gd name="textAreaBottom" fmla="*/ 166320 h 16560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Freeform 17"/>
            <p:cNvSpPr/>
            <p:nvPr/>
          </p:nvSpPr>
          <p:spPr>
            <a:xfrm flipV="1" rot="11578200">
              <a:off x="5178600" y="2937960"/>
              <a:ext cx="164880" cy="1652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8"/>
            <p:cNvSpPr/>
            <p:nvPr/>
          </p:nvSpPr>
          <p:spPr>
            <a:xfrm flipH="1" flipV="1" rot="21078600">
              <a:off x="5189040" y="3493080"/>
              <a:ext cx="165240" cy="16452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-360 h 164520"/>
                <a:gd name="textAreaBottom" fmla="*/ 164520 h 16452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Line 19"/>
            <p:cNvSpPr/>
            <p:nvPr/>
          </p:nvSpPr>
          <p:spPr>
            <a:xfrm flipH="1">
              <a:off x="5170320" y="3301920"/>
              <a:ext cx="56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20"/>
            <p:cNvSpPr/>
            <p:nvPr/>
          </p:nvSpPr>
          <p:spPr>
            <a:xfrm>
              <a:off x="5167440" y="2927520"/>
              <a:ext cx="549000" cy="1587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46" h="100">
                  <a:moveTo>
                    <a:pt x="346" y="0"/>
                  </a:moveTo>
                  <a:cubicBezTo>
                    <a:pt x="314" y="3"/>
                    <a:pt x="213" y="2"/>
                    <a:pt x="155" y="19"/>
                  </a:cubicBezTo>
                  <a:cubicBezTo>
                    <a:pt x="97" y="36"/>
                    <a:pt x="32" y="83"/>
                    <a:pt x="0" y="1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21"/>
            <p:cNvSpPr/>
            <p:nvPr/>
          </p:nvSpPr>
          <p:spPr>
            <a:xfrm flipV="1">
              <a:off x="5181480" y="3506040"/>
              <a:ext cx="549360" cy="1587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-360 h 158760"/>
                <a:gd name="textAreaBottom" fmla="*/ 158760 h 158760"/>
              </a:gdLst>
              <a:ahLst/>
              <a:rect l="textAreaLeft" t="textAreaTop" r="textAreaRight" b="textAreaBottom"/>
              <a:pathLst>
                <a:path w="346" h="100">
                  <a:moveTo>
                    <a:pt x="346" y="0"/>
                  </a:moveTo>
                  <a:cubicBezTo>
                    <a:pt x="314" y="3"/>
                    <a:pt x="213" y="2"/>
                    <a:pt x="155" y="19"/>
                  </a:cubicBezTo>
                  <a:cubicBezTo>
                    <a:pt x="97" y="36"/>
                    <a:pt x="32" y="83"/>
                    <a:pt x="0" y="1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22"/>
            <p:cNvSpPr/>
            <p:nvPr/>
          </p:nvSpPr>
          <p:spPr>
            <a:xfrm>
              <a:off x="5180040" y="3029040"/>
              <a:ext cx="549360" cy="1587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46" h="100">
                  <a:moveTo>
                    <a:pt x="346" y="0"/>
                  </a:moveTo>
                  <a:cubicBezTo>
                    <a:pt x="314" y="3"/>
                    <a:pt x="213" y="2"/>
                    <a:pt x="155" y="19"/>
                  </a:cubicBezTo>
                  <a:cubicBezTo>
                    <a:pt x="97" y="36"/>
                    <a:pt x="32" y="83"/>
                    <a:pt x="0" y="1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23"/>
            <p:cNvSpPr/>
            <p:nvPr/>
          </p:nvSpPr>
          <p:spPr>
            <a:xfrm flipV="1">
              <a:off x="5151600" y="3390120"/>
              <a:ext cx="549000" cy="1587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-360 h 158760"/>
                <a:gd name="textAreaBottom" fmla="*/ 158760 h 158760"/>
              </a:gdLst>
              <a:ahLst/>
              <a:rect l="textAreaLeft" t="textAreaTop" r="textAreaRight" b="textAreaBottom"/>
              <a:pathLst>
                <a:path w="346" h="100">
                  <a:moveTo>
                    <a:pt x="346" y="0"/>
                  </a:moveTo>
                  <a:cubicBezTo>
                    <a:pt x="314" y="3"/>
                    <a:pt x="213" y="2"/>
                    <a:pt x="155" y="19"/>
                  </a:cubicBezTo>
                  <a:cubicBezTo>
                    <a:pt x="97" y="36"/>
                    <a:pt x="32" y="83"/>
                    <a:pt x="0" y="1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24"/>
            <p:cNvSpPr/>
            <p:nvPr/>
          </p:nvSpPr>
          <p:spPr>
            <a:xfrm flipV="1" rot="10800000">
              <a:off x="5178240" y="3149640"/>
              <a:ext cx="556920" cy="10008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360 h 100080"/>
                <a:gd name="textAreaBottom" fmla="*/ 100800 h 100080"/>
              </a:gdLst>
              <a:ahLst/>
              <a:rect l="textAreaLeft" t="textAreaTop" r="textAreaRight" b="textAreaBottom"/>
              <a:pathLst>
                <a:path w="351" h="63">
                  <a:moveTo>
                    <a:pt x="0" y="0"/>
                  </a:moveTo>
                  <a:cubicBezTo>
                    <a:pt x="20" y="1"/>
                    <a:pt x="88" y="3"/>
                    <a:pt x="122" y="6"/>
                  </a:cubicBezTo>
                  <a:cubicBezTo>
                    <a:pt x="156" y="9"/>
                    <a:pt x="166" y="7"/>
                    <a:pt x="204" y="16"/>
                  </a:cubicBezTo>
                  <a:cubicBezTo>
                    <a:pt x="242" y="25"/>
                    <a:pt x="321" y="53"/>
                    <a:pt x="351" y="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25"/>
            <p:cNvSpPr/>
            <p:nvPr/>
          </p:nvSpPr>
          <p:spPr>
            <a:xfrm flipH="1" flipV="1">
              <a:off x="5165640" y="3340080"/>
              <a:ext cx="557280" cy="100080"/>
            </a:xfrm>
            <a:custGeom>
              <a:avLst/>
              <a:gdLst>
                <a:gd name="textAreaLeft" fmla="*/ 360 w 557280"/>
                <a:gd name="textAreaRight" fmla="*/ 558000 w 557280"/>
                <a:gd name="textAreaTop" fmla="*/ 360 h 100080"/>
                <a:gd name="textAreaBottom" fmla="*/ 100800 h 100080"/>
              </a:gdLst>
              <a:ahLst/>
              <a:rect l="textAreaLeft" t="textAreaTop" r="textAreaRight" b="textAreaBottom"/>
              <a:pathLst>
                <a:path w="351" h="63">
                  <a:moveTo>
                    <a:pt x="0" y="0"/>
                  </a:moveTo>
                  <a:cubicBezTo>
                    <a:pt x="20" y="1"/>
                    <a:pt x="88" y="3"/>
                    <a:pt x="122" y="6"/>
                  </a:cubicBezTo>
                  <a:cubicBezTo>
                    <a:pt x="156" y="9"/>
                    <a:pt x="166" y="7"/>
                    <a:pt x="204" y="16"/>
                  </a:cubicBezTo>
                  <a:cubicBezTo>
                    <a:pt x="242" y="25"/>
                    <a:pt x="321" y="53"/>
                    <a:pt x="351" y="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Group 26"/>
          <p:cNvGrpSpPr/>
          <p:nvPr/>
        </p:nvGrpSpPr>
        <p:grpSpPr>
          <a:xfrm>
            <a:off x="3149640" y="2790000"/>
            <a:ext cx="603360" cy="981720"/>
            <a:chOff x="3149640" y="2790000"/>
            <a:chExt cx="603360" cy="981720"/>
          </a:xfrm>
        </p:grpSpPr>
        <p:sp>
          <p:nvSpPr>
            <p:cNvPr id="980" name="Freeform 27"/>
            <p:cNvSpPr/>
            <p:nvPr/>
          </p:nvSpPr>
          <p:spPr>
            <a:xfrm flipH="1" flipV="1">
              <a:off x="3171960" y="3490920"/>
              <a:ext cx="581040" cy="155520"/>
            </a:xfrm>
            <a:custGeom>
              <a:avLst/>
              <a:gdLst>
                <a:gd name="textAreaLeft" fmla="*/ 360 w 581040"/>
                <a:gd name="textAreaRight" fmla="*/ 581760 w 581040"/>
                <a:gd name="textAreaTop" fmla="*/ 360 h 155520"/>
                <a:gd name="textAreaBottom" fmla="*/ 156240 h 155520"/>
              </a:gdLst>
              <a:ahLst/>
              <a:rect l="textAreaLeft" t="textAreaTop" r="textAreaRight" b="textAreaBottom"/>
              <a:pathLst>
                <a:path w="346" h="100">
                  <a:moveTo>
                    <a:pt x="346" y="0"/>
                  </a:moveTo>
                  <a:cubicBezTo>
                    <a:pt x="314" y="3"/>
                    <a:pt x="213" y="2"/>
                    <a:pt x="155" y="19"/>
                  </a:cubicBezTo>
                  <a:cubicBezTo>
                    <a:pt x="97" y="36"/>
                    <a:pt x="32" y="83"/>
                    <a:pt x="0" y="1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8"/>
            <p:cNvSpPr/>
            <p:nvPr/>
          </p:nvSpPr>
          <p:spPr>
            <a:xfrm>
              <a:off x="3176640" y="2900520"/>
              <a:ext cx="560160" cy="17928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353" h="113">
                  <a:moveTo>
                    <a:pt x="0" y="0"/>
                  </a:moveTo>
                  <a:cubicBezTo>
                    <a:pt x="32" y="3"/>
                    <a:pt x="132" y="0"/>
                    <a:pt x="191" y="19"/>
                  </a:cubicBezTo>
                  <a:cubicBezTo>
                    <a:pt x="250" y="38"/>
                    <a:pt x="319" y="94"/>
                    <a:pt x="353" y="1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29"/>
            <p:cNvSpPr/>
            <p:nvPr/>
          </p:nvSpPr>
          <p:spPr>
            <a:xfrm>
              <a:off x="3152880" y="3295800"/>
              <a:ext cx="587160" cy="28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70" h="2">
                  <a:moveTo>
                    <a:pt x="370" y="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30"/>
            <p:cNvSpPr/>
            <p:nvPr/>
          </p:nvSpPr>
          <p:spPr>
            <a:xfrm>
              <a:off x="3165480" y="3000240"/>
              <a:ext cx="565200" cy="1573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368" h="105">
                  <a:moveTo>
                    <a:pt x="0" y="0"/>
                  </a:moveTo>
                  <a:cubicBezTo>
                    <a:pt x="35" y="4"/>
                    <a:pt x="152" y="7"/>
                    <a:pt x="213" y="24"/>
                  </a:cubicBezTo>
                  <a:cubicBezTo>
                    <a:pt x="274" y="41"/>
                    <a:pt x="336" y="88"/>
                    <a:pt x="368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31"/>
            <p:cNvSpPr/>
            <p:nvPr/>
          </p:nvSpPr>
          <p:spPr>
            <a:xfrm flipH="1" flipV="1">
              <a:off x="3161520" y="3410640"/>
              <a:ext cx="577800" cy="158760"/>
            </a:xfrm>
            <a:custGeom>
              <a:avLst/>
              <a:gdLst>
                <a:gd name="textAreaLeft" fmla="*/ -360 w 577800"/>
                <a:gd name="textAreaRight" fmla="*/ 577800 w 577800"/>
                <a:gd name="textAreaTop" fmla="*/ -360 h 158760"/>
                <a:gd name="textAreaBottom" fmla="*/ 158760 h 158760"/>
              </a:gdLst>
              <a:ahLst/>
              <a:rect l="textAreaLeft" t="textAreaTop" r="textAreaRight" b="textAreaBottom"/>
              <a:pathLst>
                <a:path w="346" h="100">
                  <a:moveTo>
                    <a:pt x="346" y="0"/>
                  </a:moveTo>
                  <a:cubicBezTo>
                    <a:pt x="314" y="3"/>
                    <a:pt x="213" y="2"/>
                    <a:pt x="155" y="19"/>
                  </a:cubicBezTo>
                  <a:cubicBezTo>
                    <a:pt x="97" y="36"/>
                    <a:pt x="32" y="83"/>
                    <a:pt x="0" y="1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32"/>
            <p:cNvSpPr/>
            <p:nvPr/>
          </p:nvSpPr>
          <p:spPr>
            <a:xfrm>
              <a:off x="3165480" y="3133800"/>
              <a:ext cx="557280" cy="100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51" h="63">
                  <a:moveTo>
                    <a:pt x="0" y="0"/>
                  </a:moveTo>
                  <a:cubicBezTo>
                    <a:pt x="20" y="1"/>
                    <a:pt x="88" y="3"/>
                    <a:pt x="122" y="6"/>
                  </a:cubicBezTo>
                  <a:cubicBezTo>
                    <a:pt x="156" y="9"/>
                    <a:pt x="166" y="7"/>
                    <a:pt x="204" y="16"/>
                  </a:cubicBezTo>
                  <a:cubicBezTo>
                    <a:pt x="242" y="25"/>
                    <a:pt x="321" y="53"/>
                    <a:pt x="351" y="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3"/>
            <p:cNvSpPr/>
            <p:nvPr/>
          </p:nvSpPr>
          <p:spPr>
            <a:xfrm flipV="1">
              <a:off x="3184560" y="3340080"/>
              <a:ext cx="557280" cy="100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360 h 100080"/>
                <a:gd name="textAreaBottom" fmla="*/ 100800 h 100080"/>
              </a:gdLst>
              <a:ahLst/>
              <a:rect l="textAreaLeft" t="textAreaTop" r="textAreaRight" b="textAreaBottom"/>
              <a:pathLst>
                <a:path w="351" h="63">
                  <a:moveTo>
                    <a:pt x="0" y="0"/>
                  </a:moveTo>
                  <a:cubicBezTo>
                    <a:pt x="20" y="1"/>
                    <a:pt x="88" y="3"/>
                    <a:pt x="122" y="6"/>
                  </a:cubicBezTo>
                  <a:cubicBezTo>
                    <a:pt x="156" y="9"/>
                    <a:pt x="166" y="7"/>
                    <a:pt x="204" y="16"/>
                  </a:cubicBezTo>
                  <a:cubicBezTo>
                    <a:pt x="242" y="25"/>
                    <a:pt x="321" y="53"/>
                    <a:pt x="351" y="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4"/>
            <p:cNvSpPr/>
            <p:nvPr/>
          </p:nvSpPr>
          <p:spPr>
            <a:xfrm flipV="1" rot="13724400">
              <a:off x="3198240" y="282348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5"/>
            <p:cNvSpPr/>
            <p:nvPr/>
          </p:nvSpPr>
          <p:spPr>
            <a:xfrm flipV="1" rot="14185200">
              <a:off x="3389040" y="2952360"/>
              <a:ext cx="165240" cy="1645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-360 h 164520"/>
                <a:gd name="textAreaBottom" fmla="*/ 164520 h 16452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6"/>
            <p:cNvSpPr/>
            <p:nvPr/>
          </p:nvSpPr>
          <p:spPr>
            <a:xfrm flipV="1" rot="13663800">
              <a:off x="3183840" y="321516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7"/>
            <p:cNvSpPr/>
            <p:nvPr/>
          </p:nvSpPr>
          <p:spPr>
            <a:xfrm flipV="1" rot="12618600">
              <a:off x="3405960" y="344268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360 h 164880"/>
                <a:gd name="textAreaBottom" fmla="*/ 165600 h 1648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8"/>
            <p:cNvSpPr/>
            <p:nvPr/>
          </p:nvSpPr>
          <p:spPr>
            <a:xfrm flipV="1" rot="13803600">
              <a:off x="3193560" y="357192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-36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" name="WordArt 39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993" name="Text Box 40"/>
          <p:cNvSpPr/>
          <p:nvPr/>
        </p:nvSpPr>
        <p:spPr>
          <a:xfrm>
            <a:off x="571680" y="5359320"/>
            <a:ext cx="805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Ferromagne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erials concentr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gnetic lines of fo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5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7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WordArt 2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995" name="Text Box 3"/>
          <p:cNvSpPr/>
          <p:nvPr/>
        </p:nvSpPr>
        <p:spPr>
          <a:xfrm>
            <a:off x="3086280" y="12002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Kee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Group 4"/>
          <p:cNvGrpSpPr/>
          <p:nvPr/>
        </p:nvGrpSpPr>
        <p:grpSpPr>
          <a:xfrm>
            <a:off x="697320" y="2724840"/>
            <a:ext cx="1831320" cy="1990080"/>
            <a:chOff x="697320" y="2724840"/>
            <a:chExt cx="1831320" cy="1990080"/>
          </a:xfrm>
        </p:grpSpPr>
        <p:sp>
          <p:nvSpPr>
            <p:cNvPr id="997" name="Rectangle 5"/>
            <p:cNvSpPr/>
            <p:nvPr/>
          </p:nvSpPr>
          <p:spPr>
            <a:xfrm>
              <a:off x="708120" y="4381560"/>
              <a:ext cx="68256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AutoShape 6"/>
            <p:cNvSpPr/>
            <p:nvPr/>
          </p:nvSpPr>
          <p:spPr>
            <a:xfrm rot="21560400">
              <a:off x="707760" y="2734920"/>
              <a:ext cx="1809720" cy="1874880"/>
            </a:xfrm>
            <a:custGeom>
              <a:avLst/>
              <a:gdLst>
                <a:gd name="textAreaLeft" fmla="*/ 0 w 1809720"/>
                <a:gd name="textAreaRight" fmla="*/ 1810080 w 1809720"/>
                <a:gd name="textAreaTop" fmla="*/ 0 h 1874880"/>
                <a:gd name="textAreaBottom" fmla="*/ 1079640 h 18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35" y="12928"/>
                  </a:moveTo>
                  <a:cubicBezTo>
                    <a:pt x="5546" y="12256"/>
                    <a:pt x="5398" y="11531"/>
                    <a:pt x="5398" y="10800"/>
                  </a:cubicBezTo>
                  <a:cubicBezTo>
                    <a:pt x="5398" y="7816"/>
                    <a:pt x="7816" y="5398"/>
                    <a:pt x="10800" y="5398"/>
                  </a:cubicBezTo>
                  <a:cubicBezTo>
                    <a:pt x="13783" y="5398"/>
                    <a:pt x="16202" y="7816"/>
                    <a:pt x="16202" y="10800"/>
                  </a:cubicBezTo>
                  <a:cubicBezTo>
                    <a:pt x="16202" y="11531"/>
                    <a:pt x="16053" y="12256"/>
                    <a:pt x="15764" y="12928"/>
                  </a:cubicBezTo>
                  <a:lnTo>
                    <a:pt x="20725" y="15056"/>
                  </a:lnTo>
                  <a:cubicBezTo>
                    <a:pt x="21302" y="13711"/>
                    <a:pt x="21600" y="1226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263"/>
                    <a:pt x="297" y="13711"/>
                    <a:pt x="874" y="15056"/>
                  </a:cubicBezTo>
                  <a:lnTo>
                    <a:pt x="5835" y="12928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Freeform 7"/>
            <p:cNvSpPr/>
            <p:nvPr/>
          </p:nvSpPr>
          <p:spPr>
            <a:xfrm>
              <a:off x="1854360" y="3797280"/>
              <a:ext cx="631800" cy="882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Freeform 8"/>
            <p:cNvSpPr/>
            <p:nvPr/>
          </p:nvSpPr>
          <p:spPr>
            <a:xfrm flipH="1">
              <a:off x="732960" y="3791160"/>
              <a:ext cx="641160" cy="882360"/>
            </a:xfrm>
            <a:custGeom>
              <a:avLst/>
              <a:gdLst>
                <a:gd name="textAreaLeft" fmla="*/ -360 w 641160"/>
                <a:gd name="textAreaRight" fmla="*/ 641160 w 641160"/>
                <a:gd name="textAreaTop" fmla="*/ 0 h 882360"/>
                <a:gd name="textAreaBottom" fmla="*/ 882720 h 88236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WordArt 9"/>
            <p:cNvSpPr txBox="1"/>
            <p:nvPr/>
          </p:nvSpPr>
          <p:spPr>
            <a:xfrm rot="20821800">
              <a:off x="927000" y="4048200"/>
              <a:ext cx="2491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02" name="WordArt 10"/>
            <p:cNvSpPr txBox="1"/>
            <p:nvPr/>
          </p:nvSpPr>
          <p:spPr>
            <a:xfrm rot="676200">
              <a:off x="2065320" y="4036680"/>
              <a:ext cx="2491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003" name="Arc 11"/>
          <p:cNvSpPr/>
          <p:nvPr/>
        </p:nvSpPr>
        <p:spPr>
          <a:xfrm flipV="1">
            <a:off x="957240" y="4730760"/>
            <a:ext cx="1292400" cy="668160"/>
          </a:xfrm>
          <a:custGeom>
            <a:avLst/>
            <a:gdLst>
              <a:gd name="textAreaLeft" fmla="*/ 0 w 1292400"/>
              <a:gd name="textAreaRight" fmla="*/ 1292400 w 1292400"/>
              <a:gd name="textAreaTop" fmla="*/ 360 h 668160"/>
              <a:gd name="textAreaBottom" fmla="*/ 668880 h 66816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Arc 12"/>
          <p:cNvSpPr/>
          <p:nvPr/>
        </p:nvSpPr>
        <p:spPr>
          <a:xfrm flipV="1">
            <a:off x="1087560" y="4730040"/>
            <a:ext cx="1039680" cy="538200"/>
          </a:xfrm>
          <a:custGeom>
            <a:avLst/>
            <a:gdLst>
              <a:gd name="textAreaLeft" fmla="*/ 0 w 1039680"/>
              <a:gd name="textAreaRight" fmla="*/ 1040040 w 1039680"/>
              <a:gd name="textAreaTop" fmla="*/ -360 h 538200"/>
              <a:gd name="textAreaBottom" fmla="*/ 538200 h 53820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Arc 13"/>
          <p:cNvSpPr/>
          <p:nvPr/>
        </p:nvSpPr>
        <p:spPr>
          <a:xfrm flipV="1">
            <a:off x="1204920" y="4744440"/>
            <a:ext cx="816120" cy="422280"/>
          </a:xfrm>
          <a:custGeom>
            <a:avLst/>
            <a:gdLst>
              <a:gd name="textAreaLeft" fmla="*/ 0 w 816120"/>
              <a:gd name="textAreaRight" fmla="*/ 816480 w 816120"/>
              <a:gd name="textAreaTop" fmla="*/ -360 h 422280"/>
              <a:gd name="textAreaBottom" fmla="*/ 422280 h 42228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Arc 14"/>
          <p:cNvSpPr/>
          <p:nvPr/>
        </p:nvSpPr>
        <p:spPr>
          <a:xfrm flipV="1">
            <a:off x="1320840" y="4757040"/>
            <a:ext cx="592200" cy="306360"/>
          </a:xfrm>
          <a:custGeom>
            <a:avLst/>
            <a:gdLst/>
            <a:ahLst/>
            <a:rect l="l" t="t" r="r" b="b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Freeform 15"/>
          <p:cNvSpPr/>
          <p:nvPr/>
        </p:nvSpPr>
        <p:spPr>
          <a:xfrm>
            <a:off x="2730600" y="5645160"/>
            <a:ext cx="1741320" cy="77004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770040"/>
              <a:gd name="textAreaBottom" fmla="*/ 770400 h 770040"/>
            </a:gdLst>
            <a:ahLst/>
            <a:rect l="textAreaLeft" t="textAreaTop" r="textAreaRight" b="textAreaBottom"/>
            <a:pathLst>
              <a:path w="1097" h="485">
                <a:moveTo>
                  <a:pt x="0" y="0"/>
                </a:moveTo>
                <a:lnTo>
                  <a:pt x="1097" y="0"/>
                </a:lnTo>
                <a:lnTo>
                  <a:pt x="758" y="458"/>
                </a:lnTo>
                <a:lnTo>
                  <a:pt x="493" y="485"/>
                </a:lnTo>
                <a:lnTo>
                  <a:pt x="274" y="4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Group 16"/>
          <p:cNvGrpSpPr/>
          <p:nvPr/>
        </p:nvGrpSpPr>
        <p:grpSpPr>
          <a:xfrm>
            <a:off x="5762880" y="2724840"/>
            <a:ext cx="1831320" cy="1955160"/>
            <a:chOff x="5762880" y="2724840"/>
            <a:chExt cx="1831320" cy="1955160"/>
          </a:xfrm>
        </p:grpSpPr>
        <p:sp>
          <p:nvSpPr>
            <p:cNvPr id="1009" name="AutoShape 17"/>
            <p:cNvSpPr/>
            <p:nvPr/>
          </p:nvSpPr>
          <p:spPr>
            <a:xfrm rot="21560400">
              <a:off x="5773320" y="2734920"/>
              <a:ext cx="1809720" cy="1874880"/>
            </a:xfrm>
            <a:custGeom>
              <a:avLst/>
              <a:gdLst>
                <a:gd name="textAreaLeft" fmla="*/ 0 w 1809720"/>
                <a:gd name="textAreaRight" fmla="*/ 1810080 w 1809720"/>
                <a:gd name="textAreaTop" fmla="*/ 0 h 1874880"/>
                <a:gd name="textAreaBottom" fmla="*/ 1079640 h 18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35" y="12928"/>
                  </a:moveTo>
                  <a:cubicBezTo>
                    <a:pt x="5546" y="12256"/>
                    <a:pt x="5398" y="11531"/>
                    <a:pt x="5398" y="10800"/>
                  </a:cubicBezTo>
                  <a:cubicBezTo>
                    <a:pt x="5398" y="7816"/>
                    <a:pt x="7816" y="5398"/>
                    <a:pt x="10800" y="5398"/>
                  </a:cubicBezTo>
                  <a:cubicBezTo>
                    <a:pt x="13783" y="5398"/>
                    <a:pt x="16202" y="7816"/>
                    <a:pt x="16202" y="10800"/>
                  </a:cubicBezTo>
                  <a:cubicBezTo>
                    <a:pt x="16202" y="11531"/>
                    <a:pt x="16053" y="12256"/>
                    <a:pt x="15764" y="12928"/>
                  </a:cubicBezTo>
                  <a:lnTo>
                    <a:pt x="20725" y="15056"/>
                  </a:lnTo>
                  <a:cubicBezTo>
                    <a:pt x="21302" y="13711"/>
                    <a:pt x="21600" y="1226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263"/>
                    <a:pt x="297" y="13711"/>
                    <a:pt x="874" y="15056"/>
                  </a:cubicBezTo>
                  <a:lnTo>
                    <a:pt x="5835" y="12928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Freeform 18"/>
            <p:cNvSpPr/>
            <p:nvPr/>
          </p:nvSpPr>
          <p:spPr>
            <a:xfrm>
              <a:off x="6919920" y="3797280"/>
              <a:ext cx="631800" cy="882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Freeform 19"/>
            <p:cNvSpPr/>
            <p:nvPr/>
          </p:nvSpPr>
          <p:spPr>
            <a:xfrm flipH="1">
              <a:off x="5798520" y="3790800"/>
              <a:ext cx="641160" cy="882720"/>
            </a:xfrm>
            <a:custGeom>
              <a:avLst/>
              <a:gdLst>
                <a:gd name="textAreaLeft" fmla="*/ -360 w 641160"/>
                <a:gd name="textAreaRight" fmla="*/ 641160 w 6411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WordArt 20"/>
            <p:cNvSpPr txBox="1"/>
            <p:nvPr/>
          </p:nvSpPr>
          <p:spPr>
            <a:xfrm rot="20821800">
              <a:off x="5992560" y="4048200"/>
              <a:ext cx="2491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13" name="WordArt 21"/>
            <p:cNvSpPr txBox="1"/>
            <p:nvPr/>
          </p:nvSpPr>
          <p:spPr>
            <a:xfrm rot="676200">
              <a:off x="7130520" y="4037040"/>
              <a:ext cx="2494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014" name="Arc 22"/>
          <p:cNvSpPr/>
          <p:nvPr/>
        </p:nvSpPr>
        <p:spPr>
          <a:xfrm flipV="1">
            <a:off x="6051600" y="4761000"/>
            <a:ext cx="1292040" cy="668160"/>
          </a:xfrm>
          <a:custGeom>
            <a:avLst/>
            <a:gdLst>
              <a:gd name="textAreaLeft" fmla="*/ 0 w 1292040"/>
              <a:gd name="textAreaRight" fmla="*/ 1292400 w 1292040"/>
              <a:gd name="textAreaTop" fmla="*/ 360 h 668160"/>
              <a:gd name="textAreaBottom" fmla="*/ 668880 h 66816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Arc 23"/>
          <p:cNvSpPr/>
          <p:nvPr/>
        </p:nvSpPr>
        <p:spPr>
          <a:xfrm flipV="1">
            <a:off x="6181560" y="4760280"/>
            <a:ext cx="1040040" cy="538200"/>
          </a:xfrm>
          <a:custGeom>
            <a:avLst/>
            <a:gdLst>
              <a:gd name="textAreaLeft" fmla="*/ 0 w 1040040"/>
              <a:gd name="textAreaRight" fmla="*/ 1040400 w 1040040"/>
              <a:gd name="textAreaTop" fmla="*/ -360 h 538200"/>
              <a:gd name="textAreaBottom" fmla="*/ 538200 h 53820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Arc 24"/>
          <p:cNvSpPr/>
          <p:nvPr/>
        </p:nvSpPr>
        <p:spPr>
          <a:xfrm flipV="1">
            <a:off x="6299280" y="4774320"/>
            <a:ext cx="815760" cy="422280"/>
          </a:xfrm>
          <a:custGeom>
            <a:avLst/>
            <a:gdLst>
              <a:gd name="textAreaLeft" fmla="*/ 0 w 815760"/>
              <a:gd name="textAreaRight" fmla="*/ 816120 w 815760"/>
              <a:gd name="textAreaTop" fmla="*/ -360 h 422280"/>
              <a:gd name="textAreaBottom" fmla="*/ 422280 h 42228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Arc 25"/>
          <p:cNvSpPr/>
          <p:nvPr/>
        </p:nvSpPr>
        <p:spPr>
          <a:xfrm flipV="1">
            <a:off x="6415200" y="4787280"/>
            <a:ext cx="592200" cy="306360"/>
          </a:xfrm>
          <a:custGeom>
            <a:avLst/>
            <a:gdLst/>
            <a:ahLst/>
            <a:rect l="l" t="t" r="r" b="b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8" name="Picture 26" descr=""/>
          <p:cNvPicPr/>
          <p:nvPr/>
        </p:nvPicPr>
        <p:blipFill>
          <a:blip r:embed="rId1"/>
          <a:stretch/>
        </p:blipFill>
        <p:spPr>
          <a:xfrm>
            <a:off x="3166920" y="3549600"/>
            <a:ext cx="1940040" cy="3041640"/>
          </a:xfrm>
          <a:prstGeom prst="rect">
            <a:avLst/>
          </a:prstGeom>
          <a:ln w="0">
            <a:noFill/>
          </a:ln>
        </p:spPr>
      </p:pic>
      <p:grpSp>
        <p:nvGrpSpPr>
          <p:cNvPr id="1019" name="Group 27"/>
          <p:cNvGrpSpPr/>
          <p:nvPr/>
        </p:nvGrpSpPr>
        <p:grpSpPr>
          <a:xfrm>
            <a:off x="1905120" y="1523880"/>
            <a:ext cx="5105160" cy="1828800"/>
            <a:chOff x="1905120" y="1523880"/>
            <a:chExt cx="5105160" cy="1828800"/>
          </a:xfrm>
        </p:grpSpPr>
        <p:sp>
          <p:nvSpPr>
            <p:cNvPr id="1020" name="AutoShape 28"/>
            <p:cNvSpPr/>
            <p:nvPr/>
          </p:nvSpPr>
          <p:spPr>
            <a:xfrm>
              <a:off x="1905120" y="1523880"/>
              <a:ext cx="5105160" cy="1828800"/>
            </a:xfrm>
            <a:prstGeom prst="cloudCallout">
              <a:avLst>
                <a:gd name="adj1" fmla="val -18750"/>
                <a:gd name="adj2" fmla="val 8559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Text Box 29"/>
            <p:cNvSpPr/>
            <p:nvPr/>
          </p:nvSpPr>
          <p:spPr>
            <a:xfrm>
              <a:off x="2317680" y="1771560"/>
              <a:ext cx="464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Here we have two horseshoe magnets that are identical in field strength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WordArt 1026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grpSp>
        <p:nvGrpSpPr>
          <p:cNvPr id="1023" name="Group 1027"/>
          <p:cNvGrpSpPr/>
          <p:nvPr/>
        </p:nvGrpSpPr>
        <p:grpSpPr>
          <a:xfrm>
            <a:off x="697320" y="2724840"/>
            <a:ext cx="1831320" cy="1955160"/>
            <a:chOff x="697320" y="2724840"/>
            <a:chExt cx="1831320" cy="1955160"/>
          </a:xfrm>
        </p:grpSpPr>
        <p:sp>
          <p:nvSpPr>
            <p:cNvPr id="1024" name="AutoShape 1028"/>
            <p:cNvSpPr/>
            <p:nvPr/>
          </p:nvSpPr>
          <p:spPr>
            <a:xfrm rot="21560400">
              <a:off x="707760" y="2734920"/>
              <a:ext cx="1809720" cy="1874880"/>
            </a:xfrm>
            <a:custGeom>
              <a:avLst/>
              <a:gdLst>
                <a:gd name="textAreaLeft" fmla="*/ 0 w 1809720"/>
                <a:gd name="textAreaRight" fmla="*/ 1810080 w 1809720"/>
                <a:gd name="textAreaTop" fmla="*/ 0 h 1874880"/>
                <a:gd name="textAreaBottom" fmla="*/ 1079640 h 18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35" y="12928"/>
                  </a:moveTo>
                  <a:cubicBezTo>
                    <a:pt x="5546" y="12256"/>
                    <a:pt x="5398" y="11531"/>
                    <a:pt x="5398" y="10800"/>
                  </a:cubicBezTo>
                  <a:cubicBezTo>
                    <a:pt x="5398" y="7816"/>
                    <a:pt x="7816" y="5398"/>
                    <a:pt x="10800" y="5398"/>
                  </a:cubicBezTo>
                  <a:cubicBezTo>
                    <a:pt x="13783" y="5398"/>
                    <a:pt x="16202" y="7816"/>
                    <a:pt x="16202" y="10800"/>
                  </a:cubicBezTo>
                  <a:cubicBezTo>
                    <a:pt x="16202" y="11531"/>
                    <a:pt x="16053" y="12256"/>
                    <a:pt x="15764" y="12928"/>
                  </a:cubicBezTo>
                  <a:lnTo>
                    <a:pt x="20725" y="15056"/>
                  </a:lnTo>
                  <a:cubicBezTo>
                    <a:pt x="21302" y="13711"/>
                    <a:pt x="21600" y="1226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263"/>
                    <a:pt x="297" y="13711"/>
                    <a:pt x="874" y="15056"/>
                  </a:cubicBezTo>
                  <a:lnTo>
                    <a:pt x="5835" y="12928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Freeform 1029"/>
            <p:cNvSpPr/>
            <p:nvPr/>
          </p:nvSpPr>
          <p:spPr>
            <a:xfrm>
              <a:off x="1854360" y="3797280"/>
              <a:ext cx="631800" cy="882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Freeform 1030"/>
            <p:cNvSpPr/>
            <p:nvPr/>
          </p:nvSpPr>
          <p:spPr>
            <a:xfrm flipH="1">
              <a:off x="733320" y="3790800"/>
              <a:ext cx="641520" cy="882720"/>
            </a:xfrm>
            <a:custGeom>
              <a:avLst/>
              <a:gdLst>
                <a:gd name="textAreaLeft" fmla="*/ 360 w 641520"/>
                <a:gd name="textAreaRight" fmla="*/ 642240 w 6415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WordArt 1031"/>
            <p:cNvSpPr txBox="1"/>
            <p:nvPr/>
          </p:nvSpPr>
          <p:spPr>
            <a:xfrm rot="20821800">
              <a:off x="926640" y="4048200"/>
              <a:ext cx="2494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28" name="WordArt 1032"/>
            <p:cNvSpPr txBox="1"/>
            <p:nvPr/>
          </p:nvSpPr>
          <p:spPr>
            <a:xfrm rot="676200">
              <a:off x="2064960" y="4036680"/>
              <a:ext cx="2491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029" name="Arc 1033"/>
          <p:cNvSpPr/>
          <p:nvPr/>
        </p:nvSpPr>
        <p:spPr>
          <a:xfrm flipV="1">
            <a:off x="957240" y="4730760"/>
            <a:ext cx="1292400" cy="668160"/>
          </a:xfrm>
          <a:custGeom>
            <a:avLst/>
            <a:gdLst>
              <a:gd name="textAreaLeft" fmla="*/ 0 w 1292400"/>
              <a:gd name="textAreaRight" fmla="*/ 1292400 w 1292400"/>
              <a:gd name="textAreaTop" fmla="*/ 360 h 668160"/>
              <a:gd name="textAreaBottom" fmla="*/ 668880 h 66816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rc 1034"/>
          <p:cNvSpPr/>
          <p:nvPr/>
        </p:nvSpPr>
        <p:spPr>
          <a:xfrm flipV="1">
            <a:off x="1087560" y="4730040"/>
            <a:ext cx="1039680" cy="538200"/>
          </a:xfrm>
          <a:custGeom>
            <a:avLst/>
            <a:gdLst>
              <a:gd name="textAreaLeft" fmla="*/ 0 w 1039680"/>
              <a:gd name="textAreaRight" fmla="*/ 1040040 w 1039680"/>
              <a:gd name="textAreaTop" fmla="*/ -360 h 538200"/>
              <a:gd name="textAreaBottom" fmla="*/ 538200 h 53820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rc 1035"/>
          <p:cNvSpPr/>
          <p:nvPr/>
        </p:nvSpPr>
        <p:spPr>
          <a:xfrm flipV="1">
            <a:off x="1204920" y="4744440"/>
            <a:ext cx="816120" cy="422280"/>
          </a:xfrm>
          <a:custGeom>
            <a:avLst/>
            <a:gdLst>
              <a:gd name="textAreaLeft" fmla="*/ 0 w 816120"/>
              <a:gd name="textAreaRight" fmla="*/ 816480 w 816120"/>
              <a:gd name="textAreaTop" fmla="*/ -360 h 422280"/>
              <a:gd name="textAreaBottom" fmla="*/ 422280 h 42228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Arc 1036"/>
          <p:cNvSpPr/>
          <p:nvPr/>
        </p:nvSpPr>
        <p:spPr>
          <a:xfrm flipV="1">
            <a:off x="1320840" y="4757040"/>
            <a:ext cx="592200" cy="306360"/>
          </a:xfrm>
          <a:custGeom>
            <a:avLst/>
            <a:gdLst/>
            <a:ahLst/>
            <a:rect l="l" t="t" r="r" b="b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Group 1037"/>
          <p:cNvGrpSpPr/>
          <p:nvPr/>
        </p:nvGrpSpPr>
        <p:grpSpPr>
          <a:xfrm>
            <a:off x="5762880" y="2724840"/>
            <a:ext cx="1831320" cy="1955160"/>
            <a:chOff x="5762880" y="2724840"/>
            <a:chExt cx="1831320" cy="1955160"/>
          </a:xfrm>
        </p:grpSpPr>
        <p:sp>
          <p:nvSpPr>
            <p:cNvPr id="1034" name="AutoShape 1038"/>
            <p:cNvSpPr/>
            <p:nvPr/>
          </p:nvSpPr>
          <p:spPr>
            <a:xfrm rot="21560400">
              <a:off x="5773320" y="2734920"/>
              <a:ext cx="1809720" cy="1874880"/>
            </a:xfrm>
            <a:custGeom>
              <a:avLst/>
              <a:gdLst>
                <a:gd name="textAreaLeft" fmla="*/ 0 w 1809720"/>
                <a:gd name="textAreaRight" fmla="*/ 1810080 w 1809720"/>
                <a:gd name="textAreaTop" fmla="*/ 0 h 1874880"/>
                <a:gd name="textAreaBottom" fmla="*/ 1079640 h 18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35" y="12928"/>
                  </a:moveTo>
                  <a:cubicBezTo>
                    <a:pt x="5546" y="12256"/>
                    <a:pt x="5398" y="11531"/>
                    <a:pt x="5398" y="10800"/>
                  </a:cubicBezTo>
                  <a:cubicBezTo>
                    <a:pt x="5398" y="7816"/>
                    <a:pt x="7816" y="5398"/>
                    <a:pt x="10800" y="5398"/>
                  </a:cubicBezTo>
                  <a:cubicBezTo>
                    <a:pt x="13783" y="5398"/>
                    <a:pt x="16202" y="7816"/>
                    <a:pt x="16202" y="10800"/>
                  </a:cubicBezTo>
                  <a:cubicBezTo>
                    <a:pt x="16202" y="11531"/>
                    <a:pt x="16053" y="12256"/>
                    <a:pt x="15764" y="12928"/>
                  </a:cubicBezTo>
                  <a:lnTo>
                    <a:pt x="20725" y="15056"/>
                  </a:lnTo>
                  <a:cubicBezTo>
                    <a:pt x="21302" y="13711"/>
                    <a:pt x="21600" y="1226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263"/>
                    <a:pt x="297" y="13711"/>
                    <a:pt x="874" y="15056"/>
                  </a:cubicBezTo>
                  <a:lnTo>
                    <a:pt x="5835" y="12928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Freeform 1039"/>
            <p:cNvSpPr/>
            <p:nvPr/>
          </p:nvSpPr>
          <p:spPr>
            <a:xfrm>
              <a:off x="6919920" y="3797280"/>
              <a:ext cx="631800" cy="882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Freeform 1040"/>
            <p:cNvSpPr/>
            <p:nvPr/>
          </p:nvSpPr>
          <p:spPr>
            <a:xfrm flipH="1">
              <a:off x="5798520" y="3790800"/>
              <a:ext cx="641160" cy="882720"/>
            </a:xfrm>
            <a:custGeom>
              <a:avLst/>
              <a:gdLst>
                <a:gd name="textAreaLeft" fmla="*/ -360 w 641160"/>
                <a:gd name="textAreaRight" fmla="*/ 641160 w 6411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WordArt 1041"/>
            <p:cNvSpPr txBox="1"/>
            <p:nvPr/>
          </p:nvSpPr>
          <p:spPr>
            <a:xfrm rot="20821800">
              <a:off x="5992560" y="4048200"/>
              <a:ext cx="2491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38" name="WordArt 1042"/>
            <p:cNvSpPr txBox="1"/>
            <p:nvPr/>
          </p:nvSpPr>
          <p:spPr>
            <a:xfrm rot="676200">
              <a:off x="7130520" y="4037040"/>
              <a:ext cx="2494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039" name="Arc 1043"/>
          <p:cNvSpPr/>
          <p:nvPr/>
        </p:nvSpPr>
        <p:spPr>
          <a:xfrm flipV="1">
            <a:off x="6022800" y="4730760"/>
            <a:ext cx="1292400" cy="668160"/>
          </a:xfrm>
          <a:custGeom>
            <a:avLst/>
            <a:gdLst>
              <a:gd name="textAreaLeft" fmla="*/ 0 w 1292400"/>
              <a:gd name="textAreaRight" fmla="*/ 1292400 w 1292400"/>
              <a:gd name="textAreaTop" fmla="*/ 360 h 668160"/>
              <a:gd name="textAreaBottom" fmla="*/ 668880 h 66816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Arc 1044"/>
          <p:cNvSpPr/>
          <p:nvPr/>
        </p:nvSpPr>
        <p:spPr>
          <a:xfrm flipV="1">
            <a:off x="6153120" y="4730040"/>
            <a:ext cx="1039680" cy="538200"/>
          </a:xfrm>
          <a:custGeom>
            <a:avLst/>
            <a:gdLst>
              <a:gd name="textAreaLeft" fmla="*/ 0 w 1039680"/>
              <a:gd name="textAreaRight" fmla="*/ 1040040 w 1039680"/>
              <a:gd name="textAreaTop" fmla="*/ -360 h 538200"/>
              <a:gd name="textAreaBottom" fmla="*/ 538200 h 53820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rc 1045"/>
          <p:cNvSpPr/>
          <p:nvPr/>
        </p:nvSpPr>
        <p:spPr>
          <a:xfrm flipV="1">
            <a:off x="6270480" y="4744440"/>
            <a:ext cx="816120" cy="422280"/>
          </a:xfrm>
          <a:custGeom>
            <a:avLst/>
            <a:gdLst>
              <a:gd name="textAreaLeft" fmla="*/ 0 w 816120"/>
              <a:gd name="textAreaRight" fmla="*/ 816480 w 816120"/>
              <a:gd name="textAreaTop" fmla="*/ -360 h 422280"/>
              <a:gd name="textAreaBottom" fmla="*/ 422280 h 42228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Arc 1046"/>
          <p:cNvSpPr/>
          <p:nvPr/>
        </p:nvSpPr>
        <p:spPr>
          <a:xfrm flipV="1">
            <a:off x="6386400" y="4757040"/>
            <a:ext cx="592200" cy="306360"/>
          </a:xfrm>
          <a:custGeom>
            <a:avLst/>
            <a:gdLst/>
            <a:ahLst/>
            <a:rect l="l" t="t" r="r" b="b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Group 1047"/>
          <p:cNvGrpSpPr/>
          <p:nvPr/>
        </p:nvGrpSpPr>
        <p:grpSpPr>
          <a:xfrm>
            <a:off x="5824440" y="4670280"/>
            <a:ext cx="1741680" cy="787320"/>
            <a:chOff x="5824440" y="4670280"/>
            <a:chExt cx="1741680" cy="787320"/>
          </a:xfrm>
        </p:grpSpPr>
        <p:sp>
          <p:nvSpPr>
            <p:cNvPr id="1044" name="Freeform 1048"/>
            <p:cNvSpPr/>
            <p:nvPr/>
          </p:nvSpPr>
          <p:spPr>
            <a:xfrm>
              <a:off x="5824440" y="4687920"/>
              <a:ext cx="1741680" cy="769680"/>
            </a:xfrm>
            <a:custGeom>
              <a:avLst/>
              <a:gdLst>
                <a:gd name="textAreaLeft" fmla="*/ 0 w 1741680"/>
                <a:gd name="textAreaRight" fmla="*/ 1742040 w 174168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097" h="485">
                  <a:moveTo>
                    <a:pt x="0" y="0"/>
                  </a:moveTo>
                  <a:lnTo>
                    <a:pt x="1097" y="0"/>
                  </a:lnTo>
                  <a:lnTo>
                    <a:pt x="758" y="458"/>
                  </a:lnTo>
                  <a:lnTo>
                    <a:pt x="493" y="485"/>
                  </a:lnTo>
                  <a:lnTo>
                    <a:pt x="274" y="4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5" name="Group 1049"/>
            <p:cNvGrpSpPr/>
            <p:nvPr/>
          </p:nvGrpSpPr>
          <p:grpSpPr>
            <a:xfrm>
              <a:off x="5989680" y="4670280"/>
              <a:ext cx="1387440" cy="404640"/>
              <a:chOff x="5989680" y="4670280"/>
              <a:chExt cx="1387440" cy="404640"/>
            </a:xfrm>
          </p:grpSpPr>
          <p:sp>
            <p:nvSpPr>
              <p:cNvPr id="1046" name="Rectangle 1050"/>
              <p:cNvSpPr/>
              <p:nvPr/>
            </p:nvSpPr>
            <p:spPr>
              <a:xfrm>
                <a:off x="5989680" y="4670280"/>
                <a:ext cx="1387440" cy="4046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WordArt 1051"/>
              <p:cNvSpPr txBox="1"/>
              <p:nvPr/>
            </p:nvSpPr>
            <p:spPr>
              <a:xfrm>
                <a:off x="6094440" y="4735080"/>
                <a:ext cx="1187640" cy="260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1" strike="noStrike">
                    <a:ln w="0">
                      <a:noFill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Impact"/>
                  </a:rPr>
                  <a:t>IRON</a:t>
                </a:r>
                <a:endParaRPr b="0" lang="en-US" sz="36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  <p:sp>
        <p:nvSpPr>
          <p:cNvPr id="1048" name="Text Box 1052"/>
          <p:cNvSpPr/>
          <p:nvPr/>
        </p:nvSpPr>
        <p:spPr>
          <a:xfrm>
            <a:off x="3086280" y="12002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Kee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Picture 1053" descr="Doc"/>
          <p:cNvPicPr/>
          <p:nvPr/>
        </p:nvPicPr>
        <p:blipFill>
          <a:blip r:embed="rId3"/>
          <a:stretch/>
        </p:blipFill>
        <p:spPr>
          <a:xfrm>
            <a:off x="2932200" y="3549600"/>
            <a:ext cx="2307960" cy="3308400"/>
          </a:xfrm>
          <a:prstGeom prst="rect">
            <a:avLst/>
          </a:prstGeom>
          <a:ln w="0">
            <a:noFill/>
          </a:ln>
        </p:spPr>
      </p:pic>
      <p:sp>
        <p:nvSpPr>
          <p:cNvPr id="1050" name="AutoShape 1054"/>
          <p:cNvSpPr/>
          <p:nvPr/>
        </p:nvSpPr>
        <p:spPr>
          <a:xfrm>
            <a:off x="3124080" y="914400"/>
            <a:ext cx="5524560" cy="2305080"/>
          </a:xfrm>
          <a:prstGeom prst="cloudCallout">
            <a:avLst>
              <a:gd name="adj1" fmla="val -30805"/>
              <a:gd name="adj2" fmla="val 7327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1055"/>
          <p:cNvSpPr/>
          <p:nvPr/>
        </p:nvSpPr>
        <p:spPr>
          <a:xfrm>
            <a:off x="3560760" y="1257480"/>
            <a:ext cx="464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ttached to this magnet is a “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keeper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” that helps the magnet maintain its strength when not being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WordArt 2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grpSp>
        <p:nvGrpSpPr>
          <p:cNvPr id="1053" name="Group 3"/>
          <p:cNvGrpSpPr/>
          <p:nvPr/>
        </p:nvGrpSpPr>
        <p:grpSpPr>
          <a:xfrm>
            <a:off x="697320" y="2724840"/>
            <a:ext cx="1831320" cy="1955160"/>
            <a:chOff x="697320" y="2724840"/>
            <a:chExt cx="1831320" cy="1955160"/>
          </a:xfrm>
        </p:grpSpPr>
        <p:sp>
          <p:nvSpPr>
            <p:cNvPr id="1054" name="AutoShape 4"/>
            <p:cNvSpPr/>
            <p:nvPr/>
          </p:nvSpPr>
          <p:spPr>
            <a:xfrm rot="21560400">
              <a:off x="707760" y="2734920"/>
              <a:ext cx="1809720" cy="1874880"/>
            </a:xfrm>
            <a:custGeom>
              <a:avLst/>
              <a:gdLst>
                <a:gd name="textAreaLeft" fmla="*/ 0 w 1809720"/>
                <a:gd name="textAreaRight" fmla="*/ 1810080 w 1809720"/>
                <a:gd name="textAreaTop" fmla="*/ 0 h 1874880"/>
                <a:gd name="textAreaBottom" fmla="*/ 1079640 h 18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35" y="12928"/>
                  </a:moveTo>
                  <a:cubicBezTo>
                    <a:pt x="5546" y="12256"/>
                    <a:pt x="5398" y="11531"/>
                    <a:pt x="5398" y="10800"/>
                  </a:cubicBezTo>
                  <a:cubicBezTo>
                    <a:pt x="5398" y="7816"/>
                    <a:pt x="7816" y="5398"/>
                    <a:pt x="10800" y="5398"/>
                  </a:cubicBezTo>
                  <a:cubicBezTo>
                    <a:pt x="13783" y="5398"/>
                    <a:pt x="16202" y="7816"/>
                    <a:pt x="16202" y="10800"/>
                  </a:cubicBezTo>
                  <a:cubicBezTo>
                    <a:pt x="16202" y="11531"/>
                    <a:pt x="16053" y="12256"/>
                    <a:pt x="15764" y="12928"/>
                  </a:cubicBezTo>
                  <a:lnTo>
                    <a:pt x="20725" y="15056"/>
                  </a:lnTo>
                  <a:cubicBezTo>
                    <a:pt x="21302" y="13711"/>
                    <a:pt x="21600" y="1226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263"/>
                    <a:pt x="297" y="13711"/>
                    <a:pt x="874" y="15056"/>
                  </a:cubicBezTo>
                  <a:lnTo>
                    <a:pt x="5835" y="12928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5"/>
            <p:cNvSpPr/>
            <p:nvPr/>
          </p:nvSpPr>
          <p:spPr>
            <a:xfrm>
              <a:off x="1854360" y="3797280"/>
              <a:ext cx="631800" cy="882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6"/>
            <p:cNvSpPr/>
            <p:nvPr/>
          </p:nvSpPr>
          <p:spPr>
            <a:xfrm flipH="1">
              <a:off x="733320" y="3790800"/>
              <a:ext cx="641520" cy="882720"/>
            </a:xfrm>
            <a:custGeom>
              <a:avLst/>
              <a:gdLst>
                <a:gd name="textAreaLeft" fmla="*/ 360 w 641520"/>
                <a:gd name="textAreaRight" fmla="*/ 642240 w 6415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WordArt 7"/>
            <p:cNvSpPr txBox="1"/>
            <p:nvPr/>
          </p:nvSpPr>
          <p:spPr>
            <a:xfrm rot="20821800">
              <a:off x="926640" y="4048200"/>
              <a:ext cx="2494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58" name="WordArt 8"/>
            <p:cNvSpPr txBox="1"/>
            <p:nvPr/>
          </p:nvSpPr>
          <p:spPr>
            <a:xfrm rot="676200">
              <a:off x="2064960" y="4036680"/>
              <a:ext cx="2491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059" name="Arc 9"/>
          <p:cNvSpPr/>
          <p:nvPr/>
        </p:nvSpPr>
        <p:spPr>
          <a:xfrm flipV="1">
            <a:off x="957240" y="4730760"/>
            <a:ext cx="1292400" cy="668160"/>
          </a:xfrm>
          <a:custGeom>
            <a:avLst/>
            <a:gdLst>
              <a:gd name="textAreaLeft" fmla="*/ 0 w 1292400"/>
              <a:gd name="textAreaRight" fmla="*/ 1292400 w 1292400"/>
              <a:gd name="textAreaTop" fmla="*/ 360 h 668160"/>
              <a:gd name="textAreaBottom" fmla="*/ 668880 h 66816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Arc 10"/>
          <p:cNvSpPr/>
          <p:nvPr/>
        </p:nvSpPr>
        <p:spPr>
          <a:xfrm flipV="1">
            <a:off x="1087560" y="4730040"/>
            <a:ext cx="1039680" cy="538200"/>
          </a:xfrm>
          <a:custGeom>
            <a:avLst/>
            <a:gdLst>
              <a:gd name="textAreaLeft" fmla="*/ 0 w 1039680"/>
              <a:gd name="textAreaRight" fmla="*/ 1040040 w 1039680"/>
              <a:gd name="textAreaTop" fmla="*/ -360 h 538200"/>
              <a:gd name="textAreaBottom" fmla="*/ 538200 h 53820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Arc 11"/>
          <p:cNvSpPr/>
          <p:nvPr/>
        </p:nvSpPr>
        <p:spPr>
          <a:xfrm flipV="1">
            <a:off x="1204920" y="4744440"/>
            <a:ext cx="816120" cy="422280"/>
          </a:xfrm>
          <a:custGeom>
            <a:avLst/>
            <a:gdLst>
              <a:gd name="textAreaLeft" fmla="*/ 0 w 816120"/>
              <a:gd name="textAreaRight" fmla="*/ 816480 w 816120"/>
              <a:gd name="textAreaTop" fmla="*/ -360 h 422280"/>
              <a:gd name="textAreaBottom" fmla="*/ 422280 h 42228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Arc 12"/>
          <p:cNvSpPr/>
          <p:nvPr/>
        </p:nvSpPr>
        <p:spPr>
          <a:xfrm flipV="1">
            <a:off x="1320840" y="4757040"/>
            <a:ext cx="592200" cy="306360"/>
          </a:xfrm>
          <a:custGeom>
            <a:avLst/>
            <a:gdLst/>
            <a:ahLst/>
            <a:rect l="l" t="t" r="r" b="b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Group 13"/>
          <p:cNvGrpSpPr/>
          <p:nvPr/>
        </p:nvGrpSpPr>
        <p:grpSpPr>
          <a:xfrm>
            <a:off x="5762880" y="2724840"/>
            <a:ext cx="1831320" cy="1955160"/>
            <a:chOff x="5762880" y="2724840"/>
            <a:chExt cx="1831320" cy="1955160"/>
          </a:xfrm>
        </p:grpSpPr>
        <p:sp>
          <p:nvSpPr>
            <p:cNvPr id="1064" name="AutoShape 14"/>
            <p:cNvSpPr/>
            <p:nvPr/>
          </p:nvSpPr>
          <p:spPr>
            <a:xfrm rot="21560400">
              <a:off x="5773320" y="2734920"/>
              <a:ext cx="1809720" cy="1874880"/>
            </a:xfrm>
            <a:custGeom>
              <a:avLst/>
              <a:gdLst>
                <a:gd name="textAreaLeft" fmla="*/ 0 w 1809720"/>
                <a:gd name="textAreaRight" fmla="*/ 1810080 w 1809720"/>
                <a:gd name="textAreaTop" fmla="*/ 0 h 1874880"/>
                <a:gd name="textAreaBottom" fmla="*/ 1079640 h 18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35" y="12928"/>
                  </a:moveTo>
                  <a:cubicBezTo>
                    <a:pt x="5546" y="12256"/>
                    <a:pt x="5398" y="11531"/>
                    <a:pt x="5398" y="10800"/>
                  </a:cubicBezTo>
                  <a:cubicBezTo>
                    <a:pt x="5398" y="7816"/>
                    <a:pt x="7816" y="5398"/>
                    <a:pt x="10800" y="5398"/>
                  </a:cubicBezTo>
                  <a:cubicBezTo>
                    <a:pt x="13783" y="5398"/>
                    <a:pt x="16202" y="7816"/>
                    <a:pt x="16202" y="10800"/>
                  </a:cubicBezTo>
                  <a:cubicBezTo>
                    <a:pt x="16202" y="11531"/>
                    <a:pt x="16053" y="12256"/>
                    <a:pt x="15764" y="12928"/>
                  </a:cubicBezTo>
                  <a:lnTo>
                    <a:pt x="20725" y="15056"/>
                  </a:lnTo>
                  <a:cubicBezTo>
                    <a:pt x="21302" y="13711"/>
                    <a:pt x="21600" y="1226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263"/>
                    <a:pt x="297" y="13711"/>
                    <a:pt x="874" y="15056"/>
                  </a:cubicBezTo>
                  <a:lnTo>
                    <a:pt x="5835" y="12928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Freeform 15"/>
            <p:cNvSpPr/>
            <p:nvPr/>
          </p:nvSpPr>
          <p:spPr>
            <a:xfrm>
              <a:off x="6919920" y="3797280"/>
              <a:ext cx="631800" cy="882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Freeform 16"/>
            <p:cNvSpPr/>
            <p:nvPr/>
          </p:nvSpPr>
          <p:spPr>
            <a:xfrm flipH="1">
              <a:off x="5798520" y="3790800"/>
              <a:ext cx="641160" cy="882720"/>
            </a:xfrm>
            <a:custGeom>
              <a:avLst/>
              <a:gdLst>
                <a:gd name="textAreaLeft" fmla="*/ -360 w 641160"/>
                <a:gd name="textAreaRight" fmla="*/ 641160 w 6411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06" h="556">
                  <a:moveTo>
                    <a:pt x="122" y="0"/>
                  </a:moveTo>
                  <a:lnTo>
                    <a:pt x="0" y="556"/>
                  </a:lnTo>
                  <a:lnTo>
                    <a:pt x="300" y="556"/>
                  </a:lnTo>
                  <a:lnTo>
                    <a:pt x="406" y="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WordArt 17"/>
            <p:cNvSpPr txBox="1"/>
            <p:nvPr/>
          </p:nvSpPr>
          <p:spPr>
            <a:xfrm rot="20821800">
              <a:off x="5992560" y="4048200"/>
              <a:ext cx="2491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68" name="WordArt 18"/>
            <p:cNvSpPr txBox="1"/>
            <p:nvPr/>
          </p:nvSpPr>
          <p:spPr>
            <a:xfrm rot="676200">
              <a:off x="7130520" y="4037040"/>
              <a:ext cx="2494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069" name="Arc 19"/>
          <p:cNvSpPr/>
          <p:nvPr/>
        </p:nvSpPr>
        <p:spPr>
          <a:xfrm flipV="1">
            <a:off x="6022800" y="4730760"/>
            <a:ext cx="1292400" cy="668160"/>
          </a:xfrm>
          <a:custGeom>
            <a:avLst/>
            <a:gdLst>
              <a:gd name="textAreaLeft" fmla="*/ 0 w 1292400"/>
              <a:gd name="textAreaRight" fmla="*/ 1292400 w 1292400"/>
              <a:gd name="textAreaTop" fmla="*/ 360 h 668160"/>
              <a:gd name="textAreaBottom" fmla="*/ 668880 h 66816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Arc 20"/>
          <p:cNvSpPr/>
          <p:nvPr/>
        </p:nvSpPr>
        <p:spPr>
          <a:xfrm flipV="1">
            <a:off x="6153120" y="4730040"/>
            <a:ext cx="1039680" cy="538200"/>
          </a:xfrm>
          <a:custGeom>
            <a:avLst/>
            <a:gdLst>
              <a:gd name="textAreaLeft" fmla="*/ 0 w 1039680"/>
              <a:gd name="textAreaRight" fmla="*/ 1040040 w 1039680"/>
              <a:gd name="textAreaTop" fmla="*/ -360 h 538200"/>
              <a:gd name="textAreaBottom" fmla="*/ 538200 h 53820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Arc 21"/>
          <p:cNvSpPr/>
          <p:nvPr/>
        </p:nvSpPr>
        <p:spPr>
          <a:xfrm flipV="1">
            <a:off x="6270480" y="4744440"/>
            <a:ext cx="816120" cy="422280"/>
          </a:xfrm>
          <a:custGeom>
            <a:avLst/>
            <a:gdLst>
              <a:gd name="textAreaLeft" fmla="*/ 0 w 816120"/>
              <a:gd name="textAreaRight" fmla="*/ 816480 w 816120"/>
              <a:gd name="textAreaTop" fmla="*/ -360 h 422280"/>
              <a:gd name="textAreaBottom" fmla="*/ 422280 h 422280"/>
            </a:gdLst>
            <a:ahLst/>
            <a:rect l="textAreaLeft" t="textAreaTop" r="textAreaRight" b="textAreaBottom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Arc 22"/>
          <p:cNvSpPr/>
          <p:nvPr/>
        </p:nvSpPr>
        <p:spPr>
          <a:xfrm flipV="1">
            <a:off x="6386400" y="4757040"/>
            <a:ext cx="592200" cy="306360"/>
          </a:xfrm>
          <a:custGeom>
            <a:avLst/>
            <a:gdLst/>
            <a:ahLst/>
            <a:rect l="l" t="t" r="r" b="b"/>
            <a:pathLst>
              <a:path fill="none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</a:path>
              <a:path stroke="0" w="43195" h="21600">
                <a:moveTo>
                  <a:pt x="-1" y="21140"/>
                </a:moveTo>
                <a:cubicBezTo>
                  <a:pt x="249" y="9393"/>
                  <a:pt x="9844" y="-1"/>
                  <a:pt x="21595" y="0"/>
                </a:cubicBezTo>
                <a:cubicBezTo>
                  <a:pt x="33524" y="0"/>
                  <a:pt x="43195" y="9670"/>
                  <a:pt x="43195" y="21600"/>
                </a:cubicBezTo>
                <a:lnTo>
                  <a:pt x="21595" y="21600"/>
                </a:lnTo>
                <a:lnTo>
                  <a:pt x="-1" y="21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Group 23"/>
          <p:cNvGrpSpPr/>
          <p:nvPr/>
        </p:nvGrpSpPr>
        <p:grpSpPr>
          <a:xfrm>
            <a:off x="5824440" y="4654440"/>
            <a:ext cx="1741680" cy="787680"/>
            <a:chOff x="5824440" y="4654440"/>
            <a:chExt cx="1741680" cy="787680"/>
          </a:xfrm>
        </p:grpSpPr>
        <p:sp>
          <p:nvSpPr>
            <p:cNvPr id="1074" name="Freeform 24"/>
            <p:cNvSpPr/>
            <p:nvPr/>
          </p:nvSpPr>
          <p:spPr>
            <a:xfrm>
              <a:off x="5824440" y="4672080"/>
              <a:ext cx="1741680" cy="770040"/>
            </a:xfrm>
            <a:custGeom>
              <a:avLst/>
              <a:gdLst>
                <a:gd name="textAreaLeft" fmla="*/ 0 w 1741680"/>
                <a:gd name="textAreaRight" fmla="*/ 1742040 w 174168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1097" h="485">
                  <a:moveTo>
                    <a:pt x="0" y="0"/>
                  </a:moveTo>
                  <a:lnTo>
                    <a:pt x="1097" y="0"/>
                  </a:lnTo>
                  <a:lnTo>
                    <a:pt x="758" y="458"/>
                  </a:lnTo>
                  <a:lnTo>
                    <a:pt x="493" y="485"/>
                  </a:lnTo>
                  <a:lnTo>
                    <a:pt x="274" y="4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Rectangle 25"/>
            <p:cNvSpPr/>
            <p:nvPr/>
          </p:nvSpPr>
          <p:spPr>
            <a:xfrm>
              <a:off x="5989680" y="4654440"/>
              <a:ext cx="1387440" cy="405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Group 26"/>
          <p:cNvGrpSpPr/>
          <p:nvPr/>
        </p:nvGrpSpPr>
        <p:grpSpPr>
          <a:xfrm>
            <a:off x="6080040" y="4643280"/>
            <a:ext cx="1160640" cy="378000"/>
            <a:chOff x="6080040" y="4643280"/>
            <a:chExt cx="1160640" cy="378000"/>
          </a:xfrm>
        </p:grpSpPr>
        <p:sp>
          <p:nvSpPr>
            <p:cNvPr id="1077" name="Arc 27"/>
            <p:cNvSpPr/>
            <p:nvPr/>
          </p:nvSpPr>
          <p:spPr>
            <a:xfrm flipV="1">
              <a:off x="6080040" y="4643280"/>
              <a:ext cx="1160640" cy="37800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360 h 378000"/>
                <a:gd name="textAreaBottom" fmla="*/ 378720 h 378000"/>
              </a:gdLst>
              <a:ahLst/>
              <a:rect l="textAreaLeft" t="textAreaTop" r="textAreaRight" b="textAreaBottom"/>
              <a:pathLst>
                <a:path fill="none" w="43195" h="21600">
                  <a:moveTo>
                    <a:pt x="-1" y="21140"/>
                  </a:moveTo>
                  <a:cubicBezTo>
                    <a:pt x="249" y="9393"/>
                    <a:pt x="984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</a:path>
                <a:path stroke="0" w="43195" h="21600">
                  <a:moveTo>
                    <a:pt x="-1" y="21140"/>
                  </a:moveTo>
                  <a:cubicBezTo>
                    <a:pt x="249" y="9393"/>
                    <a:pt x="984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lnTo>
                    <a:pt x="21595" y="21600"/>
                  </a:lnTo>
                  <a:lnTo>
                    <a:pt x="-1" y="2114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Arc 28"/>
            <p:cNvSpPr/>
            <p:nvPr/>
          </p:nvSpPr>
          <p:spPr>
            <a:xfrm flipV="1">
              <a:off x="6197040" y="4643280"/>
              <a:ext cx="933480" cy="3045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360 h 304560"/>
                <a:gd name="textAreaBottom" fmla="*/ 305280 h 304560"/>
              </a:gdLst>
              <a:ahLst/>
              <a:rect l="textAreaLeft" t="textAreaTop" r="textAreaRight" b="textAreaBottom"/>
              <a:pathLst>
                <a:path fill="none" w="43195" h="21600">
                  <a:moveTo>
                    <a:pt x="-1" y="21140"/>
                  </a:moveTo>
                  <a:cubicBezTo>
                    <a:pt x="249" y="9393"/>
                    <a:pt x="984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</a:path>
                <a:path stroke="0" w="43195" h="21600">
                  <a:moveTo>
                    <a:pt x="-1" y="21140"/>
                  </a:moveTo>
                  <a:cubicBezTo>
                    <a:pt x="249" y="9393"/>
                    <a:pt x="984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lnTo>
                    <a:pt x="21595" y="21600"/>
                  </a:lnTo>
                  <a:lnTo>
                    <a:pt x="-1" y="2114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Arc 29"/>
            <p:cNvSpPr/>
            <p:nvPr/>
          </p:nvSpPr>
          <p:spPr>
            <a:xfrm flipV="1">
              <a:off x="6302160" y="4650480"/>
              <a:ext cx="732600" cy="238680"/>
            </a:xfrm>
            <a:custGeom>
              <a:avLst/>
              <a:gdLst>
                <a:gd name="textAreaLeft" fmla="*/ 0 w 732600"/>
                <a:gd name="textAreaRight" fmla="*/ 732960 w 732600"/>
                <a:gd name="textAreaTop" fmla="*/ -360 h 238680"/>
                <a:gd name="textAreaBottom" fmla="*/ 238680 h 238680"/>
              </a:gdLst>
              <a:ahLst/>
              <a:rect l="textAreaLeft" t="textAreaTop" r="textAreaRight" b="textAreaBottom"/>
              <a:pathLst>
                <a:path fill="none" w="43195" h="21600">
                  <a:moveTo>
                    <a:pt x="-1" y="21140"/>
                  </a:moveTo>
                  <a:cubicBezTo>
                    <a:pt x="249" y="9393"/>
                    <a:pt x="984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</a:path>
                <a:path stroke="0" w="43195" h="21600">
                  <a:moveTo>
                    <a:pt x="-1" y="21140"/>
                  </a:moveTo>
                  <a:cubicBezTo>
                    <a:pt x="249" y="9393"/>
                    <a:pt x="984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lnTo>
                    <a:pt x="21595" y="21600"/>
                  </a:lnTo>
                  <a:lnTo>
                    <a:pt x="-1" y="2114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Arc 30"/>
            <p:cNvSpPr/>
            <p:nvPr/>
          </p:nvSpPr>
          <p:spPr>
            <a:xfrm flipV="1">
              <a:off x="6406560" y="4657680"/>
              <a:ext cx="531720" cy="173160"/>
            </a:xfrm>
            <a:custGeom>
              <a:avLst/>
              <a:gdLst>
                <a:gd name="textAreaLeft" fmla="*/ 0 w 531720"/>
                <a:gd name="textAreaRight" fmla="*/ 532080 w 531720"/>
                <a:gd name="textAreaTop" fmla="*/ -36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fill="none" w="43195" h="21600">
                  <a:moveTo>
                    <a:pt x="-1" y="21140"/>
                  </a:moveTo>
                  <a:cubicBezTo>
                    <a:pt x="249" y="9393"/>
                    <a:pt x="984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</a:path>
                <a:path stroke="0" w="43195" h="21600">
                  <a:moveTo>
                    <a:pt x="-1" y="21140"/>
                  </a:moveTo>
                  <a:cubicBezTo>
                    <a:pt x="249" y="9393"/>
                    <a:pt x="984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lnTo>
                    <a:pt x="21595" y="21600"/>
                  </a:lnTo>
                  <a:lnTo>
                    <a:pt x="-1" y="2114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Group 31"/>
          <p:cNvGrpSpPr/>
          <p:nvPr/>
        </p:nvGrpSpPr>
        <p:grpSpPr>
          <a:xfrm>
            <a:off x="738000" y="4546440"/>
            <a:ext cx="6488280" cy="1795680"/>
            <a:chOff x="738000" y="4546440"/>
            <a:chExt cx="6488280" cy="1795680"/>
          </a:xfrm>
        </p:grpSpPr>
        <p:grpSp>
          <p:nvGrpSpPr>
            <p:cNvPr id="1082" name="Group 32"/>
            <p:cNvGrpSpPr/>
            <p:nvPr/>
          </p:nvGrpSpPr>
          <p:grpSpPr>
            <a:xfrm>
              <a:off x="738000" y="4546440"/>
              <a:ext cx="1944360" cy="1795680"/>
              <a:chOff x="738000" y="4546440"/>
              <a:chExt cx="1944360" cy="1795680"/>
            </a:xfrm>
          </p:grpSpPr>
          <p:sp>
            <p:nvSpPr>
              <p:cNvPr id="1083" name="Freeform 33"/>
              <p:cNvSpPr/>
              <p:nvPr/>
            </p:nvSpPr>
            <p:spPr>
              <a:xfrm>
                <a:off x="798120" y="4761000"/>
                <a:ext cx="1726920" cy="1089000"/>
              </a:xfrm>
              <a:custGeom>
                <a:avLst/>
                <a:gdLst>
                  <a:gd name="textAreaLeft" fmla="*/ 0 w 1726920"/>
                  <a:gd name="textAreaRight" fmla="*/ 1727280 w 1726920"/>
                  <a:gd name="textAreaTop" fmla="*/ 0 h 1089000"/>
                  <a:gd name="textAreaBottom" fmla="*/ 1089000 h 1089000"/>
                </a:gdLst>
                <a:ahLst/>
                <a:rect l="textAreaLeft" t="textAreaTop" r="textAreaRight" b="textAreaBottom"/>
                <a:pathLst>
                  <a:path w="1088" h="686">
                    <a:moveTo>
                      <a:pt x="0" y="0"/>
                    </a:moveTo>
                    <a:lnTo>
                      <a:pt x="1088" y="0"/>
                    </a:lnTo>
                    <a:lnTo>
                      <a:pt x="530" y="686"/>
                    </a:lnTo>
                    <a:lnTo>
                      <a:pt x="110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4" name="Group 34"/>
              <p:cNvGrpSpPr/>
              <p:nvPr/>
            </p:nvGrpSpPr>
            <p:grpSpPr>
              <a:xfrm>
                <a:off x="738000" y="4546440"/>
                <a:ext cx="1944360" cy="1795680"/>
                <a:chOff x="738000" y="4546440"/>
                <a:chExt cx="1944360" cy="1795680"/>
              </a:xfrm>
            </p:grpSpPr>
            <p:grpSp>
              <p:nvGrpSpPr>
                <p:cNvPr id="1085" name="Group 35"/>
                <p:cNvGrpSpPr/>
                <p:nvPr/>
              </p:nvGrpSpPr>
              <p:grpSpPr>
                <a:xfrm>
                  <a:off x="738000" y="4546440"/>
                  <a:ext cx="1944360" cy="1795680"/>
                  <a:chOff x="738000" y="4546440"/>
                  <a:chExt cx="1944360" cy="1795680"/>
                </a:xfrm>
              </p:grpSpPr>
              <p:sp>
                <p:nvSpPr>
                  <p:cNvPr id="1086" name="Freeform 36"/>
                  <p:cNvSpPr/>
                  <p:nvPr/>
                </p:nvSpPr>
                <p:spPr>
                  <a:xfrm>
                    <a:off x="738000" y="4546440"/>
                    <a:ext cx="1944360" cy="1030320"/>
                  </a:xfrm>
                  <a:custGeom>
                    <a:avLst/>
                    <a:gdLst>
                      <a:gd name="textAreaLeft" fmla="*/ 0 w 1944360"/>
                      <a:gd name="textAreaRight" fmla="*/ 1944360 w 1944360"/>
                      <a:gd name="textAreaTop" fmla="*/ 0 h 1030320"/>
                      <a:gd name="textAreaBottom" fmla="*/ 1030680 h 1030320"/>
                    </a:gdLst>
                    <a:ahLst/>
                    <a:rect l="textAreaLeft" t="textAreaTop" r="textAreaRight" b="textAreaBottom"/>
                    <a:pathLst>
                      <a:path w="1225" h="649">
                        <a:moveTo>
                          <a:pt x="0" y="155"/>
                        </a:moveTo>
                        <a:lnTo>
                          <a:pt x="567" y="0"/>
                        </a:lnTo>
                        <a:lnTo>
                          <a:pt x="1225" y="174"/>
                        </a:lnTo>
                        <a:lnTo>
                          <a:pt x="750" y="649"/>
                        </a:lnTo>
                        <a:lnTo>
                          <a:pt x="338" y="649"/>
                        </a:lnTo>
                        <a:lnTo>
                          <a:pt x="0" y="15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7" name="Group 37"/>
                  <p:cNvGrpSpPr/>
                  <p:nvPr/>
                </p:nvGrpSpPr>
                <p:grpSpPr>
                  <a:xfrm>
                    <a:off x="985680" y="4618080"/>
                    <a:ext cx="1293120" cy="1535760"/>
                    <a:chOff x="985680" y="4618080"/>
                    <a:chExt cx="1293120" cy="1535760"/>
                  </a:xfrm>
                </p:grpSpPr>
                <p:grpSp>
                  <p:nvGrpSpPr>
                    <p:cNvPr id="1088" name="Group 38"/>
                    <p:cNvGrpSpPr/>
                    <p:nvPr/>
                  </p:nvGrpSpPr>
                  <p:grpSpPr>
                    <a:xfrm>
                      <a:off x="1001160" y="4618080"/>
                      <a:ext cx="493200" cy="564480"/>
                      <a:chOff x="1001160" y="4618080"/>
                      <a:chExt cx="493200" cy="564480"/>
                    </a:xfrm>
                  </p:grpSpPr>
                  <p:sp>
                    <p:nvSpPr>
                      <p:cNvPr id="1089" name="Oval 39"/>
                      <p:cNvSpPr/>
                      <p:nvPr/>
                    </p:nvSpPr>
                    <p:spPr>
                      <a:xfrm>
                        <a:off x="1001160" y="4618080"/>
                        <a:ext cx="493200" cy="115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6c6c6c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0" name="Freeform 40"/>
                      <p:cNvSpPr/>
                      <p:nvPr/>
                    </p:nvSpPr>
                    <p:spPr>
                      <a:xfrm>
                        <a:off x="1175400" y="4731840"/>
                        <a:ext cx="131400" cy="450720"/>
                      </a:xfrm>
                      <a:custGeom>
                        <a:avLst/>
                        <a:gdLst>
                          <a:gd name="textAreaLeft" fmla="*/ 0 w 131400"/>
                          <a:gd name="textAreaRight" fmla="*/ 131760 w 131400"/>
                          <a:gd name="textAreaTop" fmla="*/ 0 h 450720"/>
                          <a:gd name="textAreaBottom" fmla="*/ 451080 h 450720"/>
                        </a:gdLst>
                        <a:ahLst/>
                        <a:rect l="textAreaLeft" t="textAreaTop" r="textAreaRight" b="textAreaBottom"/>
                        <a:pathLst>
                          <a:path w="156" h="558">
                            <a:moveTo>
                              <a:pt x="0" y="0"/>
                            </a:moveTo>
                            <a:lnTo>
                              <a:pt x="156" y="0"/>
                            </a:lnTo>
                            <a:lnTo>
                              <a:pt x="83" y="55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91" name="Group 41"/>
                    <p:cNvGrpSpPr/>
                    <p:nvPr/>
                  </p:nvGrpSpPr>
                  <p:grpSpPr>
                    <a:xfrm>
                      <a:off x="1785240" y="4662360"/>
                      <a:ext cx="493560" cy="564120"/>
                      <a:chOff x="1785240" y="4662360"/>
                      <a:chExt cx="493560" cy="564120"/>
                    </a:xfrm>
                  </p:grpSpPr>
                  <p:sp>
                    <p:nvSpPr>
                      <p:cNvPr id="1092" name="Oval 42"/>
                      <p:cNvSpPr/>
                      <p:nvPr/>
                    </p:nvSpPr>
                    <p:spPr>
                      <a:xfrm>
                        <a:off x="1785240" y="4662360"/>
                        <a:ext cx="493560" cy="115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6c6c6c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3" name="Freeform 43"/>
                      <p:cNvSpPr/>
                      <p:nvPr/>
                    </p:nvSpPr>
                    <p:spPr>
                      <a:xfrm>
                        <a:off x="1959840" y="4776120"/>
                        <a:ext cx="131760" cy="450360"/>
                      </a:xfrm>
                      <a:custGeom>
                        <a:avLst/>
                        <a:gdLst>
                          <a:gd name="textAreaLeft" fmla="*/ 0 w 131760"/>
                          <a:gd name="textAreaRight" fmla="*/ 132120 w 131760"/>
                          <a:gd name="textAreaTop" fmla="*/ 0 h 450360"/>
                          <a:gd name="textAreaBottom" fmla="*/ 450720 h 450360"/>
                        </a:gdLst>
                        <a:ahLst/>
                        <a:rect l="textAreaLeft" t="textAreaTop" r="textAreaRight" b="textAreaBottom"/>
                        <a:pathLst>
                          <a:path w="156" h="558">
                            <a:moveTo>
                              <a:pt x="0" y="0"/>
                            </a:moveTo>
                            <a:lnTo>
                              <a:pt x="156" y="0"/>
                            </a:lnTo>
                            <a:lnTo>
                              <a:pt x="83" y="55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94" name="Group 44"/>
                    <p:cNvGrpSpPr/>
                    <p:nvPr/>
                  </p:nvGrpSpPr>
                  <p:grpSpPr>
                    <a:xfrm>
                      <a:off x="1291680" y="5300280"/>
                      <a:ext cx="493200" cy="564480"/>
                      <a:chOff x="1291680" y="5300280"/>
                      <a:chExt cx="493200" cy="564480"/>
                    </a:xfrm>
                  </p:grpSpPr>
                  <p:sp>
                    <p:nvSpPr>
                      <p:cNvPr id="1095" name="Oval 45"/>
                      <p:cNvSpPr/>
                      <p:nvPr/>
                    </p:nvSpPr>
                    <p:spPr>
                      <a:xfrm>
                        <a:off x="1291680" y="5300280"/>
                        <a:ext cx="493200" cy="115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6c6c6c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6" name="Freeform 46"/>
                      <p:cNvSpPr/>
                      <p:nvPr/>
                    </p:nvSpPr>
                    <p:spPr>
                      <a:xfrm>
                        <a:off x="1465920" y="5414040"/>
                        <a:ext cx="131400" cy="450720"/>
                      </a:xfrm>
                      <a:custGeom>
                        <a:avLst/>
                        <a:gdLst>
                          <a:gd name="textAreaLeft" fmla="*/ 0 w 131400"/>
                          <a:gd name="textAreaRight" fmla="*/ 131760 w 131400"/>
                          <a:gd name="textAreaTop" fmla="*/ 0 h 450720"/>
                          <a:gd name="textAreaBottom" fmla="*/ 451080 h 450720"/>
                        </a:gdLst>
                        <a:ahLst/>
                        <a:rect l="textAreaLeft" t="textAreaTop" r="textAreaRight" b="textAreaBottom"/>
                        <a:pathLst>
                          <a:path w="156" h="558">
                            <a:moveTo>
                              <a:pt x="0" y="0"/>
                            </a:moveTo>
                            <a:lnTo>
                              <a:pt x="156" y="0"/>
                            </a:lnTo>
                            <a:lnTo>
                              <a:pt x="83" y="55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97" name="Group 47"/>
                    <p:cNvGrpSpPr/>
                    <p:nvPr/>
                  </p:nvGrpSpPr>
                  <p:grpSpPr>
                    <a:xfrm>
                      <a:off x="985680" y="5024160"/>
                      <a:ext cx="493200" cy="564480"/>
                      <a:chOff x="985680" y="5024160"/>
                      <a:chExt cx="493200" cy="564480"/>
                    </a:xfrm>
                  </p:grpSpPr>
                  <p:sp>
                    <p:nvSpPr>
                      <p:cNvPr id="1098" name="Oval 48"/>
                      <p:cNvSpPr/>
                      <p:nvPr/>
                    </p:nvSpPr>
                    <p:spPr>
                      <a:xfrm>
                        <a:off x="985680" y="5024160"/>
                        <a:ext cx="493200" cy="115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6c6c6c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9" name="Freeform 49"/>
                      <p:cNvSpPr/>
                      <p:nvPr/>
                    </p:nvSpPr>
                    <p:spPr>
                      <a:xfrm>
                        <a:off x="1159920" y="5137920"/>
                        <a:ext cx="131400" cy="450720"/>
                      </a:xfrm>
                      <a:custGeom>
                        <a:avLst/>
                        <a:gdLst>
                          <a:gd name="textAreaLeft" fmla="*/ 0 w 131400"/>
                          <a:gd name="textAreaRight" fmla="*/ 131760 w 131400"/>
                          <a:gd name="textAreaTop" fmla="*/ 0 h 450720"/>
                          <a:gd name="textAreaBottom" fmla="*/ 451080 h 450720"/>
                        </a:gdLst>
                        <a:ahLst/>
                        <a:rect l="textAreaLeft" t="textAreaTop" r="textAreaRight" b="textAreaBottom"/>
                        <a:pathLst>
                          <a:path w="156" h="558">
                            <a:moveTo>
                              <a:pt x="0" y="0"/>
                            </a:moveTo>
                            <a:lnTo>
                              <a:pt x="156" y="0"/>
                            </a:lnTo>
                            <a:lnTo>
                              <a:pt x="83" y="55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00" name="Group 50"/>
                    <p:cNvGrpSpPr/>
                    <p:nvPr/>
                  </p:nvGrpSpPr>
                  <p:grpSpPr>
                    <a:xfrm>
                      <a:off x="1305720" y="4792320"/>
                      <a:ext cx="493560" cy="564480"/>
                      <a:chOff x="1305720" y="4792320"/>
                      <a:chExt cx="493560" cy="564480"/>
                    </a:xfrm>
                  </p:grpSpPr>
                  <p:sp>
                    <p:nvSpPr>
                      <p:cNvPr id="1101" name="Oval 51"/>
                      <p:cNvSpPr/>
                      <p:nvPr/>
                    </p:nvSpPr>
                    <p:spPr>
                      <a:xfrm>
                        <a:off x="1305720" y="4792320"/>
                        <a:ext cx="493560" cy="115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6c6c6c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2" name="Freeform 52"/>
                      <p:cNvSpPr/>
                      <p:nvPr/>
                    </p:nvSpPr>
                    <p:spPr>
                      <a:xfrm>
                        <a:off x="1480320" y="4906080"/>
                        <a:ext cx="131760" cy="450720"/>
                      </a:xfrm>
                      <a:custGeom>
                        <a:avLst/>
                        <a:gdLst>
                          <a:gd name="textAreaLeft" fmla="*/ 0 w 131760"/>
                          <a:gd name="textAreaRight" fmla="*/ 132120 w 131760"/>
                          <a:gd name="textAreaTop" fmla="*/ 0 h 450720"/>
                          <a:gd name="textAreaBottom" fmla="*/ 451080 h 450720"/>
                        </a:gdLst>
                        <a:ahLst/>
                        <a:rect l="textAreaLeft" t="textAreaTop" r="textAreaRight" b="textAreaBottom"/>
                        <a:pathLst>
                          <a:path w="156" h="558">
                            <a:moveTo>
                              <a:pt x="0" y="0"/>
                            </a:moveTo>
                            <a:lnTo>
                              <a:pt x="156" y="0"/>
                            </a:lnTo>
                            <a:lnTo>
                              <a:pt x="83" y="55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03" name="Group 53"/>
                    <p:cNvGrpSpPr/>
                    <p:nvPr/>
                  </p:nvGrpSpPr>
                  <p:grpSpPr>
                    <a:xfrm>
                      <a:off x="1509120" y="4981320"/>
                      <a:ext cx="493200" cy="564480"/>
                      <a:chOff x="1509120" y="4981320"/>
                      <a:chExt cx="493200" cy="564480"/>
                    </a:xfrm>
                  </p:grpSpPr>
                  <p:sp>
                    <p:nvSpPr>
                      <p:cNvPr id="1104" name="Oval 54"/>
                      <p:cNvSpPr/>
                      <p:nvPr/>
                    </p:nvSpPr>
                    <p:spPr>
                      <a:xfrm>
                        <a:off x="1509120" y="4981320"/>
                        <a:ext cx="493200" cy="115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6c6c6c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5" name="Freeform 55"/>
                      <p:cNvSpPr/>
                      <p:nvPr/>
                    </p:nvSpPr>
                    <p:spPr>
                      <a:xfrm>
                        <a:off x="1683360" y="5095080"/>
                        <a:ext cx="131400" cy="450720"/>
                      </a:xfrm>
                      <a:custGeom>
                        <a:avLst/>
                        <a:gdLst>
                          <a:gd name="textAreaLeft" fmla="*/ 0 w 131400"/>
                          <a:gd name="textAreaRight" fmla="*/ 131760 w 131400"/>
                          <a:gd name="textAreaTop" fmla="*/ 0 h 450720"/>
                          <a:gd name="textAreaBottom" fmla="*/ 451080 h 450720"/>
                        </a:gdLst>
                        <a:ahLst/>
                        <a:rect l="textAreaLeft" t="textAreaTop" r="textAreaRight" b="textAreaBottom"/>
                        <a:pathLst>
                          <a:path w="156" h="558">
                            <a:moveTo>
                              <a:pt x="0" y="0"/>
                            </a:moveTo>
                            <a:lnTo>
                              <a:pt x="156" y="0"/>
                            </a:lnTo>
                            <a:lnTo>
                              <a:pt x="83" y="55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06" name="Group 56"/>
                    <p:cNvGrpSpPr/>
                    <p:nvPr/>
                  </p:nvGrpSpPr>
                  <p:grpSpPr>
                    <a:xfrm>
                      <a:off x="1669320" y="5243400"/>
                      <a:ext cx="493560" cy="564120"/>
                      <a:chOff x="1669320" y="5243400"/>
                      <a:chExt cx="493560" cy="564120"/>
                    </a:xfrm>
                  </p:grpSpPr>
                  <p:sp>
                    <p:nvSpPr>
                      <p:cNvPr id="1107" name="Oval 57"/>
                      <p:cNvSpPr/>
                      <p:nvPr/>
                    </p:nvSpPr>
                    <p:spPr>
                      <a:xfrm>
                        <a:off x="1669320" y="5243400"/>
                        <a:ext cx="493560" cy="115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6c6c6c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8" name="Freeform 58"/>
                      <p:cNvSpPr/>
                      <p:nvPr/>
                    </p:nvSpPr>
                    <p:spPr>
                      <a:xfrm>
                        <a:off x="1843920" y="5357160"/>
                        <a:ext cx="131760" cy="450360"/>
                      </a:xfrm>
                      <a:custGeom>
                        <a:avLst/>
                        <a:gdLst>
                          <a:gd name="textAreaLeft" fmla="*/ 0 w 131760"/>
                          <a:gd name="textAreaRight" fmla="*/ 132120 w 131760"/>
                          <a:gd name="textAreaTop" fmla="*/ 0 h 450360"/>
                          <a:gd name="textAreaBottom" fmla="*/ 450720 h 450360"/>
                        </a:gdLst>
                        <a:ahLst/>
                        <a:rect l="textAreaLeft" t="textAreaTop" r="textAreaRight" b="textAreaBottom"/>
                        <a:pathLst>
                          <a:path w="156" h="558">
                            <a:moveTo>
                              <a:pt x="0" y="0"/>
                            </a:moveTo>
                            <a:lnTo>
                              <a:pt x="156" y="0"/>
                            </a:lnTo>
                            <a:lnTo>
                              <a:pt x="83" y="55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09" name="Group 59"/>
                    <p:cNvGrpSpPr/>
                    <p:nvPr/>
                  </p:nvGrpSpPr>
                  <p:grpSpPr>
                    <a:xfrm>
                      <a:off x="1102680" y="5430600"/>
                      <a:ext cx="493200" cy="564480"/>
                      <a:chOff x="1102680" y="5430600"/>
                      <a:chExt cx="493200" cy="564480"/>
                    </a:xfrm>
                  </p:grpSpPr>
                  <p:sp>
                    <p:nvSpPr>
                      <p:cNvPr id="1110" name="Oval 60"/>
                      <p:cNvSpPr/>
                      <p:nvPr/>
                    </p:nvSpPr>
                    <p:spPr>
                      <a:xfrm>
                        <a:off x="1102680" y="5430600"/>
                        <a:ext cx="493200" cy="115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6c6c6c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1" name="Freeform 61"/>
                      <p:cNvSpPr/>
                      <p:nvPr/>
                    </p:nvSpPr>
                    <p:spPr>
                      <a:xfrm>
                        <a:off x="1276920" y="5544360"/>
                        <a:ext cx="131400" cy="450720"/>
                      </a:xfrm>
                      <a:custGeom>
                        <a:avLst/>
                        <a:gdLst>
                          <a:gd name="textAreaLeft" fmla="*/ 0 w 131400"/>
                          <a:gd name="textAreaRight" fmla="*/ 131760 w 131400"/>
                          <a:gd name="textAreaTop" fmla="*/ 0 h 450720"/>
                          <a:gd name="textAreaBottom" fmla="*/ 451080 h 450720"/>
                        </a:gdLst>
                        <a:ahLst/>
                        <a:rect l="textAreaLeft" t="textAreaTop" r="textAreaRight" b="textAreaBottom"/>
                        <a:pathLst>
                          <a:path w="156" h="558">
                            <a:moveTo>
                              <a:pt x="0" y="0"/>
                            </a:moveTo>
                            <a:lnTo>
                              <a:pt x="156" y="0"/>
                            </a:lnTo>
                            <a:lnTo>
                              <a:pt x="83" y="55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12" name="Group 62"/>
                    <p:cNvGrpSpPr/>
                    <p:nvPr/>
                  </p:nvGrpSpPr>
                  <p:grpSpPr>
                    <a:xfrm>
                      <a:off x="1551960" y="5589360"/>
                      <a:ext cx="493200" cy="564480"/>
                      <a:chOff x="1551960" y="5589360"/>
                      <a:chExt cx="493200" cy="564480"/>
                    </a:xfrm>
                  </p:grpSpPr>
                  <p:sp>
                    <p:nvSpPr>
                      <p:cNvPr id="1113" name="Oval 63"/>
                      <p:cNvSpPr/>
                      <p:nvPr/>
                    </p:nvSpPr>
                    <p:spPr>
                      <a:xfrm>
                        <a:off x="1551960" y="5589360"/>
                        <a:ext cx="493200" cy="115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6c6c6c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4" name="Freeform 64"/>
                      <p:cNvSpPr/>
                      <p:nvPr/>
                    </p:nvSpPr>
                    <p:spPr>
                      <a:xfrm>
                        <a:off x="1726200" y="5703120"/>
                        <a:ext cx="131400" cy="450720"/>
                      </a:xfrm>
                      <a:custGeom>
                        <a:avLst/>
                        <a:gdLst>
                          <a:gd name="textAreaLeft" fmla="*/ 0 w 131400"/>
                          <a:gd name="textAreaRight" fmla="*/ 131760 w 131400"/>
                          <a:gd name="textAreaTop" fmla="*/ 0 h 450720"/>
                          <a:gd name="textAreaBottom" fmla="*/ 451080 h 450720"/>
                        </a:gdLst>
                        <a:ahLst/>
                        <a:rect l="textAreaLeft" t="textAreaTop" r="textAreaRight" b="textAreaBottom"/>
                        <a:pathLst>
                          <a:path w="156" h="558">
                            <a:moveTo>
                              <a:pt x="0" y="0"/>
                            </a:moveTo>
                            <a:lnTo>
                              <a:pt x="156" y="0"/>
                            </a:lnTo>
                            <a:lnTo>
                              <a:pt x="83" y="55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115" name="Group 65"/>
                  <p:cNvGrpSpPr/>
                  <p:nvPr/>
                </p:nvGrpSpPr>
                <p:grpSpPr>
                  <a:xfrm>
                    <a:off x="2041920" y="4640040"/>
                    <a:ext cx="504000" cy="638640"/>
                    <a:chOff x="2041920" y="4640040"/>
                    <a:chExt cx="504000" cy="638640"/>
                  </a:xfrm>
                </p:grpSpPr>
                <p:sp>
                  <p:nvSpPr>
                    <p:cNvPr id="1116" name="Oval 66"/>
                    <p:cNvSpPr/>
                    <p:nvPr/>
                  </p:nvSpPr>
                  <p:spPr>
                    <a:xfrm rot="20452800">
                      <a:off x="2046960" y="4717440"/>
                      <a:ext cx="493200" cy="115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6c6c6c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5280" bIns="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7" name="Freeform 67"/>
                    <p:cNvSpPr/>
                    <p:nvPr/>
                  </p:nvSpPr>
                  <p:spPr>
                    <a:xfrm rot="20452800">
                      <a:off x="2314080" y="4818240"/>
                      <a:ext cx="131400" cy="451080"/>
                    </a:xfrm>
                    <a:custGeom>
                      <a:avLst/>
                      <a:gdLst>
                        <a:gd name="textAreaLeft" fmla="*/ 0 w 131400"/>
                        <a:gd name="textAreaRight" fmla="*/ 131760 w 131400"/>
                        <a:gd name="textAreaTop" fmla="*/ 0 h 451080"/>
                        <a:gd name="textAreaBottom" fmla="*/ 451080 h 451080"/>
                      </a:gdLst>
                      <a:ahLst/>
                      <a:rect l="textAreaLeft" t="textAreaTop" r="textAreaRight" b="textAreaBottom"/>
                      <a:pathLst>
                        <a:path w="156" h="558">
                          <a:moveTo>
                            <a:pt x="0" y="0"/>
                          </a:moveTo>
                          <a:lnTo>
                            <a:pt x="156" y="0"/>
                          </a:lnTo>
                          <a:lnTo>
                            <a:pt x="83" y="55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18" name="Group 68"/>
                  <p:cNvGrpSpPr/>
                  <p:nvPr/>
                </p:nvGrpSpPr>
                <p:grpSpPr>
                  <a:xfrm>
                    <a:off x="784440" y="4651560"/>
                    <a:ext cx="502560" cy="636120"/>
                    <a:chOff x="784440" y="4651560"/>
                    <a:chExt cx="502560" cy="636120"/>
                  </a:xfrm>
                </p:grpSpPr>
                <p:sp>
                  <p:nvSpPr>
                    <p:cNvPr id="1119" name="Oval 69"/>
                    <p:cNvSpPr/>
                    <p:nvPr/>
                  </p:nvSpPr>
                  <p:spPr>
                    <a:xfrm rot="1215000">
                      <a:off x="788760" y="4733280"/>
                      <a:ext cx="493200" cy="115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6c6c6c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5280" bIns="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0" name="Freeform 70"/>
                    <p:cNvSpPr/>
                    <p:nvPr/>
                  </p:nvSpPr>
                  <p:spPr>
                    <a:xfrm rot="1215000">
                      <a:off x="865800" y="4827600"/>
                      <a:ext cx="131400" cy="451080"/>
                    </a:xfrm>
                    <a:custGeom>
                      <a:avLst/>
                      <a:gdLst>
                        <a:gd name="textAreaLeft" fmla="*/ 0 w 131400"/>
                        <a:gd name="textAreaRight" fmla="*/ 131760 w 131400"/>
                        <a:gd name="textAreaTop" fmla="*/ 0 h 451080"/>
                        <a:gd name="textAreaBottom" fmla="*/ 451080 h 451080"/>
                      </a:gdLst>
                      <a:ahLst/>
                      <a:rect l="textAreaLeft" t="textAreaTop" r="textAreaRight" b="textAreaBottom"/>
                      <a:pathLst>
                        <a:path w="156" h="558">
                          <a:moveTo>
                            <a:pt x="0" y="0"/>
                          </a:moveTo>
                          <a:lnTo>
                            <a:pt x="156" y="0"/>
                          </a:lnTo>
                          <a:lnTo>
                            <a:pt x="83" y="55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21" name="Group 71"/>
                  <p:cNvGrpSpPr/>
                  <p:nvPr/>
                </p:nvGrpSpPr>
                <p:grpSpPr>
                  <a:xfrm>
                    <a:off x="1987200" y="4979880"/>
                    <a:ext cx="493560" cy="565200"/>
                    <a:chOff x="1987200" y="4979880"/>
                    <a:chExt cx="493560" cy="565200"/>
                  </a:xfrm>
                </p:grpSpPr>
                <p:sp>
                  <p:nvSpPr>
                    <p:cNvPr id="1122" name="Oval 72"/>
                    <p:cNvSpPr/>
                    <p:nvPr/>
                  </p:nvSpPr>
                  <p:spPr>
                    <a:xfrm>
                      <a:off x="1987200" y="4979880"/>
                      <a:ext cx="493560" cy="115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6c6c6c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5280" bIns="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3" name="Freeform 73"/>
                    <p:cNvSpPr/>
                    <p:nvPr/>
                  </p:nvSpPr>
                  <p:spPr>
                    <a:xfrm>
                      <a:off x="2161800" y="5094000"/>
                      <a:ext cx="131760" cy="451080"/>
                    </a:xfrm>
                    <a:custGeom>
                      <a:avLst/>
                      <a:gdLst>
                        <a:gd name="textAreaLeft" fmla="*/ 0 w 131760"/>
                        <a:gd name="textAreaRight" fmla="*/ 132120 w 131760"/>
                        <a:gd name="textAreaTop" fmla="*/ 0 h 451080"/>
                        <a:gd name="textAreaBottom" fmla="*/ 451080 h 451080"/>
                      </a:gdLst>
                      <a:ahLst/>
                      <a:rect l="textAreaLeft" t="textAreaTop" r="textAreaRight" b="textAreaBottom"/>
                      <a:pathLst>
                        <a:path w="156" h="558">
                          <a:moveTo>
                            <a:pt x="0" y="0"/>
                          </a:moveTo>
                          <a:lnTo>
                            <a:pt x="156" y="0"/>
                          </a:lnTo>
                          <a:lnTo>
                            <a:pt x="83" y="55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24" name="Group 74"/>
                  <p:cNvGrpSpPr/>
                  <p:nvPr/>
                </p:nvGrpSpPr>
                <p:grpSpPr>
                  <a:xfrm>
                    <a:off x="1290600" y="5776920"/>
                    <a:ext cx="493200" cy="565200"/>
                    <a:chOff x="1290600" y="5776920"/>
                    <a:chExt cx="493200" cy="565200"/>
                  </a:xfrm>
                </p:grpSpPr>
                <p:sp>
                  <p:nvSpPr>
                    <p:cNvPr id="1125" name="Oval 75"/>
                    <p:cNvSpPr/>
                    <p:nvPr/>
                  </p:nvSpPr>
                  <p:spPr>
                    <a:xfrm>
                      <a:off x="1290600" y="5776920"/>
                      <a:ext cx="493200" cy="115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6c6c6c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5280" bIns="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6" name="Freeform 76"/>
                    <p:cNvSpPr/>
                    <p:nvPr/>
                  </p:nvSpPr>
                  <p:spPr>
                    <a:xfrm>
                      <a:off x="1464840" y="5891040"/>
                      <a:ext cx="131400" cy="451080"/>
                    </a:xfrm>
                    <a:custGeom>
                      <a:avLst/>
                      <a:gdLst>
                        <a:gd name="textAreaLeft" fmla="*/ 0 w 131400"/>
                        <a:gd name="textAreaRight" fmla="*/ 131760 w 131400"/>
                        <a:gd name="textAreaTop" fmla="*/ 0 h 451080"/>
                        <a:gd name="textAreaBottom" fmla="*/ 451080 h 451080"/>
                      </a:gdLst>
                      <a:ahLst/>
                      <a:rect l="textAreaLeft" t="textAreaTop" r="textAreaRight" b="textAreaBottom"/>
                      <a:pathLst>
                        <a:path w="156" h="558">
                          <a:moveTo>
                            <a:pt x="0" y="0"/>
                          </a:moveTo>
                          <a:lnTo>
                            <a:pt x="156" y="0"/>
                          </a:lnTo>
                          <a:lnTo>
                            <a:pt x="83" y="55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27" name="Group 77"/>
                <p:cNvGrpSpPr/>
                <p:nvPr/>
              </p:nvGrpSpPr>
              <p:grpSpPr>
                <a:xfrm>
                  <a:off x="825480" y="5214960"/>
                  <a:ext cx="493560" cy="565200"/>
                  <a:chOff x="825480" y="5214960"/>
                  <a:chExt cx="493560" cy="565200"/>
                </a:xfrm>
              </p:grpSpPr>
              <p:sp>
                <p:nvSpPr>
                  <p:cNvPr id="1128" name="Oval 78"/>
                  <p:cNvSpPr/>
                  <p:nvPr/>
                </p:nvSpPr>
                <p:spPr>
                  <a:xfrm>
                    <a:off x="825480" y="5214960"/>
                    <a:ext cx="493560" cy="115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Freeform 79"/>
                  <p:cNvSpPr/>
                  <p:nvPr/>
                </p:nvSpPr>
                <p:spPr>
                  <a:xfrm>
                    <a:off x="1000080" y="5329080"/>
                    <a:ext cx="131760" cy="45108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0 h 451080"/>
                      <a:gd name="textAreaBottom" fmla="*/ 451080 h 451080"/>
                    </a:gdLst>
                    <a:ahLst/>
                    <a:rect l="textAreaLeft" t="textAreaTop" r="textAreaRight" b="textAreaBottom"/>
                    <a:pathLst>
                      <a:path w="156" h="558">
                        <a:moveTo>
                          <a:pt x="0" y="0"/>
                        </a:moveTo>
                        <a:lnTo>
                          <a:pt x="156" y="0"/>
                        </a:lnTo>
                        <a:lnTo>
                          <a:pt x="83" y="5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30" name="Group 80"/>
            <p:cNvGrpSpPr/>
            <p:nvPr/>
          </p:nvGrpSpPr>
          <p:grpSpPr>
            <a:xfrm>
              <a:off x="6195960" y="5068440"/>
              <a:ext cx="1030320" cy="648360"/>
              <a:chOff x="6195960" y="5068440"/>
              <a:chExt cx="1030320" cy="648360"/>
            </a:xfrm>
          </p:grpSpPr>
          <p:grpSp>
            <p:nvGrpSpPr>
              <p:cNvPr id="1131" name="Group 81"/>
              <p:cNvGrpSpPr/>
              <p:nvPr/>
            </p:nvGrpSpPr>
            <p:grpSpPr>
              <a:xfrm>
                <a:off x="6195960" y="5084640"/>
                <a:ext cx="493560" cy="565200"/>
                <a:chOff x="6195960" y="5084640"/>
                <a:chExt cx="493560" cy="565200"/>
              </a:xfrm>
            </p:grpSpPr>
            <p:sp>
              <p:nvSpPr>
                <p:cNvPr id="1132" name="Oval 82"/>
                <p:cNvSpPr/>
                <p:nvPr/>
              </p:nvSpPr>
              <p:spPr>
                <a:xfrm>
                  <a:off x="6195960" y="5084640"/>
                  <a:ext cx="493560" cy="11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Freeform 83"/>
                <p:cNvSpPr/>
                <p:nvPr/>
              </p:nvSpPr>
              <p:spPr>
                <a:xfrm>
                  <a:off x="6370560" y="5198760"/>
                  <a:ext cx="131760" cy="45108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451080"/>
                    <a:gd name="textAreaBottom" fmla="*/ 451080 h 45108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Group 84"/>
              <p:cNvGrpSpPr/>
              <p:nvPr/>
            </p:nvGrpSpPr>
            <p:grpSpPr>
              <a:xfrm>
                <a:off x="6403320" y="5068440"/>
                <a:ext cx="558720" cy="648360"/>
                <a:chOff x="6403320" y="5068440"/>
                <a:chExt cx="558720" cy="648360"/>
              </a:xfrm>
            </p:grpSpPr>
            <p:sp>
              <p:nvSpPr>
                <p:cNvPr id="1135" name="Oval 85"/>
                <p:cNvSpPr/>
                <p:nvPr/>
              </p:nvSpPr>
              <p:spPr>
                <a:xfrm rot="19685400">
                  <a:off x="6396480" y="5190120"/>
                  <a:ext cx="493560" cy="11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Freeform 86"/>
                <p:cNvSpPr/>
                <p:nvPr/>
              </p:nvSpPr>
              <p:spPr>
                <a:xfrm rot="19685400">
                  <a:off x="6720840" y="5264640"/>
                  <a:ext cx="131760" cy="45108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451080"/>
                    <a:gd name="textAreaBottom" fmla="*/ 451080 h 45108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Group 87"/>
              <p:cNvGrpSpPr/>
              <p:nvPr/>
            </p:nvGrpSpPr>
            <p:grpSpPr>
              <a:xfrm>
                <a:off x="6732720" y="5070600"/>
                <a:ext cx="493560" cy="565200"/>
                <a:chOff x="6732720" y="5070600"/>
                <a:chExt cx="493560" cy="565200"/>
              </a:xfrm>
            </p:grpSpPr>
            <p:sp>
              <p:nvSpPr>
                <p:cNvPr id="1138" name="Oval 88"/>
                <p:cNvSpPr/>
                <p:nvPr/>
              </p:nvSpPr>
              <p:spPr>
                <a:xfrm>
                  <a:off x="6732720" y="5070600"/>
                  <a:ext cx="493560" cy="11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Freeform 89"/>
                <p:cNvSpPr/>
                <p:nvPr/>
              </p:nvSpPr>
              <p:spPr>
                <a:xfrm>
                  <a:off x="6907320" y="5184720"/>
                  <a:ext cx="131760" cy="45108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451080"/>
                    <a:gd name="textAreaBottom" fmla="*/ 451080 h 451080"/>
                  </a:gdLst>
                  <a:ahLst/>
                  <a:rect l="textAreaLeft" t="textAreaTop" r="textAreaRight" b="textAreaBottom"/>
                  <a:pathLst>
                    <a:path w="156" h="558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83" y="5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40" name="Text Box 90"/>
          <p:cNvSpPr/>
          <p:nvPr/>
        </p:nvSpPr>
        <p:spPr>
          <a:xfrm>
            <a:off x="3086280" y="12002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Kee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1" name="Picture 91" descr=""/>
          <p:cNvPicPr/>
          <p:nvPr/>
        </p:nvPicPr>
        <p:blipFill>
          <a:blip r:embed="rId1"/>
          <a:stretch/>
        </p:blipFill>
        <p:spPr>
          <a:xfrm>
            <a:off x="3205080" y="3454560"/>
            <a:ext cx="1940040" cy="3041640"/>
          </a:xfrm>
          <a:prstGeom prst="rect">
            <a:avLst/>
          </a:prstGeom>
          <a:ln w="0">
            <a:noFill/>
          </a:ln>
        </p:spPr>
      </p:pic>
      <p:sp>
        <p:nvSpPr>
          <p:cNvPr id="1142" name="AutoShape 92"/>
          <p:cNvSpPr/>
          <p:nvPr/>
        </p:nvSpPr>
        <p:spPr>
          <a:xfrm>
            <a:off x="3124080" y="914400"/>
            <a:ext cx="5524560" cy="2305080"/>
          </a:xfrm>
          <a:prstGeom prst="cloudCallout">
            <a:avLst>
              <a:gd name="adj1" fmla="val -37356"/>
              <a:gd name="adj2" fmla="val 61708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93"/>
          <p:cNvSpPr/>
          <p:nvPr/>
        </p:nvSpPr>
        <p:spPr>
          <a:xfrm>
            <a:off x="3637080" y="1352520"/>
            <a:ext cx="46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oring magnets with keepers helps maintain their strength for longer periods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4" name="Object 1026"/>
          <p:cNvGraphicFramePr/>
          <p:nvPr/>
        </p:nvGraphicFramePr>
        <p:xfrm>
          <a:off x="2286000" y="171468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5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71468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Picture 1026" descr=""/>
          <p:cNvPicPr/>
          <p:nvPr/>
        </p:nvPicPr>
        <p:blipFill>
          <a:blip r:embed="rId1"/>
          <a:stretch/>
        </p:blipFill>
        <p:spPr>
          <a:xfrm>
            <a:off x="1162080" y="2313000"/>
            <a:ext cx="3695760" cy="3695760"/>
          </a:xfrm>
          <a:prstGeom prst="rect">
            <a:avLst/>
          </a:prstGeom>
          <a:ln w="0">
            <a:noFill/>
          </a:ln>
        </p:spPr>
      </p:pic>
      <p:grpSp>
        <p:nvGrpSpPr>
          <p:cNvPr id="1147" name="Group 1027"/>
          <p:cNvGrpSpPr/>
          <p:nvPr/>
        </p:nvGrpSpPr>
        <p:grpSpPr>
          <a:xfrm>
            <a:off x="2000880" y="3150360"/>
            <a:ext cx="2028960" cy="2017800"/>
            <a:chOff x="2000880" y="3150360"/>
            <a:chExt cx="2028960" cy="2017800"/>
          </a:xfrm>
        </p:grpSpPr>
        <p:sp>
          <p:nvSpPr>
            <p:cNvPr id="1148" name="Oval 1028"/>
            <p:cNvSpPr/>
            <p:nvPr/>
          </p:nvSpPr>
          <p:spPr>
            <a:xfrm rot="19702800">
              <a:off x="2271600" y="3432240"/>
              <a:ext cx="1487520" cy="14540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9" name="Group 1029"/>
            <p:cNvGrpSpPr/>
            <p:nvPr/>
          </p:nvGrpSpPr>
          <p:grpSpPr>
            <a:xfrm>
              <a:off x="2386800" y="3431160"/>
              <a:ext cx="1199520" cy="1388160"/>
              <a:chOff x="2386800" y="3431160"/>
              <a:chExt cx="1199520" cy="1388160"/>
            </a:xfrm>
          </p:grpSpPr>
          <p:sp>
            <p:nvSpPr>
              <p:cNvPr id="1150" name="AutoShape 1030"/>
              <p:cNvSpPr/>
              <p:nvPr/>
            </p:nvSpPr>
            <p:spPr>
              <a:xfrm rot="19702800">
                <a:off x="2499120" y="3556440"/>
                <a:ext cx="652320" cy="614160"/>
              </a:xfrm>
              <a:prstGeom prst="triangle">
                <a:avLst>
                  <a:gd name="adj" fmla="val 50000"/>
                </a:avLst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AutoShape 1031"/>
              <p:cNvSpPr/>
              <p:nvPr/>
            </p:nvSpPr>
            <p:spPr>
              <a:xfrm flipV="1" rot="19702800">
                <a:off x="2821320" y="4079160"/>
                <a:ext cx="652320" cy="6145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2" name="WordArt 1032"/>
            <p:cNvSpPr txBox="1"/>
            <p:nvPr/>
          </p:nvSpPr>
          <p:spPr>
            <a:xfrm rot="19702800">
              <a:off x="2729520" y="3768120"/>
              <a:ext cx="187200" cy="18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53" name="Oval 1033"/>
            <p:cNvSpPr/>
            <p:nvPr/>
          </p:nvSpPr>
          <p:spPr>
            <a:xfrm rot="19702800">
              <a:off x="2952000" y="4096080"/>
              <a:ext cx="6768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4" name="Picture 1034" descr=""/>
          <p:cNvPicPr/>
          <p:nvPr/>
        </p:nvPicPr>
        <p:blipFill>
          <a:blip r:embed="rId2"/>
          <a:stretch/>
        </p:blipFill>
        <p:spPr>
          <a:xfrm>
            <a:off x="6762600" y="3130560"/>
            <a:ext cx="2376720" cy="3727440"/>
          </a:xfrm>
          <a:prstGeom prst="rect">
            <a:avLst/>
          </a:prstGeom>
          <a:ln w="0">
            <a:noFill/>
          </a:ln>
        </p:spPr>
      </p:pic>
      <p:sp>
        <p:nvSpPr>
          <p:cNvPr id="1155" name="AutoShape 1035"/>
          <p:cNvSpPr/>
          <p:nvPr/>
        </p:nvSpPr>
        <p:spPr>
          <a:xfrm>
            <a:off x="3638520" y="895320"/>
            <a:ext cx="5162760" cy="2284560"/>
          </a:xfrm>
          <a:prstGeom prst="cloudCallout">
            <a:avLst>
              <a:gd name="adj1" fmla="val 22078"/>
              <a:gd name="adj2" fmla="val 65078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WordArt 1036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grpSp>
        <p:nvGrpSpPr>
          <p:cNvPr id="1157" name="Group 1037"/>
          <p:cNvGrpSpPr/>
          <p:nvPr/>
        </p:nvGrpSpPr>
        <p:grpSpPr>
          <a:xfrm>
            <a:off x="4000680" y="1257480"/>
            <a:ext cx="4705200" cy="1371600"/>
            <a:chOff x="4000680" y="1257480"/>
            <a:chExt cx="4705200" cy="1371600"/>
          </a:xfrm>
        </p:grpSpPr>
        <p:sp>
          <p:nvSpPr>
            <p:cNvPr id="1158" name="WordArt 1038"/>
            <p:cNvSpPr txBox="1"/>
            <p:nvPr/>
          </p:nvSpPr>
          <p:spPr>
            <a:xfrm>
              <a:off x="5048280" y="1866960"/>
              <a:ext cx="23907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0">
                    <a:noFill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NORTH POLE</a:t>
              </a:r>
              <a:endParaRPr b="0" lang="en-US" sz="36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59" name="Text Box 1039"/>
            <p:cNvSpPr/>
            <p:nvPr/>
          </p:nvSpPr>
          <p:spPr>
            <a:xfrm>
              <a:off x="4000680" y="1257480"/>
              <a:ext cx="470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otice that the geograph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0" name="Picture 1040" descr=""/>
          <p:cNvPicPr/>
          <p:nvPr/>
        </p:nvPicPr>
        <p:blipFill>
          <a:blip r:embed="rId4"/>
          <a:stretch/>
        </p:blipFill>
        <p:spPr>
          <a:xfrm flipH="1">
            <a:off x="1304640" y="1617840"/>
            <a:ext cx="1160280" cy="127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1" name="Group 2"/>
          <p:cNvGrpSpPr/>
          <p:nvPr/>
        </p:nvGrpSpPr>
        <p:grpSpPr>
          <a:xfrm>
            <a:off x="-540000" y="759600"/>
            <a:ext cx="7099200" cy="6951600"/>
            <a:chOff x="-540000" y="759600"/>
            <a:chExt cx="7099200" cy="6951600"/>
          </a:xfrm>
        </p:grpSpPr>
        <p:grpSp>
          <p:nvGrpSpPr>
            <p:cNvPr id="1162" name="Group 3"/>
            <p:cNvGrpSpPr/>
            <p:nvPr/>
          </p:nvGrpSpPr>
          <p:grpSpPr>
            <a:xfrm>
              <a:off x="1605600" y="759600"/>
              <a:ext cx="4953600" cy="5761080"/>
              <a:chOff x="1605600" y="759600"/>
              <a:chExt cx="4953600" cy="5761080"/>
            </a:xfrm>
          </p:grpSpPr>
          <p:grpSp>
            <p:nvGrpSpPr>
              <p:cNvPr id="1163" name="Group 4"/>
              <p:cNvGrpSpPr/>
              <p:nvPr/>
            </p:nvGrpSpPr>
            <p:grpSpPr>
              <a:xfrm>
                <a:off x="1605600" y="759600"/>
                <a:ext cx="4953600" cy="5761080"/>
                <a:chOff x="1605600" y="759600"/>
                <a:chExt cx="4953600" cy="5761080"/>
              </a:xfrm>
            </p:grpSpPr>
            <p:sp>
              <p:nvSpPr>
                <p:cNvPr id="1164" name="Oval 5"/>
                <p:cNvSpPr/>
                <p:nvPr/>
              </p:nvSpPr>
              <p:spPr>
                <a:xfrm rot="20107800">
                  <a:off x="2574360" y="1676160"/>
                  <a:ext cx="2653560" cy="408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Oval 6"/>
                <p:cNvSpPr/>
                <p:nvPr/>
              </p:nvSpPr>
              <p:spPr>
                <a:xfrm rot="20107800">
                  <a:off x="2527560" y="1462680"/>
                  <a:ext cx="2916000" cy="4508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Oval 7"/>
                <p:cNvSpPr/>
                <p:nvPr/>
              </p:nvSpPr>
              <p:spPr>
                <a:xfrm rot="20107800">
                  <a:off x="2479680" y="1208160"/>
                  <a:ext cx="3205440" cy="48639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7" name="Group 8"/>
              <p:cNvGrpSpPr/>
              <p:nvPr/>
            </p:nvGrpSpPr>
            <p:grpSpPr>
              <a:xfrm>
                <a:off x="2899440" y="1286280"/>
                <a:ext cx="2991960" cy="4733280"/>
                <a:chOff x="2899440" y="1286280"/>
                <a:chExt cx="2991960" cy="4733280"/>
              </a:xfrm>
            </p:grpSpPr>
            <p:sp>
              <p:nvSpPr>
                <p:cNvPr id="1168" name="Freeform 9"/>
                <p:cNvSpPr/>
                <p:nvPr/>
              </p:nvSpPr>
              <p:spPr>
                <a:xfrm flipH="1" flipV="1" rot="4900200">
                  <a:off x="5250600" y="5320440"/>
                  <a:ext cx="164880" cy="16488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10"/>
                <p:cNvSpPr/>
                <p:nvPr/>
              </p:nvSpPr>
              <p:spPr>
                <a:xfrm flipH="1" flipV="1" rot="571200">
                  <a:off x="4991040" y="2603160"/>
                  <a:ext cx="164880" cy="16488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Freeform 11"/>
                <p:cNvSpPr/>
                <p:nvPr/>
              </p:nvSpPr>
              <p:spPr>
                <a:xfrm flipH="1" flipV="1" rot="3590400">
                  <a:off x="5695920" y="4896000"/>
                  <a:ext cx="164880" cy="16488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Freeform 12"/>
                <p:cNvSpPr/>
                <p:nvPr/>
              </p:nvSpPr>
              <p:spPr>
                <a:xfrm flipH="1" flipV="1" rot="2943000">
                  <a:off x="5270760" y="4565880"/>
                  <a:ext cx="164880" cy="16488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Freeform 13"/>
                <p:cNvSpPr/>
                <p:nvPr/>
              </p:nvSpPr>
              <p:spPr>
                <a:xfrm flipH="1" flipV="1" rot="2455200">
                  <a:off x="5511600" y="409572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Freeform 14"/>
                <p:cNvSpPr/>
                <p:nvPr/>
              </p:nvSpPr>
              <p:spPr>
                <a:xfrm flipH="1" flipV="1" rot="1501200">
                  <a:off x="5124240" y="334656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Freeform 15"/>
                <p:cNvSpPr/>
                <p:nvPr/>
              </p:nvSpPr>
              <p:spPr>
                <a:xfrm flipH="1" flipV="1" rot="1730400">
                  <a:off x="5631840" y="337104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Freeform 16"/>
                <p:cNvSpPr/>
                <p:nvPr/>
              </p:nvSpPr>
              <p:spPr>
                <a:xfrm flipH="1" flipV="1" rot="20854200">
                  <a:off x="4399920" y="218376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Freeform 17"/>
                <p:cNvSpPr/>
                <p:nvPr/>
              </p:nvSpPr>
              <p:spPr>
                <a:xfrm flipH="1" flipV="1" rot="20854200">
                  <a:off x="4914360" y="2013120"/>
                  <a:ext cx="165240" cy="16488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Freeform 18"/>
                <p:cNvSpPr/>
                <p:nvPr/>
              </p:nvSpPr>
              <p:spPr>
                <a:xfrm flipH="1" flipV="1" rot="19313400">
                  <a:off x="3567960" y="1733400"/>
                  <a:ext cx="164880" cy="16524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Freeform 19"/>
                <p:cNvSpPr/>
                <p:nvPr/>
              </p:nvSpPr>
              <p:spPr>
                <a:xfrm flipH="1" flipV="1" rot="20060400">
                  <a:off x="3834360" y="131328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Freeform 20"/>
                <p:cNvSpPr/>
                <p:nvPr/>
              </p:nvSpPr>
              <p:spPr>
                <a:xfrm flipH="1" flipV="1" rot="17265000">
                  <a:off x="2920320" y="161136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Freeform 21"/>
                <p:cNvSpPr/>
                <p:nvPr/>
              </p:nvSpPr>
              <p:spPr>
                <a:xfrm flipH="1" flipV="1" rot="21376800">
                  <a:off x="4178520" y="177768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Freeform 22"/>
                <p:cNvSpPr/>
                <p:nvPr/>
              </p:nvSpPr>
              <p:spPr>
                <a:xfrm flipH="1" flipV="1" rot="6757200">
                  <a:off x="4882320" y="5828760"/>
                  <a:ext cx="164880" cy="16488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Freeform 23"/>
                <p:cNvSpPr/>
                <p:nvPr/>
              </p:nvSpPr>
              <p:spPr>
                <a:xfrm flipH="1" flipV="1" rot="6757200">
                  <a:off x="4482360" y="5562000"/>
                  <a:ext cx="164880" cy="16488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3" name="Group 24"/>
            <p:cNvGrpSpPr/>
            <p:nvPr/>
          </p:nvGrpSpPr>
          <p:grpSpPr>
            <a:xfrm>
              <a:off x="-540000" y="1951920"/>
              <a:ext cx="4953240" cy="5759280"/>
              <a:chOff x="-540000" y="1951920"/>
              <a:chExt cx="4953240" cy="5759280"/>
            </a:xfrm>
          </p:grpSpPr>
          <p:grpSp>
            <p:nvGrpSpPr>
              <p:cNvPr id="1184" name="Group 25"/>
              <p:cNvGrpSpPr/>
              <p:nvPr/>
            </p:nvGrpSpPr>
            <p:grpSpPr>
              <a:xfrm>
                <a:off x="-540000" y="1951920"/>
                <a:ext cx="4953240" cy="5759280"/>
                <a:chOff x="-540000" y="1951920"/>
                <a:chExt cx="4953240" cy="5759280"/>
              </a:xfrm>
            </p:grpSpPr>
            <p:sp>
              <p:nvSpPr>
                <p:cNvPr id="1185" name="Oval 26"/>
                <p:cNvSpPr/>
                <p:nvPr/>
              </p:nvSpPr>
              <p:spPr>
                <a:xfrm flipH="1" rot="19900800">
                  <a:off x="875520" y="2668320"/>
                  <a:ext cx="2450880" cy="4154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Oval 27"/>
                <p:cNvSpPr/>
                <p:nvPr/>
              </p:nvSpPr>
              <p:spPr>
                <a:xfrm flipH="1" rot="19900800">
                  <a:off x="706320" y="2514240"/>
                  <a:ext cx="2693160" cy="45853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Oval 28"/>
                <p:cNvSpPr/>
                <p:nvPr/>
              </p:nvSpPr>
              <p:spPr>
                <a:xfrm flipH="1" rot="19900800">
                  <a:off x="455760" y="2358000"/>
                  <a:ext cx="2960640" cy="4947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8" name="Group 29"/>
              <p:cNvGrpSpPr/>
              <p:nvPr/>
            </p:nvGrpSpPr>
            <p:grpSpPr>
              <a:xfrm>
                <a:off x="79560" y="2513880"/>
                <a:ext cx="3472920" cy="4667760"/>
                <a:chOff x="79560" y="2513880"/>
                <a:chExt cx="3472920" cy="4667760"/>
              </a:xfrm>
            </p:grpSpPr>
            <p:sp>
              <p:nvSpPr>
                <p:cNvPr id="1189" name="Freeform 30"/>
                <p:cNvSpPr/>
                <p:nvPr/>
              </p:nvSpPr>
              <p:spPr>
                <a:xfrm flipH="1" flipV="1" rot="15092400">
                  <a:off x="3365280" y="607032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Freeform 31"/>
                <p:cNvSpPr/>
                <p:nvPr/>
              </p:nvSpPr>
              <p:spPr>
                <a:xfrm flipH="1" flipV="1" rot="16827000">
                  <a:off x="3282120" y="657756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Freeform 32"/>
                <p:cNvSpPr/>
                <p:nvPr/>
              </p:nvSpPr>
              <p:spPr>
                <a:xfrm flipH="1" flipV="1" rot="17989200">
                  <a:off x="3003480" y="6953400"/>
                  <a:ext cx="164880" cy="16452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-360 h 164520"/>
                    <a:gd name="textAreaBottom" fmla="*/ 164520 h 16452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Freeform 33"/>
                <p:cNvSpPr/>
                <p:nvPr/>
              </p:nvSpPr>
              <p:spPr>
                <a:xfrm flipH="1" flipV="1" rot="19122000">
                  <a:off x="2565000" y="6571080"/>
                  <a:ext cx="164880" cy="16524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Freeform 34"/>
                <p:cNvSpPr/>
                <p:nvPr/>
              </p:nvSpPr>
              <p:spPr>
                <a:xfrm flipH="1" flipV="1" rot="20673600">
                  <a:off x="2197080" y="6997320"/>
                  <a:ext cx="164880" cy="16524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Freeform 35"/>
                <p:cNvSpPr/>
                <p:nvPr/>
              </p:nvSpPr>
              <p:spPr>
                <a:xfrm flipH="1" flipV="1" rot="21015000">
                  <a:off x="1803600" y="655308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Freeform 36"/>
                <p:cNvSpPr/>
                <p:nvPr/>
              </p:nvSpPr>
              <p:spPr>
                <a:xfrm flipH="1" flipV="1" rot="21436800">
                  <a:off x="1536480" y="607680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Freeform 37"/>
                <p:cNvSpPr/>
                <p:nvPr/>
              </p:nvSpPr>
              <p:spPr>
                <a:xfrm flipH="1" flipV="1" rot="21435600">
                  <a:off x="1046880" y="6152040"/>
                  <a:ext cx="165240" cy="16560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5600"/>
                    <a:gd name="textAreaBottom" fmla="*/ 166320 h 16560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Freeform 38"/>
                <p:cNvSpPr/>
                <p:nvPr/>
              </p:nvSpPr>
              <p:spPr>
                <a:xfrm flipH="1" flipV="1" rot="627000">
                  <a:off x="933120" y="5644080"/>
                  <a:ext cx="165240" cy="16560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5600"/>
                    <a:gd name="textAreaBottom" fmla="*/ 166320 h 16560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Freeform 39"/>
                <p:cNvSpPr/>
                <p:nvPr/>
              </p:nvSpPr>
              <p:spPr>
                <a:xfrm flipH="1" flipV="1" rot="1126800">
                  <a:off x="844560" y="5054400"/>
                  <a:ext cx="165240" cy="16488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Freeform 40"/>
                <p:cNvSpPr/>
                <p:nvPr/>
              </p:nvSpPr>
              <p:spPr>
                <a:xfrm flipH="1" flipV="1" rot="1128600">
                  <a:off x="355320" y="5034600"/>
                  <a:ext cx="165240" cy="16488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Freeform 41"/>
                <p:cNvSpPr/>
                <p:nvPr/>
              </p:nvSpPr>
              <p:spPr>
                <a:xfrm flipH="1" flipV="1" rot="2191800">
                  <a:off x="577080" y="3993480"/>
                  <a:ext cx="164880" cy="16488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Freeform 42"/>
                <p:cNvSpPr/>
                <p:nvPr/>
              </p:nvSpPr>
              <p:spPr>
                <a:xfrm flipH="1" flipV="1" rot="1657800">
                  <a:off x="462600" y="4578480"/>
                  <a:ext cx="165240" cy="16488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Freeform 43"/>
                <p:cNvSpPr/>
                <p:nvPr/>
              </p:nvSpPr>
              <p:spPr>
                <a:xfrm flipH="1" flipV="1" rot="2736600">
                  <a:off x="113040" y="370764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Freeform 44"/>
                <p:cNvSpPr/>
                <p:nvPr/>
              </p:nvSpPr>
              <p:spPr>
                <a:xfrm flipH="1" flipV="1" rot="4624200">
                  <a:off x="768240" y="3098880"/>
                  <a:ext cx="165240" cy="16524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-360 h 165240"/>
                    <a:gd name="textAreaBottom" fmla="*/ 165240 h 16524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Freeform 45"/>
                <p:cNvSpPr/>
                <p:nvPr/>
              </p:nvSpPr>
              <p:spPr>
                <a:xfrm flipH="1" flipV="1" rot="4356600">
                  <a:off x="279720" y="2997360"/>
                  <a:ext cx="164880" cy="16488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Freeform 46"/>
                <p:cNvSpPr/>
                <p:nvPr/>
              </p:nvSpPr>
              <p:spPr>
                <a:xfrm flipH="1" flipV="1" rot="6394800">
                  <a:off x="1015920" y="2672640"/>
                  <a:ext cx="165240" cy="16488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Freeform 47"/>
                <p:cNvSpPr/>
                <p:nvPr/>
              </p:nvSpPr>
              <p:spPr>
                <a:xfrm flipH="1" flipV="1" rot="9368400">
                  <a:off x="1581480" y="2539800"/>
                  <a:ext cx="164880" cy="164880"/>
                </a:xfrm>
                <a:custGeom>
                  <a:avLst/>
                  <a:gdLst>
                    <a:gd name="textAreaLeft" fmla="*/ 360 w 164880"/>
                    <a:gd name="textAreaRight" fmla="*/ 165600 w 164880"/>
                    <a:gd name="textAreaTop" fmla="*/ 360 h 164880"/>
                    <a:gd name="textAreaBottom" fmla="*/ 165600 h 164880"/>
                  </a:gdLst>
                  <a:ahLst/>
                  <a:rect l="textAreaLeft" t="textAreaTop" r="textAreaRight" b="textAreaBottom"/>
                  <a:pathLst>
                    <a:path w="104" h="104">
                      <a:moveTo>
                        <a:pt x="0" y="64"/>
                      </a:moveTo>
                      <a:lnTo>
                        <a:pt x="72" y="0"/>
                      </a:lnTo>
                      <a:lnTo>
                        <a:pt x="104" y="10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207" name="Picture 48" descr=""/>
          <p:cNvPicPr/>
          <p:nvPr/>
        </p:nvPicPr>
        <p:blipFill>
          <a:blip r:embed="rId1"/>
          <a:stretch/>
        </p:blipFill>
        <p:spPr>
          <a:xfrm>
            <a:off x="1162080" y="2313000"/>
            <a:ext cx="3695760" cy="3695760"/>
          </a:xfrm>
          <a:prstGeom prst="rect">
            <a:avLst/>
          </a:prstGeom>
          <a:ln w="0">
            <a:noFill/>
          </a:ln>
        </p:spPr>
      </p:pic>
      <p:grpSp>
        <p:nvGrpSpPr>
          <p:cNvPr id="1208" name="Group 49"/>
          <p:cNvGrpSpPr/>
          <p:nvPr/>
        </p:nvGrpSpPr>
        <p:grpSpPr>
          <a:xfrm>
            <a:off x="1866600" y="2529000"/>
            <a:ext cx="2301480" cy="3255120"/>
            <a:chOff x="1866600" y="2529000"/>
            <a:chExt cx="2301480" cy="3255120"/>
          </a:xfrm>
        </p:grpSpPr>
        <p:sp>
          <p:nvSpPr>
            <p:cNvPr id="1209" name="Rectangle 50"/>
            <p:cNvSpPr/>
            <p:nvPr/>
          </p:nvSpPr>
          <p:spPr>
            <a:xfrm rot="19832400">
              <a:off x="2227320" y="2615760"/>
              <a:ext cx="795240" cy="16765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Rectangle 51"/>
            <p:cNvSpPr/>
            <p:nvPr/>
          </p:nvSpPr>
          <p:spPr>
            <a:xfrm rot="19832400">
              <a:off x="3013200" y="4020840"/>
              <a:ext cx="793800" cy="167616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WordArt 52"/>
            <p:cNvSpPr txBox="1"/>
            <p:nvPr/>
          </p:nvSpPr>
          <p:spPr>
            <a:xfrm rot="19751400">
              <a:off x="2209680" y="2822040"/>
              <a:ext cx="44784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9048000"/>
                  </a:gra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9048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12" name="WordArt 53"/>
            <p:cNvSpPr txBox="1"/>
            <p:nvPr/>
          </p:nvSpPr>
          <p:spPr>
            <a:xfrm rot="19751400">
              <a:off x="3419280" y="5024520"/>
              <a:ext cx="447480" cy="482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9048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9048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1213" name="Group 54"/>
          <p:cNvGrpSpPr/>
          <p:nvPr/>
        </p:nvGrpSpPr>
        <p:grpSpPr>
          <a:xfrm>
            <a:off x="2000880" y="3150360"/>
            <a:ext cx="2028960" cy="2017800"/>
            <a:chOff x="2000880" y="3150360"/>
            <a:chExt cx="2028960" cy="2017800"/>
          </a:xfrm>
        </p:grpSpPr>
        <p:sp>
          <p:nvSpPr>
            <p:cNvPr id="1214" name="Oval 55"/>
            <p:cNvSpPr/>
            <p:nvPr/>
          </p:nvSpPr>
          <p:spPr>
            <a:xfrm rot="19702800">
              <a:off x="2271600" y="3432240"/>
              <a:ext cx="1487520" cy="14540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5" name="Group 56"/>
            <p:cNvGrpSpPr/>
            <p:nvPr/>
          </p:nvGrpSpPr>
          <p:grpSpPr>
            <a:xfrm>
              <a:off x="2386800" y="3431160"/>
              <a:ext cx="1199520" cy="1388160"/>
              <a:chOff x="2386800" y="3431160"/>
              <a:chExt cx="1199520" cy="1388160"/>
            </a:xfrm>
          </p:grpSpPr>
          <p:sp>
            <p:nvSpPr>
              <p:cNvPr id="1216" name="AutoShape 57"/>
              <p:cNvSpPr/>
              <p:nvPr/>
            </p:nvSpPr>
            <p:spPr>
              <a:xfrm rot="19702800">
                <a:off x="2499120" y="3556440"/>
                <a:ext cx="652320" cy="614160"/>
              </a:xfrm>
              <a:prstGeom prst="triangle">
                <a:avLst>
                  <a:gd name="adj" fmla="val 50000"/>
                </a:avLst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AutoShape 58"/>
              <p:cNvSpPr/>
              <p:nvPr/>
            </p:nvSpPr>
            <p:spPr>
              <a:xfrm flipV="1" rot="19702800">
                <a:off x="2821320" y="4079160"/>
                <a:ext cx="652320" cy="6145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WordArt 59"/>
            <p:cNvSpPr txBox="1"/>
            <p:nvPr/>
          </p:nvSpPr>
          <p:spPr>
            <a:xfrm rot="19702800">
              <a:off x="2729520" y="3768120"/>
              <a:ext cx="187200" cy="18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19" name="Oval 60"/>
            <p:cNvSpPr/>
            <p:nvPr/>
          </p:nvSpPr>
          <p:spPr>
            <a:xfrm rot="19702800">
              <a:off x="2952000" y="4096080"/>
              <a:ext cx="6768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20" name="Picture 61" descr=""/>
          <p:cNvPicPr/>
          <p:nvPr/>
        </p:nvPicPr>
        <p:blipFill>
          <a:blip r:embed="rId2"/>
          <a:stretch/>
        </p:blipFill>
        <p:spPr>
          <a:xfrm>
            <a:off x="6762600" y="3130560"/>
            <a:ext cx="2376720" cy="3727440"/>
          </a:xfrm>
          <a:prstGeom prst="rect">
            <a:avLst/>
          </a:prstGeom>
          <a:ln w="0">
            <a:noFill/>
          </a:ln>
        </p:spPr>
      </p:pic>
      <p:sp>
        <p:nvSpPr>
          <p:cNvPr id="1221" name="AutoShape 62"/>
          <p:cNvSpPr/>
          <p:nvPr/>
        </p:nvSpPr>
        <p:spPr>
          <a:xfrm>
            <a:off x="3638520" y="895320"/>
            <a:ext cx="5162760" cy="2284560"/>
          </a:xfrm>
          <a:prstGeom prst="cloudCallout">
            <a:avLst>
              <a:gd name="adj1" fmla="val 22078"/>
              <a:gd name="adj2" fmla="val 65078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2" name="Group 63"/>
          <p:cNvGrpSpPr/>
          <p:nvPr/>
        </p:nvGrpSpPr>
        <p:grpSpPr>
          <a:xfrm>
            <a:off x="1953720" y="1184400"/>
            <a:ext cx="555840" cy="549000"/>
            <a:chOff x="1953720" y="1184400"/>
            <a:chExt cx="555840" cy="549000"/>
          </a:xfrm>
        </p:grpSpPr>
        <p:sp>
          <p:nvSpPr>
            <p:cNvPr id="1223" name="AutoShape 64"/>
            <p:cNvSpPr/>
            <p:nvPr/>
          </p:nvSpPr>
          <p:spPr>
            <a:xfrm>
              <a:off x="2167920" y="118440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AutoShape 65"/>
            <p:cNvSpPr/>
            <p:nvPr/>
          </p:nvSpPr>
          <p:spPr>
            <a:xfrm rot="4399800">
              <a:off x="2326680" y="1315440"/>
              <a:ext cx="124560" cy="214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AutoShape 66"/>
            <p:cNvSpPr/>
            <p:nvPr/>
          </p:nvSpPr>
          <p:spPr>
            <a:xfrm rot="8517600">
              <a:off x="2268360" y="150300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AutoShape 67"/>
            <p:cNvSpPr/>
            <p:nvPr/>
          </p:nvSpPr>
          <p:spPr>
            <a:xfrm rot="13029600">
              <a:off x="2055600" y="150336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AutoShape 68"/>
            <p:cNvSpPr/>
            <p:nvPr/>
          </p:nvSpPr>
          <p:spPr>
            <a:xfrm rot="17181000">
              <a:off x="2011680" y="1315440"/>
              <a:ext cx="124560" cy="214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Oval 69"/>
            <p:cNvSpPr/>
            <p:nvPr/>
          </p:nvSpPr>
          <p:spPr>
            <a:xfrm>
              <a:off x="2140920" y="1374480"/>
              <a:ext cx="168120" cy="190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Group 70"/>
          <p:cNvGrpSpPr/>
          <p:nvPr/>
        </p:nvGrpSpPr>
        <p:grpSpPr>
          <a:xfrm>
            <a:off x="7609680" y="266760"/>
            <a:ext cx="556200" cy="549000"/>
            <a:chOff x="7609680" y="266760"/>
            <a:chExt cx="556200" cy="549000"/>
          </a:xfrm>
        </p:grpSpPr>
        <p:sp>
          <p:nvSpPr>
            <p:cNvPr id="1230" name="AutoShape 71"/>
            <p:cNvSpPr/>
            <p:nvPr/>
          </p:nvSpPr>
          <p:spPr>
            <a:xfrm>
              <a:off x="7823880" y="26676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AutoShape 72"/>
            <p:cNvSpPr/>
            <p:nvPr/>
          </p:nvSpPr>
          <p:spPr>
            <a:xfrm rot="4399800">
              <a:off x="7983000" y="397800"/>
              <a:ext cx="124560" cy="214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AutoShape 73"/>
            <p:cNvSpPr/>
            <p:nvPr/>
          </p:nvSpPr>
          <p:spPr>
            <a:xfrm rot="8517600">
              <a:off x="7924680" y="58536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AutoShape 74"/>
            <p:cNvSpPr/>
            <p:nvPr/>
          </p:nvSpPr>
          <p:spPr>
            <a:xfrm rot="13029600">
              <a:off x="7711560" y="58572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AutoShape 75"/>
            <p:cNvSpPr/>
            <p:nvPr/>
          </p:nvSpPr>
          <p:spPr>
            <a:xfrm rot="17181000">
              <a:off x="7667640" y="397800"/>
              <a:ext cx="124560" cy="214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Oval 76"/>
            <p:cNvSpPr/>
            <p:nvPr/>
          </p:nvSpPr>
          <p:spPr>
            <a:xfrm>
              <a:off x="7797240" y="456840"/>
              <a:ext cx="168120" cy="190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6" name="WordArt 77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grpSp>
        <p:nvGrpSpPr>
          <p:cNvPr id="1237" name="Group 78"/>
          <p:cNvGrpSpPr/>
          <p:nvPr/>
        </p:nvGrpSpPr>
        <p:grpSpPr>
          <a:xfrm>
            <a:off x="4000680" y="1257480"/>
            <a:ext cx="4705200" cy="1371600"/>
            <a:chOff x="4000680" y="1257480"/>
            <a:chExt cx="4705200" cy="1371600"/>
          </a:xfrm>
        </p:grpSpPr>
        <p:sp>
          <p:nvSpPr>
            <p:cNvPr id="1238" name="WordArt 79"/>
            <p:cNvSpPr txBox="1"/>
            <p:nvPr/>
          </p:nvSpPr>
          <p:spPr>
            <a:xfrm>
              <a:off x="5048280" y="1866960"/>
              <a:ext cx="23907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0">
                    <a:noFill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SOUTH POLE</a:t>
              </a:r>
              <a:endParaRPr b="0" lang="en-US" sz="36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239" name="Text Box 80"/>
            <p:cNvSpPr/>
            <p:nvPr/>
          </p:nvSpPr>
          <p:spPr>
            <a:xfrm>
              <a:off x="4000680" y="1257480"/>
              <a:ext cx="470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s really a magnet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picture of a bar magnet cant be true because the center of the earth is hot liquid lava. Magnets are destroyed by hea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1" name="Picture 1029" descr="FG19_029"/>
          <p:cNvPicPr/>
          <p:nvPr/>
        </p:nvPicPr>
        <p:blipFill>
          <a:blip r:embed="rId1"/>
          <a:stretch/>
        </p:blipFill>
        <p:spPr>
          <a:xfrm>
            <a:off x="3276720" y="182880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WordArt 2050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1243" name="WordArt 2051"/>
          <p:cNvSpPr txBox="1"/>
          <p:nvPr/>
        </p:nvSpPr>
        <p:spPr>
          <a:xfrm>
            <a:off x="1733400" y="1162080"/>
            <a:ext cx="5639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around permanent magnet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1244" name="Picture 2052" descr=""/>
          <p:cNvPicPr/>
          <p:nvPr/>
        </p:nvPicPr>
        <p:blipFill>
          <a:blip r:embed="rId3"/>
          <a:stretch/>
        </p:blipFill>
        <p:spPr>
          <a:xfrm>
            <a:off x="7147080" y="3683160"/>
            <a:ext cx="1939680" cy="3041640"/>
          </a:xfrm>
          <a:prstGeom prst="rect">
            <a:avLst/>
          </a:prstGeom>
          <a:ln w="0">
            <a:noFill/>
          </a:ln>
        </p:spPr>
      </p:pic>
      <p:sp>
        <p:nvSpPr>
          <p:cNvPr id="1245" name="AutoShape 2053"/>
          <p:cNvSpPr/>
          <p:nvPr/>
        </p:nvSpPr>
        <p:spPr>
          <a:xfrm>
            <a:off x="4476600" y="1809720"/>
            <a:ext cx="4667400" cy="1695600"/>
          </a:xfrm>
          <a:prstGeom prst="cloudCallout">
            <a:avLst>
              <a:gd name="adj1" fmla="val 15032"/>
              <a:gd name="adj2" fmla="val 87078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054"/>
          <p:cNvSpPr/>
          <p:nvPr/>
        </p:nvSpPr>
        <p:spPr>
          <a:xfrm>
            <a:off x="4761000" y="1886040"/>
            <a:ext cx="428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QUESTION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at is the direction of the magnetic field at poin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" name="Group 2055"/>
          <p:cNvGrpSpPr/>
          <p:nvPr/>
        </p:nvGrpSpPr>
        <p:grpSpPr>
          <a:xfrm>
            <a:off x="246600" y="3605400"/>
            <a:ext cx="2320560" cy="766080"/>
            <a:chOff x="246600" y="3605400"/>
            <a:chExt cx="2320560" cy="766080"/>
          </a:xfrm>
        </p:grpSpPr>
        <p:sp>
          <p:nvSpPr>
            <p:cNvPr id="1248" name="Rectangle 2056"/>
            <p:cNvSpPr/>
            <p:nvPr/>
          </p:nvSpPr>
          <p:spPr>
            <a:xfrm rot="10808400">
              <a:off x="1405800" y="3606840"/>
              <a:ext cx="1160280" cy="7603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Rectangle 2057"/>
            <p:cNvSpPr/>
            <p:nvPr/>
          </p:nvSpPr>
          <p:spPr>
            <a:xfrm rot="10808400">
              <a:off x="247320" y="3607920"/>
              <a:ext cx="1162080" cy="762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WordArt 2058"/>
            <p:cNvSpPr txBox="1"/>
            <p:nvPr/>
          </p:nvSpPr>
          <p:spPr>
            <a:xfrm>
              <a:off x="2087640" y="3781440"/>
              <a:ext cx="3632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51" name="WordArt 2059"/>
            <p:cNvSpPr txBox="1"/>
            <p:nvPr/>
          </p:nvSpPr>
          <p:spPr>
            <a:xfrm>
              <a:off x="384120" y="376236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1252" name="Group 2060"/>
          <p:cNvGrpSpPr/>
          <p:nvPr/>
        </p:nvGrpSpPr>
        <p:grpSpPr>
          <a:xfrm>
            <a:off x="4440240" y="3606840"/>
            <a:ext cx="2362320" cy="761760"/>
            <a:chOff x="4440240" y="3606840"/>
            <a:chExt cx="2362320" cy="761760"/>
          </a:xfrm>
        </p:grpSpPr>
        <p:sp>
          <p:nvSpPr>
            <p:cNvPr id="1253" name="Rectangle 2061"/>
            <p:cNvSpPr/>
            <p:nvPr/>
          </p:nvSpPr>
          <p:spPr>
            <a:xfrm>
              <a:off x="4440240" y="3606840"/>
              <a:ext cx="1181160" cy="761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Rectangle 2062"/>
            <p:cNvSpPr/>
            <p:nvPr/>
          </p:nvSpPr>
          <p:spPr>
            <a:xfrm>
              <a:off x="5621400" y="3606840"/>
              <a:ext cx="118116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WordArt 2063"/>
            <p:cNvSpPr txBox="1"/>
            <p:nvPr/>
          </p:nvSpPr>
          <p:spPr>
            <a:xfrm>
              <a:off x="4546440" y="374004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56" name="WordArt 2064"/>
            <p:cNvSpPr txBox="1"/>
            <p:nvPr/>
          </p:nvSpPr>
          <p:spPr>
            <a:xfrm>
              <a:off x="6291360" y="374004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257" name="Oval 2065"/>
          <p:cNvSpPr/>
          <p:nvPr/>
        </p:nvSpPr>
        <p:spPr>
          <a:xfrm>
            <a:off x="3429000" y="2762280"/>
            <a:ext cx="114480" cy="1141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066"/>
          <p:cNvSpPr/>
          <p:nvPr/>
        </p:nvSpPr>
        <p:spPr>
          <a:xfrm>
            <a:off x="3105000" y="2381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WordArt 2067"/>
          <p:cNvSpPr txBox="1"/>
          <p:nvPr/>
        </p:nvSpPr>
        <p:spPr>
          <a:xfrm>
            <a:off x="1023840" y="5181480"/>
            <a:ext cx="51912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UP    DOWN    RIGHT    LEFT</a:t>
            </a:r>
            <a:endParaRPr b="0" lang="en-US" sz="3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1260" name="Text Box 2068"/>
          <p:cNvSpPr/>
          <p:nvPr/>
        </p:nvSpPr>
        <p:spPr>
          <a:xfrm>
            <a:off x="781200" y="614844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your best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poles"/>
          <p:cNvPicPr/>
          <p:nvPr/>
        </p:nvPicPr>
        <p:blipFill>
          <a:blip r:embed="rId1"/>
          <a:stretch/>
        </p:blipFill>
        <p:spPr>
          <a:xfrm>
            <a:off x="2133720" y="685800"/>
            <a:ext cx="5064120" cy="5925960"/>
          </a:xfrm>
          <a:prstGeom prst="rect">
            <a:avLst/>
          </a:prstGeom>
          <a:ln w="0">
            <a:noFill/>
          </a:ln>
        </p:spPr>
      </p:pic>
      <p:grpSp>
        <p:nvGrpSpPr>
          <p:cNvPr id="130" name="SMARTInkShape-Group27"/>
          <p:cNvGrpSpPr/>
          <p:nvPr/>
        </p:nvGrpSpPr>
        <p:grpSpPr>
          <a:xfrm>
            <a:off x="2357280" y="220680"/>
            <a:ext cx="4351320" cy="1360440"/>
            <a:chOff x="2357280" y="220680"/>
            <a:chExt cx="4351320" cy="1360440"/>
          </a:xfrm>
        </p:grpSpPr>
        <p:sp>
          <p:nvSpPr>
            <p:cNvPr id="131" name="SMARTInkShape-63"/>
            <p:cNvSpPr/>
            <p:nvPr/>
          </p:nvSpPr>
          <p:spPr>
            <a:xfrm>
              <a:off x="5894280" y="427680"/>
              <a:ext cx="814320" cy="52164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814264" h="521495">
                  <a:moveTo>
                    <a:pt x="107032" y="0"/>
                  </a:moveTo>
                  <a:lnTo>
                    <a:pt x="107032" y="3792"/>
                  </a:lnTo>
                  <a:lnTo>
                    <a:pt x="99756" y="38608"/>
                  </a:lnTo>
                  <a:lnTo>
                    <a:pt x="93587" y="68942"/>
                  </a:lnTo>
                  <a:lnTo>
                    <a:pt x="82852" y="104653"/>
                  </a:lnTo>
                  <a:lnTo>
                    <a:pt x="76971" y="134090"/>
                  </a:lnTo>
                  <a:lnTo>
                    <a:pt x="71711" y="165693"/>
                  </a:lnTo>
                  <a:lnTo>
                    <a:pt x="65934" y="199054"/>
                  </a:lnTo>
                  <a:lnTo>
                    <a:pt x="62171" y="216840"/>
                  </a:lnTo>
                  <a:lnTo>
                    <a:pt x="58075" y="235048"/>
                  </a:lnTo>
                  <a:lnTo>
                    <a:pt x="54550" y="253536"/>
                  </a:lnTo>
                  <a:lnTo>
                    <a:pt x="51406" y="272211"/>
                  </a:lnTo>
                  <a:lnTo>
                    <a:pt x="48517" y="291012"/>
                  </a:lnTo>
                  <a:lnTo>
                    <a:pt x="41073" y="326718"/>
                  </a:lnTo>
                  <a:lnTo>
                    <a:pt x="33267" y="361108"/>
                  </a:lnTo>
                  <a:lnTo>
                    <a:pt x="27152" y="394913"/>
                  </a:lnTo>
                  <a:lnTo>
                    <a:pt x="21788" y="424225"/>
                  </a:lnTo>
                  <a:lnTo>
                    <a:pt x="16758" y="449688"/>
                  </a:lnTo>
                  <a:lnTo>
                    <a:pt x="9464" y="480286"/>
                  </a:lnTo>
                  <a:lnTo>
                    <a:pt x="297" y="512214"/>
                  </a:lnTo>
                  <a:lnTo>
                    <a:pt x="156" y="512132"/>
                  </a:lnTo>
                  <a:lnTo>
                    <a:pt x="0" y="509925"/>
                  </a:lnTo>
                  <a:lnTo>
                    <a:pt x="9830" y="479974"/>
                  </a:lnTo>
                  <a:lnTo>
                    <a:pt x="23920" y="444618"/>
                  </a:lnTo>
                  <a:lnTo>
                    <a:pt x="33370" y="416519"/>
                  </a:lnTo>
                  <a:lnTo>
                    <a:pt x="45872" y="388084"/>
                  </a:lnTo>
                  <a:lnTo>
                    <a:pt x="62201" y="354265"/>
                  </a:lnTo>
                  <a:lnTo>
                    <a:pt x="80723" y="320746"/>
                  </a:lnTo>
                  <a:lnTo>
                    <a:pt x="82349" y="319399"/>
                  </a:lnTo>
                  <a:lnTo>
                    <a:pt x="83433" y="319295"/>
                  </a:lnTo>
                  <a:lnTo>
                    <a:pt x="88965" y="324832"/>
                  </a:lnTo>
                  <a:lnTo>
                    <a:pt x="91065" y="331166"/>
                  </a:lnTo>
                  <a:lnTo>
                    <a:pt x="100368" y="365183"/>
                  </a:lnTo>
                  <a:lnTo>
                    <a:pt x="105057" y="388131"/>
                  </a:lnTo>
                  <a:lnTo>
                    <a:pt x="110434" y="420538"/>
                  </a:lnTo>
                  <a:lnTo>
                    <a:pt x="129941" y="454318"/>
                  </a:lnTo>
                  <a:lnTo>
                    <a:pt x="141513" y="468958"/>
                  </a:lnTo>
                  <a:lnTo>
                    <a:pt x="152519" y="474332"/>
                  </a:lnTo>
                  <a:lnTo>
                    <a:pt x="164555" y="475927"/>
                  </a:lnTo>
                  <a:lnTo>
                    <a:pt x="175195" y="473990"/>
                  </a:lnTo>
                  <a:lnTo>
                    <a:pt x="207555" y="456275"/>
                  </a:lnTo>
                  <a:lnTo>
                    <a:pt x="241243" y="432472"/>
                  </a:lnTo>
                  <a:lnTo>
                    <a:pt x="265377" y="397526"/>
                  </a:lnTo>
                  <a:lnTo>
                    <a:pt x="270161" y="373093"/>
                  </a:lnTo>
                  <a:lnTo>
                    <a:pt x="270021" y="363463"/>
                  </a:lnTo>
                  <a:lnTo>
                    <a:pt x="267314" y="356537"/>
                  </a:lnTo>
                  <a:lnTo>
                    <a:pt x="261326" y="348175"/>
                  </a:lnTo>
                  <a:lnTo>
                    <a:pt x="256834" y="345245"/>
                  </a:lnTo>
                  <a:lnTo>
                    <a:pt x="249843" y="343595"/>
                  </a:lnTo>
                  <a:lnTo>
                    <a:pt x="247483" y="343363"/>
                  </a:lnTo>
                  <a:lnTo>
                    <a:pt x="245116" y="344796"/>
                  </a:lnTo>
                  <a:lnTo>
                    <a:pt x="233234" y="359034"/>
                  </a:lnTo>
                  <a:lnTo>
                    <a:pt x="218951" y="393696"/>
                  </a:lnTo>
                  <a:lnTo>
                    <a:pt x="214815" y="426612"/>
                  </a:lnTo>
                  <a:lnTo>
                    <a:pt x="214312" y="451070"/>
                  </a:lnTo>
                  <a:lnTo>
                    <a:pt x="218477" y="462678"/>
                  </a:lnTo>
                  <a:lnTo>
                    <a:pt x="225619" y="472334"/>
                  </a:lnTo>
                  <a:lnTo>
                    <a:pt x="234085" y="479272"/>
                  </a:lnTo>
                  <a:lnTo>
                    <a:pt x="243140" y="482885"/>
                  </a:lnTo>
                  <a:lnTo>
                    <a:pt x="247777" y="483848"/>
                  </a:lnTo>
                  <a:lnTo>
                    <a:pt x="277238" y="479691"/>
                  </a:lnTo>
                  <a:lnTo>
                    <a:pt x="306811" y="469110"/>
                  </a:lnTo>
                  <a:lnTo>
                    <a:pt x="339376" y="451968"/>
                  </a:lnTo>
                  <a:lnTo>
                    <a:pt x="370679" y="427592"/>
                  </a:lnTo>
                  <a:lnTo>
                    <a:pt x="403188" y="396563"/>
                  </a:lnTo>
                  <a:lnTo>
                    <a:pt x="432235" y="362818"/>
                  </a:lnTo>
                  <a:lnTo>
                    <a:pt x="440102" y="354182"/>
                  </a:lnTo>
                  <a:lnTo>
                    <a:pt x="445034" y="351883"/>
                  </a:lnTo>
                  <a:lnTo>
                    <a:pt x="446666" y="352064"/>
                  </a:lnTo>
                  <a:lnTo>
                    <a:pt x="447755" y="352978"/>
                  </a:lnTo>
                  <a:lnTo>
                    <a:pt x="448481" y="354381"/>
                  </a:lnTo>
                  <a:lnTo>
                    <a:pt x="449875" y="386025"/>
                  </a:lnTo>
                  <a:lnTo>
                    <a:pt x="447798" y="402244"/>
                  </a:lnTo>
                  <a:lnTo>
                    <a:pt x="439985" y="432851"/>
                  </a:lnTo>
                  <a:lnTo>
                    <a:pt x="435708" y="462974"/>
                  </a:lnTo>
                  <a:lnTo>
                    <a:pt x="428992" y="497726"/>
                  </a:lnTo>
                  <a:lnTo>
                    <a:pt x="428598" y="505334"/>
                  </a:lnTo>
                  <a:lnTo>
                    <a:pt x="428509" y="497099"/>
                  </a:lnTo>
                  <a:lnTo>
                    <a:pt x="434652" y="465815"/>
                  </a:lnTo>
                  <a:lnTo>
                    <a:pt x="439143" y="439556"/>
                  </a:lnTo>
                  <a:lnTo>
                    <a:pt x="445500" y="407875"/>
                  </a:lnTo>
                  <a:lnTo>
                    <a:pt x="456204" y="377145"/>
                  </a:lnTo>
                  <a:lnTo>
                    <a:pt x="465637" y="344139"/>
                  </a:lnTo>
                  <a:lnTo>
                    <a:pt x="481043" y="313016"/>
                  </a:lnTo>
                  <a:lnTo>
                    <a:pt x="493105" y="283687"/>
                  </a:lnTo>
                  <a:lnTo>
                    <a:pt x="503251" y="268693"/>
                  </a:lnTo>
                  <a:lnTo>
                    <a:pt x="529596" y="242670"/>
                  </a:lnTo>
                  <a:lnTo>
                    <a:pt x="536403" y="238822"/>
                  </a:lnTo>
                  <a:lnTo>
                    <a:pt x="544698" y="236656"/>
                  </a:lnTo>
                  <a:lnTo>
                    <a:pt x="547240" y="237146"/>
                  </a:lnTo>
                  <a:lnTo>
                    <a:pt x="552182" y="239806"/>
                  </a:lnTo>
                  <a:lnTo>
                    <a:pt x="561822" y="253685"/>
                  </a:lnTo>
                  <a:lnTo>
                    <a:pt x="568192" y="267077"/>
                  </a:lnTo>
                  <a:lnTo>
                    <a:pt x="569961" y="276393"/>
                  </a:lnTo>
                  <a:lnTo>
                    <a:pt x="568630" y="285825"/>
                  </a:lnTo>
                  <a:lnTo>
                    <a:pt x="560697" y="319092"/>
                  </a:lnTo>
                  <a:lnTo>
                    <a:pt x="547462" y="347663"/>
                  </a:lnTo>
                  <a:lnTo>
                    <a:pt x="540639" y="355071"/>
                  </a:lnTo>
                  <a:lnTo>
                    <a:pt x="523324" y="366294"/>
                  </a:lnTo>
                  <a:lnTo>
                    <a:pt x="489595" y="376081"/>
                  </a:lnTo>
                  <a:lnTo>
                    <a:pt x="467821" y="380234"/>
                  </a:lnTo>
                  <a:lnTo>
                    <a:pt x="441611" y="395382"/>
                  </a:lnTo>
                  <a:lnTo>
                    <a:pt x="438296" y="400092"/>
                  </a:lnTo>
                  <a:lnTo>
                    <a:pt x="436430" y="407206"/>
                  </a:lnTo>
                  <a:lnTo>
                    <a:pt x="436168" y="409583"/>
                  </a:lnTo>
                  <a:lnTo>
                    <a:pt x="439592" y="420514"/>
                  </a:lnTo>
                  <a:lnTo>
                    <a:pt x="448654" y="433520"/>
                  </a:lnTo>
                  <a:lnTo>
                    <a:pt x="479753" y="459802"/>
                  </a:lnTo>
                  <a:lnTo>
                    <a:pt x="509445" y="476558"/>
                  </a:lnTo>
                  <a:lnTo>
                    <a:pt x="536358" y="483044"/>
                  </a:lnTo>
                  <a:lnTo>
                    <a:pt x="570103" y="485236"/>
                  </a:lnTo>
                  <a:lnTo>
                    <a:pt x="605403" y="479965"/>
                  </a:lnTo>
                  <a:lnTo>
                    <a:pt x="631905" y="472765"/>
                  </a:lnTo>
                  <a:lnTo>
                    <a:pt x="664846" y="451979"/>
                  </a:lnTo>
                  <a:lnTo>
                    <a:pt x="682061" y="434222"/>
                  </a:lnTo>
                  <a:lnTo>
                    <a:pt x="701307" y="401979"/>
                  </a:lnTo>
                  <a:lnTo>
                    <a:pt x="710063" y="379190"/>
                  </a:lnTo>
                  <a:lnTo>
                    <a:pt x="712216" y="357357"/>
                  </a:lnTo>
                  <a:lnTo>
                    <a:pt x="706235" y="330763"/>
                  </a:lnTo>
                  <a:lnTo>
                    <a:pt x="697410" y="309987"/>
                  </a:lnTo>
                  <a:lnTo>
                    <a:pt x="690627" y="302343"/>
                  </a:lnTo>
                  <a:lnTo>
                    <a:pt x="683114" y="297093"/>
                  </a:lnTo>
                  <a:lnTo>
                    <a:pt x="677129" y="294760"/>
                  </a:lnTo>
                  <a:lnTo>
                    <a:pt x="669706" y="295840"/>
                  </a:lnTo>
                  <a:lnTo>
                    <a:pt x="665504" y="297239"/>
                  </a:lnTo>
                  <a:lnTo>
                    <a:pt x="658719" y="303027"/>
                  </a:lnTo>
                  <a:lnTo>
                    <a:pt x="647895" y="319678"/>
                  </a:lnTo>
                  <a:lnTo>
                    <a:pt x="644319" y="337342"/>
                  </a:lnTo>
                  <a:lnTo>
                    <a:pt x="643905" y="369554"/>
                  </a:lnTo>
                  <a:lnTo>
                    <a:pt x="650643" y="401787"/>
                  </a:lnTo>
                  <a:lnTo>
                    <a:pt x="659421" y="427023"/>
                  </a:lnTo>
                  <a:lnTo>
                    <a:pt x="674192" y="449582"/>
                  </a:lnTo>
                  <a:lnTo>
                    <a:pt x="708270" y="484919"/>
                  </a:lnTo>
                  <a:lnTo>
                    <a:pt x="735145" y="500691"/>
                  </a:lnTo>
                  <a:lnTo>
                    <a:pt x="765509" y="509950"/>
                  </a:lnTo>
                  <a:lnTo>
                    <a:pt x="800298" y="517563"/>
                  </a:lnTo>
                  <a:lnTo>
                    <a:pt x="814263" y="5214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SMARTInkShape-64"/>
            <p:cNvSpPr/>
            <p:nvPr/>
          </p:nvSpPr>
          <p:spPr>
            <a:xfrm>
              <a:off x="5443920" y="559800"/>
              <a:ext cx="531360" cy="132120"/>
            </a:xfrm>
            <a:custGeom>
              <a:avLst/>
              <a:gdLst>
                <a:gd name="textAreaLeft" fmla="*/ 0 w 531360"/>
                <a:gd name="textAreaRight" fmla="*/ 531720 w 5313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531411" h="132343">
                  <a:moveTo>
                    <a:pt x="0" y="132342"/>
                  </a:moveTo>
                  <a:lnTo>
                    <a:pt x="30528" y="105606"/>
                  </a:lnTo>
                  <a:lnTo>
                    <a:pt x="64826" y="86991"/>
                  </a:lnTo>
                  <a:lnTo>
                    <a:pt x="89136" y="77525"/>
                  </a:lnTo>
                  <a:lnTo>
                    <a:pt x="115816" y="68027"/>
                  </a:lnTo>
                  <a:lnTo>
                    <a:pt x="144342" y="58514"/>
                  </a:lnTo>
                  <a:lnTo>
                    <a:pt x="175541" y="48994"/>
                  </a:lnTo>
                  <a:lnTo>
                    <a:pt x="210046" y="39471"/>
                  </a:lnTo>
                  <a:lnTo>
                    <a:pt x="245753" y="29947"/>
                  </a:lnTo>
                  <a:lnTo>
                    <a:pt x="280144" y="20423"/>
                  </a:lnTo>
                  <a:lnTo>
                    <a:pt x="297888" y="16454"/>
                  </a:lnTo>
                  <a:lnTo>
                    <a:pt x="316067" y="13014"/>
                  </a:lnTo>
                  <a:lnTo>
                    <a:pt x="351611" y="7870"/>
                  </a:lnTo>
                  <a:lnTo>
                    <a:pt x="383284" y="5583"/>
                  </a:lnTo>
                  <a:lnTo>
                    <a:pt x="413236" y="2451"/>
                  </a:lnTo>
                  <a:lnTo>
                    <a:pt x="440835" y="0"/>
                  </a:lnTo>
                  <a:lnTo>
                    <a:pt x="473430" y="2289"/>
                  </a:lnTo>
                  <a:lnTo>
                    <a:pt x="504062" y="5582"/>
                  </a:lnTo>
                  <a:lnTo>
                    <a:pt x="527734" y="12548"/>
                  </a:lnTo>
                  <a:lnTo>
                    <a:pt x="530416" y="14379"/>
                  </a:lnTo>
                  <a:lnTo>
                    <a:pt x="531410" y="16394"/>
                  </a:lnTo>
                  <a:lnTo>
                    <a:pt x="531280" y="18531"/>
                  </a:lnTo>
                  <a:lnTo>
                    <a:pt x="528637" y="2518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SMARTInkShape-65"/>
            <p:cNvSpPr/>
            <p:nvPr/>
          </p:nvSpPr>
          <p:spPr>
            <a:xfrm>
              <a:off x="5436720" y="560520"/>
              <a:ext cx="349920" cy="523440"/>
            </a:xfrm>
            <a:custGeom>
              <a:avLst/>
              <a:gdLst>
                <a:gd name="textAreaLeft" fmla="*/ 0 w 349920"/>
                <a:gd name="textAreaRight" fmla="*/ 350280 w 34992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350045" h="523241">
                  <a:moveTo>
                    <a:pt x="0" y="95957"/>
                  </a:moveTo>
                  <a:lnTo>
                    <a:pt x="0" y="92165"/>
                  </a:lnTo>
                  <a:lnTo>
                    <a:pt x="2117" y="88186"/>
                  </a:lnTo>
                  <a:lnTo>
                    <a:pt x="26423" y="52644"/>
                  </a:lnTo>
                  <a:lnTo>
                    <a:pt x="56490" y="32045"/>
                  </a:lnTo>
                  <a:lnTo>
                    <a:pt x="72731" y="23102"/>
                  </a:lnTo>
                  <a:lnTo>
                    <a:pt x="104188" y="13604"/>
                  </a:lnTo>
                  <a:lnTo>
                    <a:pt x="137850" y="5763"/>
                  </a:lnTo>
                  <a:lnTo>
                    <a:pt x="169079" y="0"/>
                  </a:lnTo>
                  <a:lnTo>
                    <a:pt x="202321" y="2614"/>
                  </a:lnTo>
                  <a:lnTo>
                    <a:pt x="231838" y="9210"/>
                  </a:lnTo>
                  <a:lnTo>
                    <a:pt x="248295" y="16657"/>
                  </a:lnTo>
                  <a:lnTo>
                    <a:pt x="267156" y="33567"/>
                  </a:lnTo>
                  <a:lnTo>
                    <a:pt x="287751" y="67111"/>
                  </a:lnTo>
                  <a:lnTo>
                    <a:pt x="300719" y="100463"/>
                  </a:lnTo>
                  <a:lnTo>
                    <a:pt x="304309" y="126535"/>
                  </a:lnTo>
                  <a:lnTo>
                    <a:pt x="305904" y="156114"/>
                  </a:lnTo>
                  <a:lnTo>
                    <a:pt x="305820" y="187781"/>
                  </a:lnTo>
                  <a:lnTo>
                    <a:pt x="303136" y="220376"/>
                  </a:lnTo>
                  <a:lnTo>
                    <a:pt x="299299" y="253383"/>
                  </a:lnTo>
                  <a:lnTo>
                    <a:pt x="294153" y="286574"/>
                  </a:lnTo>
                  <a:lnTo>
                    <a:pt x="286574" y="319847"/>
                  </a:lnTo>
                  <a:lnTo>
                    <a:pt x="277914" y="353155"/>
                  </a:lnTo>
                  <a:lnTo>
                    <a:pt x="267980" y="385686"/>
                  </a:lnTo>
                  <a:lnTo>
                    <a:pt x="255627" y="416019"/>
                  </a:lnTo>
                  <a:lnTo>
                    <a:pt x="244316" y="443259"/>
                  </a:lnTo>
                  <a:lnTo>
                    <a:pt x="229023" y="476674"/>
                  </a:lnTo>
                  <a:lnTo>
                    <a:pt x="213425" y="509298"/>
                  </a:lnTo>
                  <a:lnTo>
                    <a:pt x="207833" y="517789"/>
                  </a:lnTo>
                  <a:lnTo>
                    <a:pt x="201567" y="523240"/>
                  </a:lnTo>
                  <a:lnTo>
                    <a:pt x="201053" y="522100"/>
                  </a:lnTo>
                  <a:lnTo>
                    <a:pt x="200160" y="500786"/>
                  </a:lnTo>
                  <a:lnTo>
                    <a:pt x="204961" y="467612"/>
                  </a:lnTo>
                  <a:lnTo>
                    <a:pt x="208102" y="434324"/>
                  </a:lnTo>
                  <a:lnTo>
                    <a:pt x="214463" y="408267"/>
                  </a:lnTo>
                  <a:lnTo>
                    <a:pt x="222581" y="380812"/>
                  </a:lnTo>
                  <a:lnTo>
                    <a:pt x="231481" y="352734"/>
                  </a:lnTo>
                  <a:lnTo>
                    <a:pt x="240728" y="324380"/>
                  </a:lnTo>
                  <a:lnTo>
                    <a:pt x="250130" y="298020"/>
                  </a:lnTo>
                  <a:lnTo>
                    <a:pt x="259600" y="273075"/>
                  </a:lnTo>
                  <a:lnTo>
                    <a:pt x="273857" y="237513"/>
                  </a:lnTo>
                  <a:lnTo>
                    <a:pt x="288135" y="206515"/>
                  </a:lnTo>
                  <a:lnTo>
                    <a:pt x="301626" y="178016"/>
                  </a:lnTo>
                  <a:lnTo>
                    <a:pt x="316288" y="143070"/>
                  </a:lnTo>
                  <a:lnTo>
                    <a:pt x="330957" y="116582"/>
                  </a:lnTo>
                  <a:lnTo>
                    <a:pt x="350044" y="95957"/>
                  </a:lnTo>
                  <a:lnTo>
                    <a:pt x="350044" y="88839"/>
                  </a:lnTo>
                  <a:lnTo>
                    <a:pt x="350044" y="95870"/>
                  </a:lnTo>
                  <a:lnTo>
                    <a:pt x="350044" y="89105"/>
                  </a:lnTo>
                  <a:lnTo>
                    <a:pt x="350044" y="95872"/>
                  </a:lnTo>
                  <a:lnTo>
                    <a:pt x="343194" y="95955"/>
                  </a:lnTo>
                  <a:lnTo>
                    <a:pt x="342958" y="91841"/>
                  </a:lnTo>
                  <a:lnTo>
                    <a:pt x="342901" y="95896"/>
                  </a:lnTo>
                  <a:lnTo>
                    <a:pt x="342900" y="8881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SMARTInkShape-66"/>
            <p:cNvSpPr/>
            <p:nvPr/>
          </p:nvSpPr>
          <p:spPr>
            <a:xfrm>
              <a:off x="5094000" y="1242720"/>
              <a:ext cx="21240" cy="212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1432" h="21432">
                  <a:moveTo>
                    <a:pt x="21431" y="0"/>
                  </a:moveTo>
                  <a:lnTo>
                    <a:pt x="0" y="2143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4120" bIns="-241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SMARTInkShape-67"/>
            <p:cNvSpPr/>
            <p:nvPr/>
          </p:nvSpPr>
          <p:spPr>
            <a:xfrm>
              <a:off x="3814920" y="220680"/>
              <a:ext cx="614160" cy="4928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492840"/>
                <a:gd name="textAreaBottom" fmla="*/ 493200 h 492840"/>
              </a:gdLst>
              <a:ahLst/>
              <a:rect l="textAreaLeft" t="textAreaTop" r="textAreaRight" b="textAreaBottom"/>
              <a:pathLst>
                <a:path w="614110" h="492920">
                  <a:moveTo>
                    <a:pt x="42834" y="0"/>
                  </a:moveTo>
                  <a:lnTo>
                    <a:pt x="42834" y="3793"/>
                  </a:lnTo>
                  <a:lnTo>
                    <a:pt x="36683" y="26736"/>
                  </a:lnTo>
                  <a:lnTo>
                    <a:pt x="35886" y="61667"/>
                  </a:lnTo>
                  <a:lnTo>
                    <a:pt x="34955" y="92002"/>
                  </a:lnTo>
                  <a:lnTo>
                    <a:pt x="31924" y="117090"/>
                  </a:lnTo>
                  <a:lnTo>
                    <a:pt x="30048" y="144115"/>
                  </a:lnTo>
                  <a:lnTo>
                    <a:pt x="28420" y="172001"/>
                  </a:lnTo>
                  <a:lnTo>
                    <a:pt x="25051" y="200270"/>
                  </a:lnTo>
                  <a:lnTo>
                    <a:pt x="23024" y="230826"/>
                  </a:lnTo>
                  <a:lnTo>
                    <a:pt x="21329" y="262133"/>
                  </a:lnTo>
                  <a:lnTo>
                    <a:pt x="17930" y="291922"/>
                  </a:lnTo>
                  <a:lnTo>
                    <a:pt x="15891" y="321037"/>
                  </a:lnTo>
                  <a:lnTo>
                    <a:pt x="14190" y="349058"/>
                  </a:lnTo>
                  <a:lnTo>
                    <a:pt x="10789" y="374741"/>
                  </a:lnTo>
                  <a:lnTo>
                    <a:pt x="8204" y="407721"/>
                  </a:lnTo>
                  <a:lnTo>
                    <a:pt x="2421" y="440812"/>
                  </a:lnTo>
                  <a:lnTo>
                    <a:pt x="187" y="466185"/>
                  </a:lnTo>
                  <a:lnTo>
                    <a:pt x="115" y="466365"/>
                  </a:lnTo>
                  <a:lnTo>
                    <a:pt x="0" y="460951"/>
                  </a:lnTo>
                  <a:lnTo>
                    <a:pt x="12158" y="426553"/>
                  </a:lnTo>
                  <a:lnTo>
                    <a:pt x="23575" y="394143"/>
                  </a:lnTo>
                  <a:lnTo>
                    <a:pt x="37089" y="364576"/>
                  </a:lnTo>
                  <a:lnTo>
                    <a:pt x="57619" y="330762"/>
                  </a:lnTo>
                  <a:lnTo>
                    <a:pt x="76752" y="302986"/>
                  </a:lnTo>
                  <a:lnTo>
                    <a:pt x="78147" y="302003"/>
                  </a:lnTo>
                  <a:lnTo>
                    <a:pt x="81812" y="300911"/>
                  </a:lnTo>
                  <a:lnTo>
                    <a:pt x="88338" y="300297"/>
                  </a:lnTo>
                  <a:lnTo>
                    <a:pt x="89839" y="301798"/>
                  </a:lnTo>
                  <a:lnTo>
                    <a:pt x="91506" y="307699"/>
                  </a:lnTo>
                  <a:lnTo>
                    <a:pt x="93556" y="339101"/>
                  </a:lnTo>
                  <a:lnTo>
                    <a:pt x="98981" y="371916"/>
                  </a:lnTo>
                  <a:lnTo>
                    <a:pt x="107623" y="399481"/>
                  </a:lnTo>
                  <a:lnTo>
                    <a:pt x="121459" y="426459"/>
                  </a:lnTo>
                  <a:lnTo>
                    <a:pt x="123826" y="429562"/>
                  </a:lnTo>
                  <a:lnTo>
                    <a:pt x="130689" y="433010"/>
                  </a:lnTo>
                  <a:lnTo>
                    <a:pt x="148030" y="435224"/>
                  </a:lnTo>
                  <a:lnTo>
                    <a:pt x="162021" y="431815"/>
                  </a:lnTo>
                  <a:lnTo>
                    <a:pt x="194275" y="409019"/>
                  </a:lnTo>
                  <a:lnTo>
                    <a:pt x="226642" y="380035"/>
                  </a:lnTo>
                  <a:lnTo>
                    <a:pt x="250543" y="354993"/>
                  </a:lnTo>
                  <a:lnTo>
                    <a:pt x="263040" y="326657"/>
                  </a:lnTo>
                  <a:lnTo>
                    <a:pt x="262663" y="324928"/>
                  </a:lnTo>
                  <a:lnTo>
                    <a:pt x="261618" y="323775"/>
                  </a:lnTo>
                  <a:lnTo>
                    <a:pt x="260127" y="323006"/>
                  </a:lnTo>
                  <a:lnTo>
                    <a:pt x="259134" y="323288"/>
                  </a:lnTo>
                  <a:lnTo>
                    <a:pt x="258471" y="324269"/>
                  </a:lnTo>
                  <a:lnTo>
                    <a:pt x="247281" y="348245"/>
                  </a:lnTo>
                  <a:lnTo>
                    <a:pt x="224362" y="379323"/>
                  </a:lnTo>
                  <a:lnTo>
                    <a:pt x="212483" y="411125"/>
                  </a:lnTo>
                  <a:lnTo>
                    <a:pt x="203286" y="441484"/>
                  </a:lnTo>
                  <a:lnTo>
                    <a:pt x="200430" y="472397"/>
                  </a:lnTo>
                  <a:lnTo>
                    <a:pt x="202306" y="481946"/>
                  </a:lnTo>
                  <a:lnTo>
                    <a:pt x="203917" y="485604"/>
                  </a:lnTo>
                  <a:lnTo>
                    <a:pt x="205785" y="488042"/>
                  </a:lnTo>
                  <a:lnTo>
                    <a:pt x="209978" y="490751"/>
                  </a:lnTo>
                  <a:lnTo>
                    <a:pt x="216801" y="492277"/>
                  </a:lnTo>
                  <a:lnTo>
                    <a:pt x="221488" y="490517"/>
                  </a:lnTo>
                  <a:lnTo>
                    <a:pt x="248043" y="466167"/>
                  </a:lnTo>
                  <a:lnTo>
                    <a:pt x="258241" y="452272"/>
                  </a:lnTo>
                  <a:lnTo>
                    <a:pt x="273702" y="417698"/>
                  </a:lnTo>
                  <a:lnTo>
                    <a:pt x="277936" y="395152"/>
                  </a:lnTo>
                  <a:lnTo>
                    <a:pt x="278567" y="372925"/>
                  </a:lnTo>
                  <a:lnTo>
                    <a:pt x="278578" y="407842"/>
                  </a:lnTo>
                  <a:lnTo>
                    <a:pt x="279372" y="430298"/>
                  </a:lnTo>
                  <a:lnTo>
                    <a:pt x="284281" y="439616"/>
                  </a:lnTo>
                  <a:lnTo>
                    <a:pt x="288521" y="444887"/>
                  </a:lnTo>
                  <a:lnTo>
                    <a:pt x="293051" y="447759"/>
                  </a:lnTo>
                  <a:lnTo>
                    <a:pt x="295371" y="448525"/>
                  </a:lnTo>
                  <a:lnTo>
                    <a:pt x="302181" y="447259"/>
                  </a:lnTo>
                  <a:lnTo>
                    <a:pt x="312823" y="442084"/>
                  </a:lnTo>
                  <a:lnTo>
                    <a:pt x="344680" y="416555"/>
                  </a:lnTo>
                  <a:lnTo>
                    <a:pt x="372720" y="380901"/>
                  </a:lnTo>
                  <a:lnTo>
                    <a:pt x="391752" y="351284"/>
                  </a:lnTo>
                  <a:lnTo>
                    <a:pt x="392127" y="351664"/>
                  </a:lnTo>
                  <a:lnTo>
                    <a:pt x="392812" y="363095"/>
                  </a:lnTo>
                  <a:lnTo>
                    <a:pt x="392874" y="395230"/>
                  </a:lnTo>
                  <a:lnTo>
                    <a:pt x="393671" y="428137"/>
                  </a:lnTo>
                  <a:lnTo>
                    <a:pt x="399360" y="459330"/>
                  </a:lnTo>
                  <a:lnTo>
                    <a:pt x="399727" y="468995"/>
                  </a:lnTo>
                  <a:lnTo>
                    <a:pt x="400619" y="472207"/>
                  </a:lnTo>
                  <a:lnTo>
                    <a:pt x="402007" y="474348"/>
                  </a:lnTo>
                  <a:lnTo>
                    <a:pt x="409939" y="481578"/>
                  </a:lnTo>
                  <a:lnTo>
                    <a:pt x="412983" y="482183"/>
                  </a:lnTo>
                  <a:lnTo>
                    <a:pt x="420599" y="480739"/>
                  </a:lnTo>
                  <a:lnTo>
                    <a:pt x="430019" y="475464"/>
                  </a:lnTo>
                  <a:lnTo>
                    <a:pt x="433197" y="471138"/>
                  </a:lnTo>
                  <a:lnTo>
                    <a:pt x="448031" y="435574"/>
                  </a:lnTo>
                  <a:lnTo>
                    <a:pt x="451553" y="421424"/>
                  </a:lnTo>
                  <a:lnTo>
                    <a:pt x="453426" y="416680"/>
                  </a:lnTo>
                  <a:lnTo>
                    <a:pt x="453390" y="407177"/>
                  </a:lnTo>
                  <a:lnTo>
                    <a:pt x="450029" y="371602"/>
                  </a:lnTo>
                  <a:lnTo>
                    <a:pt x="459971" y="371486"/>
                  </a:lnTo>
                  <a:lnTo>
                    <a:pt x="464501" y="373597"/>
                  </a:lnTo>
                  <a:lnTo>
                    <a:pt x="466821" y="375271"/>
                  </a:lnTo>
                  <a:lnTo>
                    <a:pt x="477669" y="377627"/>
                  </a:lnTo>
                  <a:lnTo>
                    <a:pt x="510437" y="377767"/>
                  </a:lnTo>
                  <a:lnTo>
                    <a:pt x="529575" y="372105"/>
                  </a:lnTo>
                  <a:lnTo>
                    <a:pt x="564455" y="355673"/>
                  </a:lnTo>
                  <a:lnTo>
                    <a:pt x="593466" y="334444"/>
                  </a:lnTo>
                  <a:lnTo>
                    <a:pt x="608566" y="319152"/>
                  </a:lnTo>
                  <a:lnTo>
                    <a:pt x="611770" y="313031"/>
                  </a:lnTo>
                  <a:lnTo>
                    <a:pt x="614109" y="291601"/>
                  </a:lnTo>
                  <a:lnTo>
                    <a:pt x="613390" y="289651"/>
                  </a:lnTo>
                  <a:lnTo>
                    <a:pt x="612117" y="288351"/>
                  </a:lnTo>
                  <a:lnTo>
                    <a:pt x="608586" y="286906"/>
                  </a:lnTo>
                  <a:lnTo>
                    <a:pt x="604371" y="286264"/>
                  </a:lnTo>
                  <a:lnTo>
                    <a:pt x="589494" y="291555"/>
                  </a:lnTo>
                  <a:lnTo>
                    <a:pt x="575930" y="298759"/>
                  </a:lnTo>
                  <a:lnTo>
                    <a:pt x="562650" y="310595"/>
                  </a:lnTo>
                  <a:lnTo>
                    <a:pt x="553335" y="324950"/>
                  </a:lnTo>
                  <a:lnTo>
                    <a:pt x="540635" y="357646"/>
                  </a:lnTo>
                  <a:lnTo>
                    <a:pt x="537200" y="374962"/>
                  </a:lnTo>
                  <a:lnTo>
                    <a:pt x="541742" y="400739"/>
                  </a:lnTo>
                  <a:lnTo>
                    <a:pt x="552399" y="428761"/>
                  </a:lnTo>
                  <a:lnTo>
                    <a:pt x="569557" y="457227"/>
                  </a:lnTo>
                  <a:lnTo>
                    <a:pt x="580939" y="467266"/>
                  </a:lnTo>
                  <a:lnTo>
                    <a:pt x="592348" y="475168"/>
                  </a:lnTo>
                  <a:lnTo>
                    <a:pt x="607190" y="49291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SMARTInkShape-68"/>
            <p:cNvSpPr/>
            <p:nvPr/>
          </p:nvSpPr>
          <p:spPr>
            <a:xfrm>
              <a:off x="3378960" y="370800"/>
              <a:ext cx="262440" cy="25668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262409" h="256843">
                  <a:moveTo>
                    <a:pt x="0" y="92536"/>
                  </a:moveTo>
                  <a:lnTo>
                    <a:pt x="0" y="88743"/>
                  </a:lnTo>
                  <a:lnTo>
                    <a:pt x="2116" y="84765"/>
                  </a:lnTo>
                  <a:lnTo>
                    <a:pt x="9943" y="75743"/>
                  </a:lnTo>
                  <a:lnTo>
                    <a:pt x="44799" y="56174"/>
                  </a:lnTo>
                  <a:lnTo>
                    <a:pt x="72011" y="44455"/>
                  </a:lnTo>
                  <a:lnTo>
                    <a:pt x="102299" y="33840"/>
                  </a:lnTo>
                  <a:lnTo>
                    <a:pt x="134292" y="22757"/>
                  </a:lnTo>
                  <a:lnTo>
                    <a:pt x="165996" y="14446"/>
                  </a:lnTo>
                  <a:lnTo>
                    <a:pt x="198409" y="9073"/>
                  </a:lnTo>
                  <a:lnTo>
                    <a:pt x="230221" y="3465"/>
                  </a:lnTo>
                  <a:lnTo>
                    <a:pt x="257869" y="0"/>
                  </a:lnTo>
                  <a:lnTo>
                    <a:pt x="260019" y="683"/>
                  </a:lnTo>
                  <a:lnTo>
                    <a:pt x="261452" y="1932"/>
                  </a:lnTo>
                  <a:lnTo>
                    <a:pt x="262408" y="3558"/>
                  </a:lnTo>
                  <a:lnTo>
                    <a:pt x="262251" y="5436"/>
                  </a:lnTo>
                  <a:lnTo>
                    <a:pt x="259960" y="9639"/>
                  </a:lnTo>
                  <a:lnTo>
                    <a:pt x="239883" y="28928"/>
                  </a:lnTo>
                  <a:lnTo>
                    <a:pt x="207567" y="57054"/>
                  </a:lnTo>
                  <a:lnTo>
                    <a:pt x="173729" y="86756"/>
                  </a:lnTo>
                  <a:lnTo>
                    <a:pt x="167098" y="97967"/>
                  </a:lnTo>
                  <a:lnTo>
                    <a:pt x="166168" y="100919"/>
                  </a:lnTo>
                  <a:lnTo>
                    <a:pt x="166341" y="103681"/>
                  </a:lnTo>
                  <a:lnTo>
                    <a:pt x="168650" y="108866"/>
                  </a:lnTo>
                  <a:lnTo>
                    <a:pt x="178205" y="116248"/>
                  </a:lnTo>
                  <a:lnTo>
                    <a:pt x="209666" y="132217"/>
                  </a:lnTo>
                  <a:lnTo>
                    <a:pt x="242894" y="142983"/>
                  </a:lnTo>
                  <a:lnTo>
                    <a:pt x="251622" y="148294"/>
                  </a:lnTo>
                  <a:lnTo>
                    <a:pt x="258146" y="155947"/>
                  </a:lnTo>
                  <a:lnTo>
                    <a:pt x="259410" y="159416"/>
                  </a:lnTo>
                  <a:lnTo>
                    <a:pt x="259459" y="162522"/>
                  </a:lnTo>
                  <a:lnTo>
                    <a:pt x="253834" y="177004"/>
                  </a:lnTo>
                  <a:lnTo>
                    <a:pt x="239781" y="190500"/>
                  </a:lnTo>
                  <a:lnTo>
                    <a:pt x="207995" y="208489"/>
                  </a:lnTo>
                  <a:lnTo>
                    <a:pt x="179721" y="218614"/>
                  </a:lnTo>
                  <a:lnTo>
                    <a:pt x="148941" y="230522"/>
                  </a:lnTo>
                  <a:lnTo>
                    <a:pt x="114001" y="244606"/>
                  </a:lnTo>
                  <a:lnTo>
                    <a:pt x="92869" y="25684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SMARTInkShape-69"/>
            <p:cNvSpPr/>
            <p:nvPr/>
          </p:nvSpPr>
          <p:spPr>
            <a:xfrm>
              <a:off x="2829240" y="279000"/>
              <a:ext cx="671040" cy="56232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670961" h="562173">
                  <a:moveTo>
                    <a:pt x="142322" y="77408"/>
                  </a:moveTo>
                  <a:lnTo>
                    <a:pt x="138530" y="77408"/>
                  </a:lnTo>
                  <a:lnTo>
                    <a:pt x="134551" y="79524"/>
                  </a:lnTo>
                  <a:lnTo>
                    <a:pt x="132379" y="81200"/>
                  </a:lnTo>
                  <a:lnTo>
                    <a:pt x="125732" y="83062"/>
                  </a:lnTo>
                  <a:lnTo>
                    <a:pt x="121737" y="83558"/>
                  </a:lnTo>
                  <a:lnTo>
                    <a:pt x="113065" y="88343"/>
                  </a:lnTo>
                  <a:lnTo>
                    <a:pt x="84141" y="108863"/>
                  </a:lnTo>
                  <a:lnTo>
                    <a:pt x="56394" y="131746"/>
                  </a:lnTo>
                  <a:lnTo>
                    <a:pt x="31774" y="162577"/>
                  </a:lnTo>
                  <a:lnTo>
                    <a:pt x="12418" y="191598"/>
                  </a:lnTo>
                  <a:lnTo>
                    <a:pt x="3643" y="213106"/>
                  </a:lnTo>
                  <a:lnTo>
                    <a:pt x="0" y="245061"/>
                  </a:lnTo>
                  <a:lnTo>
                    <a:pt x="1809" y="253256"/>
                  </a:lnTo>
                  <a:lnTo>
                    <a:pt x="3403" y="256552"/>
                  </a:lnTo>
                  <a:lnTo>
                    <a:pt x="9407" y="262331"/>
                  </a:lnTo>
                  <a:lnTo>
                    <a:pt x="17368" y="266752"/>
                  </a:lnTo>
                  <a:lnTo>
                    <a:pt x="26197" y="268717"/>
                  </a:lnTo>
                  <a:lnTo>
                    <a:pt x="35413" y="267474"/>
                  </a:lnTo>
                  <a:lnTo>
                    <a:pt x="63920" y="257218"/>
                  </a:lnTo>
                  <a:lnTo>
                    <a:pt x="89645" y="236484"/>
                  </a:lnTo>
                  <a:lnTo>
                    <a:pt x="108541" y="208335"/>
                  </a:lnTo>
                  <a:lnTo>
                    <a:pt x="118716" y="186675"/>
                  </a:lnTo>
                  <a:lnTo>
                    <a:pt x="120763" y="171811"/>
                  </a:lnTo>
                  <a:lnTo>
                    <a:pt x="120887" y="194694"/>
                  </a:lnTo>
                  <a:lnTo>
                    <a:pt x="115981" y="226576"/>
                  </a:lnTo>
                  <a:lnTo>
                    <a:pt x="114409" y="254867"/>
                  </a:lnTo>
                  <a:lnTo>
                    <a:pt x="113149" y="288033"/>
                  </a:lnTo>
                  <a:lnTo>
                    <a:pt x="110042" y="311248"/>
                  </a:lnTo>
                  <a:lnTo>
                    <a:pt x="108131" y="336912"/>
                  </a:lnTo>
                  <a:lnTo>
                    <a:pt x="107283" y="364193"/>
                  </a:lnTo>
                  <a:lnTo>
                    <a:pt x="106905" y="392193"/>
                  </a:lnTo>
                  <a:lnTo>
                    <a:pt x="106737" y="420512"/>
                  </a:lnTo>
                  <a:lnTo>
                    <a:pt x="106663" y="448180"/>
                  </a:lnTo>
                  <a:lnTo>
                    <a:pt x="106630" y="473706"/>
                  </a:lnTo>
                  <a:lnTo>
                    <a:pt x="106611" y="506597"/>
                  </a:lnTo>
                  <a:lnTo>
                    <a:pt x="111514" y="539658"/>
                  </a:lnTo>
                  <a:lnTo>
                    <a:pt x="113453" y="559771"/>
                  </a:lnTo>
                  <a:lnTo>
                    <a:pt x="114345" y="560908"/>
                  </a:lnTo>
                  <a:lnTo>
                    <a:pt x="117452" y="562172"/>
                  </a:lnTo>
                  <a:lnTo>
                    <a:pt x="118598" y="560921"/>
                  </a:lnTo>
                  <a:lnTo>
                    <a:pt x="120211" y="551576"/>
                  </a:lnTo>
                  <a:lnTo>
                    <a:pt x="124594" y="521986"/>
                  </a:lnTo>
                  <a:lnTo>
                    <a:pt x="127015" y="491798"/>
                  </a:lnTo>
                  <a:lnTo>
                    <a:pt x="129698" y="467162"/>
                  </a:lnTo>
                  <a:lnTo>
                    <a:pt x="132743" y="440338"/>
                  </a:lnTo>
                  <a:lnTo>
                    <a:pt x="134096" y="412541"/>
                  </a:lnTo>
                  <a:lnTo>
                    <a:pt x="136814" y="384312"/>
                  </a:lnTo>
                  <a:lnTo>
                    <a:pt x="140668" y="355891"/>
                  </a:lnTo>
                  <a:lnTo>
                    <a:pt x="145026" y="327384"/>
                  </a:lnTo>
                  <a:lnTo>
                    <a:pt x="149609" y="300956"/>
                  </a:lnTo>
                  <a:lnTo>
                    <a:pt x="156652" y="265882"/>
                  </a:lnTo>
                  <a:lnTo>
                    <a:pt x="163766" y="235381"/>
                  </a:lnTo>
                  <a:lnTo>
                    <a:pt x="173281" y="204215"/>
                  </a:lnTo>
                  <a:lnTo>
                    <a:pt x="182804" y="184359"/>
                  </a:lnTo>
                  <a:lnTo>
                    <a:pt x="187566" y="180504"/>
                  </a:lnTo>
                  <a:lnTo>
                    <a:pt x="189947" y="180270"/>
                  </a:lnTo>
                  <a:lnTo>
                    <a:pt x="194710" y="182126"/>
                  </a:lnTo>
                  <a:lnTo>
                    <a:pt x="201853" y="191426"/>
                  </a:lnTo>
                  <a:lnTo>
                    <a:pt x="208105" y="223303"/>
                  </a:lnTo>
                  <a:lnTo>
                    <a:pt x="212643" y="258979"/>
                  </a:lnTo>
                  <a:lnTo>
                    <a:pt x="217221" y="287134"/>
                  </a:lnTo>
                  <a:lnTo>
                    <a:pt x="219812" y="319377"/>
                  </a:lnTo>
                  <a:lnTo>
                    <a:pt x="220688" y="354421"/>
                  </a:lnTo>
                  <a:lnTo>
                    <a:pt x="220875" y="387730"/>
                  </a:lnTo>
                  <a:lnTo>
                    <a:pt x="223007" y="396039"/>
                  </a:lnTo>
                  <a:lnTo>
                    <a:pt x="227051" y="404048"/>
                  </a:lnTo>
                  <a:lnTo>
                    <a:pt x="227383" y="403912"/>
                  </a:lnTo>
                  <a:lnTo>
                    <a:pt x="227752" y="401643"/>
                  </a:lnTo>
                  <a:lnTo>
                    <a:pt x="237964" y="381591"/>
                  </a:lnTo>
                  <a:lnTo>
                    <a:pt x="245992" y="346359"/>
                  </a:lnTo>
                  <a:lnTo>
                    <a:pt x="253473" y="321668"/>
                  </a:lnTo>
                  <a:lnTo>
                    <a:pt x="259922" y="297154"/>
                  </a:lnTo>
                  <a:lnTo>
                    <a:pt x="272531" y="264218"/>
                  </a:lnTo>
                  <a:lnTo>
                    <a:pt x="279443" y="237455"/>
                  </a:lnTo>
                  <a:lnTo>
                    <a:pt x="282640" y="231090"/>
                  </a:lnTo>
                  <a:lnTo>
                    <a:pt x="284439" y="224631"/>
                  </a:lnTo>
                  <a:lnTo>
                    <a:pt x="284692" y="224769"/>
                  </a:lnTo>
                  <a:lnTo>
                    <a:pt x="285766" y="227833"/>
                  </a:lnTo>
                  <a:lnTo>
                    <a:pt x="290807" y="240618"/>
                  </a:lnTo>
                  <a:lnTo>
                    <a:pt x="292206" y="271447"/>
                  </a:lnTo>
                  <a:lnTo>
                    <a:pt x="293117" y="306160"/>
                  </a:lnTo>
                  <a:lnTo>
                    <a:pt x="302281" y="337954"/>
                  </a:lnTo>
                  <a:lnTo>
                    <a:pt x="312925" y="353220"/>
                  </a:lnTo>
                  <a:lnTo>
                    <a:pt x="321598" y="358741"/>
                  </a:lnTo>
                  <a:lnTo>
                    <a:pt x="337522" y="361849"/>
                  </a:lnTo>
                  <a:lnTo>
                    <a:pt x="359438" y="360653"/>
                  </a:lnTo>
                  <a:lnTo>
                    <a:pt x="376137" y="356488"/>
                  </a:lnTo>
                  <a:lnTo>
                    <a:pt x="398926" y="344424"/>
                  </a:lnTo>
                  <a:lnTo>
                    <a:pt x="427959" y="319417"/>
                  </a:lnTo>
                  <a:lnTo>
                    <a:pt x="440722" y="305617"/>
                  </a:lnTo>
                  <a:lnTo>
                    <a:pt x="461978" y="270237"/>
                  </a:lnTo>
                  <a:lnTo>
                    <a:pt x="468280" y="248842"/>
                  </a:lnTo>
                  <a:lnTo>
                    <a:pt x="469617" y="221073"/>
                  </a:lnTo>
                  <a:lnTo>
                    <a:pt x="465076" y="205347"/>
                  </a:lnTo>
                  <a:lnTo>
                    <a:pt x="454121" y="189868"/>
                  </a:lnTo>
                  <a:lnTo>
                    <a:pt x="449439" y="186921"/>
                  </a:lnTo>
                  <a:lnTo>
                    <a:pt x="447079" y="186135"/>
                  </a:lnTo>
                  <a:lnTo>
                    <a:pt x="444712" y="186405"/>
                  </a:lnTo>
                  <a:lnTo>
                    <a:pt x="439965" y="188822"/>
                  </a:lnTo>
                  <a:lnTo>
                    <a:pt x="432831" y="194645"/>
                  </a:lnTo>
                  <a:lnTo>
                    <a:pt x="425690" y="208982"/>
                  </a:lnTo>
                  <a:lnTo>
                    <a:pt x="421869" y="230251"/>
                  </a:lnTo>
                  <a:lnTo>
                    <a:pt x="421805" y="264833"/>
                  </a:lnTo>
                  <a:lnTo>
                    <a:pt x="424757" y="274743"/>
                  </a:lnTo>
                  <a:lnTo>
                    <a:pt x="434675" y="289248"/>
                  </a:lnTo>
                  <a:lnTo>
                    <a:pt x="451460" y="299807"/>
                  </a:lnTo>
                  <a:lnTo>
                    <a:pt x="478465" y="304783"/>
                  </a:lnTo>
                  <a:lnTo>
                    <a:pt x="492537" y="305463"/>
                  </a:lnTo>
                  <a:lnTo>
                    <a:pt x="517640" y="298262"/>
                  </a:lnTo>
                  <a:lnTo>
                    <a:pt x="548864" y="280812"/>
                  </a:lnTo>
                  <a:lnTo>
                    <a:pt x="577962" y="253141"/>
                  </a:lnTo>
                  <a:lnTo>
                    <a:pt x="602848" y="221129"/>
                  </a:lnTo>
                  <a:lnTo>
                    <a:pt x="618146" y="191517"/>
                  </a:lnTo>
                  <a:lnTo>
                    <a:pt x="628941" y="161400"/>
                  </a:lnTo>
                  <a:lnTo>
                    <a:pt x="633374" y="128576"/>
                  </a:lnTo>
                  <a:lnTo>
                    <a:pt x="634688" y="97508"/>
                  </a:lnTo>
                  <a:lnTo>
                    <a:pt x="635077" y="68194"/>
                  </a:lnTo>
                  <a:lnTo>
                    <a:pt x="638984" y="35607"/>
                  </a:lnTo>
                  <a:lnTo>
                    <a:pt x="642296" y="0"/>
                  </a:lnTo>
                  <a:lnTo>
                    <a:pt x="642382" y="29385"/>
                  </a:lnTo>
                  <a:lnTo>
                    <a:pt x="642384" y="62071"/>
                  </a:lnTo>
                  <a:lnTo>
                    <a:pt x="642384" y="90502"/>
                  </a:lnTo>
                  <a:lnTo>
                    <a:pt x="642385" y="123709"/>
                  </a:lnTo>
                  <a:lnTo>
                    <a:pt x="642385" y="158683"/>
                  </a:lnTo>
                  <a:lnTo>
                    <a:pt x="643178" y="193388"/>
                  </a:lnTo>
                  <a:lnTo>
                    <a:pt x="647294" y="224132"/>
                  </a:lnTo>
                  <a:lnTo>
                    <a:pt x="649660" y="253349"/>
                  </a:lnTo>
                  <a:lnTo>
                    <a:pt x="657168" y="287433"/>
                  </a:lnTo>
                  <a:lnTo>
                    <a:pt x="665349" y="319919"/>
                  </a:lnTo>
                  <a:lnTo>
                    <a:pt x="670221" y="333445"/>
                  </a:lnTo>
                  <a:lnTo>
                    <a:pt x="670960" y="3417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SMARTInkShape-70"/>
            <p:cNvSpPr/>
            <p:nvPr/>
          </p:nvSpPr>
          <p:spPr>
            <a:xfrm>
              <a:off x="2621520" y="477720"/>
              <a:ext cx="171360" cy="1141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1451" h="114301">
                  <a:moveTo>
                    <a:pt x="0" y="114300"/>
                  </a:moveTo>
                  <a:lnTo>
                    <a:pt x="3793" y="114300"/>
                  </a:lnTo>
                  <a:lnTo>
                    <a:pt x="7771" y="110067"/>
                  </a:lnTo>
                  <a:lnTo>
                    <a:pt x="20585" y="94414"/>
                  </a:lnTo>
                  <a:lnTo>
                    <a:pt x="49810" y="70332"/>
                  </a:lnTo>
                  <a:lnTo>
                    <a:pt x="78435" y="49679"/>
                  </a:lnTo>
                  <a:lnTo>
                    <a:pt x="103123" y="35573"/>
                  </a:lnTo>
                  <a:lnTo>
                    <a:pt x="136212" y="18037"/>
                  </a:lnTo>
                  <a:lnTo>
                    <a:pt x="17145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SMARTInkShape-71"/>
            <p:cNvSpPr/>
            <p:nvPr/>
          </p:nvSpPr>
          <p:spPr>
            <a:xfrm>
              <a:off x="2621520" y="378720"/>
              <a:ext cx="164160" cy="29808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64184" h="298057">
                  <a:moveTo>
                    <a:pt x="49883" y="63312"/>
                  </a:moveTo>
                  <a:lnTo>
                    <a:pt x="46090" y="67104"/>
                  </a:lnTo>
                  <a:lnTo>
                    <a:pt x="44228" y="73199"/>
                  </a:lnTo>
                  <a:lnTo>
                    <a:pt x="42141" y="101126"/>
                  </a:lnTo>
                  <a:lnTo>
                    <a:pt x="37094" y="127344"/>
                  </a:lnTo>
                  <a:lnTo>
                    <a:pt x="30571" y="159895"/>
                  </a:lnTo>
                  <a:lnTo>
                    <a:pt x="23611" y="193882"/>
                  </a:lnTo>
                  <a:lnTo>
                    <a:pt x="16522" y="224413"/>
                  </a:lnTo>
                  <a:lnTo>
                    <a:pt x="9395" y="252774"/>
                  </a:lnTo>
                  <a:lnTo>
                    <a:pt x="1287" y="287669"/>
                  </a:lnTo>
                  <a:lnTo>
                    <a:pt x="0" y="298056"/>
                  </a:lnTo>
                  <a:lnTo>
                    <a:pt x="9830" y="275289"/>
                  </a:lnTo>
                  <a:lnTo>
                    <a:pt x="19011" y="242091"/>
                  </a:lnTo>
                  <a:lnTo>
                    <a:pt x="26095" y="209593"/>
                  </a:lnTo>
                  <a:lnTo>
                    <a:pt x="34015" y="174828"/>
                  </a:lnTo>
                  <a:lnTo>
                    <a:pt x="45269" y="139392"/>
                  </a:lnTo>
                  <a:lnTo>
                    <a:pt x="53984" y="103757"/>
                  </a:lnTo>
                  <a:lnTo>
                    <a:pt x="61593" y="69651"/>
                  </a:lnTo>
                  <a:lnTo>
                    <a:pt x="71275" y="35989"/>
                  </a:lnTo>
                  <a:lnTo>
                    <a:pt x="84188" y="2331"/>
                  </a:lnTo>
                  <a:lnTo>
                    <a:pt x="85453" y="1227"/>
                  </a:lnTo>
                  <a:lnTo>
                    <a:pt x="88975" y="0"/>
                  </a:lnTo>
                  <a:lnTo>
                    <a:pt x="90232" y="1260"/>
                  </a:lnTo>
                  <a:lnTo>
                    <a:pt x="91628" y="6893"/>
                  </a:lnTo>
                  <a:lnTo>
                    <a:pt x="92647" y="36421"/>
                  </a:lnTo>
                  <a:lnTo>
                    <a:pt x="97635" y="69347"/>
                  </a:lnTo>
                  <a:lnTo>
                    <a:pt x="99221" y="97026"/>
                  </a:lnTo>
                  <a:lnTo>
                    <a:pt x="101874" y="132707"/>
                  </a:lnTo>
                  <a:lnTo>
                    <a:pt x="109806" y="166713"/>
                  </a:lnTo>
                  <a:lnTo>
                    <a:pt x="123926" y="197507"/>
                  </a:lnTo>
                  <a:lnTo>
                    <a:pt x="137298" y="219700"/>
                  </a:lnTo>
                  <a:lnTo>
                    <a:pt x="163513" y="255063"/>
                  </a:lnTo>
                  <a:lnTo>
                    <a:pt x="164183" y="25619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SMARTInkShape-72"/>
            <p:cNvSpPr/>
            <p:nvPr/>
          </p:nvSpPr>
          <p:spPr>
            <a:xfrm>
              <a:off x="2357280" y="394200"/>
              <a:ext cx="185760" cy="4456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45680"/>
                <a:gd name="textAreaBottom" fmla="*/ 446040 h 445680"/>
              </a:gdLst>
              <a:ahLst/>
              <a:rect l="textAreaLeft" t="textAreaTop" r="textAreaRight" b="textAreaBottom"/>
              <a:pathLst>
                <a:path w="185731" h="445626">
                  <a:moveTo>
                    <a:pt x="7136" y="98012"/>
                  </a:moveTo>
                  <a:lnTo>
                    <a:pt x="3344" y="101804"/>
                  </a:lnTo>
                  <a:lnTo>
                    <a:pt x="985" y="115540"/>
                  </a:lnTo>
                  <a:lnTo>
                    <a:pt x="189" y="149599"/>
                  </a:lnTo>
                  <a:lnTo>
                    <a:pt x="80" y="176766"/>
                  </a:lnTo>
                  <a:lnTo>
                    <a:pt x="31" y="205245"/>
                  </a:lnTo>
                  <a:lnTo>
                    <a:pt x="10" y="234571"/>
                  </a:lnTo>
                  <a:lnTo>
                    <a:pt x="0" y="266126"/>
                  </a:lnTo>
                  <a:lnTo>
                    <a:pt x="2113" y="298671"/>
                  </a:lnTo>
                  <a:lnTo>
                    <a:pt x="4903" y="330862"/>
                  </a:lnTo>
                  <a:lnTo>
                    <a:pt x="6144" y="361045"/>
                  </a:lnTo>
                  <a:lnTo>
                    <a:pt x="6695" y="386101"/>
                  </a:lnTo>
                  <a:lnTo>
                    <a:pt x="7006" y="415940"/>
                  </a:lnTo>
                  <a:lnTo>
                    <a:pt x="7110" y="439771"/>
                  </a:lnTo>
                  <a:lnTo>
                    <a:pt x="7913" y="442533"/>
                  </a:lnTo>
                  <a:lnTo>
                    <a:pt x="9241" y="444374"/>
                  </a:lnTo>
                  <a:lnTo>
                    <a:pt x="10921" y="445601"/>
                  </a:lnTo>
                  <a:lnTo>
                    <a:pt x="12041" y="445625"/>
                  </a:lnTo>
                  <a:lnTo>
                    <a:pt x="12787" y="444848"/>
                  </a:lnTo>
                  <a:lnTo>
                    <a:pt x="13285" y="443536"/>
                  </a:lnTo>
                  <a:lnTo>
                    <a:pt x="14149" y="410174"/>
                  </a:lnTo>
                  <a:lnTo>
                    <a:pt x="14241" y="378888"/>
                  </a:lnTo>
                  <a:lnTo>
                    <a:pt x="14263" y="352227"/>
                  </a:lnTo>
                  <a:lnTo>
                    <a:pt x="14272" y="321857"/>
                  </a:lnTo>
                  <a:lnTo>
                    <a:pt x="16393" y="289838"/>
                  </a:lnTo>
                  <a:lnTo>
                    <a:pt x="19982" y="257087"/>
                  </a:lnTo>
                  <a:lnTo>
                    <a:pt x="24222" y="224010"/>
                  </a:lnTo>
                  <a:lnTo>
                    <a:pt x="28753" y="192905"/>
                  </a:lnTo>
                  <a:lnTo>
                    <a:pt x="32619" y="163205"/>
                  </a:lnTo>
                  <a:lnTo>
                    <a:pt x="34337" y="134130"/>
                  </a:lnTo>
                  <a:lnTo>
                    <a:pt x="39096" y="98571"/>
                  </a:lnTo>
                  <a:lnTo>
                    <a:pt x="42906" y="64608"/>
                  </a:lnTo>
                  <a:lnTo>
                    <a:pt x="49272" y="39040"/>
                  </a:lnTo>
                  <a:lnTo>
                    <a:pt x="49514" y="38853"/>
                  </a:lnTo>
                  <a:lnTo>
                    <a:pt x="54889" y="71650"/>
                  </a:lnTo>
                  <a:lnTo>
                    <a:pt x="56697" y="106063"/>
                  </a:lnTo>
                  <a:lnTo>
                    <a:pt x="57011" y="136116"/>
                  </a:lnTo>
                  <a:lnTo>
                    <a:pt x="59220" y="168039"/>
                  </a:lnTo>
                  <a:lnTo>
                    <a:pt x="62785" y="197607"/>
                  </a:lnTo>
                  <a:lnTo>
                    <a:pt x="63990" y="232249"/>
                  </a:lnTo>
                  <a:lnTo>
                    <a:pt x="70751" y="265774"/>
                  </a:lnTo>
                  <a:lnTo>
                    <a:pt x="71229" y="272250"/>
                  </a:lnTo>
                  <a:lnTo>
                    <a:pt x="71296" y="272114"/>
                  </a:lnTo>
                  <a:lnTo>
                    <a:pt x="71341" y="271230"/>
                  </a:lnTo>
                  <a:lnTo>
                    <a:pt x="76322" y="257611"/>
                  </a:lnTo>
                  <a:lnTo>
                    <a:pt x="78277" y="222187"/>
                  </a:lnTo>
                  <a:lnTo>
                    <a:pt x="82278" y="195041"/>
                  </a:lnTo>
                  <a:lnTo>
                    <a:pt x="84698" y="163097"/>
                  </a:lnTo>
                  <a:lnTo>
                    <a:pt x="89208" y="128497"/>
                  </a:lnTo>
                  <a:lnTo>
                    <a:pt x="95571" y="93110"/>
                  </a:lnTo>
                  <a:lnTo>
                    <a:pt x="102484" y="61282"/>
                  </a:lnTo>
                  <a:lnTo>
                    <a:pt x="117634" y="28579"/>
                  </a:lnTo>
                  <a:lnTo>
                    <a:pt x="136820" y="4750"/>
                  </a:lnTo>
                  <a:lnTo>
                    <a:pt x="142297" y="1000"/>
                  </a:lnTo>
                  <a:lnTo>
                    <a:pt x="144868" y="0"/>
                  </a:lnTo>
                  <a:lnTo>
                    <a:pt x="147376" y="127"/>
                  </a:lnTo>
                  <a:lnTo>
                    <a:pt x="152280" y="2384"/>
                  </a:lnTo>
                  <a:lnTo>
                    <a:pt x="159503" y="15703"/>
                  </a:lnTo>
                  <a:lnTo>
                    <a:pt x="164145" y="47240"/>
                  </a:lnTo>
                  <a:lnTo>
                    <a:pt x="168928" y="74678"/>
                  </a:lnTo>
                  <a:lnTo>
                    <a:pt x="170697" y="103710"/>
                  </a:lnTo>
                  <a:lnTo>
                    <a:pt x="171222" y="137094"/>
                  </a:lnTo>
                  <a:lnTo>
                    <a:pt x="172171" y="171328"/>
                  </a:lnTo>
                  <a:lnTo>
                    <a:pt x="176333" y="201932"/>
                  </a:lnTo>
                  <a:lnTo>
                    <a:pt x="177918" y="230315"/>
                  </a:lnTo>
                  <a:lnTo>
                    <a:pt x="180571" y="261641"/>
                  </a:lnTo>
                  <a:lnTo>
                    <a:pt x="185730" y="2980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SMARTInkShape-73"/>
            <p:cNvSpPr/>
            <p:nvPr/>
          </p:nvSpPr>
          <p:spPr>
            <a:xfrm>
              <a:off x="4658400" y="1121040"/>
              <a:ext cx="85320" cy="4428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85383" h="442893">
                  <a:moveTo>
                    <a:pt x="85382" y="0"/>
                  </a:moveTo>
                  <a:lnTo>
                    <a:pt x="85382" y="6150"/>
                  </a:lnTo>
                  <a:lnTo>
                    <a:pt x="75439" y="34527"/>
                  </a:lnTo>
                  <a:lnTo>
                    <a:pt x="68589" y="60589"/>
                  </a:lnTo>
                  <a:lnTo>
                    <a:pt x="61533" y="92212"/>
                  </a:lnTo>
                  <a:lnTo>
                    <a:pt x="54674" y="117183"/>
                  </a:lnTo>
                  <a:lnTo>
                    <a:pt x="46334" y="144156"/>
                  </a:lnTo>
                  <a:lnTo>
                    <a:pt x="37335" y="172019"/>
                  </a:lnTo>
                  <a:lnTo>
                    <a:pt x="30161" y="200278"/>
                  </a:lnTo>
                  <a:lnTo>
                    <a:pt x="23533" y="228712"/>
                  </a:lnTo>
                  <a:lnTo>
                    <a:pt x="15296" y="257225"/>
                  </a:lnTo>
                  <a:lnTo>
                    <a:pt x="8460" y="283655"/>
                  </a:lnTo>
                  <a:lnTo>
                    <a:pt x="3569" y="308631"/>
                  </a:lnTo>
                  <a:lnTo>
                    <a:pt x="816" y="344211"/>
                  </a:lnTo>
                  <a:lnTo>
                    <a:pt x="0" y="374421"/>
                  </a:lnTo>
                  <a:lnTo>
                    <a:pt x="1841" y="404248"/>
                  </a:lnTo>
                  <a:lnTo>
                    <a:pt x="7448" y="418491"/>
                  </a:lnTo>
                  <a:lnTo>
                    <a:pt x="11057" y="425708"/>
                  </a:lnTo>
                  <a:lnTo>
                    <a:pt x="13882" y="437109"/>
                  </a:lnTo>
                  <a:lnTo>
                    <a:pt x="15491" y="439044"/>
                  </a:lnTo>
                  <a:lnTo>
                    <a:pt x="21060" y="442892"/>
                  </a:lnTo>
                  <a:lnTo>
                    <a:pt x="21088" y="43576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SMARTInkShape-74"/>
            <p:cNvSpPr/>
            <p:nvPr/>
          </p:nvSpPr>
          <p:spPr>
            <a:xfrm>
              <a:off x="4593600" y="1178280"/>
              <a:ext cx="85680" cy="1141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5726" h="114301">
                  <a:moveTo>
                    <a:pt x="0" y="0"/>
                  </a:moveTo>
                  <a:lnTo>
                    <a:pt x="0" y="9943"/>
                  </a:lnTo>
                  <a:lnTo>
                    <a:pt x="9943" y="33792"/>
                  </a:lnTo>
                  <a:lnTo>
                    <a:pt x="30000" y="68103"/>
                  </a:lnTo>
                  <a:lnTo>
                    <a:pt x="49935" y="96634"/>
                  </a:lnTo>
                  <a:lnTo>
                    <a:pt x="68528" y="111037"/>
                  </a:lnTo>
                  <a:lnTo>
                    <a:pt x="76044" y="113333"/>
                  </a:lnTo>
                  <a:lnTo>
                    <a:pt x="85725" y="1143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SMARTInkShape-75"/>
            <p:cNvSpPr/>
            <p:nvPr/>
          </p:nvSpPr>
          <p:spPr>
            <a:xfrm>
              <a:off x="4559040" y="930960"/>
              <a:ext cx="20160" cy="3754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75480"/>
                <a:gd name="textAreaBottom" fmla="*/ 375840 h 375480"/>
              </a:gdLst>
              <a:ahLst/>
              <a:rect l="textAreaLeft" t="textAreaTop" r="textAreaRight" b="textAreaBottom"/>
              <a:pathLst>
                <a:path w="20432" h="375591">
                  <a:moveTo>
                    <a:pt x="20431" y="4115"/>
                  </a:moveTo>
                  <a:lnTo>
                    <a:pt x="20431" y="0"/>
                  </a:lnTo>
                  <a:lnTo>
                    <a:pt x="16639" y="31525"/>
                  </a:lnTo>
                  <a:lnTo>
                    <a:pt x="14280" y="57569"/>
                  </a:lnTo>
                  <a:lnTo>
                    <a:pt x="13581" y="89186"/>
                  </a:lnTo>
                  <a:lnTo>
                    <a:pt x="9582" y="123689"/>
                  </a:lnTo>
                  <a:lnTo>
                    <a:pt x="7162" y="159048"/>
                  </a:lnTo>
                  <a:lnTo>
                    <a:pt x="6445" y="194660"/>
                  </a:lnTo>
                  <a:lnTo>
                    <a:pt x="6233" y="230347"/>
                  </a:lnTo>
                  <a:lnTo>
                    <a:pt x="2377" y="266057"/>
                  </a:lnTo>
                  <a:lnTo>
                    <a:pt x="0" y="297980"/>
                  </a:lnTo>
                  <a:lnTo>
                    <a:pt x="4107" y="331508"/>
                  </a:lnTo>
                  <a:lnTo>
                    <a:pt x="6024" y="367121"/>
                  </a:lnTo>
                  <a:lnTo>
                    <a:pt x="6143" y="3755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SMARTInkShape-76"/>
            <p:cNvSpPr/>
            <p:nvPr/>
          </p:nvSpPr>
          <p:spPr>
            <a:xfrm>
              <a:off x="4102560" y="1167840"/>
              <a:ext cx="354960" cy="20988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355152" h="210002">
                  <a:moveTo>
                    <a:pt x="126551" y="17584"/>
                  </a:moveTo>
                  <a:lnTo>
                    <a:pt x="122759" y="13791"/>
                  </a:lnTo>
                  <a:lnTo>
                    <a:pt x="118780" y="11929"/>
                  </a:lnTo>
                  <a:lnTo>
                    <a:pt x="105966" y="10734"/>
                  </a:lnTo>
                  <a:lnTo>
                    <a:pt x="75715" y="18249"/>
                  </a:lnTo>
                  <a:lnTo>
                    <a:pt x="47806" y="31032"/>
                  </a:lnTo>
                  <a:lnTo>
                    <a:pt x="25066" y="49638"/>
                  </a:lnTo>
                  <a:lnTo>
                    <a:pt x="7403" y="75421"/>
                  </a:lnTo>
                  <a:lnTo>
                    <a:pt x="2159" y="89327"/>
                  </a:lnTo>
                  <a:lnTo>
                    <a:pt x="0" y="111336"/>
                  </a:lnTo>
                  <a:lnTo>
                    <a:pt x="4829" y="136026"/>
                  </a:lnTo>
                  <a:lnTo>
                    <a:pt x="11863" y="148541"/>
                  </a:lnTo>
                  <a:lnTo>
                    <a:pt x="47370" y="180085"/>
                  </a:lnTo>
                  <a:lnTo>
                    <a:pt x="76426" y="196791"/>
                  </a:lnTo>
                  <a:lnTo>
                    <a:pt x="110006" y="206941"/>
                  </a:lnTo>
                  <a:lnTo>
                    <a:pt x="143893" y="210001"/>
                  </a:lnTo>
                  <a:lnTo>
                    <a:pt x="159382" y="206535"/>
                  </a:lnTo>
                  <a:lnTo>
                    <a:pt x="167072" y="200516"/>
                  </a:lnTo>
                  <a:lnTo>
                    <a:pt x="173135" y="191756"/>
                  </a:lnTo>
                  <a:lnTo>
                    <a:pt x="180218" y="173436"/>
                  </a:lnTo>
                  <a:lnTo>
                    <a:pt x="181875" y="152927"/>
                  </a:lnTo>
                  <a:lnTo>
                    <a:pt x="173622" y="117545"/>
                  </a:lnTo>
                  <a:lnTo>
                    <a:pt x="162197" y="87525"/>
                  </a:lnTo>
                  <a:lnTo>
                    <a:pt x="150093" y="53798"/>
                  </a:lnTo>
                  <a:lnTo>
                    <a:pt x="148106" y="19994"/>
                  </a:lnTo>
                  <a:lnTo>
                    <a:pt x="150154" y="12569"/>
                  </a:lnTo>
                  <a:lnTo>
                    <a:pt x="151811" y="9478"/>
                  </a:lnTo>
                  <a:lnTo>
                    <a:pt x="153710" y="7417"/>
                  </a:lnTo>
                  <a:lnTo>
                    <a:pt x="168571" y="46"/>
                  </a:lnTo>
                  <a:lnTo>
                    <a:pt x="177241" y="0"/>
                  </a:lnTo>
                  <a:lnTo>
                    <a:pt x="195743" y="6437"/>
                  </a:lnTo>
                  <a:lnTo>
                    <a:pt x="220402" y="26182"/>
                  </a:lnTo>
                  <a:lnTo>
                    <a:pt x="242116" y="57409"/>
                  </a:lnTo>
                  <a:lnTo>
                    <a:pt x="246253" y="75950"/>
                  </a:lnTo>
                  <a:lnTo>
                    <a:pt x="247842" y="111552"/>
                  </a:lnTo>
                  <a:lnTo>
                    <a:pt x="244157" y="128417"/>
                  </a:lnTo>
                  <a:lnTo>
                    <a:pt x="234278" y="154135"/>
                  </a:lnTo>
                  <a:lnTo>
                    <a:pt x="233820" y="159209"/>
                  </a:lnTo>
                  <a:lnTo>
                    <a:pt x="233717" y="150406"/>
                  </a:lnTo>
                  <a:lnTo>
                    <a:pt x="248181" y="117390"/>
                  </a:lnTo>
                  <a:lnTo>
                    <a:pt x="264835" y="88053"/>
                  </a:lnTo>
                  <a:lnTo>
                    <a:pt x="282452" y="53175"/>
                  </a:lnTo>
                  <a:lnTo>
                    <a:pt x="296488" y="30405"/>
                  </a:lnTo>
                  <a:lnTo>
                    <a:pt x="322808" y="7492"/>
                  </a:lnTo>
                  <a:lnTo>
                    <a:pt x="330928" y="4539"/>
                  </a:lnTo>
                  <a:lnTo>
                    <a:pt x="335918" y="3849"/>
                  </a:lnTo>
                  <a:lnTo>
                    <a:pt x="337567" y="4458"/>
                  </a:lnTo>
                  <a:lnTo>
                    <a:pt x="338666" y="5658"/>
                  </a:lnTo>
                  <a:lnTo>
                    <a:pt x="339398" y="7252"/>
                  </a:lnTo>
                  <a:lnTo>
                    <a:pt x="340806" y="41379"/>
                  </a:lnTo>
                  <a:lnTo>
                    <a:pt x="340856" y="70929"/>
                  </a:lnTo>
                  <a:lnTo>
                    <a:pt x="342978" y="102322"/>
                  </a:lnTo>
                  <a:lnTo>
                    <a:pt x="347345" y="133194"/>
                  </a:lnTo>
                  <a:lnTo>
                    <a:pt x="347920" y="150352"/>
                  </a:lnTo>
                  <a:lnTo>
                    <a:pt x="350085" y="154114"/>
                  </a:lnTo>
                  <a:lnTo>
                    <a:pt x="355151" y="16045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SMARTInkShape-77"/>
            <p:cNvSpPr/>
            <p:nvPr/>
          </p:nvSpPr>
          <p:spPr>
            <a:xfrm>
              <a:off x="3893400" y="1150200"/>
              <a:ext cx="92160" cy="1782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92348" h="178206">
                  <a:moveTo>
                    <a:pt x="50006" y="21042"/>
                  </a:moveTo>
                  <a:lnTo>
                    <a:pt x="53798" y="21042"/>
                  </a:lnTo>
                  <a:lnTo>
                    <a:pt x="54915" y="20248"/>
                  </a:lnTo>
                  <a:lnTo>
                    <a:pt x="55660" y="18925"/>
                  </a:lnTo>
                  <a:lnTo>
                    <a:pt x="56157" y="17250"/>
                  </a:lnTo>
                  <a:lnTo>
                    <a:pt x="57282" y="16133"/>
                  </a:lnTo>
                  <a:lnTo>
                    <a:pt x="64790" y="12223"/>
                  </a:lnTo>
                  <a:lnTo>
                    <a:pt x="67006" y="10400"/>
                  </a:lnTo>
                  <a:lnTo>
                    <a:pt x="69468" y="6258"/>
                  </a:lnTo>
                  <a:lnTo>
                    <a:pt x="71048" y="924"/>
                  </a:lnTo>
                  <a:lnTo>
                    <a:pt x="67031" y="194"/>
                  </a:lnTo>
                  <a:lnTo>
                    <a:pt x="63737" y="0"/>
                  </a:lnTo>
                  <a:lnTo>
                    <a:pt x="57961" y="1900"/>
                  </a:lnTo>
                  <a:lnTo>
                    <a:pt x="26502" y="23463"/>
                  </a:lnTo>
                  <a:lnTo>
                    <a:pt x="19141" y="34371"/>
                  </a:lnTo>
                  <a:lnTo>
                    <a:pt x="15726" y="47657"/>
                  </a:lnTo>
                  <a:lnTo>
                    <a:pt x="17043" y="56948"/>
                  </a:lnTo>
                  <a:lnTo>
                    <a:pt x="21069" y="66369"/>
                  </a:lnTo>
                  <a:lnTo>
                    <a:pt x="46726" y="99628"/>
                  </a:lnTo>
                  <a:lnTo>
                    <a:pt x="61205" y="113912"/>
                  </a:lnTo>
                  <a:lnTo>
                    <a:pt x="90230" y="149002"/>
                  </a:lnTo>
                  <a:lnTo>
                    <a:pt x="92347" y="159031"/>
                  </a:lnTo>
                  <a:lnTo>
                    <a:pt x="90520" y="163862"/>
                  </a:lnTo>
                  <a:lnTo>
                    <a:pt x="88921" y="166262"/>
                  </a:lnTo>
                  <a:lnTo>
                    <a:pt x="79087" y="173431"/>
                  </a:lnTo>
                  <a:lnTo>
                    <a:pt x="66119" y="176790"/>
                  </a:lnTo>
                  <a:lnTo>
                    <a:pt x="34259" y="178080"/>
                  </a:lnTo>
                  <a:lnTo>
                    <a:pt x="0" y="17820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SMARTInkShape-78"/>
            <p:cNvSpPr/>
            <p:nvPr/>
          </p:nvSpPr>
          <p:spPr>
            <a:xfrm>
              <a:off x="2510640" y="944280"/>
              <a:ext cx="1289880" cy="63684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36840"/>
                <a:gd name="textAreaBottom" fmla="*/ 637200 h 636840"/>
              </a:gdLst>
              <a:ahLst/>
              <a:rect l="textAreaLeft" t="textAreaTop" r="textAreaRight" b="textAreaBottom"/>
              <a:pathLst>
                <a:path w="1289628" h="636660">
                  <a:moveTo>
                    <a:pt x="296646" y="262402"/>
                  </a:moveTo>
                  <a:lnTo>
                    <a:pt x="296646" y="295288"/>
                  </a:lnTo>
                  <a:lnTo>
                    <a:pt x="296646" y="311854"/>
                  </a:lnTo>
                  <a:lnTo>
                    <a:pt x="300438" y="312244"/>
                  </a:lnTo>
                  <a:lnTo>
                    <a:pt x="300761" y="311505"/>
                  </a:lnTo>
                  <a:lnTo>
                    <a:pt x="297694" y="304615"/>
                  </a:lnTo>
                  <a:lnTo>
                    <a:pt x="294621" y="288803"/>
                  </a:lnTo>
                  <a:lnTo>
                    <a:pt x="288902" y="278162"/>
                  </a:lnTo>
                  <a:lnTo>
                    <a:pt x="279858" y="267455"/>
                  </a:lnTo>
                  <a:lnTo>
                    <a:pt x="265213" y="260107"/>
                  </a:lnTo>
                  <a:lnTo>
                    <a:pt x="244635" y="256216"/>
                  </a:lnTo>
                  <a:lnTo>
                    <a:pt x="229289" y="256336"/>
                  </a:lnTo>
                  <a:lnTo>
                    <a:pt x="201055" y="265202"/>
                  </a:lnTo>
                  <a:lnTo>
                    <a:pt x="174396" y="279635"/>
                  </a:lnTo>
                  <a:lnTo>
                    <a:pt x="146388" y="301110"/>
                  </a:lnTo>
                  <a:lnTo>
                    <a:pt x="117981" y="329698"/>
                  </a:lnTo>
                  <a:lnTo>
                    <a:pt x="89456" y="363304"/>
                  </a:lnTo>
                  <a:lnTo>
                    <a:pt x="63013" y="398397"/>
                  </a:lnTo>
                  <a:lnTo>
                    <a:pt x="42213" y="433930"/>
                  </a:lnTo>
                  <a:lnTo>
                    <a:pt x="25996" y="469594"/>
                  </a:lnTo>
                  <a:lnTo>
                    <a:pt x="11136" y="505296"/>
                  </a:lnTo>
                  <a:lnTo>
                    <a:pt x="913" y="538893"/>
                  </a:lnTo>
                  <a:lnTo>
                    <a:pt x="0" y="566840"/>
                  </a:lnTo>
                  <a:lnTo>
                    <a:pt x="6803" y="593824"/>
                  </a:lnTo>
                  <a:lnTo>
                    <a:pt x="13310" y="602317"/>
                  </a:lnTo>
                  <a:lnTo>
                    <a:pt x="17268" y="605693"/>
                  </a:lnTo>
                  <a:lnTo>
                    <a:pt x="28015" y="609445"/>
                  </a:lnTo>
                  <a:lnTo>
                    <a:pt x="39935" y="610318"/>
                  </a:lnTo>
                  <a:lnTo>
                    <a:pt x="50525" y="608060"/>
                  </a:lnTo>
                  <a:lnTo>
                    <a:pt x="76756" y="587943"/>
                  </a:lnTo>
                  <a:lnTo>
                    <a:pt x="101759" y="562411"/>
                  </a:lnTo>
                  <a:lnTo>
                    <a:pt x="124602" y="530064"/>
                  </a:lnTo>
                  <a:lnTo>
                    <a:pt x="139219" y="507040"/>
                  </a:lnTo>
                  <a:lnTo>
                    <a:pt x="153653" y="479344"/>
                  </a:lnTo>
                  <a:lnTo>
                    <a:pt x="168006" y="448514"/>
                  </a:lnTo>
                  <a:lnTo>
                    <a:pt x="182322" y="416291"/>
                  </a:lnTo>
                  <a:lnTo>
                    <a:pt x="194506" y="383449"/>
                  </a:lnTo>
                  <a:lnTo>
                    <a:pt x="206007" y="350332"/>
                  </a:lnTo>
                  <a:lnTo>
                    <a:pt x="219056" y="317092"/>
                  </a:lnTo>
                  <a:lnTo>
                    <a:pt x="228559" y="283798"/>
                  </a:lnTo>
                  <a:lnTo>
                    <a:pt x="236223" y="250480"/>
                  </a:lnTo>
                  <a:lnTo>
                    <a:pt x="244920" y="217151"/>
                  </a:lnTo>
                  <a:lnTo>
                    <a:pt x="251961" y="185934"/>
                  </a:lnTo>
                  <a:lnTo>
                    <a:pt x="256942" y="156185"/>
                  </a:lnTo>
                  <a:lnTo>
                    <a:pt x="259156" y="127088"/>
                  </a:lnTo>
                  <a:lnTo>
                    <a:pt x="262257" y="100398"/>
                  </a:lnTo>
                  <a:lnTo>
                    <a:pt x="264231" y="65176"/>
                  </a:lnTo>
                  <a:lnTo>
                    <a:pt x="261580" y="32414"/>
                  </a:lnTo>
                  <a:lnTo>
                    <a:pt x="257328" y="15752"/>
                  </a:lnTo>
                  <a:lnTo>
                    <a:pt x="247944" y="0"/>
                  </a:lnTo>
                  <a:lnTo>
                    <a:pt x="246715" y="155"/>
                  </a:lnTo>
                  <a:lnTo>
                    <a:pt x="243234" y="2443"/>
                  </a:lnTo>
                  <a:lnTo>
                    <a:pt x="241157" y="8223"/>
                  </a:lnTo>
                  <a:lnTo>
                    <a:pt x="234011" y="40840"/>
                  </a:lnTo>
                  <a:lnTo>
                    <a:pt x="227376" y="68607"/>
                  </a:lnTo>
                  <a:lnTo>
                    <a:pt x="220382" y="102411"/>
                  </a:lnTo>
                  <a:lnTo>
                    <a:pt x="215655" y="128589"/>
                  </a:lnTo>
                  <a:lnTo>
                    <a:pt x="213025" y="156098"/>
                  </a:lnTo>
                  <a:lnTo>
                    <a:pt x="211062" y="184199"/>
                  </a:lnTo>
                  <a:lnTo>
                    <a:pt x="207544" y="212564"/>
                  </a:lnTo>
                  <a:lnTo>
                    <a:pt x="205451" y="241045"/>
                  </a:lnTo>
                  <a:lnTo>
                    <a:pt x="205315" y="269579"/>
                  </a:lnTo>
                  <a:lnTo>
                    <a:pt x="207900" y="298135"/>
                  </a:lnTo>
                  <a:lnTo>
                    <a:pt x="211695" y="324585"/>
                  </a:lnTo>
                  <a:lnTo>
                    <a:pt x="218294" y="359672"/>
                  </a:lnTo>
                  <a:lnTo>
                    <a:pt x="227393" y="390177"/>
                  </a:lnTo>
                  <a:lnTo>
                    <a:pt x="240143" y="415090"/>
                  </a:lnTo>
                  <a:lnTo>
                    <a:pt x="256092" y="432526"/>
                  </a:lnTo>
                  <a:lnTo>
                    <a:pt x="268303" y="441200"/>
                  </a:lnTo>
                  <a:lnTo>
                    <a:pt x="279022" y="445055"/>
                  </a:lnTo>
                  <a:lnTo>
                    <a:pt x="297774" y="447226"/>
                  </a:lnTo>
                  <a:lnTo>
                    <a:pt x="322203" y="444076"/>
                  </a:lnTo>
                  <a:lnTo>
                    <a:pt x="353200" y="430198"/>
                  </a:lnTo>
                  <a:lnTo>
                    <a:pt x="374257" y="416012"/>
                  </a:lnTo>
                  <a:lnTo>
                    <a:pt x="405095" y="381299"/>
                  </a:lnTo>
                  <a:lnTo>
                    <a:pt x="420014" y="347791"/>
                  </a:lnTo>
                  <a:lnTo>
                    <a:pt x="430200" y="320135"/>
                  </a:lnTo>
                  <a:lnTo>
                    <a:pt x="432250" y="299984"/>
                  </a:lnTo>
                  <a:lnTo>
                    <a:pt x="431498" y="299363"/>
                  </a:lnTo>
                  <a:lnTo>
                    <a:pt x="428547" y="298673"/>
                  </a:lnTo>
                  <a:lnTo>
                    <a:pt x="427442" y="299282"/>
                  </a:lnTo>
                  <a:lnTo>
                    <a:pt x="426706" y="300483"/>
                  </a:lnTo>
                  <a:lnTo>
                    <a:pt x="425670" y="305964"/>
                  </a:lnTo>
                  <a:lnTo>
                    <a:pt x="424634" y="311132"/>
                  </a:lnTo>
                  <a:lnTo>
                    <a:pt x="419617" y="327384"/>
                  </a:lnTo>
                  <a:lnTo>
                    <a:pt x="418224" y="357447"/>
                  </a:lnTo>
                  <a:lnTo>
                    <a:pt x="418901" y="385573"/>
                  </a:lnTo>
                  <a:lnTo>
                    <a:pt x="423798" y="399527"/>
                  </a:lnTo>
                  <a:lnTo>
                    <a:pt x="428035" y="406161"/>
                  </a:lnTo>
                  <a:lnTo>
                    <a:pt x="438675" y="414358"/>
                  </a:lnTo>
                  <a:lnTo>
                    <a:pt x="448090" y="418022"/>
                  </a:lnTo>
                  <a:lnTo>
                    <a:pt x="459699" y="419107"/>
                  </a:lnTo>
                  <a:lnTo>
                    <a:pt x="476985" y="415636"/>
                  </a:lnTo>
                  <a:lnTo>
                    <a:pt x="493395" y="405789"/>
                  </a:lnTo>
                  <a:lnTo>
                    <a:pt x="528368" y="373417"/>
                  </a:lnTo>
                  <a:lnTo>
                    <a:pt x="546015" y="354297"/>
                  </a:lnTo>
                  <a:lnTo>
                    <a:pt x="566424" y="323216"/>
                  </a:lnTo>
                  <a:lnTo>
                    <a:pt x="596083" y="289537"/>
                  </a:lnTo>
                  <a:lnTo>
                    <a:pt x="602297" y="279227"/>
                  </a:lnTo>
                  <a:lnTo>
                    <a:pt x="603601" y="278381"/>
                  </a:lnTo>
                  <a:lnTo>
                    <a:pt x="607166" y="277441"/>
                  </a:lnTo>
                  <a:lnTo>
                    <a:pt x="608434" y="277984"/>
                  </a:lnTo>
                  <a:lnTo>
                    <a:pt x="609280" y="279140"/>
                  </a:lnTo>
                  <a:lnTo>
                    <a:pt x="610219" y="283335"/>
                  </a:lnTo>
                  <a:lnTo>
                    <a:pt x="610905" y="318633"/>
                  </a:lnTo>
                  <a:lnTo>
                    <a:pt x="610958" y="352179"/>
                  </a:lnTo>
                  <a:lnTo>
                    <a:pt x="610967" y="385046"/>
                  </a:lnTo>
                  <a:lnTo>
                    <a:pt x="610970" y="419920"/>
                  </a:lnTo>
                  <a:lnTo>
                    <a:pt x="610970" y="455388"/>
                  </a:lnTo>
                  <a:lnTo>
                    <a:pt x="608854" y="491033"/>
                  </a:lnTo>
                  <a:lnTo>
                    <a:pt x="605316" y="526730"/>
                  </a:lnTo>
                  <a:lnTo>
                    <a:pt x="604268" y="560325"/>
                  </a:lnTo>
                  <a:lnTo>
                    <a:pt x="601841" y="588271"/>
                  </a:lnTo>
                  <a:lnTo>
                    <a:pt x="597136" y="623748"/>
                  </a:lnTo>
                  <a:lnTo>
                    <a:pt x="596743" y="636659"/>
                  </a:lnTo>
                  <a:lnTo>
                    <a:pt x="596691" y="626815"/>
                  </a:lnTo>
                  <a:lnTo>
                    <a:pt x="602338" y="595111"/>
                  </a:lnTo>
                  <a:lnTo>
                    <a:pt x="603386" y="566564"/>
                  </a:lnTo>
                  <a:lnTo>
                    <a:pt x="603696" y="532970"/>
                  </a:lnTo>
                  <a:lnTo>
                    <a:pt x="603769" y="508860"/>
                  </a:lnTo>
                  <a:lnTo>
                    <a:pt x="603801" y="482270"/>
                  </a:lnTo>
                  <a:lnTo>
                    <a:pt x="603816" y="454577"/>
                  </a:lnTo>
                  <a:lnTo>
                    <a:pt x="604616" y="426394"/>
                  </a:lnTo>
                  <a:lnTo>
                    <a:pt x="607617" y="397994"/>
                  </a:lnTo>
                  <a:lnTo>
                    <a:pt x="611597" y="369496"/>
                  </a:lnTo>
                  <a:lnTo>
                    <a:pt x="615218" y="341749"/>
                  </a:lnTo>
                  <a:lnTo>
                    <a:pt x="616827" y="316188"/>
                  </a:lnTo>
                  <a:lnTo>
                    <a:pt x="621525" y="283277"/>
                  </a:lnTo>
                  <a:lnTo>
                    <a:pt x="630224" y="249416"/>
                  </a:lnTo>
                  <a:lnTo>
                    <a:pt x="641954" y="216359"/>
                  </a:lnTo>
                  <a:lnTo>
                    <a:pt x="649079" y="204750"/>
                  </a:lnTo>
                  <a:lnTo>
                    <a:pt x="653837" y="201060"/>
                  </a:lnTo>
                  <a:lnTo>
                    <a:pt x="656217" y="200076"/>
                  </a:lnTo>
                  <a:lnTo>
                    <a:pt x="658597" y="201008"/>
                  </a:lnTo>
                  <a:lnTo>
                    <a:pt x="677793" y="218477"/>
                  </a:lnTo>
                  <a:lnTo>
                    <a:pt x="691639" y="248915"/>
                  </a:lnTo>
                  <a:lnTo>
                    <a:pt x="696491" y="281757"/>
                  </a:lnTo>
                  <a:lnTo>
                    <a:pt x="702153" y="311998"/>
                  </a:lnTo>
                  <a:lnTo>
                    <a:pt x="703617" y="343163"/>
                  </a:lnTo>
                  <a:lnTo>
                    <a:pt x="703810" y="369404"/>
                  </a:lnTo>
                  <a:lnTo>
                    <a:pt x="701710" y="375575"/>
                  </a:lnTo>
                  <a:lnTo>
                    <a:pt x="693894" y="386004"/>
                  </a:lnTo>
                  <a:lnTo>
                    <a:pt x="689365" y="388774"/>
                  </a:lnTo>
                  <a:lnTo>
                    <a:pt x="684706" y="390798"/>
                  </a:lnTo>
                  <a:lnTo>
                    <a:pt x="679990" y="394344"/>
                  </a:lnTo>
                  <a:lnTo>
                    <a:pt x="677621" y="394813"/>
                  </a:lnTo>
                  <a:lnTo>
                    <a:pt x="675248" y="394332"/>
                  </a:lnTo>
                  <a:lnTo>
                    <a:pt x="669701" y="392475"/>
                  </a:lnTo>
                  <a:lnTo>
                    <a:pt x="645014" y="388960"/>
                  </a:lnTo>
                  <a:lnTo>
                    <a:pt x="634022" y="383244"/>
                  </a:lnTo>
                  <a:lnTo>
                    <a:pt x="628360" y="379609"/>
                  </a:lnTo>
                  <a:lnTo>
                    <a:pt x="618154" y="376712"/>
                  </a:lnTo>
                  <a:lnTo>
                    <a:pt x="647758" y="376702"/>
                  </a:lnTo>
                  <a:lnTo>
                    <a:pt x="681208" y="372910"/>
                  </a:lnTo>
                  <a:lnTo>
                    <a:pt x="711540" y="364517"/>
                  </a:lnTo>
                  <a:lnTo>
                    <a:pt x="738047" y="356775"/>
                  </a:lnTo>
                  <a:lnTo>
                    <a:pt x="773332" y="340340"/>
                  </a:lnTo>
                  <a:lnTo>
                    <a:pt x="807260" y="318013"/>
                  </a:lnTo>
                  <a:lnTo>
                    <a:pt x="838452" y="291401"/>
                  </a:lnTo>
                  <a:lnTo>
                    <a:pt x="865931" y="262439"/>
                  </a:lnTo>
                  <a:lnTo>
                    <a:pt x="872516" y="250242"/>
                  </a:lnTo>
                  <a:lnTo>
                    <a:pt x="875127" y="235362"/>
                  </a:lnTo>
                  <a:lnTo>
                    <a:pt x="874388" y="234851"/>
                  </a:lnTo>
                  <a:lnTo>
                    <a:pt x="871449" y="234282"/>
                  </a:lnTo>
                  <a:lnTo>
                    <a:pt x="869554" y="235718"/>
                  </a:lnTo>
                  <a:lnTo>
                    <a:pt x="841496" y="267424"/>
                  </a:lnTo>
                  <a:lnTo>
                    <a:pt x="831322" y="285321"/>
                  </a:lnTo>
                  <a:lnTo>
                    <a:pt x="820773" y="317611"/>
                  </a:lnTo>
                  <a:lnTo>
                    <a:pt x="813162" y="347743"/>
                  </a:lnTo>
                  <a:lnTo>
                    <a:pt x="811424" y="376626"/>
                  </a:lnTo>
                  <a:lnTo>
                    <a:pt x="814915" y="398111"/>
                  </a:lnTo>
                  <a:lnTo>
                    <a:pt x="820977" y="411973"/>
                  </a:lnTo>
                  <a:lnTo>
                    <a:pt x="831592" y="421107"/>
                  </a:lnTo>
                  <a:lnTo>
                    <a:pt x="840258" y="424219"/>
                  </a:lnTo>
                  <a:lnTo>
                    <a:pt x="854964" y="426216"/>
                  </a:lnTo>
                  <a:lnTo>
                    <a:pt x="862552" y="422256"/>
                  </a:lnTo>
                  <a:lnTo>
                    <a:pt x="870422" y="415204"/>
                  </a:lnTo>
                  <a:lnTo>
                    <a:pt x="895086" y="381613"/>
                  </a:lnTo>
                  <a:lnTo>
                    <a:pt x="899963" y="368566"/>
                  </a:lnTo>
                  <a:lnTo>
                    <a:pt x="903351" y="333709"/>
                  </a:lnTo>
                  <a:lnTo>
                    <a:pt x="902969" y="306032"/>
                  </a:lnTo>
                  <a:lnTo>
                    <a:pt x="896580" y="270469"/>
                  </a:lnTo>
                  <a:lnTo>
                    <a:pt x="891211" y="259324"/>
                  </a:lnTo>
                  <a:lnTo>
                    <a:pt x="885387" y="250995"/>
                  </a:lnTo>
                  <a:lnTo>
                    <a:pt x="883746" y="245955"/>
                  </a:lnTo>
                  <a:lnTo>
                    <a:pt x="882515" y="244293"/>
                  </a:lnTo>
                  <a:lnTo>
                    <a:pt x="880900" y="243186"/>
                  </a:lnTo>
                  <a:lnTo>
                    <a:pt x="875618" y="241100"/>
                  </a:lnTo>
                  <a:lnTo>
                    <a:pt x="875387" y="244801"/>
                  </a:lnTo>
                  <a:lnTo>
                    <a:pt x="877449" y="248758"/>
                  </a:lnTo>
                  <a:lnTo>
                    <a:pt x="880218" y="253163"/>
                  </a:lnTo>
                  <a:lnTo>
                    <a:pt x="882571" y="260105"/>
                  </a:lnTo>
                  <a:lnTo>
                    <a:pt x="892290" y="271938"/>
                  </a:lnTo>
                  <a:lnTo>
                    <a:pt x="901101" y="274578"/>
                  </a:lnTo>
                  <a:lnTo>
                    <a:pt x="922369" y="276272"/>
                  </a:lnTo>
                  <a:lnTo>
                    <a:pt x="940833" y="272773"/>
                  </a:lnTo>
                  <a:lnTo>
                    <a:pt x="975467" y="254429"/>
                  </a:lnTo>
                  <a:lnTo>
                    <a:pt x="1007702" y="232252"/>
                  </a:lnTo>
                  <a:lnTo>
                    <a:pt x="1038146" y="199237"/>
                  </a:lnTo>
                  <a:lnTo>
                    <a:pt x="1055129" y="171543"/>
                  </a:lnTo>
                  <a:lnTo>
                    <a:pt x="1070216" y="143229"/>
                  </a:lnTo>
                  <a:lnTo>
                    <a:pt x="1083946" y="114732"/>
                  </a:lnTo>
                  <a:lnTo>
                    <a:pt x="1092600" y="86973"/>
                  </a:lnTo>
                  <a:lnTo>
                    <a:pt x="1095927" y="55858"/>
                  </a:lnTo>
                  <a:lnTo>
                    <a:pt x="1096584" y="34366"/>
                  </a:lnTo>
                  <a:lnTo>
                    <a:pt x="1092441" y="25851"/>
                  </a:lnTo>
                  <a:lnTo>
                    <a:pt x="1089113" y="21357"/>
                  </a:lnTo>
                  <a:lnTo>
                    <a:pt x="1081183" y="16365"/>
                  </a:lnTo>
                  <a:lnTo>
                    <a:pt x="1063156" y="13160"/>
                  </a:lnTo>
                  <a:lnTo>
                    <a:pt x="1051655" y="16955"/>
                  </a:lnTo>
                  <a:lnTo>
                    <a:pt x="1028660" y="32326"/>
                  </a:lnTo>
                  <a:lnTo>
                    <a:pt x="998351" y="63123"/>
                  </a:lnTo>
                  <a:lnTo>
                    <a:pt x="978003" y="98684"/>
                  </a:lnTo>
                  <a:lnTo>
                    <a:pt x="963490" y="128521"/>
                  </a:lnTo>
                  <a:lnTo>
                    <a:pt x="956721" y="161262"/>
                  </a:lnTo>
                  <a:lnTo>
                    <a:pt x="954715" y="196098"/>
                  </a:lnTo>
                  <a:lnTo>
                    <a:pt x="954121" y="227763"/>
                  </a:lnTo>
                  <a:lnTo>
                    <a:pt x="957737" y="257254"/>
                  </a:lnTo>
                  <a:lnTo>
                    <a:pt x="963836" y="286100"/>
                  </a:lnTo>
                  <a:lnTo>
                    <a:pt x="978255" y="310963"/>
                  </a:lnTo>
                  <a:lnTo>
                    <a:pt x="1004460" y="339110"/>
                  </a:lnTo>
                  <a:lnTo>
                    <a:pt x="1039672" y="356778"/>
                  </a:lnTo>
                  <a:lnTo>
                    <a:pt x="1061049" y="360744"/>
                  </a:lnTo>
                  <a:lnTo>
                    <a:pt x="1094516" y="356381"/>
                  </a:lnTo>
                  <a:lnTo>
                    <a:pt x="1124880" y="347876"/>
                  </a:lnTo>
                  <a:lnTo>
                    <a:pt x="1153809" y="334760"/>
                  </a:lnTo>
                  <a:lnTo>
                    <a:pt x="1187486" y="312216"/>
                  </a:lnTo>
                  <a:lnTo>
                    <a:pt x="1215886" y="283816"/>
                  </a:lnTo>
                  <a:lnTo>
                    <a:pt x="1236356" y="250642"/>
                  </a:lnTo>
                  <a:lnTo>
                    <a:pt x="1240128" y="230603"/>
                  </a:lnTo>
                  <a:lnTo>
                    <a:pt x="1241546" y="229296"/>
                  </a:lnTo>
                  <a:lnTo>
                    <a:pt x="1243286" y="228425"/>
                  </a:lnTo>
                  <a:lnTo>
                    <a:pt x="1244445" y="226257"/>
                  </a:lnTo>
                  <a:lnTo>
                    <a:pt x="1245734" y="219614"/>
                  </a:lnTo>
                  <a:lnTo>
                    <a:pt x="1245284" y="217208"/>
                  </a:lnTo>
                  <a:lnTo>
                    <a:pt x="1244190" y="215604"/>
                  </a:lnTo>
                  <a:lnTo>
                    <a:pt x="1242667" y="214535"/>
                  </a:lnTo>
                  <a:lnTo>
                    <a:pt x="1241652" y="213028"/>
                  </a:lnTo>
                  <a:lnTo>
                    <a:pt x="1239888" y="206433"/>
                  </a:lnTo>
                  <a:lnTo>
                    <a:pt x="1239644" y="199205"/>
                  </a:lnTo>
                  <a:lnTo>
                    <a:pt x="1238843" y="198839"/>
                  </a:lnTo>
                  <a:lnTo>
                    <a:pt x="1235836" y="198433"/>
                  </a:lnTo>
                  <a:lnTo>
                    <a:pt x="1231853" y="200369"/>
                  </a:lnTo>
                  <a:lnTo>
                    <a:pt x="1222829" y="208080"/>
                  </a:lnTo>
                  <a:lnTo>
                    <a:pt x="1201780" y="241174"/>
                  </a:lnTo>
                  <a:lnTo>
                    <a:pt x="1180604" y="270513"/>
                  </a:lnTo>
                  <a:lnTo>
                    <a:pt x="1166183" y="301599"/>
                  </a:lnTo>
                  <a:lnTo>
                    <a:pt x="1156063" y="332181"/>
                  </a:lnTo>
                  <a:lnTo>
                    <a:pt x="1155653" y="342627"/>
                  </a:lnTo>
                  <a:lnTo>
                    <a:pt x="1163966" y="367080"/>
                  </a:lnTo>
                  <a:lnTo>
                    <a:pt x="1170726" y="377643"/>
                  </a:lnTo>
                  <a:lnTo>
                    <a:pt x="1181549" y="385800"/>
                  </a:lnTo>
                  <a:lnTo>
                    <a:pt x="1194809" y="389452"/>
                  </a:lnTo>
                  <a:lnTo>
                    <a:pt x="1227740" y="390899"/>
                  </a:lnTo>
                  <a:lnTo>
                    <a:pt x="1242010" y="390169"/>
                  </a:lnTo>
                  <a:lnTo>
                    <a:pt x="1255498" y="385278"/>
                  </a:lnTo>
                  <a:lnTo>
                    <a:pt x="1270159" y="374196"/>
                  </a:lnTo>
                  <a:lnTo>
                    <a:pt x="1277597" y="363347"/>
                  </a:lnTo>
                  <a:lnTo>
                    <a:pt x="1282312" y="351956"/>
                  </a:lnTo>
                  <a:lnTo>
                    <a:pt x="1283956" y="350680"/>
                  </a:lnTo>
                  <a:lnTo>
                    <a:pt x="1289627" y="34812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SMARTInkShape-Group28"/>
          <p:cNvGrpSpPr/>
          <p:nvPr/>
        </p:nvGrpSpPr>
        <p:grpSpPr>
          <a:xfrm>
            <a:off x="6986520" y="614520"/>
            <a:ext cx="906480" cy="311040"/>
            <a:chOff x="6986520" y="614520"/>
            <a:chExt cx="906480" cy="311040"/>
          </a:xfrm>
        </p:grpSpPr>
        <p:sp>
          <p:nvSpPr>
            <p:cNvPr id="148" name="SMARTInkShape-79"/>
            <p:cNvSpPr/>
            <p:nvPr/>
          </p:nvSpPr>
          <p:spPr>
            <a:xfrm>
              <a:off x="7336800" y="614520"/>
              <a:ext cx="556200" cy="248040"/>
            </a:xfrm>
            <a:custGeom>
              <a:avLst/>
              <a:gdLst>
                <a:gd name="textAreaLeft" fmla="*/ 0 w 556200"/>
                <a:gd name="textAreaRight" fmla="*/ 556560 w 556200"/>
                <a:gd name="textAreaTop" fmla="*/ 0 h 248040"/>
                <a:gd name="textAreaBottom" fmla="*/ 248400 h 248040"/>
              </a:gdLst>
              <a:ahLst/>
              <a:rect l="textAreaLeft" t="textAreaTop" r="textAreaRight" b="textAreaBottom"/>
              <a:pathLst>
                <a:path w="555873" h="248137">
                  <a:moveTo>
                    <a:pt x="6849" y="221456"/>
                  </a:moveTo>
                  <a:lnTo>
                    <a:pt x="0" y="221456"/>
                  </a:lnTo>
                  <a:lnTo>
                    <a:pt x="516" y="196292"/>
                  </a:lnTo>
                  <a:lnTo>
                    <a:pt x="9650" y="163814"/>
                  </a:lnTo>
                  <a:lnTo>
                    <a:pt x="18838" y="129930"/>
                  </a:lnTo>
                  <a:lnTo>
                    <a:pt x="30413" y="94780"/>
                  </a:lnTo>
                  <a:lnTo>
                    <a:pt x="47751" y="64671"/>
                  </a:lnTo>
                  <a:lnTo>
                    <a:pt x="75942" y="31407"/>
                  </a:lnTo>
                  <a:lnTo>
                    <a:pt x="90204" y="20594"/>
                  </a:lnTo>
                  <a:lnTo>
                    <a:pt x="104483" y="16156"/>
                  </a:lnTo>
                  <a:lnTo>
                    <a:pt x="111890" y="17234"/>
                  </a:lnTo>
                  <a:lnTo>
                    <a:pt x="114976" y="18633"/>
                  </a:lnTo>
                  <a:lnTo>
                    <a:pt x="120522" y="24421"/>
                  </a:lnTo>
                  <a:lnTo>
                    <a:pt x="130550" y="44864"/>
                  </a:lnTo>
                  <a:lnTo>
                    <a:pt x="139381" y="72626"/>
                  </a:lnTo>
                  <a:lnTo>
                    <a:pt x="141949" y="107861"/>
                  </a:lnTo>
                  <a:lnTo>
                    <a:pt x="142393" y="135940"/>
                  </a:lnTo>
                  <a:lnTo>
                    <a:pt x="142544" y="170080"/>
                  </a:lnTo>
                  <a:lnTo>
                    <a:pt x="136870" y="203870"/>
                  </a:lnTo>
                  <a:lnTo>
                    <a:pt x="129600" y="222154"/>
                  </a:lnTo>
                  <a:lnTo>
                    <a:pt x="117556" y="240438"/>
                  </a:lnTo>
                  <a:lnTo>
                    <a:pt x="116373" y="243636"/>
                  </a:lnTo>
                  <a:lnTo>
                    <a:pt x="114790" y="245767"/>
                  </a:lnTo>
                  <a:lnTo>
                    <a:pt x="110915" y="248136"/>
                  </a:lnTo>
                  <a:lnTo>
                    <a:pt x="109564" y="247974"/>
                  </a:lnTo>
                  <a:lnTo>
                    <a:pt x="108663" y="247072"/>
                  </a:lnTo>
                  <a:lnTo>
                    <a:pt x="108063" y="245677"/>
                  </a:lnTo>
                  <a:lnTo>
                    <a:pt x="106967" y="219453"/>
                  </a:lnTo>
                  <a:lnTo>
                    <a:pt x="112585" y="191691"/>
                  </a:lnTo>
                  <a:lnTo>
                    <a:pt x="123456" y="156457"/>
                  </a:lnTo>
                  <a:lnTo>
                    <a:pt x="138236" y="128378"/>
                  </a:lnTo>
                  <a:lnTo>
                    <a:pt x="155581" y="99950"/>
                  </a:lnTo>
                  <a:lnTo>
                    <a:pt x="179456" y="65692"/>
                  </a:lnTo>
                  <a:lnTo>
                    <a:pt x="211320" y="31497"/>
                  </a:lnTo>
                  <a:lnTo>
                    <a:pt x="229830" y="18510"/>
                  </a:lnTo>
                  <a:lnTo>
                    <a:pt x="236392" y="16164"/>
                  </a:lnTo>
                  <a:lnTo>
                    <a:pt x="238459" y="16332"/>
                  </a:lnTo>
                  <a:lnTo>
                    <a:pt x="239836" y="17238"/>
                  </a:lnTo>
                  <a:lnTo>
                    <a:pt x="245841" y="28187"/>
                  </a:lnTo>
                  <a:lnTo>
                    <a:pt x="248582" y="41072"/>
                  </a:lnTo>
                  <a:lnTo>
                    <a:pt x="251701" y="72142"/>
                  </a:lnTo>
                  <a:lnTo>
                    <a:pt x="255857" y="103944"/>
                  </a:lnTo>
                  <a:lnTo>
                    <a:pt x="256678" y="135096"/>
                  </a:lnTo>
                  <a:lnTo>
                    <a:pt x="258957" y="164180"/>
                  </a:lnTo>
                  <a:lnTo>
                    <a:pt x="263360" y="177744"/>
                  </a:lnTo>
                  <a:lnTo>
                    <a:pt x="270607" y="189064"/>
                  </a:lnTo>
                  <a:lnTo>
                    <a:pt x="283614" y="200569"/>
                  </a:lnTo>
                  <a:lnTo>
                    <a:pt x="297521" y="209005"/>
                  </a:lnTo>
                  <a:lnTo>
                    <a:pt x="309074" y="209837"/>
                  </a:lnTo>
                  <a:lnTo>
                    <a:pt x="343687" y="201816"/>
                  </a:lnTo>
                  <a:lnTo>
                    <a:pt x="376892" y="190648"/>
                  </a:lnTo>
                  <a:lnTo>
                    <a:pt x="406616" y="173390"/>
                  </a:lnTo>
                  <a:lnTo>
                    <a:pt x="433831" y="149784"/>
                  </a:lnTo>
                  <a:lnTo>
                    <a:pt x="458077" y="119251"/>
                  </a:lnTo>
                  <a:lnTo>
                    <a:pt x="467641" y="96207"/>
                  </a:lnTo>
                  <a:lnTo>
                    <a:pt x="467237" y="93506"/>
                  </a:lnTo>
                  <a:lnTo>
                    <a:pt x="464994" y="85914"/>
                  </a:lnTo>
                  <a:lnTo>
                    <a:pt x="464679" y="83469"/>
                  </a:lnTo>
                  <a:lnTo>
                    <a:pt x="463675" y="82634"/>
                  </a:lnTo>
                  <a:lnTo>
                    <a:pt x="462213" y="82870"/>
                  </a:lnTo>
                  <a:lnTo>
                    <a:pt x="460443" y="83822"/>
                  </a:lnTo>
                  <a:lnTo>
                    <a:pt x="459264" y="85250"/>
                  </a:lnTo>
                  <a:lnTo>
                    <a:pt x="455255" y="93245"/>
                  </a:lnTo>
                  <a:lnTo>
                    <a:pt x="433989" y="125653"/>
                  </a:lnTo>
                  <a:lnTo>
                    <a:pt x="418884" y="160883"/>
                  </a:lnTo>
                  <a:lnTo>
                    <a:pt x="418311" y="173103"/>
                  </a:lnTo>
                  <a:lnTo>
                    <a:pt x="426511" y="206592"/>
                  </a:lnTo>
                  <a:lnTo>
                    <a:pt x="435585" y="225899"/>
                  </a:lnTo>
                  <a:lnTo>
                    <a:pt x="441080" y="232162"/>
                  </a:lnTo>
                  <a:lnTo>
                    <a:pt x="448813" y="237591"/>
                  </a:lnTo>
                  <a:lnTo>
                    <a:pt x="462093" y="241318"/>
                  </a:lnTo>
                  <a:lnTo>
                    <a:pt x="471382" y="240073"/>
                  </a:lnTo>
                  <a:lnTo>
                    <a:pt x="500734" y="229023"/>
                  </a:lnTo>
                  <a:lnTo>
                    <a:pt x="526417" y="205841"/>
                  </a:lnTo>
                  <a:lnTo>
                    <a:pt x="539943" y="185344"/>
                  </a:lnTo>
                  <a:lnTo>
                    <a:pt x="551624" y="157084"/>
                  </a:lnTo>
                  <a:lnTo>
                    <a:pt x="555872" y="123662"/>
                  </a:lnTo>
                  <a:lnTo>
                    <a:pt x="554595" y="93307"/>
                  </a:lnTo>
                  <a:lnTo>
                    <a:pt x="546969" y="71567"/>
                  </a:lnTo>
                  <a:lnTo>
                    <a:pt x="523069" y="36357"/>
                  </a:lnTo>
                  <a:lnTo>
                    <a:pt x="516474" y="27271"/>
                  </a:lnTo>
                  <a:lnTo>
                    <a:pt x="488079" y="3265"/>
                  </a:lnTo>
                  <a:lnTo>
                    <a:pt x="478337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SMARTInkShape-80"/>
            <p:cNvSpPr/>
            <p:nvPr/>
          </p:nvSpPr>
          <p:spPr>
            <a:xfrm>
              <a:off x="6986520" y="686880"/>
              <a:ext cx="242640" cy="2386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42469" h="239008">
                  <a:moveTo>
                    <a:pt x="28480" y="6151"/>
                  </a:moveTo>
                  <a:lnTo>
                    <a:pt x="28480" y="0"/>
                  </a:lnTo>
                  <a:lnTo>
                    <a:pt x="28480" y="3094"/>
                  </a:lnTo>
                  <a:lnTo>
                    <a:pt x="26363" y="6909"/>
                  </a:lnTo>
                  <a:lnTo>
                    <a:pt x="18537" y="19618"/>
                  </a:lnTo>
                  <a:lnTo>
                    <a:pt x="10781" y="50561"/>
                  </a:lnTo>
                  <a:lnTo>
                    <a:pt x="6992" y="83597"/>
                  </a:lnTo>
                  <a:lnTo>
                    <a:pt x="2357" y="111295"/>
                  </a:lnTo>
                  <a:lnTo>
                    <a:pt x="389" y="146982"/>
                  </a:lnTo>
                  <a:lnTo>
                    <a:pt x="0" y="180989"/>
                  </a:lnTo>
                  <a:lnTo>
                    <a:pt x="5572" y="212198"/>
                  </a:lnTo>
                  <a:lnTo>
                    <a:pt x="8727" y="227275"/>
                  </a:lnTo>
                  <a:lnTo>
                    <a:pt x="10549" y="232148"/>
                  </a:lnTo>
                  <a:lnTo>
                    <a:pt x="13351" y="235397"/>
                  </a:lnTo>
                  <a:lnTo>
                    <a:pt x="20697" y="239007"/>
                  </a:lnTo>
                  <a:lnTo>
                    <a:pt x="29254" y="238494"/>
                  </a:lnTo>
                  <a:lnTo>
                    <a:pt x="53188" y="228747"/>
                  </a:lnTo>
                  <a:lnTo>
                    <a:pt x="65655" y="221234"/>
                  </a:lnTo>
                  <a:lnTo>
                    <a:pt x="88152" y="192864"/>
                  </a:lnTo>
                  <a:lnTo>
                    <a:pt x="112586" y="161389"/>
                  </a:lnTo>
                  <a:lnTo>
                    <a:pt x="132935" y="128626"/>
                  </a:lnTo>
                  <a:lnTo>
                    <a:pt x="152242" y="94314"/>
                  </a:lnTo>
                  <a:lnTo>
                    <a:pt x="171342" y="63782"/>
                  </a:lnTo>
                  <a:lnTo>
                    <a:pt x="197812" y="30368"/>
                  </a:lnTo>
                  <a:lnTo>
                    <a:pt x="200899" y="27058"/>
                  </a:lnTo>
                  <a:lnTo>
                    <a:pt x="208562" y="23380"/>
                  </a:lnTo>
                  <a:lnTo>
                    <a:pt x="222625" y="21019"/>
                  </a:lnTo>
                  <a:lnTo>
                    <a:pt x="224585" y="21619"/>
                  </a:lnTo>
                  <a:lnTo>
                    <a:pt x="225891" y="22813"/>
                  </a:lnTo>
                  <a:lnTo>
                    <a:pt x="233070" y="38361"/>
                  </a:lnTo>
                  <a:lnTo>
                    <a:pt x="240332" y="71495"/>
                  </a:lnTo>
                  <a:lnTo>
                    <a:pt x="242468" y="102509"/>
                  </a:lnTo>
                  <a:lnTo>
                    <a:pt x="241934" y="127490"/>
                  </a:lnTo>
                  <a:lnTo>
                    <a:pt x="237070" y="142733"/>
                  </a:lnTo>
                  <a:lnTo>
                    <a:pt x="225997" y="158036"/>
                  </a:lnTo>
                  <a:lnTo>
                    <a:pt x="201881" y="172793"/>
                  </a:lnTo>
                  <a:lnTo>
                    <a:pt x="197262" y="173602"/>
                  </a:lnTo>
                  <a:lnTo>
                    <a:pt x="164211" y="17045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SMARTInkShape-Group29"/>
          <p:cNvGrpSpPr/>
          <p:nvPr/>
        </p:nvGrpSpPr>
        <p:grpSpPr>
          <a:xfrm>
            <a:off x="5572080" y="1200240"/>
            <a:ext cx="2308320" cy="666720"/>
            <a:chOff x="5572080" y="1200240"/>
            <a:chExt cx="2308320" cy="666720"/>
          </a:xfrm>
        </p:grpSpPr>
        <p:sp>
          <p:nvSpPr>
            <p:cNvPr id="151" name="SMARTInkShape-81"/>
            <p:cNvSpPr/>
            <p:nvPr/>
          </p:nvSpPr>
          <p:spPr>
            <a:xfrm>
              <a:off x="7797960" y="1200240"/>
              <a:ext cx="3960" cy="68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4117" h="7145">
                  <a:moveTo>
                    <a:pt x="4116" y="7144"/>
                  </a:moveTo>
                  <a:lnTo>
                    <a:pt x="4116" y="3351"/>
                  </a:lnTo>
                  <a:lnTo>
                    <a:pt x="3322" y="2234"/>
                  </a:lnTo>
                  <a:lnTo>
                    <a:pt x="1999" y="1490"/>
                  </a:lnTo>
                  <a:lnTo>
                    <a:pt x="323" y="993"/>
                  </a:lnTo>
                  <a:lnTo>
                    <a:pt x="0" y="662"/>
                  </a:lnTo>
                  <a:lnTo>
                    <a:pt x="578" y="441"/>
                  </a:lnTo>
                  <a:lnTo>
                    <a:pt x="4116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520" bIns="-385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SMARTInkShape-82"/>
            <p:cNvSpPr/>
            <p:nvPr/>
          </p:nvSpPr>
          <p:spPr>
            <a:xfrm>
              <a:off x="7716600" y="1350000"/>
              <a:ext cx="163800" cy="205920"/>
            </a:xfrm>
            <a:custGeom>
              <a:avLst/>
              <a:gdLst>
                <a:gd name="textAreaLeft" fmla="*/ 0 w 163800"/>
                <a:gd name="textAreaRight" fmla="*/ 163800 w 16380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163852" h="206030">
                  <a:moveTo>
                    <a:pt x="99558" y="0"/>
                  </a:moveTo>
                  <a:lnTo>
                    <a:pt x="95765" y="0"/>
                  </a:lnTo>
                  <a:lnTo>
                    <a:pt x="91787" y="2116"/>
                  </a:lnTo>
                  <a:lnTo>
                    <a:pt x="57541" y="31374"/>
                  </a:lnTo>
                  <a:lnTo>
                    <a:pt x="28194" y="66029"/>
                  </a:lnTo>
                  <a:lnTo>
                    <a:pt x="12877" y="93211"/>
                  </a:lnTo>
                  <a:lnTo>
                    <a:pt x="3001" y="121511"/>
                  </a:lnTo>
                  <a:lnTo>
                    <a:pt x="0" y="157171"/>
                  </a:lnTo>
                  <a:lnTo>
                    <a:pt x="3980" y="169337"/>
                  </a:lnTo>
                  <a:lnTo>
                    <a:pt x="7264" y="174804"/>
                  </a:lnTo>
                  <a:lnTo>
                    <a:pt x="17263" y="182995"/>
                  </a:lnTo>
                  <a:lnTo>
                    <a:pt x="50796" y="201398"/>
                  </a:lnTo>
                  <a:lnTo>
                    <a:pt x="85986" y="206029"/>
                  </a:lnTo>
                  <a:lnTo>
                    <a:pt x="111940" y="204714"/>
                  </a:lnTo>
                  <a:lnTo>
                    <a:pt x="142044" y="200951"/>
                  </a:lnTo>
                  <a:lnTo>
                    <a:pt x="152307" y="198320"/>
                  </a:lnTo>
                  <a:lnTo>
                    <a:pt x="163851" y="19288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SMARTInkShape-83"/>
            <p:cNvSpPr/>
            <p:nvPr/>
          </p:nvSpPr>
          <p:spPr>
            <a:xfrm>
              <a:off x="7587360" y="1407240"/>
              <a:ext cx="28440" cy="1213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28576" h="121445">
                  <a:moveTo>
                    <a:pt x="28575" y="0"/>
                  </a:moveTo>
                  <a:lnTo>
                    <a:pt x="28575" y="9943"/>
                  </a:lnTo>
                  <a:lnTo>
                    <a:pt x="16390" y="43312"/>
                  </a:lnTo>
                  <a:lnTo>
                    <a:pt x="3150" y="78559"/>
                  </a:lnTo>
                  <a:lnTo>
                    <a:pt x="123" y="112818"/>
                  </a:lnTo>
                  <a:lnTo>
                    <a:pt x="0" y="12144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SMARTInkShape-84"/>
            <p:cNvSpPr/>
            <p:nvPr/>
          </p:nvSpPr>
          <p:spPr>
            <a:xfrm>
              <a:off x="7237440" y="1385640"/>
              <a:ext cx="264240" cy="2844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4320" h="28576">
                  <a:moveTo>
                    <a:pt x="0" y="28575"/>
                  </a:moveTo>
                  <a:lnTo>
                    <a:pt x="0" y="24782"/>
                  </a:lnTo>
                  <a:lnTo>
                    <a:pt x="2117" y="20804"/>
                  </a:lnTo>
                  <a:lnTo>
                    <a:pt x="3793" y="18632"/>
                  </a:lnTo>
                  <a:lnTo>
                    <a:pt x="12004" y="16218"/>
                  </a:lnTo>
                  <a:lnTo>
                    <a:pt x="45090" y="8838"/>
                  </a:lnTo>
                  <a:lnTo>
                    <a:pt x="76683" y="2971"/>
                  </a:lnTo>
                  <a:lnTo>
                    <a:pt x="102344" y="1320"/>
                  </a:lnTo>
                  <a:lnTo>
                    <a:pt x="129624" y="586"/>
                  </a:lnTo>
                  <a:lnTo>
                    <a:pt x="157623" y="260"/>
                  </a:lnTo>
                  <a:lnTo>
                    <a:pt x="185942" y="115"/>
                  </a:lnTo>
                  <a:lnTo>
                    <a:pt x="221076" y="34"/>
                  </a:lnTo>
                  <a:lnTo>
                    <a:pt x="253308" y="6"/>
                  </a:lnTo>
                  <a:lnTo>
                    <a:pt x="264319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SMARTInkShape-85"/>
            <p:cNvSpPr/>
            <p:nvPr/>
          </p:nvSpPr>
          <p:spPr>
            <a:xfrm>
              <a:off x="5572080" y="1216440"/>
              <a:ext cx="1858320" cy="650520"/>
            </a:xfrm>
            <a:custGeom>
              <a:avLst/>
              <a:gdLst>
                <a:gd name="textAreaLeft" fmla="*/ 0 w 1858320"/>
                <a:gd name="textAreaRight" fmla="*/ 1858680 w 1858320"/>
                <a:gd name="textAreaTop" fmla="*/ 0 h 650520"/>
                <a:gd name="textAreaBottom" fmla="*/ 650880 h 650520"/>
              </a:gdLst>
              <a:ahLst/>
              <a:rect l="textAreaLeft" t="textAreaTop" r="textAreaRight" b="textAreaBottom"/>
              <a:pathLst>
                <a:path w="1857289" h="650808">
                  <a:moveTo>
                    <a:pt x="7057" y="326617"/>
                  </a:moveTo>
                  <a:lnTo>
                    <a:pt x="3265" y="326617"/>
                  </a:lnTo>
                  <a:lnTo>
                    <a:pt x="2147" y="327411"/>
                  </a:lnTo>
                  <a:lnTo>
                    <a:pt x="1402" y="328734"/>
                  </a:lnTo>
                  <a:lnTo>
                    <a:pt x="207" y="336560"/>
                  </a:lnTo>
                  <a:lnTo>
                    <a:pt x="0" y="343410"/>
                  </a:lnTo>
                  <a:lnTo>
                    <a:pt x="3731" y="354259"/>
                  </a:lnTo>
                  <a:lnTo>
                    <a:pt x="13656" y="367527"/>
                  </a:lnTo>
                  <a:lnTo>
                    <a:pt x="40555" y="389560"/>
                  </a:lnTo>
                  <a:lnTo>
                    <a:pt x="52107" y="394279"/>
                  </a:lnTo>
                  <a:lnTo>
                    <a:pt x="78927" y="397309"/>
                  </a:lnTo>
                  <a:lnTo>
                    <a:pt x="100053" y="394041"/>
                  </a:lnTo>
                  <a:lnTo>
                    <a:pt x="134229" y="375213"/>
                  </a:lnTo>
                  <a:lnTo>
                    <a:pt x="162124" y="358655"/>
                  </a:lnTo>
                  <a:lnTo>
                    <a:pt x="191291" y="335140"/>
                  </a:lnTo>
                  <a:lnTo>
                    <a:pt x="223923" y="311944"/>
                  </a:lnTo>
                  <a:lnTo>
                    <a:pt x="254846" y="285316"/>
                  </a:lnTo>
                  <a:lnTo>
                    <a:pt x="287997" y="257318"/>
                  </a:lnTo>
                  <a:lnTo>
                    <a:pt x="318281" y="228914"/>
                  </a:lnTo>
                  <a:lnTo>
                    <a:pt x="347362" y="201977"/>
                  </a:lnTo>
                  <a:lnTo>
                    <a:pt x="375294" y="183236"/>
                  </a:lnTo>
                  <a:lnTo>
                    <a:pt x="410031" y="161588"/>
                  </a:lnTo>
                  <a:lnTo>
                    <a:pt x="422694" y="160137"/>
                  </a:lnTo>
                  <a:lnTo>
                    <a:pt x="429405" y="160862"/>
                  </a:lnTo>
                  <a:lnTo>
                    <a:pt x="441094" y="168017"/>
                  </a:lnTo>
                  <a:lnTo>
                    <a:pt x="450787" y="179134"/>
                  </a:lnTo>
                  <a:lnTo>
                    <a:pt x="457741" y="192013"/>
                  </a:lnTo>
                  <a:lnTo>
                    <a:pt x="462326" y="220236"/>
                  </a:lnTo>
                  <a:lnTo>
                    <a:pt x="463685" y="249941"/>
                  </a:lnTo>
                  <a:lnTo>
                    <a:pt x="464087" y="282643"/>
                  </a:lnTo>
                  <a:lnTo>
                    <a:pt x="460414" y="313676"/>
                  </a:lnTo>
                  <a:lnTo>
                    <a:pt x="450506" y="342979"/>
                  </a:lnTo>
                  <a:lnTo>
                    <a:pt x="441309" y="371770"/>
                  </a:lnTo>
                  <a:lnTo>
                    <a:pt x="430769" y="403932"/>
                  </a:lnTo>
                  <a:lnTo>
                    <a:pt x="428979" y="416413"/>
                  </a:lnTo>
                  <a:lnTo>
                    <a:pt x="428832" y="416644"/>
                  </a:lnTo>
                  <a:lnTo>
                    <a:pt x="428550" y="395029"/>
                  </a:lnTo>
                  <a:lnTo>
                    <a:pt x="436310" y="359821"/>
                  </a:lnTo>
                  <a:lnTo>
                    <a:pt x="445128" y="333015"/>
                  </a:lnTo>
                  <a:lnTo>
                    <a:pt x="455679" y="302848"/>
                  </a:lnTo>
                  <a:lnTo>
                    <a:pt x="465949" y="270891"/>
                  </a:lnTo>
                  <a:lnTo>
                    <a:pt x="481162" y="241314"/>
                  </a:lnTo>
                  <a:lnTo>
                    <a:pt x="500051" y="206668"/>
                  </a:lnTo>
                  <a:lnTo>
                    <a:pt x="528744" y="176177"/>
                  </a:lnTo>
                  <a:lnTo>
                    <a:pt x="534235" y="175524"/>
                  </a:lnTo>
                  <a:lnTo>
                    <a:pt x="548804" y="179031"/>
                  </a:lnTo>
                  <a:lnTo>
                    <a:pt x="559513" y="185882"/>
                  </a:lnTo>
                  <a:lnTo>
                    <a:pt x="566124" y="194218"/>
                  </a:lnTo>
                  <a:lnTo>
                    <a:pt x="569062" y="203215"/>
                  </a:lnTo>
                  <a:lnTo>
                    <a:pt x="570949" y="232538"/>
                  </a:lnTo>
                  <a:lnTo>
                    <a:pt x="571321" y="264201"/>
                  </a:lnTo>
                  <a:lnTo>
                    <a:pt x="569269" y="291455"/>
                  </a:lnTo>
                  <a:lnTo>
                    <a:pt x="561465" y="325316"/>
                  </a:lnTo>
                  <a:lnTo>
                    <a:pt x="552043" y="357931"/>
                  </a:lnTo>
                  <a:lnTo>
                    <a:pt x="550104" y="365141"/>
                  </a:lnTo>
                  <a:lnTo>
                    <a:pt x="543168" y="376129"/>
                  </a:lnTo>
                  <a:lnTo>
                    <a:pt x="543651" y="345727"/>
                  </a:lnTo>
                  <a:lnTo>
                    <a:pt x="549341" y="321255"/>
                  </a:lnTo>
                  <a:lnTo>
                    <a:pt x="562966" y="287017"/>
                  </a:lnTo>
                  <a:lnTo>
                    <a:pt x="573144" y="256146"/>
                  </a:lnTo>
                  <a:lnTo>
                    <a:pt x="586213" y="226891"/>
                  </a:lnTo>
                  <a:lnTo>
                    <a:pt x="600140" y="198114"/>
                  </a:lnTo>
                  <a:lnTo>
                    <a:pt x="619068" y="163739"/>
                  </a:lnTo>
                  <a:lnTo>
                    <a:pt x="633334" y="145095"/>
                  </a:lnTo>
                  <a:lnTo>
                    <a:pt x="642854" y="138784"/>
                  </a:lnTo>
                  <a:lnTo>
                    <a:pt x="658109" y="134733"/>
                  </a:lnTo>
                  <a:lnTo>
                    <a:pt x="660960" y="135194"/>
                  </a:lnTo>
                  <a:lnTo>
                    <a:pt x="666245" y="137824"/>
                  </a:lnTo>
                  <a:lnTo>
                    <a:pt x="673683" y="155143"/>
                  </a:lnTo>
                  <a:lnTo>
                    <a:pt x="678398" y="189441"/>
                  </a:lnTo>
                  <a:lnTo>
                    <a:pt x="683193" y="217357"/>
                  </a:lnTo>
                  <a:lnTo>
                    <a:pt x="684967" y="245737"/>
                  </a:lnTo>
                  <a:lnTo>
                    <a:pt x="685492" y="274254"/>
                  </a:lnTo>
                  <a:lnTo>
                    <a:pt x="686442" y="302018"/>
                  </a:lnTo>
                  <a:lnTo>
                    <a:pt x="691855" y="336695"/>
                  </a:lnTo>
                  <a:lnTo>
                    <a:pt x="693776" y="341273"/>
                  </a:lnTo>
                  <a:lnTo>
                    <a:pt x="700145" y="348477"/>
                  </a:lnTo>
                  <a:lnTo>
                    <a:pt x="708267" y="352207"/>
                  </a:lnTo>
                  <a:lnTo>
                    <a:pt x="712655" y="353202"/>
                  </a:lnTo>
                  <a:lnTo>
                    <a:pt x="730208" y="350810"/>
                  </a:lnTo>
                  <a:lnTo>
                    <a:pt x="758267" y="341303"/>
                  </a:lnTo>
                  <a:lnTo>
                    <a:pt x="793561" y="318141"/>
                  </a:lnTo>
                  <a:lnTo>
                    <a:pt x="821649" y="295531"/>
                  </a:lnTo>
                  <a:lnTo>
                    <a:pt x="850080" y="270840"/>
                  </a:lnTo>
                  <a:lnTo>
                    <a:pt x="884339" y="241163"/>
                  </a:lnTo>
                  <a:lnTo>
                    <a:pt x="913501" y="207326"/>
                  </a:lnTo>
                  <a:lnTo>
                    <a:pt x="938584" y="178904"/>
                  </a:lnTo>
                  <a:lnTo>
                    <a:pt x="942636" y="170008"/>
                  </a:lnTo>
                  <a:lnTo>
                    <a:pt x="929430" y="185069"/>
                  </a:lnTo>
                  <a:lnTo>
                    <a:pt x="906615" y="220205"/>
                  </a:lnTo>
                  <a:lnTo>
                    <a:pt x="888010" y="251975"/>
                  </a:lnTo>
                  <a:lnTo>
                    <a:pt x="873799" y="279454"/>
                  </a:lnTo>
                  <a:lnTo>
                    <a:pt x="860478" y="311480"/>
                  </a:lnTo>
                  <a:lnTo>
                    <a:pt x="850204" y="340737"/>
                  </a:lnTo>
                  <a:lnTo>
                    <a:pt x="843305" y="373373"/>
                  </a:lnTo>
                  <a:lnTo>
                    <a:pt x="843955" y="374457"/>
                  </a:lnTo>
                  <a:lnTo>
                    <a:pt x="845183" y="375179"/>
                  </a:lnTo>
                  <a:lnTo>
                    <a:pt x="846795" y="375660"/>
                  </a:lnTo>
                  <a:lnTo>
                    <a:pt x="848664" y="375187"/>
                  </a:lnTo>
                  <a:lnTo>
                    <a:pt x="852856" y="372546"/>
                  </a:lnTo>
                  <a:lnTo>
                    <a:pt x="874005" y="344495"/>
                  </a:lnTo>
                  <a:lnTo>
                    <a:pt x="887829" y="311862"/>
                  </a:lnTo>
                  <a:lnTo>
                    <a:pt x="896793" y="282868"/>
                  </a:lnTo>
                  <a:lnTo>
                    <a:pt x="899387" y="249507"/>
                  </a:lnTo>
                  <a:lnTo>
                    <a:pt x="899941" y="218214"/>
                  </a:lnTo>
                  <a:lnTo>
                    <a:pt x="900015" y="197209"/>
                  </a:lnTo>
                  <a:lnTo>
                    <a:pt x="899224" y="195101"/>
                  </a:lnTo>
                  <a:lnTo>
                    <a:pt x="897904" y="193696"/>
                  </a:lnTo>
                  <a:lnTo>
                    <a:pt x="896230" y="192759"/>
                  </a:lnTo>
                  <a:lnTo>
                    <a:pt x="895113" y="191341"/>
                  </a:lnTo>
                  <a:lnTo>
                    <a:pt x="893543" y="187140"/>
                  </a:lnTo>
                  <a:lnTo>
                    <a:pt x="893322" y="187595"/>
                  </a:lnTo>
                  <a:lnTo>
                    <a:pt x="893176" y="188692"/>
                  </a:lnTo>
                  <a:lnTo>
                    <a:pt x="888030" y="196949"/>
                  </a:lnTo>
                  <a:lnTo>
                    <a:pt x="885872" y="232474"/>
                  </a:lnTo>
                  <a:lnTo>
                    <a:pt x="886591" y="242707"/>
                  </a:lnTo>
                  <a:lnTo>
                    <a:pt x="900215" y="276578"/>
                  </a:lnTo>
                  <a:lnTo>
                    <a:pt x="909342" y="290888"/>
                  </a:lnTo>
                  <a:lnTo>
                    <a:pt x="913380" y="295654"/>
                  </a:lnTo>
                  <a:lnTo>
                    <a:pt x="924217" y="300950"/>
                  </a:lnTo>
                  <a:lnTo>
                    <a:pt x="958333" y="304628"/>
                  </a:lnTo>
                  <a:lnTo>
                    <a:pt x="984417" y="303433"/>
                  </a:lnTo>
                  <a:lnTo>
                    <a:pt x="1013049" y="294524"/>
                  </a:lnTo>
                  <a:lnTo>
                    <a:pt x="1045520" y="285711"/>
                  </a:lnTo>
                  <a:lnTo>
                    <a:pt x="1075603" y="272604"/>
                  </a:lnTo>
                  <a:lnTo>
                    <a:pt x="1104625" y="254786"/>
                  </a:lnTo>
                  <a:lnTo>
                    <a:pt x="1132538" y="238306"/>
                  </a:lnTo>
                  <a:lnTo>
                    <a:pt x="1163706" y="211806"/>
                  </a:lnTo>
                  <a:lnTo>
                    <a:pt x="1197263" y="179297"/>
                  </a:lnTo>
                  <a:lnTo>
                    <a:pt x="1202787" y="173035"/>
                  </a:lnTo>
                  <a:lnTo>
                    <a:pt x="1205243" y="167606"/>
                  </a:lnTo>
                  <a:lnTo>
                    <a:pt x="1207034" y="156625"/>
                  </a:lnTo>
                  <a:lnTo>
                    <a:pt x="1199572" y="159391"/>
                  </a:lnTo>
                  <a:lnTo>
                    <a:pt x="1164232" y="191143"/>
                  </a:lnTo>
                  <a:lnTo>
                    <a:pt x="1140517" y="220435"/>
                  </a:lnTo>
                  <a:lnTo>
                    <a:pt x="1116717" y="255308"/>
                  </a:lnTo>
                  <a:lnTo>
                    <a:pt x="1100678" y="290915"/>
                  </a:lnTo>
                  <a:lnTo>
                    <a:pt x="1094442" y="311892"/>
                  </a:lnTo>
                  <a:lnTo>
                    <a:pt x="1094724" y="315213"/>
                  </a:lnTo>
                  <a:lnTo>
                    <a:pt x="1097155" y="321019"/>
                  </a:lnTo>
                  <a:lnTo>
                    <a:pt x="1102984" y="328751"/>
                  </a:lnTo>
                  <a:lnTo>
                    <a:pt x="1105182" y="329627"/>
                  </a:lnTo>
                  <a:lnTo>
                    <a:pt x="1107440" y="329417"/>
                  </a:lnTo>
                  <a:lnTo>
                    <a:pt x="1112860" y="327862"/>
                  </a:lnTo>
                  <a:lnTo>
                    <a:pt x="1125630" y="325398"/>
                  </a:lnTo>
                  <a:lnTo>
                    <a:pt x="1148760" y="311148"/>
                  </a:lnTo>
                  <a:lnTo>
                    <a:pt x="1180635" y="281534"/>
                  </a:lnTo>
                  <a:lnTo>
                    <a:pt x="1211782" y="248468"/>
                  </a:lnTo>
                  <a:lnTo>
                    <a:pt x="1237020" y="218516"/>
                  </a:lnTo>
                  <a:lnTo>
                    <a:pt x="1242418" y="215072"/>
                  </a:lnTo>
                  <a:lnTo>
                    <a:pt x="1248558" y="212861"/>
                  </a:lnTo>
                  <a:lnTo>
                    <a:pt x="1249062" y="213474"/>
                  </a:lnTo>
                  <a:lnTo>
                    <a:pt x="1249770" y="218922"/>
                  </a:lnTo>
                  <a:lnTo>
                    <a:pt x="1250051" y="250400"/>
                  </a:lnTo>
                  <a:lnTo>
                    <a:pt x="1246273" y="280870"/>
                  </a:lnTo>
                  <a:lnTo>
                    <a:pt x="1243918" y="311916"/>
                  </a:lnTo>
                  <a:lnTo>
                    <a:pt x="1243220" y="346250"/>
                  </a:lnTo>
                  <a:lnTo>
                    <a:pt x="1240940" y="371855"/>
                  </a:lnTo>
                  <a:lnTo>
                    <a:pt x="1237281" y="398317"/>
                  </a:lnTo>
                  <a:lnTo>
                    <a:pt x="1233008" y="423306"/>
                  </a:lnTo>
                  <a:lnTo>
                    <a:pt x="1228464" y="449759"/>
                  </a:lnTo>
                  <a:lnTo>
                    <a:pt x="1223798" y="477391"/>
                  </a:lnTo>
                  <a:lnTo>
                    <a:pt x="1219078" y="505546"/>
                  </a:lnTo>
                  <a:lnTo>
                    <a:pt x="1214335" y="531818"/>
                  </a:lnTo>
                  <a:lnTo>
                    <a:pt x="1209319" y="566805"/>
                  </a:lnTo>
                  <a:lnTo>
                    <a:pt x="1205716" y="597280"/>
                  </a:lnTo>
                  <a:lnTo>
                    <a:pt x="1197387" y="628437"/>
                  </a:lnTo>
                  <a:lnTo>
                    <a:pt x="1193181" y="650807"/>
                  </a:lnTo>
                  <a:lnTo>
                    <a:pt x="1193094" y="650694"/>
                  </a:lnTo>
                  <a:lnTo>
                    <a:pt x="1192930" y="620767"/>
                  </a:lnTo>
                  <a:lnTo>
                    <a:pt x="1196715" y="594660"/>
                  </a:lnTo>
                  <a:lnTo>
                    <a:pt x="1202864" y="563023"/>
                  </a:lnTo>
                  <a:lnTo>
                    <a:pt x="1207393" y="538049"/>
                  </a:lnTo>
                  <a:lnTo>
                    <a:pt x="1212051" y="510281"/>
                  </a:lnTo>
                  <a:lnTo>
                    <a:pt x="1216768" y="479418"/>
                  </a:lnTo>
                  <a:lnTo>
                    <a:pt x="1225744" y="447181"/>
                  </a:lnTo>
                  <a:lnTo>
                    <a:pt x="1236083" y="415126"/>
                  </a:lnTo>
                  <a:lnTo>
                    <a:pt x="1243324" y="385004"/>
                  </a:lnTo>
                  <a:lnTo>
                    <a:pt x="1253421" y="355742"/>
                  </a:lnTo>
                  <a:lnTo>
                    <a:pt x="1265053" y="326861"/>
                  </a:lnTo>
                  <a:lnTo>
                    <a:pt x="1275514" y="298151"/>
                  </a:lnTo>
                  <a:lnTo>
                    <a:pt x="1285455" y="271632"/>
                  </a:lnTo>
                  <a:lnTo>
                    <a:pt x="1302094" y="236506"/>
                  </a:lnTo>
                  <a:lnTo>
                    <a:pt x="1325257" y="203778"/>
                  </a:lnTo>
                  <a:lnTo>
                    <a:pt x="1350963" y="175924"/>
                  </a:lnTo>
                  <a:lnTo>
                    <a:pt x="1353844" y="174561"/>
                  </a:lnTo>
                  <a:lnTo>
                    <a:pt x="1356559" y="174446"/>
                  </a:lnTo>
                  <a:lnTo>
                    <a:pt x="1361692" y="176436"/>
                  </a:lnTo>
                  <a:lnTo>
                    <a:pt x="1366619" y="179965"/>
                  </a:lnTo>
                  <a:lnTo>
                    <a:pt x="1373855" y="194000"/>
                  </a:lnTo>
                  <a:lnTo>
                    <a:pt x="1380141" y="229131"/>
                  </a:lnTo>
                  <a:lnTo>
                    <a:pt x="1382491" y="246777"/>
                  </a:lnTo>
                  <a:lnTo>
                    <a:pt x="1380146" y="274562"/>
                  </a:lnTo>
                  <a:lnTo>
                    <a:pt x="1376834" y="310279"/>
                  </a:lnTo>
                  <a:lnTo>
                    <a:pt x="1372564" y="340499"/>
                  </a:lnTo>
                  <a:lnTo>
                    <a:pt x="1365454" y="373788"/>
                  </a:lnTo>
                  <a:lnTo>
                    <a:pt x="1364299" y="377114"/>
                  </a:lnTo>
                  <a:lnTo>
                    <a:pt x="1362735" y="379332"/>
                  </a:lnTo>
                  <a:lnTo>
                    <a:pt x="1358314" y="382891"/>
                  </a:lnTo>
                  <a:lnTo>
                    <a:pt x="1357951" y="382389"/>
                  </a:lnTo>
                  <a:lnTo>
                    <a:pt x="1357548" y="379715"/>
                  </a:lnTo>
                  <a:lnTo>
                    <a:pt x="1364520" y="346731"/>
                  </a:lnTo>
                  <a:lnTo>
                    <a:pt x="1374228" y="312156"/>
                  </a:lnTo>
                  <a:lnTo>
                    <a:pt x="1383485" y="279604"/>
                  </a:lnTo>
                  <a:lnTo>
                    <a:pt x="1395334" y="247332"/>
                  </a:lnTo>
                  <a:lnTo>
                    <a:pt x="1404852" y="226613"/>
                  </a:lnTo>
                  <a:lnTo>
                    <a:pt x="1416757" y="216610"/>
                  </a:lnTo>
                  <a:lnTo>
                    <a:pt x="1418344" y="215973"/>
                  </a:lnTo>
                  <a:lnTo>
                    <a:pt x="1419402" y="216342"/>
                  </a:lnTo>
                  <a:lnTo>
                    <a:pt x="1426150" y="225547"/>
                  </a:lnTo>
                  <a:lnTo>
                    <a:pt x="1428443" y="256446"/>
                  </a:lnTo>
                  <a:lnTo>
                    <a:pt x="1430736" y="281888"/>
                  </a:lnTo>
                  <a:lnTo>
                    <a:pt x="1440842" y="313025"/>
                  </a:lnTo>
                  <a:lnTo>
                    <a:pt x="1450149" y="336808"/>
                  </a:lnTo>
                  <a:lnTo>
                    <a:pt x="1463422" y="353413"/>
                  </a:lnTo>
                  <a:lnTo>
                    <a:pt x="1476709" y="363484"/>
                  </a:lnTo>
                  <a:lnTo>
                    <a:pt x="1490700" y="367703"/>
                  </a:lnTo>
                  <a:lnTo>
                    <a:pt x="1495421" y="366708"/>
                  </a:lnTo>
                  <a:lnTo>
                    <a:pt x="1528830" y="349121"/>
                  </a:lnTo>
                  <a:lnTo>
                    <a:pt x="1554576" y="318674"/>
                  </a:lnTo>
                  <a:lnTo>
                    <a:pt x="1576527" y="283649"/>
                  </a:lnTo>
                  <a:lnTo>
                    <a:pt x="1587781" y="251366"/>
                  </a:lnTo>
                  <a:lnTo>
                    <a:pt x="1597940" y="220527"/>
                  </a:lnTo>
                  <a:lnTo>
                    <a:pt x="1598353" y="211203"/>
                  </a:lnTo>
                  <a:lnTo>
                    <a:pt x="1593836" y="196129"/>
                  </a:lnTo>
                  <a:lnTo>
                    <a:pt x="1592753" y="194381"/>
                  </a:lnTo>
                  <a:lnTo>
                    <a:pt x="1591238" y="193216"/>
                  </a:lnTo>
                  <a:lnTo>
                    <a:pt x="1589433" y="192439"/>
                  </a:lnTo>
                  <a:lnTo>
                    <a:pt x="1583195" y="195809"/>
                  </a:lnTo>
                  <a:lnTo>
                    <a:pt x="1576719" y="201805"/>
                  </a:lnTo>
                  <a:lnTo>
                    <a:pt x="1555647" y="235539"/>
                  </a:lnTo>
                  <a:lnTo>
                    <a:pt x="1546291" y="262677"/>
                  </a:lnTo>
                  <a:lnTo>
                    <a:pt x="1544743" y="283859"/>
                  </a:lnTo>
                  <a:lnTo>
                    <a:pt x="1550928" y="310234"/>
                  </a:lnTo>
                  <a:lnTo>
                    <a:pt x="1559794" y="330965"/>
                  </a:lnTo>
                  <a:lnTo>
                    <a:pt x="1566583" y="338604"/>
                  </a:lnTo>
                  <a:lnTo>
                    <a:pt x="1570616" y="341752"/>
                  </a:lnTo>
                  <a:lnTo>
                    <a:pt x="1581447" y="345250"/>
                  </a:lnTo>
                  <a:lnTo>
                    <a:pt x="1587669" y="346183"/>
                  </a:lnTo>
                  <a:lnTo>
                    <a:pt x="1600932" y="342986"/>
                  </a:lnTo>
                  <a:lnTo>
                    <a:pt x="1632643" y="327998"/>
                  </a:lnTo>
                  <a:lnTo>
                    <a:pt x="1660111" y="310622"/>
                  </a:lnTo>
                  <a:lnTo>
                    <a:pt x="1692150" y="290392"/>
                  </a:lnTo>
                  <a:lnTo>
                    <a:pt x="1722986" y="265525"/>
                  </a:lnTo>
                  <a:lnTo>
                    <a:pt x="1748439" y="234256"/>
                  </a:lnTo>
                  <a:lnTo>
                    <a:pt x="1771061" y="199856"/>
                  </a:lnTo>
                  <a:lnTo>
                    <a:pt x="1792845" y="164527"/>
                  </a:lnTo>
                  <a:lnTo>
                    <a:pt x="1805099" y="138690"/>
                  </a:lnTo>
                  <a:lnTo>
                    <a:pt x="1815043" y="112919"/>
                  </a:lnTo>
                  <a:lnTo>
                    <a:pt x="1825103" y="80560"/>
                  </a:lnTo>
                  <a:lnTo>
                    <a:pt x="1833111" y="51658"/>
                  </a:lnTo>
                  <a:lnTo>
                    <a:pt x="1841542" y="16565"/>
                  </a:lnTo>
                  <a:lnTo>
                    <a:pt x="1840236" y="8105"/>
                  </a:lnTo>
                  <a:lnTo>
                    <a:pt x="1836722" y="0"/>
                  </a:lnTo>
                  <a:lnTo>
                    <a:pt x="1835640" y="922"/>
                  </a:lnTo>
                  <a:lnTo>
                    <a:pt x="1823723" y="23285"/>
                  </a:lnTo>
                  <a:lnTo>
                    <a:pt x="1812014" y="55661"/>
                  </a:lnTo>
                  <a:lnTo>
                    <a:pt x="1804892" y="84321"/>
                  </a:lnTo>
                  <a:lnTo>
                    <a:pt x="1801546" y="117948"/>
                  </a:lnTo>
                  <a:lnTo>
                    <a:pt x="1800555" y="153047"/>
                  </a:lnTo>
                  <a:lnTo>
                    <a:pt x="1800261" y="188582"/>
                  </a:lnTo>
                  <a:lnTo>
                    <a:pt x="1803967" y="220454"/>
                  </a:lnTo>
                  <a:lnTo>
                    <a:pt x="1810092" y="250006"/>
                  </a:lnTo>
                  <a:lnTo>
                    <a:pt x="1816934" y="278870"/>
                  </a:lnTo>
                  <a:lnTo>
                    <a:pt x="1827151" y="310571"/>
                  </a:lnTo>
                  <a:lnTo>
                    <a:pt x="1847588" y="345689"/>
                  </a:lnTo>
                  <a:lnTo>
                    <a:pt x="1848440" y="348857"/>
                  </a:lnTo>
                  <a:lnTo>
                    <a:pt x="1849802" y="350969"/>
                  </a:lnTo>
                  <a:lnTo>
                    <a:pt x="1851503" y="352376"/>
                  </a:lnTo>
                  <a:lnTo>
                    <a:pt x="1857288" y="35519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SMARTInkShape-86"/>
          <p:cNvSpPr/>
          <p:nvPr/>
        </p:nvSpPr>
        <p:spPr>
          <a:xfrm>
            <a:off x="6272280" y="1700280"/>
            <a:ext cx="2279520" cy="819000"/>
          </a:xfrm>
          <a:custGeom>
            <a:avLst/>
            <a:gdLst>
              <a:gd name="textAreaLeft" fmla="*/ 0 w 2279520"/>
              <a:gd name="textAreaRight" fmla="*/ 2279880 w 22795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278857" h="818866">
                <a:moveTo>
                  <a:pt x="0" y="585118"/>
                </a:moveTo>
                <a:lnTo>
                  <a:pt x="0" y="588910"/>
                </a:lnTo>
                <a:lnTo>
                  <a:pt x="2116" y="592889"/>
                </a:lnTo>
                <a:lnTo>
                  <a:pt x="16792" y="608967"/>
                </a:lnTo>
                <a:lnTo>
                  <a:pt x="25720" y="611593"/>
                </a:lnTo>
                <a:lnTo>
                  <a:pt x="50853" y="613278"/>
                </a:lnTo>
                <a:lnTo>
                  <a:pt x="64670" y="609275"/>
                </a:lnTo>
                <a:lnTo>
                  <a:pt x="90070" y="595980"/>
                </a:lnTo>
                <a:lnTo>
                  <a:pt x="120614" y="576959"/>
                </a:lnTo>
                <a:lnTo>
                  <a:pt x="149773" y="554126"/>
                </a:lnTo>
                <a:lnTo>
                  <a:pt x="180637" y="527252"/>
                </a:lnTo>
                <a:lnTo>
                  <a:pt x="212801" y="497064"/>
                </a:lnTo>
                <a:lnTo>
                  <a:pt x="242439" y="462984"/>
                </a:lnTo>
                <a:lnTo>
                  <a:pt x="271329" y="429868"/>
                </a:lnTo>
                <a:lnTo>
                  <a:pt x="297881" y="402064"/>
                </a:lnTo>
                <a:lnTo>
                  <a:pt x="328186" y="371336"/>
                </a:lnTo>
                <a:lnTo>
                  <a:pt x="362158" y="350698"/>
                </a:lnTo>
                <a:lnTo>
                  <a:pt x="367645" y="347876"/>
                </a:lnTo>
                <a:lnTo>
                  <a:pt x="377974" y="346856"/>
                </a:lnTo>
                <a:lnTo>
                  <a:pt x="382951" y="347696"/>
                </a:lnTo>
                <a:lnTo>
                  <a:pt x="387063" y="349843"/>
                </a:lnTo>
                <a:lnTo>
                  <a:pt x="393749" y="356462"/>
                </a:lnTo>
                <a:lnTo>
                  <a:pt x="397249" y="366812"/>
                </a:lnTo>
                <a:lnTo>
                  <a:pt x="399496" y="396651"/>
                </a:lnTo>
                <a:lnTo>
                  <a:pt x="399885" y="423795"/>
                </a:lnTo>
                <a:lnTo>
                  <a:pt x="400001" y="455739"/>
                </a:lnTo>
                <a:lnTo>
                  <a:pt x="392451" y="490339"/>
                </a:lnTo>
                <a:lnTo>
                  <a:pt x="383951" y="525726"/>
                </a:lnTo>
                <a:lnTo>
                  <a:pt x="376406" y="557554"/>
                </a:lnTo>
                <a:lnTo>
                  <a:pt x="367539" y="590257"/>
                </a:lnTo>
                <a:lnTo>
                  <a:pt x="364487" y="606837"/>
                </a:lnTo>
                <a:lnTo>
                  <a:pt x="358306" y="618836"/>
                </a:lnTo>
                <a:lnTo>
                  <a:pt x="357933" y="618709"/>
                </a:lnTo>
                <a:lnTo>
                  <a:pt x="357519" y="616452"/>
                </a:lnTo>
                <a:lnTo>
                  <a:pt x="359451" y="612802"/>
                </a:lnTo>
                <a:lnTo>
                  <a:pt x="362956" y="606947"/>
                </a:lnTo>
                <a:lnTo>
                  <a:pt x="373988" y="573294"/>
                </a:lnTo>
                <a:lnTo>
                  <a:pt x="381039" y="546337"/>
                </a:lnTo>
                <a:lnTo>
                  <a:pt x="395740" y="514449"/>
                </a:lnTo>
                <a:lnTo>
                  <a:pt x="411384" y="479865"/>
                </a:lnTo>
                <a:lnTo>
                  <a:pt x="426073" y="448275"/>
                </a:lnTo>
                <a:lnTo>
                  <a:pt x="445260" y="414859"/>
                </a:lnTo>
                <a:lnTo>
                  <a:pt x="459571" y="394177"/>
                </a:lnTo>
                <a:lnTo>
                  <a:pt x="469101" y="385691"/>
                </a:lnTo>
                <a:lnTo>
                  <a:pt x="478628" y="381390"/>
                </a:lnTo>
                <a:lnTo>
                  <a:pt x="483392" y="380243"/>
                </a:lnTo>
                <a:lnTo>
                  <a:pt x="486567" y="381066"/>
                </a:lnTo>
                <a:lnTo>
                  <a:pt x="488684" y="383202"/>
                </a:lnTo>
                <a:lnTo>
                  <a:pt x="497270" y="403247"/>
                </a:lnTo>
                <a:lnTo>
                  <a:pt x="499695" y="435608"/>
                </a:lnTo>
                <a:lnTo>
                  <a:pt x="499195" y="468684"/>
                </a:lnTo>
                <a:lnTo>
                  <a:pt x="494393" y="498972"/>
                </a:lnTo>
                <a:lnTo>
                  <a:pt x="491239" y="518583"/>
                </a:lnTo>
                <a:lnTo>
                  <a:pt x="485802" y="549140"/>
                </a:lnTo>
                <a:lnTo>
                  <a:pt x="500249" y="518326"/>
                </a:lnTo>
                <a:lnTo>
                  <a:pt x="509623" y="487963"/>
                </a:lnTo>
                <a:lnTo>
                  <a:pt x="520534" y="460729"/>
                </a:lnTo>
                <a:lnTo>
                  <a:pt x="533820" y="432551"/>
                </a:lnTo>
                <a:lnTo>
                  <a:pt x="547623" y="400288"/>
                </a:lnTo>
                <a:lnTo>
                  <a:pt x="560280" y="379806"/>
                </a:lnTo>
                <a:lnTo>
                  <a:pt x="585254" y="357013"/>
                </a:lnTo>
                <a:lnTo>
                  <a:pt x="585766" y="387601"/>
                </a:lnTo>
                <a:lnTo>
                  <a:pt x="581990" y="417956"/>
                </a:lnTo>
                <a:lnTo>
                  <a:pt x="579635" y="445189"/>
                </a:lnTo>
                <a:lnTo>
                  <a:pt x="573930" y="477926"/>
                </a:lnTo>
                <a:lnTo>
                  <a:pt x="571979" y="512027"/>
                </a:lnTo>
                <a:lnTo>
                  <a:pt x="572357" y="542685"/>
                </a:lnTo>
                <a:lnTo>
                  <a:pt x="575320" y="549854"/>
                </a:lnTo>
                <a:lnTo>
                  <a:pt x="581400" y="555687"/>
                </a:lnTo>
                <a:lnTo>
                  <a:pt x="585244" y="558354"/>
                </a:lnTo>
                <a:lnTo>
                  <a:pt x="595864" y="559200"/>
                </a:lnTo>
                <a:lnTo>
                  <a:pt x="618294" y="553275"/>
                </a:lnTo>
                <a:lnTo>
                  <a:pt x="649417" y="537965"/>
                </a:lnTo>
                <a:lnTo>
                  <a:pt x="684022" y="510716"/>
                </a:lnTo>
                <a:lnTo>
                  <a:pt x="717815" y="478787"/>
                </a:lnTo>
                <a:lnTo>
                  <a:pt x="747774" y="449550"/>
                </a:lnTo>
                <a:lnTo>
                  <a:pt x="765829" y="417482"/>
                </a:lnTo>
                <a:lnTo>
                  <a:pt x="776429" y="394542"/>
                </a:lnTo>
                <a:lnTo>
                  <a:pt x="777175" y="391392"/>
                </a:lnTo>
                <a:lnTo>
                  <a:pt x="776879" y="389293"/>
                </a:lnTo>
                <a:lnTo>
                  <a:pt x="775888" y="387893"/>
                </a:lnTo>
                <a:lnTo>
                  <a:pt x="774434" y="386960"/>
                </a:lnTo>
                <a:lnTo>
                  <a:pt x="764802" y="385646"/>
                </a:lnTo>
                <a:lnTo>
                  <a:pt x="756366" y="389572"/>
                </a:lnTo>
                <a:lnTo>
                  <a:pt x="733310" y="410289"/>
                </a:lnTo>
                <a:lnTo>
                  <a:pt x="710543" y="444808"/>
                </a:lnTo>
                <a:lnTo>
                  <a:pt x="697828" y="478300"/>
                </a:lnTo>
                <a:lnTo>
                  <a:pt x="697231" y="490283"/>
                </a:lnTo>
                <a:lnTo>
                  <a:pt x="703315" y="510911"/>
                </a:lnTo>
                <a:lnTo>
                  <a:pt x="713655" y="525472"/>
                </a:lnTo>
                <a:lnTo>
                  <a:pt x="731372" y="538911"/>
                </a:lnTo>
                <a:lnTo>
                  <a:pt x="745428" y="545939"/>
                </a:lnTo>
                <a:lnTo>
                  <a:pt x="754899" y="547861"/>
                </a:lnTo>
                <a:lnTo>
                  <a:pt x="764400" y="546599"/>
                </a:lnTo>
                <a:lnTo>
                  <a:pt x="773121" y="543392"/>
                </a:lnTo>
                <a:lnTo>
                  <a:pt x="779643" y="539321"/>
                </a:lnTo>
                <a:lnTo>
                  <a:pt x="787776" y="528774"/>
                </a:lnTo>
                <a:lnTo>
                  <a:pt x="791421" y="515595"/>
                </a:lnTo>
                <a:lnTo>
                  <a:pt x="792502" y="501636"/>
                </a:lnTo>
                <a:lnTo>
                  <a:pt x="789029" y="483653"/>
                </a:lnTo>
                <a:lnTo>
                  <a:pt x="770694" y="449195"/>
                </a:lnTo>
                <a:lnTo>
                  <a:pt x="748396" y="413643"/>
                </a:lnTo>
                <a:lnTo>
                  <a:pt x="733828" y="377946"/>
                </a:lnTo>
                <a:lnTo>
                  <a:pt x="729115" y="345030"/>
                </a:lnTo>
                <a:lnTo>
                  <a:pt x="732589" y="330448"/>
                </a:lnTo>
                <a:lnTo>
                  <a:pt x="738609" y="322971"/>
                </a:lnTo>
                <a:lnTo>
                  <a:pt x="746576" y="317796"/>
                </a:lnTo>
                <a:lnTo>
                  <a:pt x="760782" y="314882"/>
                </a:lnTo>
                <a:lnTo>
                  <a:pt x="779718" y="314813"/>
                </a:lnTo>
                <a:lnTo>
                  <a:pt x="793422" y="317609"/>
                </a:lnTo>
                <a:lnTo>
                  <a:pt x="826532" y="336485"/>
                </a:lnTo>
                <a:lnTo>
                  <a:pt x="856826" y="358441"/>
                </a:lnTo>
                <a:lnTo>
                  <a:pt x="876439" y="380636"/>
                </a:lnTo>
                <a:lnTo>
                  <a:pt x="897287" y="412787"/>
                </a:lnTo>
                <a:lnTo>
                  <a:pt x="910990" y="446979"/>
                </a:lnTo>
                <a:lnTo>
                  <a:pt x="919997" y="480996"/>
                </a:lnTo>
                <a:lnTo>
                  <a:pt x="921085" y="496500"/>
                </a:lnTo>
                <a:lnTo>
                  <a:pt x="919223" y="504193"/>
                </a:lnTo>
                <a:lnTo>
                  <a:pt x="915352" y="511806"/>
                </a:lnTo>
                <a:lnTo>
                  <a:pt x="915035" y="511637"/>
                </a:lnTo>
                <a:lnTo>
                  <a:pt x="908756" y="476631"/>
                </a:lnTo>
                <a:lnTo>
                  <a:pt x="908247" y="441274"/>
                </a:lnTo>
                <a:lnTo>
                  <a:pt x="912949" y="405862"/>
                </a:lnTo>
                <a:lnTo>
                  <a:pt x="917905" y="372086"/>
                </a:lnTo>
                <a:lnTo>
                  <a:pt x="934489" y="337372"/>
                </a:lnTo>
                <a:lnTo>
                  <a:pt x="947560" y="313163"/>
                </a:lnTo>
                <a:lnTo>
                  <a:pt x="952421" y="309468"/>
                </a:lnTo>
                <a:lnTo>
                  <a:pt x="962988" y="306771"/>
                </a:lnTo>
                <a:lnTo>
                  <a:pt x="967778" y="314173"/>
                </a:lnTo>
                <a:lnTo>
                  <a:pt x="975011" y="343896"/>
                </a:lnTo>
                <a:lnTo>
                  <a:pt x="978209" y="378169"/>
                </a:lnTo>
                <a:lnTo>
                  <a:pt x="980065" y="393128"/>
                </a:lnTo>
                <a:lnTo>
                  <a:pt x="992076" y="426485"/>
                </a:lnTo>
                <a:lnTo>
                  <a:pt x="1005561" y="457777"/>
                </a:lnTo>
                <a:lnTo>
                  <a:pt x="1013389" y="467933"/>
                </a:lnTo>
                <a:lnTo>
                  <a:pt x="1030513" y="478782"/>
                </a:lnTo>
                <a:lnTo>
                  <a:pt x="1050668" y="487024"/>
                </a:lnTo>
                <a:lnTo>
                  <a:pt x="1064657" y="487810"/>
                </a:lnTo>
                <a:lnTo>
                  <a:pt x="1090154" y="483790"/>
                </a:lnTo>
                <a:lnTo>
                  <a:pt x="1118610" y="477572"/>
                </a:lnTo>
                <a:lnTo>
                  <a:pt x="1134541" y="471439"/>
                </a:lnTo>
                <a:lnTo>
                  <a:pt x="1164171" y="448098"/>
                </a:lnTo>
                <a:lnTo>
                  <a:pt x="1177015" y="434527"/>
                </a:lnTo>
                <a:lnTo>
                  <a:pt x="1198328" y="399305"/>
                </a:lnTo>
                <a:lnTo>
                  <a:pt x="1204637" y="377927"/>
                </a:lnTo>
                <a:lnTo>
                  <a:pt x="1206944" y="344344"/>
                </a:lnTo>
                <a:lnTo>
                  <a:pt x="1207060" y="338877"/>
                </a:lnTo>
                <a:lnTo>
                  <a:pt x="1205551" y="334439"/>
                </a:lnTo>
                <a:lnTo>
                  <a:pt x="1199639" y="327390"/>
                </a:lnTo>
                <a:lnTo>
                  <a:pt x="1187386" y="318960"/>
                </a:lnTo>
                <a:lnTo>
                  <a:pt x="1182909" y="317985"/>
                </a:lnTo>
                <a:lnTo>
                  <a:pt x="1168231" y="320407"/>
                </a:lnTo>
                <a:lnTo>
                  <a:pt x="1139207" y="330586"/>
                </a:lnTo>
                <a:lnTo>
                  <a:pt x="1109747" y="360729"/>
                </a:lnTo>
                <a:lnTo>
                  <a:pt x="1099192" y="382989"/>
                </a:lnTo>
                <a:lnTo>
                  <a:pt x="1094830" y="405901"/>
                </a:lnTo>
                <a:lnTo>
                  <a:pt x="1097330" y="427771"/>
                </a:lnTo>
                <a:lnTo>
                  <a:pt x="1106079" y="451585"/>
                </a:lnTo>
                <a:lnTo>
                  <a:pt x="1117861" y="469882"/>
                </a:lnTo>
                <a:lnTo>
                  <a:pt x="1126800" y="477810"/>
                </a:lnTo>
                <a:lnTo>
                  <a:pt x="1157976" y="491916"/>
                </a:lnTo>
                <a:lnTo>
                  <a:pt x="1178922" y="497177"/>
                </a:lnTo>
                <a:lnTo>
                  <a:pt x="1193096" y="497615"/>
                </a:lnTo>
                <a:lnTo>
                  <a:pt x="1207334" y="495163"/>
                </a:lnTo>
                <a:lnTo>
                  <a:pt x="1224944" y="485528"/>
                </a:lnTo>
                <a:lnTo>
                  <a:pt x="1240216" y="472619"/>
                </a:lnTo>
                <a:lnTo>
                  <a:pt x="1251004" y="454947"/>
                </a:lnTo>
                <a:lnTo>
                  <a:pt x="1252384" y="441539"/>
                </a:lnTo>
                <a:lnTo>
                  <a:pt x="1250596" y="409736"/>
                </a:lnTo>
                <a:lnTo>
                  <a:pt x="1246494" y="386045"/>
                </a:lnTo>
                <a:lnTo>
                  <a:pt x="1232293" y="356706"/>
                </a:lnTo>
                <a:lnTo>
                  <a:pt x="1218052" y="335936"/>
                </a:lnTo>
                <a:lnTo>
                  <a:pt x="1183318" y="305208"/>
                </a:lnTo>
                <a:lnTo>
                  <a:pt x="1148499" y="282834"/>
                </a:lnTo>
                <a:lnTo>
                  <a:pt x="1143327" y="280113"/>
                </a:lnTo>
                <a:lnTo>
                  <a:pt x="1136293" y="278064"/>
                </a:lnTo>
                <a:lnTo>
                  <a:pt x="1139778" y="277975"/>
                </a:lnTo>
                <a:lnTo>
                  <a:pt x="1172884" y="285214"/>
                </a:lnTo>
                <a:lnTo>
                  <a:pt x="1207466" y="294937"/>
                </a:lnTo>
                <a:lnTo>
                  <a:pt x="1236696" y="299286"/>
                </a:lnTo>
                <a:lnTo>
                  <a:pt x="1272221" y="304849"/>
                </a:lnTo>
                <a:lnTo>
                  <a:pt x="1306020" y="306183"/>
                </a:lnTo>
                <a:lnTo>
                  <a:pt x="1340536" y="311356"/>
                </a:lnTo>
                <a:lnTo>
                  <a:pt x="1371108" y="313201"/>
                </a:lnTo>
                <a:lnTo>
                  <a:pt x="1390768" y="315638"/>
                </a:lnTo>
                <a:lnTo>
                  <a:pt x="1426236" y="324289"/>
                </a:lnTo>
                <a:lnTo>
                  <a:pt x="1433717" y="330553"/>
                </a:lnTo>
                <a:lnTo>
                  <a:pt x="1446719" y="347190"/>
                </a:lnTo>
                <a:lnTo>
                  <a:pt x="1449155" y="360457"/>
                </a:lnTo>
                <a:lnTo>
                  <a:pt x="1450046" y="392756"/>
                </a:lnTo>
                <a:lnTo>
                  <a:pt x="1444451" y="427411"/>
                </a:lnTo>
                <a:lnTo>
                  <a:pt x="1437988" y="460161"/>
                </a:lnTo>
                <a:lnTo>
                  <a:pt x="1430252" y="495795"/>
                </a:lnTo>
                <a:lnTo>
                  <a:pt x="1422538" y="522400"/>
                </a:lnTo>
                <a:lnTo>
                  <a:pt x="1415935" y="550100"/>
                </a:lnTo>
                <a:lnTo>
                  <a:pt x="1409561" y="578285"/>
                </a:lnTo>
                <a:lnTo>
                  <a:pt x="1401436" y="606688"/>
                </a:lnTo>
                <a:lnTo>
                  <a:pt x="1392533" y="635186"/>
                </a:lnTo>
                <a:lnTo>
                  <a:pt x="1384079" y="663727"/>
                </a:lnTo>
                <a:lnTo>
                  <a:pt x="1377675" y="692286"/>
                </a:lnTo>
                <a:lnTo>
                  <a:pt x="1369607" y="727556"/>
                </a:lnTo>
                <a:lnTo>
                  <a:pt x="1362189" y="758114"/>
                </a:lnTo>
                <a:lnTo>
                  <a:pt x="1358276" y="790387"/>
                </a:lnTo>
                <a:lnTo>
                  <a:pt x="1357350" y="818865"/>
                </a:lnTo>
                <a:lnTo>
                  <a:pt x="1358131" y="818737"/>
                </a:lnTo>
                <a:lnTo>
                  <a:pt x="1361115" y="816478"/>
                </a:lnTo>
                <a:lnTo>
                  <a:pt x="1362971" y="810711"/>
                </a:lnTo>
                <a:lnTo>
                  <a:pt x="1364260" y="778103"/>
                </a:lnTo>
                <a:lnTo>
                  <a:pt x="1365192" y="749543"/>
                </a:lnTo>
                <a:lnTo>
                  <a:pt x="1368222" y="724871"/>
                </a:lnTo>
                <a:lnTo>
                  <a:pt x="1370099" y="695914"/>
                </a:lnTo>
                <a:lnTo>
                  <a:pt x="1370933" y="665317"/>
                </a:lnTo>
                <a:lnTo>
                  <a:pt x="1371303" y="635843"/>
                </a:lnTo>
                <a:lnTo>
                  <a:pt x="1371468" y="604752"/>
                </a:lnTo>
                <a:lnTo>
                  <a:pt x="1372335" y="572413"/>
                </a:lnTo>
                <a:lnTo>
                  <a:pt x="1375365" y="539519"/>
                </a:lnTo>
                <a:lnTo>
                  <a:pt x="1377242" y="506379"/>
                </a:lnTo>
                <a:lnTo>
                  <a:pt x="1378870" y="473129"/>
                </a:lnTo>
                <a:lnTo>
                  <a:pt x="1382239" y="439831"/>
                </a:lnTo>
                <a:lnTo>
                  <a:pt x="1386382" y="408627"/>
                </a:lnTo>
                <a:lnTo>
                  <a:pt x="1390870" y="378884"/>
                </a:lnTo>
                <a:lnTo>
                  <a:pt x="1395510" y="349790"/>
                </a:lnTo>
                <a:lnTo>
                  <a:pt x="1400218" y="323100"/>
                </a:lnTo>
                <a:lnTo>
                  <a:pt x="1409448" y="287879"/>
                </a:lnTo>
                <a:lnTo>
                  <a:pt x="1422237" y="259451"/>
                </a:lnTo>
                <a:lnTo>
                  <a:pt x="1440780" y="232305"/>
                </a:lnTo>
                <a:lnTo>
                  <a:pt x="1458772" y="220407"/>
                </a:lnTo>
                <a:lnTo>
                  <a:pt x="1471600" y="215647"/>
                </a:lnTo>
                <a:lnTo>
                  <a:pt x="1479809" y="216650"/>
                </a:lnTo>
                <a:lnTo>
                  <a:pt x="1495472" y="223795"/>
                </a:lnTo>
                <a:lnTo>
                  <a:pt x="1501806" y="227554"/>
                </a:lnTo>
                <a:lnTo>
                  <a:pt x="1510961" y="238082"/>
                </a:lnTo>
                <a:lnTo>
                  <a:pt x="1530828" y="271189"/>
                </a:lnTo>
                <a:lnTo>
                  <a:pt x="1542517" y="301563"/>
                </a:lnTo>
                <a:lnTo>
                  <a:pt x="1548677" y="334109"/>
                </a:lnTo>
                <a:lnTo>
                  <a:pt x="1549100" y="363469"/>
                </a:lnTo>
                <a:lnTo>
                  <a:pt x="1542363" y="392199"/>
                </a:lnTo>
                <a:lnTo>
                  <a:pt x="1537188" y="405713"/>
                </a:lnTo>
                <a:lnTo>
                  <a:pt x="1525350" y="421453"/>
                </a:lnTo>
                <a:lnTo>
                  <a:pt x="1502432" y="436938"/>
                </a:lnTo>
                <a:lnTo>
                  <a:pt x="1470189" y="445570"/>
                </a:lnTo>
                <a:lnTo>
                  <a:pt x="1458809" y="445574"/>
                </a:lnTo>
                <a:lnTo>
                  <a:pt x="1425342" y="440419"/>
                </a:lnTo>
                <a:lnTo>
                  <a:pt x="1403495" y="428031"/>
                </a:lnTo>
                <a:lnTo>
                  <a:pt x="1402388" y="426419"/>
                </a:lnTo>
                <a:lnTo>
                  <a:pt x="1401650" y="424550"/>
                </a:lnTo>
                <a:lnTo>
                  <a:pt x="1401953" y="423304"/>
                </a:lnTo>
                <a:lnTo>
                  <a:pt x="1402947" y="422473"/>
                </a:lnTo>
                <a:lnTo>
                  <a:pt x="1406169" y="420756"/>
                </a:lnTo>
                <a:lnTo>
                  <a:pt x="1414033" y="415327"/>
                </a:lnTo>
                <a:lnTo>
                  <a:pt x="1443921" y="404048"/>
                </a:lnTo>
                <a:lnTo>
                  <a:pt x="1478284" y="395393"/>
                </a:lnTo>
                <a:lnTo>
                  <a:pt x="1510189" y="391584"/>
                </a:lnTo>
                <a:lnTo>
                  <a:pt x="1540898" y="381901"/>
                </a:lnTo>
                <a:lnTo>
                  <a:pt x="1574779" y="373652"/>
                </a:lnTo>
                <a:lnTo>
                  <a:pt x="1609160" y="366181"/>
                </a:lnTo>
                <a:lnTo>
                  <a:pt x="1639014" y="358146"/>
                </a:lnTo>
                <a:lnTo>
                  <a:pt x="1668721" y="341611"/>
                </a:lnTo>
                <a:lnTo>
                  <a:pt x="1694861" y="318800"/>
                </a:lnTo>
                <a:lnTo>
                  <a:pt x="1697834" y="313825"/>
                </a:lnTo>
                <a:lnTo>
                  <a:pt x="1699742" y="307956"/>
                </a:lnTo>
                <a:lnTo>
                  <a:pt x="1699105" y="307475"/>
                </a:lnTo>
                <a:lnTo>
                  <a:pt x="1696280" y="306940"/>
                </a:lnTo>
                <a:lnTo>
                  <a:pt x="1686435" y="310431"/>
                </a:lnTo>
                <a:lnTo>
                  <a:pt x="1673796" y="319515"/>
                </a:lnTo>
                <a:lnTo>
                  <a:pt x="1662134" y="332149"/>
                </a:lnTo>
                <a:lnTo>
                  <a:pt x="1645654" y="366265"/>
                </a:lnTo>
                <a:lnTo>
                  <a:pt x="1633565" y="399723"/>
                </a:lnTo>
                <a:lnTo>
                  <a:pt x="1625605" y="422320"/>
                </a:lnTo>
                <a:lnTo>
                  <a:pt x="1626837" y="432330"/>
                </a:lnTo>
                <a:lnTo>
                  <a:pt x="1634095" y="450898"/>
                </a:lnTo>
                <a:lnTo>
                  <a:pt x="1638548" y="457467"/>
                </a:lnTo>
                <a:lnTo>
                  <a:pt x="1641640" y="459536"/>
                </a:lnTo>
                <a:lnTo>
                  <a:pt x="1649310" y="461835"/>
                </a:lnTo>
                <a:lnTo>
                  <a:pt x="1652783" y="461654"/>
                </a:lnTo>
                <a:lnTo>
                  <a:pt x="1658760" y="459337"/>
                </a:lnTo>
                <a:lnTo>
                  <a:pt x="1683876" y="436891"/>
                </a:lnTo>
                <a:lnTo>
                  <a:pt x="1694136" y="419226"/>
                </a:lnTo>
                <a:lnTo>
                  <a:pt x="1703921" y="387014"/>
                </a:lnTo>
                <a:lnTo>
                  <a:pt x="1706677" y="354781"/>
                </a:lnTo>
                <a:lnTo>
                  <a:pt x="1707155" y="327428"/>
                </a:lnTo>
                <a:lnTo>
                  <a:pt x="1703524" y="293534"/>
                </a:lnTo>
                <a:lnTo>
                  <a:pt x="1698531" y="258795"/>
                </a:lnTo>
                <a:lnTo>
                  <a:pt x="1687238" y="230887"/>
                </a:lnTo>
                <a:lnTo>
                  <a:pt x="1682522" y="225014"/>
                </a:lnTo>
                <a:lnTo>
                  <a:pt x="1681274" y="224399"/>
                </a:lnTo>
                <a:lnTo>
                  <a:pt x="1680443" y="224782"/>
                </a:lnTo>
                <a:lnTo>
                  <a:pt x="1679109" y="227309"/>
                </a:lnTo>
                <a:lnTo>
                  <a:pt x="1678878" y="235331"/>
                </a:lnTo>
                <a:lnTo>
                  <a:pt x="1680940" y="241274"/>
                </a:lnTo>
                <a:lnTo>
                  <a:pt x="1695576" y="268775"/>
                </a:lnTo>
                <a:lnTo>
                  <a:pt x="1704502" y="275981"/>
                </a:lnTo>
                <a:lnTo>
                  <a:pt x="1715613" y="281036"/>
                </a:lnTo>
                <a:lnTo>
                  <a:pt x="1748111" y="284548"/>
                </a:lnTo>
                <a:lnTo>
                  <a:pt x="1778610" y="284923"/>
                </a:lnTo>
                <a:lnTo>
                  <a:pt x="1803318" y="280777"/>
                </a:lnTo>
                <a:lnTo>
                  <a:pt x="1830175" y="273643"/>
                </a:lnTo>
                <a:lnTo>
                  <a:pt x="1857986" y="265180"/>
                </a:lnTo>
                <a:lnTo>
                  <a:pt x="1886222" y="254011"/>
                </a:lnTo>
                <a:lnTo>
                  <a:pt x="1914645" y="241109"/>
                </a:lnTo>
                <a:lnTo>
                  <a:pt x="1943153" y="227438"/>
                </a:lnTo>
                <a:lnTo>
                  <a:pt x="1971699" y="211307"/>
                </a:lnTo>
                <a:lnTo>
                  <a:pt x="1998673" y="193555"/>
                </a:lnTo>
                <a:lnTo>
                  <a:pt x="2031709" y="165710"/>
                </a:lnTo>
                <a:lnTo>
                  <a:pt x="2060812" y="137352"/>
                </a:lnTo>
                <a:lnTo>
                  <a:pt x="2084075" y="108841"/>
                </a:lnTo>
                <a:lnTo>
                  <a:pt x="2100581" y="81079"/>
                </a:lnTo>
                <a:lnTo>
                  <a:pt x="2110058" y="57419"/>
                </a:lnTo>
                <a:lnTo>
                  <a:pt x="2112425" y="35327"/>
                </a:lnTo>
                <a:lnTo>
                  <a:pt x="2108452" y="15288"/>
                </a:lnTo>
                <a:lnTo>
                  <a:pt x="2104432" y="6952"/>
                </a:lnTo>
                <a:lnTo>
                  <a:pt x="2101454" y="4411"/>
                </a:lnTo>
                <a:lnTo>
                  <a:pt x="2093912" y="1589"/>
                </a:lnTo>
                <a:lnTo>
                  <a:pt x="2076949" y="0"/>
                </a:lnTo>
                <a:lnTo>
                  <a:pt x="2053049" y="7113"/>
                </a:lnTo>
                <a:lnTo>
                  <a:pt x="2021439" y="25327"/>
                </a:lnTo>
                <a:lnTo>
                  <a:pt x="1987560" y="57853"/>
                </a:lnTo>
                <a:lnTo>
                  <a:pt x="1965004" y="87579"/>
                </a:lnTo>
                <a:lnTo>
                  <a:pt x="1950454" y="110783"/>
                </a:lnTo>
                <a:lnTo>
                  <a:pt x="1936050" y="136971"/>
                </a:lnTo>
                <a:lnTo>
                  <a:pt x="1923826" y="164486"/>
                </a:lnTo>
                <a:lnTo>
                  <a:pt x="1914690" y="192589"/>
                </a:lnTo>
                <a:lnTo>
                  <a:pt x="1910629" y="220955"/>
                </a:lnTo>
                <a:lnTo>
                  <a:pt x="1906708" y="249436"/>
                </a:lnTo>
                <a:lnTo>
                  <a:pt x="1903907" y="277176"/>
                </a:lnTo>
                <a:lnTo>
                  <a:pt x="1905308" y="302734"/>
                </a:lnTo>
                <a:lnTo>
                  <a:pt x="1910693" y="327322"/>
                </a:lnTo>
                <a:lnTo>
                  <a:pt x="1924767" y="361361"/>
                </a:lnTo>
                <a:lnTo>
                  <a:pt x="1944017" y="389438"/>
                </a:lnTo>
                <a:lnTo>
                  <a:pt x="1959382" y="404487"/>
                </a:lnTo>
                <a:lnTo>
                  <a:pt x="1990345" y="421090"/>
                </a:lnTo>
                <a:lnTo>
                  <a:pt x="2024655" y="430596"/>
                </a:lnTo>
                <a:lnTo>
                  <a:pt x="2048138" y="433098"/>
                </a:lnTo>
                <a:lnTo>
                  <a:pt x="2073921" y="434210"/>
                </a:lnTo>
                <a:lnTo>
                  <a:pt x="2100461" y="433910"/>
                </a:lnTo>
                <a:lnTo>
                  <a:pt x="2125486" y="431131"/>
                </a:lnTo>
                <a:lnTo>
                  <a:pt x="2149837" y="425134"/>
                </a:lnTo>
                <a:lnTo>
                  <a:pt x="2183743" y="412832"/>
                </a:lnTo>
                <a:lnTo>
                  <a:pt x="2211781" y="397016"/>
                </a:lnTo>
                <a:lnTo>
                  <a:pt x="2238795" y="370338"/>
                </a:lnTo>
                <a:lnTo>
                  <a:pt x="2262193" y="335025"/>
                </a:lnTo>
                <a:lnTo>
                  <a:pt x="2268891" y="315754"/>
                </a:lnTo>
                <a:lnTo>
                  <a:pt x="2271155" y="295020"/>
                </a:lnTo>
                <a:lnTo>
                  <a:pt x="2267755" y="280441"/>
                </a:lnTo>
                <a:lnTo>
                  <a:pt x="2265105" y="277225"/>
                </a:lnTo>
                <a:lnTo>
                  <a:pt x="2257928" y="273652"/>
                </a:lnTo>
                <a:lnTo>
                  <a:pt x="2231066" y="271044"/>
                </a:lnTo>
                <a:lnTo>
                  <a:pt x="2213102" y="278452"/>
                </a:lnTo>
                <a:lnTo>
                  <a:pt x="2184306" y="307520"/>
                </a:lnTo>
                <a:lnTo>
                  <a:pt x="2160872" y="339078"/>
                </a:lnTo>
                <a:lnTo>
                  <a:pt x="2145825" y="370313"/>
                </a:lnTo>
                <a:lnTo>
                  <a:pt x="2135105" y="400910"/>
                </a:lnTo>
                <a:lnTo>
                  <a:pt x="2130694" y="430084"/>
                </a:lnTo>
                <a:lnTo>
                  <a:pt x="2129387" y="458837"/>
                </a:lnTo>
                <a:lnTo>
                  <a:pt x="2132793" y="483672"/>
                </a:lnTo>
                <a:lnTo>
                  <a:pt x="2142621" y="506112"/>
                </a:lnTo>
                <a:lnTo>
                  <a:pt x="2155587" y="524050"/>
                </a:lnTo>
                <a:lnTo>
                  <a:pt x="2184803" y="543540"/>
                </a:lnTo>
                <a:lnTo>
                  <a:pt x="2207862" y="552337"/>
                </a:lnTo>
                <a:lnTo>
                  <a:pt x="2241578" y="555712"/>
                </a:lnTo>
                <a:lnTo>
                  <a:pt x="2278856" y="55654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1" name="Group 2"/>
          <p:cNvGrpSpPr/>
          <p:nvPr/>
        </p:nvGrpSpPr>
        <p:grpSpPr>
          <a:xfrm>
            <a:off x="246600" y="3605400"/>
            <a:ext cx="2320560" cy="766080"/>
            <a:chOff x="246600" y="3605400"/>
            <a:chExt cx="2320560" cy="766080"/>
          </a:xfrm>
        </p:grpSpPr>
        <p:sp>
          <p:nvSpPr>
            <p:cNvPr id="1262" name="Rectangle 3"/>
            <p:cNvSpPr/>
            <p:nvPr/>
          </p:nvSpPr>
          <p:spPr>
            <a:xfrm rot="10808400">
              <a:off x="1405800" y="3606840"/>
              <a:ext cx="1160280" cy="7603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Rectangle 4"/>
            <p:cNvSpPr/>
            <p:nvPr/>
          </p:nvSpPr>
          <p:spPr>
            <a:xfrm rot="10808400">
              <a:off x="247320" y="3607920"/>
              <a:ext cx="1162080" cy="762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WordArt 5"/>
            <p:cNvSpPr txBox="1"/>
            <p:nvPr/>
          </p:nvSpPr>
          <p:spPr>
            <a:xfrm>
              <a:off x="2087640" y="3781440"/>
              <a:ext cx="3632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65" name="WordArt 6"/>
            <p:cNvSpPr txBox="1"/>
            <p:nvPr/>
          </p:nvSpPr>
          <p:spPr>
            <a:xfrm>
              <a:off x="384120" y="376236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1266" name="Group 7"/>
          <p:cNvGrpSpPr/>
          <p:nvPr/>
        </p:nvGrpSpPr>
        <p:grpSpPr>
          <a:xfrm>
            <a:off x="4440240" y="3606840"/>
            <a:ext cx="2362320" cy="761760"/>
            <a:chOff x="4440240" y="3606840"/>
            <a:chExt cx="2362320" cy="761760"/>
          </a:xfrm>
        </p:grpSpPr>
        <p:sp>
          <p:nvSpPr>
            <p:cNvPr id="1267" name="Rectangle 8"/>
            <p:cNvSpPr/>
            <p:nvPr/>
          </p:nvSpPr>
          <p:spPr>
            <a:xfrm>
              <a:off x="4440240" y="3606840"/>
              <a:ext cx="1181160" cy="761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Rectangle 9"/>
            <p:cNvSpPr/>
            <p:nvPr/>
          </p:nvSpPr>
          <p:spPr>
            <a:xfrm>
              <a:off x="5621400" y="3606840"/>
              <a:ext cx="118116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WordArt 10"/>
            <p:cNvSpPr txBox="1"/>
            <p:nvPr/>
          </p:nvSpPr>
          <p:spPr>
            <a:xfrm>
              <a:off x="4546440" y="374004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70" name="WordArt 11"/>
            <p:cNvSpPr txBox="1"/>
            <p:nvPr/>
          </p:nvSpPr>
          <p:spPr>
            <a:xfrm>
              <a:off x="6291360" y="374004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271" name="WordArt 12"/>
          <p:cNvSpPr txBox="1"/>
          <p:nvPr/>
        </p:nvSpPr>
        <p:spPr>
          <a:xfrm>
            <a:off x="2023920" y="32400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1272" name="WordArt 13"/>
          <p:cNvSpPr txBox="1"/>
          <p:nvPr/>
        </p:nvSpPr>
        <p:spPr>
          <a:xfrm>
            <a:off x="1733400" y="1162080"/>
            <a:ext cx="5639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around permanent magnet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273" name="Oval 14"/>
          <p:cNvSpPr/>
          <p:nvPr/>
        </p:nvSpPr>
        <p:spPr>
          <a:xfrm>
            <a:off x="3429000" y="2762280"/>
            <a:ext cx="114480" cy="1141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4" name="Picture 15" descr=""/>
          <p:cNvPicPr/>
          <p:nvPr/>
        </p:nvPicPr>
        <p:blipFill>
          <a:blip r:embed="rId3"/>
          <a:stretch/>
        </p:blipFill>
        <p:spPr>
          <a:xfrm>
            <a:off x="7147080" y="3683160"/>
            <a:ext cx="1939680" cy="3041640"/>
          </a:xfrm>
          <a:prstGeom prst="rect">
            <a:avLst/>
          </a:prstGeom>
          <a:ln w="0">
            <a:noFill/>
          </a:ln>
        </p:spPr>
      </p:pic>
      <p:sp>
        <p:nvSpPr>
          <p:cNvPr id="1275" name="AutoShape 16"/>
          <p:cNvSpPr/>
          <p:nvPr/>
        </p:nvSpPr>
        <p:spPr>
          <a:xfrm>
            <a:off x="4476600" y="1809720"/>
            <a:ext cx="4667400" cy="1695600"/>
          </a:xfrm>
          <a:prstGeom prst="cloudCallout">
            <a:avLst>
              <a:gd name="adj1" fmla="val 15032"/>
              <a:gd name="adj2" fmla="val 87078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7"/>
          <p:cNvSpPr/>
          <p:nvPr/>
        </p:nvSpPr>
        <p:spPr>
          <a:xfrm>
            <a:off x="4761000" y="1886040"/>
            <a:ext cx="428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QUESTION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at is the direction of the magnetic field at point 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8"/>
          <p:cNvSpPr/>
          <p:nvPr/>
        </p:nvSpPr>
        <p:spPr>
          <a:xfrm>
            <a:off x="3105000" y="2381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WordArt 19"/>
          <p:cNvSpPr txBox="1"/>
          <p:nvPr/>
        </p:nvSpPr>
        <p:spPr>
          <a:xfrm>
            <a:off x="1023840" y="5181480"/>
            <a:ext cx="51912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UP    DOWN    RIGHT    LEFT</a:t>
            </a:r>
            <a:endParaRPr b="0" lang="en-US" sz="3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1279" name="Text Box 20"/>
          <p:cNvSpPr/>
          <p:nvPr/>
        </p:nvSpPr>
        <p:spPr>
          <a:xfrm>
            <a:off x="781200" y="614844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your best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AutoShape 21"/>
          <p:cNvSpPr/>
          <p:nvPr/>
        </p:nvSpPr>
        <p:spPr>
          <a:xfrm>
            <a:off x="628560" y="4896000"/>
            <a:ext cx="1200240" cy="971280"/>
          </a:xfrm>
          <a:custGeom>
            <a:avLst/>
            <a:gdLst>
              <a:gd name="textAreaLeft" fmla="*/ 62640 w 1200240"/>
              <a:gd name="textAreaRight" fmla="*/ 1137600 w 1200240"/>
              <a:gd name="textAreaTop" fmla="*/ 62640 h 971280"/>
              <a:gd name="textAreaBottom" fmla="*/ 908640 h 971280"/>
            </a:gdLst>
            <a:ahLst/>
            <a:rect l="textAreaLeft" t="textAreaTop" r="textAreaRight" b="textAreaBottom"/>
            <a:pathLst>
              <a:path w="26690" h="21600">
                <a:moveTo>
                  <a:pt x="0" y="0"/>
                </a:moveTo>
                <a:lnTo>
                  <a:pt x="26690" y="0"/>
                </a:lnTo>
                <a:lnTo>
                  <a:pt x="26690" y="21600"/>
                </a:lnTo>
                <a:lnTo>
                  <a:pt x="0" y="21600"/>
                </a:lnTo>
                <a:close/>
              </a:path>
              <a:path fill="lightenLess" w="26690" h="21600">
                <a:moveTo>
                  <a:pt x="0" y="0"/>
                </a:moveTo>
                <a:lnTo>
                  <a:pt x="26690" y="0"/>
                </a:lnTo>
                <a:lnTo>
                  <a:pt x="25290" y="1400"/>
                </a:lnTo>
                <a:lnTo>
                  <a:pt x="1400" y="1400"/>
                </a:lnTo>
                <a:close/>
              </a:path>
              <a:path fill="darken" w="26690" h="21600">
                <a:moveTo>
                  <a:pt x="26690" y="0"/>
                </a:moveTo>
                <a:lnTo>
                  <a:pt x="26690" y="21600"/>
                </a:lnTo>
                <a:lnTo>
                  <a:pt x="25290" y="20200"/>
                </a:lnTo>
                <a:lnTo>
                  <a:pt x="25290" y="1400"/>
                </a:lnTo>
                <a:close/>
              </a:path>
              <a:path fill="darkenLess" w="26690" h="21600">
                <a:moveTo>
                  <a:pt x="2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0" y="20200"/>
                </a:lnTo>
                <a:close/>
              </a:path>
              <a:path fill="lighten" w="2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AutoShape 22"/>
          <p:cNvSpPr/>
          <p:nvPr/>
        </p:nvSpPr>
        <p:spPr>
          <a:xfrm>
            <a:off x="1828800" y="4857840"/>
            <a:ext cx="4629240" cy="1085760"/>
          </a:xfrm>
          <a:custGeom>
            <a:avLst/>
            <a:gdLst>
              <a:gd name="textAreaLeft" fmla="*/ 70200 w 4629240"/>
              <a:gd name="textAreaRight" fmla="*/ 4559040 w 4629240"/>
              <a:gd name="textAreaTop" fmla="*/ 70200 h 1085760"/>
              <a:gd name="textAreaBottom" fmla="*/ 1015560 h 1085760"/>
            </a:gdLst>
            <a:ahLst/>
            <a:rect l="textAreaLeft" t="textAreaTop" r="textAreaRight" b="textAreaBottom"/>
            <a:pathLst>
              <a:path w="92070" h="21600">
                <a:moveTo>
                  <a:pt x="0" y="0"/>
                </a:moveTo>
                <a:lnTo>
                  <a:pt x="92070" y="0"/>
                </a:lnTo>
                <a:lnTo>
                  <a:pt x="92070" y="21600"/>
                </a:lnTo>
                <a:lnTo>
                  <a:pt x="0" y="21600"/>
                </a:lnTo>
                <a:close/>
              </a:path>
              <a:path fill="lightenLess" w="92070" h="21600">
                <a:moveTo>
                  <a:pt x="0" y="0"/>
                </a:moveTo>
                <a:lnTo>
                  <a:pt x="92070" y="0"/>
                </a:lnTo>
                <a:lnTo>
                  <a:pt x="90670" y="1400"/>
                </a:lnTo>
                <a:lnTo>
                  <a:pt x="1400" y="1400"/>
                </a:lnTo>
                <a:close/>
              </a:path>
              <a:path fill="darken" w="92070" h="21600">
                <a:moveTo>
                  <a:pt x="92070" y="0"/>
                </a:moveTo>
                <a:lnTo>
                  <a:pt x="92070" y="21600"/>
                </a:lnTo>
                <a:lnTo>
                  <a:pt x="90670" y="20200"/>
                </a:lnTo>
                <a:lnTo>
                  <a:pt x="90670" y="1400"/>
                </a:lnTo>
                <a:close/>
              </a:path>
              <a:path fill="darkenLess" w="92070" h="21600">
                <a:moveTo>
                  <a:pt x="92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670" y="20200"/>
                </a:lnTo>
                <a:close/>
              </a:path>
              <a:path fill="lighten" w="92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2" name="Group 2"/>
          <p:cNvGrpSpPr/>
          <p:nvPr/>
        </p:nvGrpSpPr>
        <p:grpSpPr>
          <a:xfrm>
            <a:off x="2514600" y="4078440"/>
            <a:ext cx="1948680" cy="1480680"/>
            <a:chOff x="2514600" y="4078440"/>
            <a:chExt cx="1948680" cy="1480680"/>
          </a:xfrm>
        </p:grpSpPr>
        <p:sp>
          <p:nvSpPr>
            <p:cNvPr id="1283" name="Arc 3"/>
            <p:cNvSpPr/>
            <p:nvPr/>
          </p:nvSpPr>
          <p:spPr>
            <a:xfrm flipH="1">
              <a:off x="3932640" y="4251600"/>
              <a:ext cx="530280" cy="1291680"/>
            </a:xfrm>
            <a:custGeom>
              <a:avLst/>
              <a:gdLst>
                <a:gd name="textAreaLeft" fmla="*/ -360 w 530280"/>
                <a:gd name="textAreaRight" fmla="*/ 530280 w 530280"/>
                <a:gd name="textAreaTop" fmla="*/ 0 h 1291680"/>
                <a:gd name="textAreaBottom" fmla="*/ 1292040 h 129168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Arc 4"/>
            <p:cNvSpPr/>
            <p:nvPr/>
          </p:nvSpPr>
          <p:spPr>
            <a:xfrm>
              <a:off x="2514600" y="4251600"/>
              <a:ext cx="577800" cy="13075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1307520"/>
                <a:gd name="textAreaBottom" fmla="*/ 1307880 h 130752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Freeform 5"/>
            <p:cNvSpPr/>
            <p:nvPr/>
          </p:nvSpPr>
          <p:spPr>
            <a:xfrm flipV="1" rot="9172800">
              <a:off x="3588120" y="4815720"/>
              <a:ext cx="135720" cy="13644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-360 h 136440"/>
                <a:gd name="textAreaBottom" fmla="*/ 136440 h 1364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Freeform 6"/>
            <p:cNvSpPr/>
            <p:nvPr/>
          </p:nvSpPr>
          <p:spPr>
            <a:xfrm flipV="1" rot="11391600">
              <a:off x="4014360" y="4109400"/>
              <a:ext cx="136440" cy="136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-360 h 136440"/>
                <a:gd name="textAreaBottom" fmla="*/ 136440 h 1364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Freeform 7"/>
            <p:cNvSpPr/>
            <p:nvPr/>
          </p:nvSpPr>
          <p:spPr>
            <a:xfrm flipH="1" flipV="1" rot="13264200">
              <a:off x="3013200" y="5085000"/>
              <a:ext cx="136080" cy="136440"/>
            </a:xfrm>
            <a:custGeom>
              <a:avLst/>
              <a:gdLst>
                <a:gd name="textAreaLeft" fmla="*/ 360 w 136080"/>
                <a:gd name="textAreaRight" fmla="*/ 136800 w 136080"/>
                <a:gd name="textAreaTop" fmla="*/ -360 h 136440"/>
                <a:gd name="textAreaBottom" fmla="*/ 136440 h 1364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Freeform 8"/>
            <p:cNvSpPr/>
            <p:nvPr/>
          </p:nvSpPr>
          <p:spPr>
            <a:xfrm flipV="1" rot="6352200">
              <a:off x="2778120" y="4398840"/>
              <a:ext cx="136800" cy="1364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-360 h 136440"/>
                <a:gd name="textAreaBottom" fmla="*/ 136440 h 1364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Freeform 9"/>
            <p:cNvSpPr/>
            <p:nvPr/>
          </p:nvSpPr>
          <p:spPr>
            <a:xfrm flipV="1" rot="10363200">
              <a:off x="4116600" y="4377960"/>
              <a:ext cx="136440" cy="136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-360 h 136440"/>
                <a:gd name="textAreaBottom" fmla="*/ 136440 h 1364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Freeform 10"/>
            <p:cNvSpPr/>
            <p:nvPr/>
          </p:nvSpPr>
          <p:spPr>
            <a:xfrm flipH="1" flipV="1" rot="14206200">
              <a:off x="3882960" y="5033160"/>
              <a:ext cx="136440" cy="13644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-360 h 136440"/>
                <a:gd name="textAreaBottom" fmla="*/ 136440 h 13644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Freeform 11"/>
            <p:cNvSpPr/>
            <p:nvPr/>
          </p:nvSpPr>
          <p:spPr>
            <a:xfrm flipH="1" flipV="1" rot="12615000">
              <a:off x="3200040" y="4809240"/>
              <a:ext cx="136440" cy="13536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360 h 135360"/>
                <a:gd name="textAreaBottom" fmla="*/ 136080 h 13536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Freeform 12"/>
            <p:cNvSpPr/>
            <p:nvPr/>
          </p:nvSpPr>
          <p:spPr>
            <a:xfrm flipH="1" flipV="1" rot="10033800">
              <a:off x="2795400" y="4115520"/>
              <a:ext cx="136440" cy="13608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360 h 136080"/>
                <a:gd name="textAreaBottom" fmla="*/ 136800 h 13608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64"/>
                  </a:moveTo>
                  <a:lnTo>
                    <a:pt x="72" y="0"/>
                  </a:lnTo>
                  <a:lnTo>
                    <a:pt x="104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Arc 13"/>
            <p:cNvSpPr/>
            <p:nvPr/>
          </p:nvSpPr>
          <p:spPr>
            <a:xfrm flipH="1">
              <a:off x="3603600" y="4078440"/>
              <a:ext cx="782640" cy="1228680"/>
            </a:xfrm>
            <a:custGeom>
              <a:avLst/>
              <a:gdLst>
                <a:gd name="textAreaLeft" fmla="*/ 360 w 782640"/>
                <a:gd name="textAreaRight" fmla="*/ 783360 w 782640"/>
                <a:gd name="textAreaTop" fmla="*/ 0 h 1228680"/>
                <a:gd name="textAreaBottom" fmla="*/ 1229040 h 1228680"/>
              </a:gdLst>
              <a:ahLst/>
              <a:rect l="textAreaLeft" t="textAreaTop" r="textAreaRight" b="textAreaBottom"/>
              <a:pathLst>
                <a:path fill="none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</a:path>
                <a:path stroke="0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  <a:lnTo>
                    <a:pt x="929" y="21600"/>
                  </a:lnTo>
                  <a:lnTo>
                    <a:pt x="-1" y="1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Arc 14"/>
            <p:cNvSpPr/>
            <p:nvPr/>
          </p:nvSpPr>
          <p:spPr>
            <a:xfrm>
              <a:off x="2541960" y="4078440"/>
              <a:ext cx="782640" cy="12286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1228680"/>
                <a:gd name="textAreaBottom" fmla="*/ 1229040 h 1228680"/>
              </a:gdLst>
              <a:ahLst/>
              <a:rect l="textAreaLeft" t="textAreaTop" r="textAreaRight" b="textAreaBottom"/>
              <a:pathLst>
                <a:path fill="none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</a:path>
                <a:path stroke="0" w="22527" h="21600">
                  <a:moveTo>
                    <a:pt x="-1" y="19"/>
                  </a:moveTo>
                  <a:cubicBezTo>
                    <a:pt x="309" y="6"/>
                    <a:pt x="619" y="-1"/>
                    <a:pt x="929" y="0"/>
                  </a:cubicBezTo>
                  <a:cubicBezTo>
                    <a:pt x="12738" y="0"/>
                    <a:pt x="22358" y="9484"/>
                    <a:pt x="22526" y="21293"/>
                  </a:cubicBezTo>
                  <a:lnTo>
                    <a:pt x="929" y="21600"/>
                  </a:lnTo>
                  <a:lnTo>
                    <a:pt x="-1" y="1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5" name="Group 15"/>
          <p:cNvGrpSpPr/>
          <p:nvPr/>
        </p:nvGrpSpPr>
        <p:grpSpPr>
          <a:xfrm>
            <a:off x="2530440" y="2437920"/>
            <a:ext cx="1917000" cy="1528560"/>
            <a:chOff x="2530440" y="2437920"/>
            <a:chExt cx="1917000" cy="1528560"/>
          </a:xfrm>
        </p:grpSpPr>
        <p:sp>
          <p:nvSpPr>
            <p:cNvPr id="1296" name="Arc 16"/>
            <p:cNvSpPr/>
            <p:nvPr/>
          </p:nvSpPr>
          <p:spPr>
            <a:xfrm flipV="1">
              <a:off x="2530440" y="2437560"/>
              <a:ext cx="561960" cy="1276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-360 h 1276920"/>
                <a:gd name="textAreaBottom" fmla="*/ 1276920 h 127692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Arc 17"/>
            <p:cNvSpPr/>
            <p:nvPr/>
          </p:nvSpPr>
          <p:spPr>
            <a:xfrm flipH="1" flipV="1">
              <a:off x="3885120" y="2437560"/>
              <a:ext cx="561960" cy="127692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-360 h 1276920"/>
                <a:gd name="textAreaBottom" fmla="*/ 1276920 h 1276920"/>
              </a:gdLst>
              <a:ahLst/>
              <a:rect l="textAreaLeft" t="textAreaTop" r="textAreaRight" b="textAreaBottom"/>
              <a:pathLst>
                <a:path fill="none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</a:path>
                <a:path stroke="0" w="21096" h="21600">
                  <a:moveTo>
                    <a:pt x="-1" y="0"/>
                  </a:moveTo>
                  <a:cubicBezTo>
                    <a:pt x="10141" y="0"/>
                    <a:pt x="18916" y="7054"/>
                    <a:pt x="21095" y="1695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8" name="Group 18"/>
            <p:cNvGrpSpPr/>
            <p:nvPr/>
          </p:nvGrpSpPr>
          <p:grpSpPr>
            <a:xfrm>
              <a:off x="2547360" y="2721960"/>
              <a:ext cx="1854360" cy="1244520"/>
              <a:chOff x="2547360" y="2721960"/>
              <a:chExt cx="1854360" cy="1244520"/>
            </a:xfrm>
          </p:grpSpPr>
          <p:sp>
            <p:nvSpPr>
              <p:cNvPr id="1299" name="Freeform 19"/>
              <p:cNvSpPr/>
              <p:nvPr/>
            </p:nvSpPr>
            <p:spPr>
              <a:xfrm flipH="1" flipV="1" rot="1329600">
                <a:off x="3610800" y="3090960"/>
                <a:ext cx="136440" cy="136440"/>
              </a:xfrm>
              <a:custGeom>
                <a:avLst/>
                <a:gdLst>
                  <a:gd name="textAreaLeft" fmla="*/ -360 w 136440"/>
                  <a:gd name="textAreaRight" fmla="*/ 136440 w 136440"/>
                  <a:gd name="textAreaTop" fmla="*/ -360 h 136440"/>
                  <a:gd name="textAreaBottom" fmla="*/ 136440 h 1364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Freeform 20"/>
              <p:cNvSpPr/>
              <p:nvPr/>
            </p:nvSpPr>
            <p:spPr>
              <a:xfrm flipH="1" flipV="1" rot="20909400">
                <a:off x="3991320" y="3760560"/>
                <a:ext cx="136440" cy="136800"/>
              </a:xfrm>
              <a:custGeom>
                <a:avLst/>
                <a:gdLst>
                  <a:gd name="textAreaLeft" fmla="*/ -360 w 136440"/>
                  <a:gd name="textAreaRight" fmla="*/ 136440 w 136440"/>
                  <a:gd name="textAreaTop" fmla="*/ 360 h 136800"/>
                  <a:gd name="textAreaBottom" fmla="*/ 137520 h 13680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Freeform 21"/>
              <p:cNvSpPr/>
              <p:nvPr/>
            </p:nvSpPr>
            <p:spPr>
              <a:xfrm flipH="1" flipV="1" rot="1339200">
                <a:off x="3861000" y="2859840"/>
                <a:ext cx="136440" cy="136440"/>
              </a:xfrm>
              <a:custGeom>
                <a:avLst/>
                <a:gdLst>
                  <a:gd name="textAreaLeft" fmla="*/ -360 w 136440"/>
                  <a:gd name="textAreaRight" fmla="*/ 136440 w 136440"/>
                  <a:gd name="textAreaTop" fmla="*/ -360 h 136440"/>
                  <a:gd name="textAreaBottom" fmla="*/ 136440 h 1364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Freeform 22"/>
              <p:cNvSpPr/>
              <p:nvPr/>
            </p:nvSpPr>
            <p:spPr>
              <a:xfrm flipH="1" flipV="1" rot="2933400">
                <a:off x="2998080" y="2855520"/>
                <a:ext cx="136080" cy="136440"/>
              </a:xfrm>
              <a:custGeom>
                <a:avLst/>
                <a:gdLst>
                  <a:gd name="textAreaLeft" fmla="*/ 360 w 136080"/>
                  <a:gd name="textAreaRight" fmla="*/ 136800 w 136080"/>
                  <a:gd name="textAreaTop" fmla="*/ -360 h 136440"/>
                  <a:gd name="textAreaBottom" fmla="*/ 136440 h 1364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Freeform 23"/>
              <p:cNvSpPr/>
              <p:nvPr/>
            </p:nvSpPr>
            <p:spPr>
              <a:xfrm flipV="1" rot="19738200">
                <a:off x="3198600" y="3177360"/>
                <a:ext cx="136080" cy="13644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-360 h 136440"/>
                  <a:gd name="textAreaBottom" fmla="*/ 136440 h 1364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Freeform 24"/>
              <p:cNvSpPr/>
              <p:nvPr/>
            </p:nvSpPr>
            <p:spPr>
              <a:xfrm flipV="1" rot="15895800">
                <a:off x="4116600" y="3486960"/>
                <a:ext cx="136080" cy="13680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360 h 136800"/>
                  <a:gd name="textAreaBottom" fmla="*/ 137520 h 13680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Freeform 25"/>
              <p:cNvSpPr/>
              <p:nvPr/>
            </p:nvSpPr>
            <p:spPr>
              <a:xfrm flipV="1" rot="116400">
                <a:off x="2662920" y="3556800"/>
                <a:ext cx="136440" cy="13644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-360 h 136440"/>
                  <a:gd name="textAreaBottom" fmla="*/ 136440 h 1364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Arc 26"/>
              <p:cNvSpPr/>
              <p:nvPr/>
            </p:nvSpPr>
            <p:spPr>
              <a:xfrm flipH="1" flipV="1">
                <a:off x="3619080" y="2721960"/>
                <a:ext cx="782640" cy="1229040"/>
              </a:xfrm>
              <a:custGeom>
                <a:avLst/>
                <a:gdLst>
                  <a:gd name="textAreaLeft" fmla="*/ 360 w 782640"/>
                  <a:gd name="textAreaRight" fmla="*/ 783360 w 782640"/>
                  <a:gd name="textAreaTop" fmla="*/ 360 h 1229040"/>
                  <a:gd name="textAreaBottom" fmla="*/ 1229760 h 1229040"/>
                </a:gdLst>
                <a:ahLst/>
                <a:rect l="textAreaLeft" t="textAreaTop" r="textAreaRight" b="textAreaBottom"/>
                <a:pathLst>
                  <a:path fill="none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</a:path>
                  <a:path stroke="0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  <a:lnTo>
                      <a:pt x="929" y="21600"/>
                    </a:lnTo>
                    <a:lnTo>
                      <a:pt x="-1" y="1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Arc 27"/>
              <p:cNvSpPr/>
              <p:nvPr/>
            </p:nvSpPr>
            <p:spPr>
              <a:xfrm flipV="1">
                <a:off x="2547360" y="2737440"/>
                <a:ext cx="783000" cy="1229040"/>
              </a:xfrm>
              <a:custGeom>
                <a:avLst/>
                <a:gdLst>
                  <a:gd name="textAreaLeft" fmla="*/ 0 w 783000"/>
                  <a:gd name="textAreaRight" fmla="*/ 783360 w 783000"/>
                  <a:gd name="textAreaTop" fmla="*/ 360 h 1229040"/>
                  <a:gd name="textAreaBottom" fmla="*/ 1229760 h 1229040"/>
                </a:gdLst>
                <a:ahLst/>
                <a:rect l="textAreaLeft" t="textAreaTop" r="textAreaRight" b="textAreaBottom"/>
                <a:pathLst>
                  <a:path fill="none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</a:path>
                  <a:path stroke="0" w="22527" h="21600">
                    <a:moveTo>
                      <a:pt x="-1" y="19"/>
                    </a:moveTo>
                    <a:cubicBezTo>
                      <a:pt x="309" y="6"/>
                      <a:pt x="619" y="-1"/>
                      <a:pt x="929" y="0"/>
                    </a:cubicBezTo>
                    <a:cubicBezTo>
                      <a:pt x="12738" y="0"/>
                      <a:pt x="22358" y="9484"/>
                      <a:pt x="22526" y="21293"/>
                    </a:cubicBezTo>
                    <a:lnTo>
                      <a:pt x="929" y="21600"/>
                    </a:lnTo>
                    <a:lnTo>
                      <a:pt x="-1" y="1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Freeform 28"/>
              <p:cNvSpPr/>
              <p:nvPr/>
            </p:nvSpPr>
            <p:spPr>
              <a:xfrm flipV="1" rot="116400">
                <a:off x="2861280" y="3767040"/>
                <a:ext cx="136440" cy="13644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-360 h 136440"/>
                  <a:gd name="textAreaBottom" fmla="*/ 136440 h 1364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64"/>
                    </a:moveTo>
                    <a:lnTo>
                      <a:pt x="72" y="0"/>
                    </a:lnTo>
                    <a:lnTo>
                      <a:pt x="104" y="10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09" name="Picture 29" descr=""/>
          <p:cNvPicPr/>
          <p:nvPr/>
        </p:nvPicPr>
        <p:blipFill>
          <a:blip r:embed="rId1"/>
          <a:stretch/>
        </p:blipFill>
        <p:spPr>
          <a:xfrm>
            <a:off x="6729480" y="3073320"/>
            <a:ext cx="2376360" cy="3727440"/>
          </a:xfrm>
          <a:prstGeom prst="rect">
            <a:avLst/>
          </a:prstGeom>
          <a:ln w="0">
            <a:noFill/>
          </a:ln>
        </p:spPr>
      </p:pic>
      <p:sp>
        <p:nvSpPr>
          <p:cNvPr id="1310" name="AutoShape 30"/>
          <p:cNvSpPr/>
          <p:nvPr/>
        </p:nvSpPr>
        <p:spPr>
          <a:xfrm>
            <a:off x="3948120" y="324000"/>
            <a:ext cx="5162400" cy="2284200"/>
          </a:xfrm>
          <a:prstGeom prst="cloudCallout">
            <a:avLst>
              <a:gd name="adj1" fmla="val 13500"/>
              <a:gd name="adj2" fmla="val 8342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WordArt 31"/>
          <p:cNvSpPr txBox="1"/>
          <p:nvPr/>
        </p:nvSpPr>
        <p:spPr>
          <a:xfrm>
            <a:off x="5148360" y="971640"/>
            <a:ext cx="30193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UPER!</a:t>
            </a:r>
            <a:endParaRPr b="0" lang="en-US" sz="36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12" name="Group 32"/>
          <p:cNvGrpSpPr/>
          <p:nvPr/>
        </p:nvGrpSpPr>
        <p:grpSpPr>
          <a:xfrm>
            <a:off x="4453920" y="974880"/>
            <a:ext cx="556200" cy="549000"/>
            <a:chOff x="4453920" y="974880"/>
            <a:chExt cx="556200" cy="549000"/>
          </a:xfrm>
        </p:grpSpPr>
        <p:sp>
          <p:nvSpPr>
            <p:cNvPr id="1313" name="AutoShape 33"/>
            <p:cNvSpPr/>
            <p:nvPr/>
          </p:nvSpPr>
          <p:spPr>
            <a:xfrm>
              <a:off x="4668120" y="97488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AutoShape 34"/>
            <p:cNvSpPr/>
            <p:nvPr/>
          </p:nvSpPr>
          <p:spPr>
            <a:xfrm rot="4399800">
              <a:off x="4827240" y="1105920"/>
              <a:ext cx="124560" cy="214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AutoShape 35"/>
            <p:cNvSpPr/>
            <p:nvPr/>
          </p:nvSpPr>
          <p:spPr>
            <a:xfrm rot="8517600">
              <a:off x="4768920" y="129348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AutoShape 36"/>
            <p:cNvSpPr/>
            <p:nvPr/>
          </p:nvSpPr>
          <p:spPr>
            <a:xfrm rot="13029600">
              <a:off x="4555800" y="129384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AutoShape 37"/>
            <p:cNvSpPr/>
            <p:nvPr/>
          </p:nvSpPr>
          <p:spPr>
            <a:xfrm rot="17181000">
              <a:off x="4511880" y="1105920"/>
              <a:ext cx="124560" cy="214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Oval 38"/>
            <p:cNvSpPr/>
            <p:nvPr/>
          </p:nvSpPr>
          <p:spPr>
            <a:xfrm>
              <a:off x="4641480" y="1164960"/>
              <a:ext cx="168120" cy="190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9" name="Group 39"/>
          <p:cNvGrpSpPr/>
          <p:nvPr/>
        </p:nvGrpSpPr>
        <p:grpSpPr>
          <a:xfrm>
            <a:off x="8073360" y="555480"/>
            <a:ext cx="556200" cy="549000"/>
            <a:chOff x="8073360" y="555480"/>
            <a:chExt cx="556200" cy="549000"/>
          </a:xfrm>
        </p:grpSpPr>
        <p:sp>
          <p:nvSpPr>
            <p:cNvPr id="1320" name="AutoShape 40"/>
            <p:cNvSpPr/>
            <p:nvPr/>
          </p:nvSpPr>
          <p:spPr>
            <a:xfrm>
              <a:off x="8287560" y="55548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AutoShape 41"/>
            <p:cNvSpPr/>
            <p:nvPr/>
          </p:nvSpPr>
          <p:spPr>
            <a:xfrm rot="4399800">
              <a:off x="8446680" y="686520"/>
              <a:ext cx="124560" cy="214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AutoShape 42"/>
            <p:cNvSpPr/>
            <p:nvPr/>
          </p:nvSpPr>
          <p:spPr>
            <a:xfrm rot="8517600">
              <a:off x="8388360" y="87408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AutoShape 43"/>
            <p:cNvSpPr/>
            <p:nvPr/>
          </p:nvSpPr>
          <p:spPr>
            <a:xfrm rot="13029600">
              <a:off x="8175240" y="874440"/>
              <a:ext cx="124920" cy="213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AutoShape 44"/>
            <p:cNvSpPr/>
            <p:nvPr/>
          </p:nvSpPr>
          <p:spPr>
            <a:xfrm rot="17181000">
              <a:off x="8131320" y="686520"/>
              <a:ext cx="124560" cy="214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Oval 45"/>
            <p:cNvSpPr/>
            <p:nvPr/>
          </p:nvSpPr>
          <p:spPr>
            <a:xfrm>
              <a:off x="8260920" y="745560"/>
              <a:ext cx="168120" cy="190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Group 46"/>
          <p:cNvGrpSpPr/>
          <p:nvPr/>
        </p:nvGrpSpPr>
        <p:grpSpPr>
          <a:xfrm>
            <a:off x="246600" y="3605400"/>
            <a:ext cx="2320560" cy="766080"/>
            <a:chOff x="246600" y="3605400"/>
            <a:chExt cx="2320560" cy="766080"/>
          </a:xfrm>
        </p:grpSpPr>
        <p:sp>
          <p:nvSpPr>
            <p:cNvPr id="1327" name="Rectangle 47"/>
            <p:cNvSpPr/>
            <p:nvPr/>
          </p:nvSpPr>
          <p:spPr>
            <a:xfrm rot="10808400">
              <a:off x="1405800" y="3606840"/>
              <a:ext cx="1160280" cy="7603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48"/>
            <p:cNvSpPr/>
            <p:nvPr/>
          </p:nvSpPr>
          <p:spPr>
            <a:xfrm rot="10808400">
              <a:off x="247320" y="3607920"/>
              <a:ext cx="1162080" cy="762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WordArt 49"/>
            <p:cNvSpPr txBox="1"/>
            <p:nvPr/>
          </p:nvSpPr>
          <p:spPr>
            <a:xfrm>
              <a:off x="2087640" y="3781440"/>
              <a:ext cx="3632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330" name="WordArt 50"/>
            <p:cNvSpPr txBox="1"/>
            <p:nvPr/>
          </p:nvSpPr>
          <p:spPr>
            <a:xfrm>
              <a:off x="384120" y="376236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1331" name="Group 51"/>
          <p:cNvGrpSpPr/>
          <p:nvPr/>
        </p:nvGrpSpPr>
        <p:grpSpPr>
          <a:xfrm>
            <a:off x="4440240" y="3606840"/>
            <a:ext cx="2362320" cy="761760"/>
            <a:chOff x="4440240" y="3606840"/>
            <a:chExt cx="2362320" cy="761760"/>
          </a:xfrm>
        </p:grpSpPr>
        <p:sp>
          <p:nvSpPr>
            <p:cNvPr id="1332" name="Rectangle 52"/>
            <p:cNvSpPr/>
            <p:nvPr/>
          </p:nvSpPr>
          <p:spPr>
            <a:xfrm>
              <a:off x="4440240" y="3606840"/>
              <a:ext cx="1181160" cy="761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53"/>
            <p:cNvSpPr/>
            <p:nvPr/>
          </p:nvSpPr>
          <p:spPr>
            <a:xfrm>
              <a:off x="5621400" y="3606840"/>
              <a:ext cx="118116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WordArt 54"/>
            <p:cNvSpPr txBox="1"/>
            <p:nvPr/>
          </p:nvSpPr>
          <p:spPr>
            <a:xfrm>
              <a:off x="4546440" y="374004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N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335" name="WordArt 55"/>
            <p:cNvSpPr txBox="1"/>
            <p:nvPr/>
          </p:nvSpPr>
          <p:spPr>
            <a:xfrm>
              <a:off x="6291360" y="3740040"/>
              <a:ext cx="363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336" name="Oval 56"/>
          <p:cNvSpPr/>
          <p:nvPr/>
        </p:nvSpPr>
        <p:spPr>
          <a:xfrm>
            <a:off x="3429000" y="2762280"/>
            <a:ext cx="114480" cy="1141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57"/>
          <p:cNvSpPr/>
          <p:nvPr/>
        </p:nvSpPr>
        <p:spPr>
          <a:xfrm>
            <a:off x="3105000" y="2381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42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3" descr="barmag"/>
          <p:cNvPicPr/>
          <p:nvPr/>
        </p:nvPicPr>
        <p:blipFill>
          <a:blip r:embed="rId1"/>
          <a:stretch/>
        </p:blipFill>
        <p:spPr>
          <a:xfrm>
            <a:off x="0" y="0"/>
            <a:ext cx="3532320" cy="4876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3886200" y="3809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int the way a compass poi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352680" y="54100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point out of the _______ and into the _________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3" descr="FG19_03A"/>
          <p:cNvPicPr/>
          <p:nvPr/>
        </p:nvPicPr>
        <p:blipFill>
          <a:blip r:embed="rId1"/>
          <a:stretch/>
        </p:blipFill>
        <p:spPr>
          <a:xfrm>
            <a:off x="1066680" y="144792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2023920" y="76212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ield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164" name="WordArt 3"/>
          <p:cNvSpPr txBox="1"/>
          <p:nvPr/>
        </p:nvSpPr>
        <p:spPr>
          <a:xfrm>
            <a:off x="1733400" y="1600200"/>
            <a:ext cx="5639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around permanent magnet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19000" y="3105000"/>
            <a:ext cx="76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ry lines of force around a magnet are cal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362320" y="396252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gnetic Flux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SMARTInkShape-Group31"/>
          <p:cNvGrpSpPr/>
          <p:nvPr/>
        </p:nvGrpSpPr>
        <p:grpSpPr>
          <a:xfrm>
            <a:off x="4643280" y="4465800"/>
            <a:ext cx="836640" cy="112680"/>
            <a:chOff x="4643280" y="4465800"/>
            <a:chExt cx="836640" cy="112680"/>
          </a:xfrm>
        </p:grpSpPr>
        <p:sp>
          <p:nvSpPr>
            <p:cNvPr id="168" name="SMARTInkShape-87"/>
            <p:cNvSpPr/>
            <p:nvPr/>
          </p:nvSpPr>
          <p:spPr>
            <a:xfrm>
              <a:off x="4643280" y="4465800"/>
              <a:ext cx="765360" cy="4968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764356" h="49868">
                  <a:moveTo>
                    <a:pt x="21405" y="7105"/>
                  </a:moveTo>
                  <a:lnTo>
                    <a:pt x="14555" y="255"/>
                  </a:lnTo>
                  <a:lnTo>
                    <a:pt x="10556" y="48"/>
                  </a:lnTo>
                  <a:lnTo>
                    <a:pt x="9409" y="813"/>
                  </a:lnTo>
                  <a:lnTo>
                    <a:pt x="8645" y="2116"/>
                  </a:lnTo>
                  <a:lnTo>
                    <a:pt x="7207" y="6813"/>
                  </a:lnTo>
                  <a:lnTo>
                    <a:pt x="0" y="7104"/>
                  </a:lnTo>
                  <a:lnTo>
                    <a:pt x="32730" y="6311"/>
                  </a:lnTo>
                  <a:lnTo>
                    <a:pt x="60066" y="1450"/>
                  </a:lnTo>
                  <a:lnTo>
                    <a:pt x="88687" y="402"/>
                  </a:lnTo>
                  <a:lnTo>
                    <a:pt x="111633" y="157"/>
                  </a:lnTo>
                  <a:lnTo>
                    <a:pt x="137706" y="48"/>
                  </a:lnTo>
                  <a:lnTo>
                    <a:pt x="165169" y="0"/>
                  </a:lnTo>
                  <a:lnTo>
                    <a:pt x="193250" y="772"/>
                  </a:lnTo>
                  <a:lnTo>
                    <a:pt x="221605" y="3761"/>
                  </a:lnTo>
                  <a:lnTo>
                    <a:pt x="254316" y="5619"/>
                  </a:lnTo>
                  <a:lnTo>
                    <a:pt x="289227" y="7238"/>
                  </a:lnTo>
                  <a:lnTo>
                    <a:pt x="323264" y="10603"/>
                  </a:lnTo>
                  <a:lnTo>
                    <a:pt x="341707" y="11818"/>
                  </a:lnTo>
                  <a:lnTo>
                    <a:pt x="361146" y="12628"/>
                  </a:lnTo>
                  <a:lnTo>
                    <a:pt x="381249" y="13168"/>
                  </a:lnTo>
                  <a:lnTo>
                    <a:pt x="401001" y="14322"/>
                  </a:lnTo>
                  <a:lnTo>
                    <a:pt x="420519" y="15885"/>
                  </a:lnTo>
                  <a:lnTo>
                    <a:pt x="439881" y="17721"/>
                  </a:lnTo>
                  <a:lnTo>
                    <a:pt x="459138" y="20532"/>
                  </a:lnTo>
                  <a:lnTo>
                    <a:pt x="478327" y="23994"/>
                  </a:lnTo>
                  <a:lnTo>
                    <a:pt x="497470" y="27889"/>
                  </a:lnTo>
                  <a:lnTo>
                    <a:pt x="515788" y="31279"/>
                  </a:lnTo>
                  <a:lnTo>
                    <a:pt x="550958" y="37164"/>
                  </a:lnTo>
                  <a:lnTo>
                    <a:pt x="585109" y="40308"/>
                  </a:lnTo>
                  <a:lnTo>
                    <a:pt x="617221" y="42499"/>
                  </a:lnTo>
                  <a:lnTo>
                    <a:pt x="644723" y="46119"/>
                  </a:lnTo>
                  <a:lnTo>
                    <a:pt x="670174" y="48257"/>
                  </a:lnTo>
                  <a:lnTo>
                    <a:pt x="702583" y="49460"/>
                  </a:lnTo>
                  <a:lnTo>
                    <a:pt x="734867" y="49867"/>
                  </a:lnTo>
                  <a:lnTo>
                    <a:pt x="745429" y="47806"/>
                  </a:lnTo>
                  <a:lnTo>
                    <a:pt x="756453" y="43479"/>
                  </a:lnTo>
                  <a:lnTo>
                    <a:pt x="764355" y="4282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" bIns="43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SMARTInkShape-88"/>
            <p:cNvSpPr/>
            <p:nvPr/>
          </p:nvSpPr>
          <p:spPr>
            <a:xfrm>
              <a:off x="4678920" y="4529880"/>
              <a:ext cx="801000" cy="4860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800101" h="48463">
                  <a:moveTo>
                    <a:pt x="0" y="0"/>
                  </a:moveTo>
                  <a:lnTo>
                    <a:pt x="32127" y="0"/>
                  </a:lnTo>
                  <a:lnTo>
                    <a:pt x="62789" y="0"/>
                  </a:lnTo>
                  <a:lnTo>
                    <a:pt x="88231" y="0"/>
                  </a:lnTo>
                  <a:lnTo>
                    <a:pt x="117531" y="0"/>
                  </a:lnTo>
                  <a:lnTo>
                    <a:pt x="149867" y="0"/>
                  </a:lnTo>
                  <a:lnTo>
                    <a:pt x="185406" y="0"/>
                  </a:lnTo>
                  <a:lnTo>
                    <a:pt x="204566" y="0"/>
                  </a:lnTo>
                  <a:lnTo>
                    <a:pt x="224483" y="0"/>
                  </a:lnTo>
                  <a:lnTo>
                    <a:pt x="244906" y="0"/>
                  </a:lnTo>
                  <a:lnTo>
                    <a:pt x="266458" y="793"/>
                  </a:lnTo>
                  <a:lnTo>
                    <a:pt x="288764" y="2116"/>
                  </a:lnTo>
                  <a:lnTo>
                    <a:pt x="311572" y="3792"/>
                  </a:lnTo>
                  <a:lnTo>
                    <a:pt x="333921" y="5703"/>
                  </a:lnTo>
                  <a:lnTo>
                    <a:pt x="355964" y="7770"/>
                  </a:lnTo>
                  <a:lnTo>
                    <a:pt x="377804" y="9942"/>
                  </a:lnTo>
                  <a:lnTo>
                    <a:pt x="399507" y="12978"/>
                  </a:lnTo>
                  <a:lnTo>
                    <a:pt x="421120" y="16590"/>
                  </a:lnTo>
                  <a:lnTo>
                    <a:pt x="442671" y="20585"/>
                  </a:lnTo>
                  <a:lnTo>
                    <a:pt x="464183" y="24041"/>
                  </a:lnTo>
                  <a:lnTo>
                    <a:pt x="485668" y="27140"/>
                  </a:lnTo>
                  <a:lnTo>
                    <a:pt x="507135" y="29999"/>
                  </a:lnTo>
                  <a:lnTo>
                    <a:pt x="527797" y="32699"/>
                  </a:lnTo>
                  <a:lnTo>
                    <a:pt x="547921" y="35293"/>
                  </a:lnTo>
                  <a:lnTo>
                    <a:pt x="567687" y="37816"/>
                  </a:lnTo>
                  <a:lnTo>
                    <a:pt x="586420" y="39498"/>
                  </a:lnTo>
                  <a:lnTo>
                    <a:pt x="622052" y="41367"/>
                  </a:lnTo>
                  <a:lnTo>
                    <a:pt x="654293" y="44314"/>
                  </a:lnTo>
                  <a:lnTo>
                    <a:pt x="682910" y="47476"/>
                  </a:lnTo>
                  <a:lnTo>
                    <a:pt x="716076" y="48462"/>
                  </a:lnTo>
                  <a:lnTo>
                    <a:pt x="749019" y="44203"/>
                  </a:lnTo>
                  <a:lnTo>
                    <a:pt x="769090" y="41143"/>
                  </a:lnTo>
                  <a:lnTo>
                    <a:pt x="782975" y="35209"/>
                  </a:lnTo>
                  <a:lnTo>
                    <a:pt x="788520" y="30729"/>
                  </a:lnTo>
                  <a:lnTo>
                    <a:pt x="792436" y="24539"/>
                  </a:lnTo>
                  <a:lnTo>
                    <a:pt x="800094" y="21433"/>
                  </a:lnTo>
                  <a:lnTo>
                    <a:pt x="800100" y="2143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40" bIns="324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2023920" y="762120"/>
            <a:ext cx="5096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lux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717480" y="210348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c flux is given the 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000680" y="2568600"/>
            <a:ext cx="111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5"/>
          <p:cNvGrpSpPr/>
          <p:nvPr/>
        </p:nvGrpSpPr>
        <p:grpSpPr>
          <a:xfrm>
            <a:off x="717480" y="3816360"/>
            <a:ext cx="7677360" cy="1427040"/>
            <a:chOff x="717480" y="3816360"/>
            <a:chExt cx="7677360" cy="1427040"/>
          </a:xfrm>
        </p:grpSpPr>
        <p:sp>
          <p:nvSpPr>
            <p:cNvPr id="174" name="Text Box 6"/>
            <p:cNvSpPr/>
            <p:nvPr/>
          </p:nvSpPr>
          <p:spPr>
            <a:xfrm>
              <a:off x="717480" y="3816360"/>
              <a:ext cx="767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nd is measured 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WordArt 7"/>
            <p:cNvSpPr txBox="1"/>
            <p:nvPr/>
          </p:nvSpPr>
          <p:spPr>
            <a:xfrm>
              <a:off x="3475080" y="4595760"/>
              <a:ext cx="21621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 Black"/>
                </a:rPr>
                <a:t>WEBER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176" name="SMARTInkShape-Group32"/>
          <p:cNvGrpSpPr/>
          <p:nvPr/>
        </p:nvGrpSpPr>
        <p:grpSpPr>
          <a:xfrm>
            <a:off x="4951440" y="2865600"/>
            <a:ext cx="985680" cy="549000"/>
            <a:chOff x="4951440" y="2865600"/>
            <a:chExt cx="985680" cy="549000"/>
          </a:xfrm>
        </p:grpSpPr>
        <p:sp>
          <p:nvSpPr>
            <p:cNvPr id="177" name="SMARTInkShape-89"/>
            <p:cNvSpPr/>
            <p:nvPr/>
          </p:nvSpPr>
          <p:spPr>
            <a:xfrm>
              <a:off x="5008320" y="2915280"/>
              <a:ext cx="49680" cy="14256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0007" h="142876">
                  <a:moveTo>
                    <a:pt x="0" y="0"/>
                  </a:moveTo>
                  <a:lnTo>
                    <a:pt x="0" y="33792"/>
                  </a:lnTo>
                  <a:lnTo>
                    <a:pt x="7771" y="62864"/>
                  </a:lnTo>
                  <a:lnTo>
                    <a:pt x="19132" y="93621"/>
                  </a:lnTo>
                  <a:lnTo>
                    <a:pt x="28591" y="117359"/>
                  </a:lnTo>
                  <a:lnTo>
                    <a:pt x="50006" y="1428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SMARTInkShape-90"/>
            <p:cNvSpPr/>
            <p:nvPr/>
          </p:nvSpPr>
          <p:spPr>
            <a:xfrm>
              <a:off x="4951440" y="2886840"/>
              <a:ext cx="42840" cy="185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42852" h="185739">
                  <a:moveTo>
                    <a:pt x="7133" y="0"/>
                  </a:moveTo>
                  <a:lnTo>
                    <a:pt x="3340" y="0"/>
                  </a:lnTo>
                  <a:lnTo>
                    <a:pt x="2223" y="794"/>
                  </a:lnTo>
                  <a:lnTo>
                    <a:pt x="1478" y="2117"/>
                  </a:lnTo>
                  <a:lnTo>
                    <a:pt x="283" y="9943"/>
                  </a:lnTo>
                  <a:lnTo>
                    <a:pt x="0" y="43064"/>
                  </a:lnTo>
                  <a:lnTo>
                    <a:pt x="2109" y="59327"/>
                  </a:lnTo>
                  <a:lnTo>
                    <a:pt x="12345" y="94549"/>
                  </a:lnTo>
                  <a:lnTo>
                    <a:pt x="17687" y="125568"/>
                  </a:lnTo>
                  <a:lnTo>
                    <a:pt x="31036" y="161242"/>
                  </a:lnTo>
                  <a:lnTo>
                    <a:pt x="37209" y="177877"/>
                  </a:lnTo>
                  <a:lnTo>
                    <a:pt x="42851" y="1857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SMARTInkShape-91"/>
            <p:cNvSpPr/>
            <p:nvPr/>
          </p:nvSpPr>
          <p:spPr>
            <a:xfrm>
              <a:off x="5186880" y="3060000"/>
              <a:ext cx="134640" cy="3546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354600"/>
                <a:gd name="textAreaBottom" fmla="*/ 354960 h 354600"/>
              </a:gdLst>
              <a:ahLst/>
              <a:rect l="textAreaLeft" t="textAreaTop" r="textAreaRight" b="textAreaBottom"/>
              <a:pathLst>
                <a:path w="134721" h="354912">
                  <a:moveTo>
                    <a:pt x="0" y="69656"/>
                  </a:moveTo>
                  <a:lnTo>
                    <a:pt x="0" y="100195"/>
                  </a:lnTo>
                  <a:lnTo>
                    <a:pt x="0" y="129310"/>
                  </a:lnTo>
                  <a:lnTo>
                    <a:pt x="2116" y="156123"/>
                  </a:lnTo>
                  <a:lnTo>
                    <a:pt x="5654" y="184175"/>
                  </a:lnTo>
                  <a:lnTo>
                    <a:pt x="8819" y="212596"/>
                  </a:lnTo>
                  <a:lnTo>
                    <a:pt x="12667" y="241125"/>
                  </a:lnTo>
                  <a:lnTo>
                    <a:pt x="15923" y="269686"/>
                  </a:lnTo>
                  <a:lnTo>
                    <a:pt x="20343" y="303989"/>
                  </a:lnTo>
                  <a:lnTo>
                    <a:pt x="26941" y="336699"/>
                  </a:lnTo>
                  <a:lnTo>
                    <a:pt x="28546" y="354911"/>
                  </a:lnTo>
                  <a:lnTo>
                    <a:pt x="27779" y="332579"/>
                  </a:lnTo>
                  <a:lnTo>
                    <a:pt x="22424" y="300326"/>
                  </a:lnTo>
                  <a:lnTo>
                    <a:pt x="17933" y="273645"/>
                  </a:lnTo>
                  <a:lnTo>
                    <a:pt x="15367" y="245632"/>
                  </a:lnTo>
                  <a:lnTo>
                    <a:pt x="14607" y="217223"/>
                  </a:lnTo>
                  <a:lnTo>
                    <a:pt x="10590" y="184905"/>
                  </a:lnTo>
                  <a:lnTo>
                    <a:pt x="8164" y="150194"/>
                  </a:lnTo>
                  <a:lnTo>
                    <a:pt x="7446" y="118566"/>
                  </a:lnTo>
                  <a:lnTo>
                    <a:pt x="7233" y="89086"/>
                  </a:lnTo>
                  <a:lnTo>
                    <a:pt x="7955" y="56384"/>
                  </a:lnTo>
                  <a:lnTo>
                    <a:pt x="12851" y="35825"/>
                  </a:lnTo>
                  <a:lnTo>
                    <a:pt x="23936" y="14352"/>
                  </a:lnTo>
                  <a:lnTo>
                    <a:pt x="30746" y="7241"/>
                  </a:lnTo>
                  <a:lnTo>
                    <a:pt x="38271" y="2228"/>
                  </a:lnTo>
                  <a:lnTo>
                    <a:pt x="44261" y="0"/>
                  </a:lnTo>
                  <a:lnTo>
                    <a:pt x="51686" y="1127"/>
                  </a:lnTo>
                  <a:lnTo>
                    <a:pt x="80845" y="14877"/>
                  </a:lnTo>
                  <a:lnTo>
                    <a:pt x="87234" y="18849"/>
                  </a:lnTo>
                  <a:lnTo>
                    <a:pt x="96449" y="29613"/>
                  </a:lnTo>
                  <a:lnTo>
                    <a:pt x="119641" y="62132"/>
                  </a:lnTo>
                  <a:lnTo>
                    <a:pt x="130612" y="85279"/>
                  </a:lnTo>
                  <a:lnTo>
                    <a:pt x="134720" y="107872"/>
                  </a:lnTo>
                  <a:lnTo>
                    <a:pt x="134637" y="125958"/>
                  </a:lnTo>
                  <a:lnTo>
                    <a:pt x="125748" y="146528"/>
                  </a:lnTo>
                  <a:lnTo>
                    <a:pt x="119123" y="153563"/>
                  </a:lnTo>
                  <a:lnTo>
                    <a:pt x="87970" y="171943"/>
                  </a:lnTo>
                  <a:lnTo>
                    <a:pt x="73778" y="175369"/>
                  </a:lnTo>
                  <a:lnTo>
                    <a:pt x="59519" y="176384"/>
                  </a:lnTo>
                  <a:lnTo>
                    <a:pt x="45240" y="172893"/>
                  </a:lnTo>
                  <a:lnTo>
                    <a:pt x="31896" y="164602"/>
                  </a:lnTo>
                  <a:lnTo>
                    <a:pt x="26611" y="160008"/>
                  </a:lnTo>
                  <a:lnTo>
                    <a:pt x="23733" y="155320"/>
                  </a:lnTo>
                  <a:lnTo>
                    <a:pt x="21431" y="1482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SMARTInkShape-92"/>
            <p:cNvSpPr/>
            <p:nvPr/>
          </p:nvSpPr>
          <p:spPr>
            <a:xfrm>
              <a:off x="5429880" y="2915280"/>
              <a:ext cx="142560" cy="3924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142876" h="392907">
                  <a:moveTo>
                    <a:pt x="0" y="0"/>
                  </a:moveTo>
                  <a:lnTo>
                    <a:pt x="0" y="33180"/>
                  </a:lnTo>
                  <a:lnTo>
                    <a:pt x="0" y="67585"/>
                  </a:lnTo>
                  <a:lnTo>
                    <a:pt x="0" y="99312"/>
                  </a:lnTo>
                  <a:lnTo>
                    <a:pt x="0" y="130056"/>
                  </a:lnTo>
                  <a:lnTo>
                    <a:pt x="0" y="163066"/>
                  </a:lnTo>
                  <a:lnTo>
                    <a:pt x="0" y="197982"/>
                  </a:lnTo>
                  <a:lnTo>
                    <a:pt x="0" y="229670"/>
                  </a:lnTo>
                  <a:lnTo>
                    <a:pt x="0" y="262960"/>
                  </a:lnTo>
                  <a:lnTo>
                    <a:pt x="0" y="297564"/>
                  </a:lnTo>
                  <a:lnTo>
                    <a:pt x="0" y="329774"/>
                  </a:lnTo>
                  <a:lnTo>
                    <a:pt x="0" y="341015"/>
                  </a:lnTo>
                  <a:lnTo>
                    <a:pt x="794" y="341643"/>
                  </a:lnTo>
                  <a:lnTo>
                    <a:pt x="3792" y="342341"/>
                  </a:lnTo>
                  <a:lnTo>
                    <a:pt x="4910" y="341734"/>
                  </a:lnTo>
                  <a:lnTo>
                    <a:pt x="5654" y="340535"/>
                  </a:lnTo>
                  <a:lnTo>
                    <a:pt x="6482" y="336293"/>
                  </a:lnTo>
                  <a:lnTo>
                    <a:pt x="10849" y="312357"/>
                  </a:lnTo>
                  <a:lnTo>
                    <a:pt x="23929" y="277440"/>
                  </a:lnTo>
                  <a:lnTo>
                    <a:pt x="35734" y="244851"/>
                  </a:lnTo>
                  <a:lnTo>
                    <a:pt x="48421" y="219334"/>
                  </a:lnTo>
                  <a:lnTo>
                    <a:pt x="65682" y="199089"/>
                  </a:lnTo>
                  <a:lnTo>
                    <a:pt x="89384" y="187275"/>
                  </a:lnTo>
                  <a:lnTo>
                    <a:pt x="91340" y="187557"/>
                  </a:lnTo>
                  <a:lnTo>
                    <a:pt x="95629" y="189985"/>
                  </a:lnTo>
                  <a:lnTo>
                    <a:pt x="102506" y="195816"/>
                  </a:lnTo>
                  <a:lnTo>
                    <a:pt x="105090" y="202388"/>
                  </a:lnTo>
                  <a:lnTo>
                    <a:pt x="110827" y="237293"/>
                  </a:lnTo>
                  <a:lnTo>
                    <a:pt x="113843" y="269550"/>
                  </a:lnTo>
                  <a:lnTo>
                    <a:pt x="115034" y="300726"/>
                  </a:lnTo>
                  <a:lnTo>
                    <a:pt x="120443" y="332055"/>
                  </a:lnTo>
                  <a:lnTo>
                    <a:pt x="122040" y="356280"/>
                  </a:lnTo>
                  <a:lnTo>
                    <a:pt x="128702" y="375739"/>
                  </a:lnTo>
                  <a:lnTo>
                    <a:pt x="134107" y="385664"/>
                  </a:lnTo>
                  <a:lnTo>
                    <a:pt x="134649" y="388078"/>
                  </a:lnTo>
                  <a:lnTo>
                    <a:pt x="135803" y="389687"/>
                  </a:lnTo>
                  <a:lnTo>
                    <a:pt x="137367" y="390760"/>
                  </a:lnTo>
                  <a:lnTo>
                    <a:pt x="142875" y="39290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SMARTInkShape-93"/>
            <p:cNvSpPr/>
            <p:nvPr/>
          </p:nvSpPr>
          <p:spPr>
            <a:xfrm>
              <a:off x="5651640" y="3165480"/>
              <a:ext cx="21240" cy="156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1345" h="157164">
                  <a:moveTo>
                    <a:pt x="14200" y="0"/>
                  </a:moveTo>
                  <a:lnTo>
                    <a:pt x="10408" y="0"/>
                  </a:lnTo>
                  <a:lnTo>
                    <a:pt x="9290" y="794"/>
                  </a:lnTo>
                  <a:lnTo>
                    <a:pt x="8545" y="2117"/>
                  </a:lnTo>
                  <a:lnTo>
                    <a:pt x="7350" y="9943"/>
                  </a:lnTo>
                  <a:lnTo>
                    <a:pt x="6320" y="24836"/>
                  </a:lnTo>
                  <a:lnTo>
                    <a:pt x="913" y="51552"/>
                  </a:lnTo>
                  <a:lnTo>
                    <a:pt x="0" y="86854"/>
                  </a:lnTo>
                  <a:lnTo>
                    <a:pt x="723" y="108820"/>
                  </a:lnTo>
                  <a:lnTo>
                    <a:pt x="5620" y="122819"/>
                  </a:lnTo>
                  <a:lnTo>
                    <a:pt x="11305" y="133140"/>
                  </a:lnTo>
                  <a:lnTo>
                    <a:pt x="14136" y="144312"/>
                  </a:lnTo>
                  <a:lnTo>
                    <a:pt x="15745" y="146215"/>
                  </a:lnTo>
                  <a:lnTo>
                    <a:pt x="17611" y="147483"/>
                  </a:lnTo>
                  <a:lnTo>
                    <a:pt x="18855" y="149122"/>
                  </a:lnTo>
                  <a:lnTo>
                    <a:pt x="21344" y="15716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SMARTInkShape-94"/>
            <p:cNvSpPr/>
            <p:nvPr/>
          </p:nvSpPr>
          <p:spPr>
            <a:xfrm>
              <a:off x="5665680" y="305820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288" h="14289">
                  <a:moveTo>
                    <a:pt x="0" y="0"/>
                  </a:moveTo>
                  <a:lnTo>
                    <a:pt x="6151" y="0"/>
                  </a:lnTo>
                  <a:lnTo>
                    <a:pt x="6482" y="794"/>
                  </a:lnTo>
                  <a:lnTo>
                    <a:pt x="7056" y="6151"/>
                  </a:lnTo>
                  <a:lnTo>
                    <a:pt x="14287" y="1428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320" bIns="-313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SMARTInkShape-95"/>
            <p:cNvSpPr/>
            <p:nvPr/>
          </p:nvSpPr>
          <p:spPr>
            <a:xfrm>
              <a:off x="5837400" y="2865600"/>
              <a:ext cx="35640" cy="1497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5720" h="150020">
                  <a:moveTo>
                    <a:pt x="35719" y="0"/>
                  </a:moveTo>
                  <a:lnTo>
                    <a:pt x="29568" y="6151"/>
                  </a:lnTo>
                  <a:lnTo>
                    <a:pt x="25077" y="14434"/>
                  </a:lnTo>
                  <a:lnTo>
                    <a:pt x="22511" y="26943"/>
                  </a:lnTo>
                  <a:lnTo>
                    <a:pt x="19457" y="57876"/>
                  </a:lnTo>
                  <a:lnTo>
                    <a:pt x="14174" y="88054"/>
                  </a:lnTo>
                  <a:lnTo>
                    <a:pt x="7865" y="122295"/>
                  </a:lnTo>
                  <a:lnTo>
                    <a:pt x="7464" y="129230"/>
                  </a:lnTo>
                  <a:lnTo>
                    <a:pt x="5169" y="134958"/>
                  </a:lnTo>
                  <a:lnTo>
                    <a:pt x="2297" y="140150"/>
                  </a:lnTo>
                  <a:lnTo>
                    <a:pt x="0" y="15001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SMARTInkShape-96"/>
            <p:cNvSpPr/>
            <p:nvPr/>
          </p:nvSpPr>
          <p:spPr>
            <a:xfrm>
              <a:off x="5923080" y="2872440"/>
              <a:ext cx="14040" cy="640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4288" h="64294">
                  <a:moveTo>
                    <a:pt x="14287" y="0"/>
                  </a:moveTo>
                  <a:lnTo>
                    <a:pt x="8584" y="6496"/>
                  </a:lnTo>
                  <a:lnTo>
                    <a:pt x="2896" y="17888"/>
                  </a:lnTo>
                  <a:lnTo>
                    <a:pt x="169" y="-15459"/>
                  </a:lnTo>
                  <a:lnTo>
                    <a:pt x="0" y="-124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720" bIns="1872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SMARTInkShape-Group33"/>
          <p:cNvGrpSpPr/>
          <p:nvPr/>
        </p:nvGrpSpPr>
        <p:grpSpPr>
          <a:xfrm>
            <a:off x="2550960" y="4237200"/>
            <a:ext cx="592200" cy="306360"/>
            <a:chOff x="2550960" y="4237200"/>
            <a:chExt cx="592200" cy="306360"/>
          </a:xfrm>
        </p:grpSpPr>
        <p:sp>
          <p:nvSpPr>
            <p:cNvPr id="186" name="SMARTInkShape-97"/>
            <p:cNvSpPr/>
            <p:nvPr/>
          </p:nvSpPr>
          <p:spPr>
            <a:xfrm>
              <a:off x="2550960" y="4286880"/>
              <a:ext cx="592200" cy="25668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592610" h="257176">
                  <a:moveTo>
                    <a:pt x="21109" y="0"/>
                  </a:moveTo>
                  <a:lnTo>
                    <a:pt x="21109" y="3792"/>
                  </a:lnTo>
                  <a:lnTo>
                    <a:pt x="20315" y="4909"/>
                  </a:lnTo>
                  <a:lnTo>
                    <a:pt x="18992" y="5654"/>
                  </a:lnTo>
                  <a:lnTo>
                    <a:pt x="17317" y="6151"/>
                  </a:lnTo>
                  <a:lnTo>
                    <a:pt x="16199" y="7276"/>
                  </a:lnTo>
                  <a:lnTo>
                    <a:pt x="9252" y="24974"/>
                  </a:lnTo>
                  <a:lnTo>
                    <a:pt x="1309" y="57218"/>
                  </a:lnTo>
                  <a:lnTo>
                    <a:pt x="0" y="76213"/>
                  </a:lnTo>
                  <a:lnTo>
                    <a:pt x="5857" y="108569"/>
                  </a:lnTo>
                  <a:lnTo>
                    <a:pt x="14466" y="135290"/>
                  </a:lnTo>
                  <a:lnTo>
                    <a:pt x="19744" y="144266"/>
                  </a:lnTo>
                  <a:lnTo>
                    <a:pt x="36814" y="159100"/>
                  </a:lnTo>
                  <a:lnTo>
                    <a:pt x="44229" y="161992"/>
                  </a:lnTo>
                  <a:lnTo>
                    <a:pt x="54339" y="163849"/>
                  </a:lnTo>
                  <a:lnTo>
                    <a:pt x="57839" y="161987"/>
                  </a:lnTo>
                  <a:lnTo>
                    <a:pt x="73556" y="147502"/>
                  </a:lnTo>
                  <a:lnTo>
                    <a:pt x="76169" y="140698"/>
                  </a:lnTo>
                  <a:lnTo>
                    <a:pt x="78124" y="133176"/>
                  </a:lnTo>
                  <a:lnTo>
                    <a:pt x="92678" y="101004"/>
                  </a:lnTo>
                  <a:lnTo>
                    <a:pt x="105431" y="76676"/>
                  </a:lnTo>
                  <a:lnTo>
                    <a:pt x="106418" y="69197"/>
                  </a:lnTo>
                  <a:lnTo>
                    <a:pt x="107351" y="67563"/>
                  </a:lnTo>
                  <a:lnTo>
                    <a:pt x="108766" y="66473"/>
                  </a:lnTo>
                  <a:lnTo>
                    <a:pt x="112948" y="64724"/>
                  </a:lnTo>
                  <a:lnTo>
                    <a:pt x="113291" y="65374"/>
                  </a:lnTo>
                  <a:lnTo>
                    <a:pt x="113887" y="74275"/>
                  </a:lnTo>
                  <a:lnTo>
                    <a:pt x="111821" y="78784"/>
                  </a:lnTo>
                  <a:lnTo>
                    <a:pt x="110159" y="81098"/>
                  </a:lnTo>
                  <a:lnTo>
                    <a:pt x="107819" y="91939"/>
                  </a:lnTo>
                  <a:lnTo>
                    <a:pt x="114167" y="123910"/>
                  </a:lnTo>
                  <a:lnTo>
                    <a:pt x="126110" y="151614"/>
                  </a:lnTo>
                  <a:lnTo>
                    <a:pt x="133337" y="163680"/>
                  </a:lnTo>
                  <a:lnTo>
                    <a:pt x="134028" y="166270"/>
                  </a:lnTo>
                  <a:lnTo>
                    <a:pt x="135282" y="167997"/>
                  </a:lnTo>
                  <a:lnTo>
                    <a:pt x="136912" y="169148"/>
                  </a:lnTo>
                  <a:lnTo>
                    <a:pt x="141633" y="170427"/>
                  </a:lnTo>
                  <a:lnTo>
                    <a:pt x="158316" y="171316"/>
                  </a:lnTo>
                  <a:lnTo>
                    <a:pt x="163582" y="169273"/>
                  </a:lnTo>
                  <a:lnTo>
                    <a:pt x="197761" y="144308"/>
                  </a:lnTo>
                  <a:lnTo>
                    <a:pt x="230331" y="112238"/>
                  </a:lnTo>
                  <a:lnTo>
                    <a:pt x="245029" y="103251"/>
                  </a:lnTo>
                  <a:lnTo>
                    <a:pt x="256399" y="100652"/>
                  </a:lnTo>
                  <a:lnTo>
                    <a:pt x="267344" y="100050"/>
                  </a:lnTo>
                  <a:lnTo>
                    <a:pt x="268610" y="100831"/>
                  </a:lnTo>
                  <a:lnTo>
                    <a:pt x="269453" y="102146"/>
                  </a:lnTo>
                  <a:lnTo>
                    <a:pt x="270640" y="107788"/>
                  </a:lnTo>
                  <a:lnTo>
                    <a:pt x="271136" y="142439"/>
                  </a:lnTo>
                  <a:lnTo>
                    <a:pt x="271140" y="163886"/>
                  </a:lnTo>
                  <a:lnTo>
                    <a:pt x="271140" y="160389"/>
                  </a:lnTo>
                  <a:lnTo>
                    <a:pt x="271934" y="159314"/>
                  </a:lnTo>
                  <a:lnTo>
                    <a:pt x="274933" y="158119"/>
                  </a:lnTo>
                  <a:lnTo>
                    <a:pt x="276050" y="157006"/>
                  </a:lnTo>
                  <a:lnTo>
                    <a:pt x="281782" y="143511"/>
                  </a:lnTo>
                  <a:lnTo>
                    <a:pt x="288041" y="137072"/>
                  </a:lnTo>
                  <a:lnTo>
                    <a:pt x="295321" y="130771"/>
                  </a:lnTo>
                  <a:lnTo>
                    <a:pt x="313964" y="100083"/>
                  </a:lnTo>
                  <a:lnTo>
                    <a:pt x="313991" y="103826"/>
                  </a:lnTo>
                  <a:lnTo>
                    <a:pt x="316114" y="107793"/>
                  </a:lnTo>
                  <a:lnTo>
                    <a:pt x="318910" y="112202"/>
                  </a:lnTo>
                  <a:lnTo>
                    <a:pt x="320705" y="121500"/>
                  </a:lnTo>
                  <a:lnTo>
                    <a:pt x="321744" y="127025"/>
                  </a:lnTo>
                  <a:lnTo>
                    <a:pt x="326792" y="138267"/>
                  </a:lnTo>
                  <a:lnTo>
                    <a:pt x="332521" y="146978"/>
                  </a:lnTo>
                  <a:lnTo>
                    <a:pt x="334139" y="152107"/>
                  </a:lnTo>
                  <a:lnTo>
                    <a:pt x="335365" y="153792"/>
                  </a:lnTo>
                  <a:lnTo>
                    <a:pt x="336975" y="154915"/>
                  </a:lnTo>
                  <a:lnTo>
                    <a:pt x="340881" y="156164"/>
                  </a:lnTo>
                  <a:lnTo>
                    <a:pt x="352193" y="157031"/>
                  </a:lnTo>
                  <a:lnTo>
                    <a:pt x="356905" y="154987"/>
                  </a:lnTo>
                  <a:lnTo>
                    <a:pt x="361646" y="152227"/>
                  </a:lnTo>
                  <a:lnTo>
                    <a:pt x="366398" y="151000"/>
                  </a:lnTo>
                  <a:lnTo>
                    <a:pt x="371156" y="146222"/>
                  </a:lnTo>
                  <a:lnTo>
                    <a:pt x="402109" y="111936"/>
                  </a:lnTo>
                  <a:lnTo>
                    <a:pt x="404755" y="107164"/>
                  </a:lnTo>
                  <a:lnTo>
                    <a:pt x="406454" y="97633"/>
                  </a:lnTo>
                  <a:lnTo>
                    <a:pt x="407387" y="96045"/>
                  </a:lnTo>
                  <a:lnTo>
                    <a:pt x="408802" y="94986"/>
                  </a:lnTo>
                  <a:lnTo>
                    <a:pt x="410540" y="94280"/>
                  </a:lnTo>
                  <a:lnTo>
                    <a:pt x="410905" y="93810"/>
                  </a:lnTo>
                  <a:lnTo>
                    <a:pt x="410354" y="93496"/>
                  </a:lnTo>
                  <a:lnTo>
                    <a:pt x="407559" y="92993"/>
                  </a:lnTo>
                  <a:lnTo>
                    <a:pt x="410868" y="92905"/>
                  </a:lnTo>
                  <a:lnTo>
                    <a:pt x="411917" y="94481"/>
                  </a:lnTo>
                  <a:lnTo>
                    <a:pt x="413739" y="108966"/>
                  </a:lnTo>
                  <a:lnTo>
                    <a:pt x="414793" y="133448"/>
                  </a:lnTo>
                  <a:lnTo>
                    <a:pt x="424656" y="165373"/>
                  </a:lnTo>
                  <a:lnTo>
                    <a:pt x="437926" y="180860"/>
                  </a:lnTo>
                  <a:lnTo>
                    <a:pt x="442634" y="183569"/>
                  </a:lnTo>
                  <a:lnTo>
                    <a:pt x="452124" y="185309"/>
                  </a:lnTo>
                  <a:lnTo>
                    <a:pt x="459262" y="185611"/>
                  </a:lnTo>
                  <a:lnTo>
                    <a:pt x="464023" y="183564"/>
                  </a:lnTo>
                  <a:lnTo>
                    <a:pt x="486841" y="162791"/>
                  </a:lnTo>
                  <a:lnTo>
                    <a:pt x="497163" y="146074"/>
                  </a:lnTo>
                  <a:lnTo>
                    <a:pt x="514017" y="111090"/>
                  </a:lnTo>
                  <a:lnTo>
                    <a:pt x="521168" y="96151"/>
                  </a:lnTo>
                  <a:lnTo>
                    <a:pt x="532284" y="76485"/>
                  </a:lnTo>
                  <a:lnTo>
                    <a:pt x="534048" y="70241"/>
                  </a:lnTo>
                  <a:lnTo>
                    <a:pt x="535312" y="68259"/>
                  </a:lnTo>
                  <a:lnTo>
                    <a:pt x="536948" y="66937"/>
                  </a:lnTo>
                  <a:lnTo>
                    <a:pt x="542272" y="64448"/>
                  </a:lnTo>
                  <a:lnTo>
                    <a:pt x="542601" y="96216"/>
                  </a:lnTo>
                  <a:lnTo>
                    <a:pt x="543396" y="129613"/>
                  </a:lnTo>
                  <a:lnTo>
                    <a:pt x="552546" y="164442"/>
                  </a:lnTo>
                  <a:lnTo>
                    <a:pt x="558435" y="194389"/>
                  </a:lnTo>
                  <a:lnTo>
                    <a:pt x="571313" y="228105"/>
                  </a:lnTo>
                  <a:lnTo>
                    <a:pt x="585324" y="253702"/>
                  </a:lnTo>
                  <a:lnTo>
                    <a:pt x="586959" y="254860"/>
                  </a:lnTo>
                  <a:lnTo>
                    <a:pt x="592609" y="2571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SMARTInkShape-98"/>
            <p:cNvSpPr/>
            <p:nvPr/>
          </p:nvSpPr>
          <p:spPr>
            <a:xfrm>
              <a:off x="3007800" y="4318560"/>
              <a:ext cx="113760" cy="4680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114007" h="46921">
                  <a:moveTo>
                    <a:pt x="6850" y="11202"/>
                  </a:moveTo>
                  <a:lnTo>
                    <a:pt x="6850" y="5051"/>
                  </a:lnTo>
                  <a:lnTo>
                    <a:pt x="6056" y="4720"/>
                  </a:lnTo>
                  <a:lnTo>
                    <a:pt x="3057" y="4352"/>
                  </a:lnTo>
                  <a:lnTo>
                    <a:pt x="1940" y="3460"/>
                  </a:lnTo>
                  <a:lnTo>
                    <a:pt x="699" y="353"/>
                  </a:lnTo>
                  <a:lnTo>
                    <a:pt x="368" y="0"/>
                  </a:lnTo>
                  <a:lnTo>
                    <a:pt x="147" y="559"/>
                  </a:lnTo>
                  <a:lnTo>
                    <a:pt x="0" y="1725"/>
                  </a:lnTo>
                  <a:lnTo>
                    <a:pt x="696" y="2503"/>
                  </a:lnTo>
                  <a:lnTo>
                    <a:pt x="32131" y="12850"/>
                  </a:lnTo>
                  <a:lnTo>
                    <a:pt x="64506" y="28234"/>
                  </a:lnTo>
                  <a:lnTo>
                    <a:pt x="90558" y="37262"/>
                  </a:lnTo>
                  <a:lnTo>
                    <a:pt x="100409" y="39452"/>
                  </a:lnTo>
                  <a:lnTo>
                    <a:pt x="114006" y="469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" bIns="144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SMARTInkShape-99"/>
            <p:cNvSpPr/>
            <p:nvPr/>
          </p:nvSpPr>
          <p:spPr>
            <a:xfrm>
              <a:off x="2971800" y="42372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145" h="1">
                  <a:moveTo>
                    <a:pt x="7144" y="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228600" y="152280"/>
            <a:ext cx="50958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Magnetic Flux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0" y="914400"/>
            <a:ext cx="76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c flux is given the 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629400" y="762120"/>
            <a:ext cx="111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152280" y="1447920"/>
            <a:ext cx="7677360" cy="1427040"/>
            <a:chOff x="152280" y="1447920"/>
            <a:chExt cx="7677360" cy="1427040"/>
          </a:xfrm>
        </p:grpSpPr>
        <p:sp>
          <p:nvSpPr>
            <p:cNvPr id="193" name="Text Box 6"/>
            <p:cNvSpPr/>
            <p:nvPr/>
          </p:nvSpPr>
          <p:spPr>
            <a:xfrm>
              <a:off x="152280" y="1447920"/>
              <a:ext cx="767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nd is measured 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WordArt 7"/>
            <p:cNvSpPr txBox="1"/>
            <p:nvPr/>
          </p:nvSpPr>
          <p:spPr>
            <a:xfrm>
              <a:off x="2909880" y="2227320"/>
              <a:ext cx="21621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 Black"/>
                </a:rPr>
                <a:t>WEBERS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  <a:ea typeface="Arial Black"/>
              </a:endParaRPr>
            </a:p>
          </p:txBody>
        </p:sp>
      </p:grpSp>
      <p:pic>
        <p:nvPicPr>
          <p:cNvPr id="195" name="Picture 8" descr="barmag"/>
          <p:cNvPicPr/>
          <p:nvPr/>
        </p:nvPicPr>
        <p:blipFill>
          <a:blip r:embed="rId1"/>
          <a:stretch/>
        </p:blipFill>
        <p:spPr>
          <a:xfrm>
            <a:off x="5029200" y="1981080"/>
            <a:ext cx="3532320" cy="48769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304920" y="3657600"/>
            <a:ext cx="4190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ch drawn field line represents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1 Weber of flu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n a Regents exam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MARTInkShape-100"/>
          <p:cNvSpPr/>
          <p:nvPr/>
        </p:nvSpPr>
        <p:spPr>
          <a:xfrm>
            <a:off x="5100480" y="3700440"/>
            <a:ext cx="108000" cy="1249560"/>
          </a:xfrm>
          <a:custGeom>
            <a:avLst/>
            <a:gdLst>
              <a:gd name="textAreaLeft" fmla="*/ 0 w 108000"/>
              <a:gd name="textAreaRight" fmla="*/ 108360 w 108000"/>
              <a:gd name="textAreaTop" fmla="*/ 0 h 1249560"/>
              <a:gd name="textAreaBottom" fmla="*/ 1249920 h 1249560"/>
            </a:gdLst>
            <a:ahLst/>
            <a:rect l="textAreaLeft" t="textAreaTop" r="textAreaRight" b="textAreaBottom"/>
            <a:pathLst>
              <a:path w="107157" h="1250116">
                <a:moveTo>
                  <a:pt x="7143" y="0"/>
                </a:moveTo>
                <a:lnTo>
                  <a:pt x="25" y="0"/>
                </a:lnTo>
                <a:lnTo>
                  <a:pt x="0" y="17698"/>
                </a:lnTo>
                <a:lnTo>
                  <a:pt x="6849" y="44976"/>
                </a:lnTo>
                <a:lnTo>
                  <a:pt x="7135" y="77310"/>
                </a:lnTo>
                <a:lnTo>
                  <a:pt x="7142" y="111023"/>
                </a:lnTo>
                <a:lnTo>
                  <a:pt x="12797" y="143384"/>
                </a:lnTo>
                <a:lnTo>
                  <a:pt x="19000" y="178660"/>
                </a:lnTo>
                <a:lnTo>
                  <a:pt x="23067" y="209298"/>
                </a:lnTo>
                <a:lnTo>
                  <a:pt x="26943" y="236374"/>
                </a:lnTo>
                <a:lnTo>
                  <a:pt x="32045" y="270175"/>
                </a:lnTo>
                <a:lnTo>
                  <a:pt x="34630" y="300097"/>
                </a:lnTo>
                <a:lnTo>
                  <a:pt x="39188" y="330306"/>
                </a:lnTo>
                <a:lnTo>
                  <a:pt x="41774" y="363157"/>
                </a:lnTo>
                <a:lnTo>
                  <a:pt x="42540" y="394234"/>
                </a:lnTo>
                <a:lnTo>
                  <a:pt x="42767" y="427342"/>
                </a:lnTo>
                <a:lnTo>
                  <a:pt x="46626" y="462288"/>
                </a:lnTo>
                <a:lnTo>
                  <a:pt x="49004" y="497777"/>
                </a:lnTo>
                <a:lnTo>
                  <a:pt x="49709" y="533428"/>
                </a:lnTo>
                <a:lnTo>
                  <a:pt x="51991" y="559341"/>
                </a:lnTo>
                <a:lnTo>
                  <a:pt x="55650" y="585940"/>
                </a:lnTo>
                <a:lnTo>
                  <a:pt x="59923" y="610991"/>
                </a:lnTo>
                <a:lnTo>
                  <a:pt x="62351" y="635353"/>
                </a:lnTo>
                <a:lnTo>
                  <a:pt x="63430" y="660204"/>
                </a:lnTo>
                <a:lnTo>
                  <a:pt x="63910" y="687124"/>
                </a:lnTo>
                <a:lnTo>
                  <a:pt x="66239" y="712846"/>
                </a:lnTo>
                <a:lnTo>
                  <a:pt x="69127" y="738302"/>
                </a:lnTo>
                <a:lnTo>
                  <a:pt x="70410" y="765490"/>
                </a:lnTo>
                <a:lnTo>
                  <a:pt x="73097" y="791332"/>
                </a:lnTo>
                <a:lnTo>
                  <a:pt x="76144" y="816047"/>
                </a:lnTo>
                <a:lnTo>
                  <a:pt x="77498" y="840260"/>
                </a:lnTo>
                <a:lnTo>
                  <a:pt x="78099" y="866368"/>
                </a:lnTo>
                <a:lnTo>
                  <a:pt x="78367" y="893052"/>
                </a:lnTo>
                <a:lnTo>
                  <a:pt x="78485" y="918141"/>
                </a:lnTo>
                <a:lnTo>
                  <a:pt x="80655" y="942521"/>
                </a:lnTo>
                <a:lnTo>
                  <a:pt x="83471" y="966585"/>
                </a:lnTo>
                <a:lnTo>
                  <a:pt x="84723" y="990510"/>
                </a:lnTo>
                <a:lnTo>
                  <a:pt x="87396" y="1014372"/>
                </a:lnTo>
                <a:lnTo>
                  <a:pt x="91247" y="1048002"/>
                </a:lnTo>
                <a:lnTo>
                  <a:pt x="92388" y="1078075"/>
                </a:lnTo>
                <a:lnTo>
                  <a:pt x="94843" y="1107094"/>
                </a:lnTo>
                <a:lnTo>
                  <a:pt x="98480" y="1135800"/>
                </a:lnTo>
                <a:lnTo>
                  <a:pt x="101675" y="1164414"/>
                </a:lnTo>
                <a:lnTo>
                  <a:pt x="106073" y="1194943"/>
                </a:lnTo>
                <a:lnTo>
                  <a:pt x="107092" y="1230147"/>
                </a:lnTo>
                <a:lnTo>
                  <a:pt x="107156" y="1250115"/>
                </a:lnTo>
                <a:lnTo>
                  <a:pt x="107156" y="122872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MARTInkShape-101"/>
          <p:cNvSpPr/>
          <p:nvPr/>
        </p:nvSpPr>
        <p:spPr>
          <a:xfrm>
            <a:off x="5043600" y="3786120"/>
            <a:ext cx="1143000" cy="1243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1142999" h="1243013">
                <a:moveTo>
                  <a:pt x="7141" y="7143"/>
                </a:moveTo>
                <a:lnTo>
                  <a:pt x="7141" y="992"/>
                </a:lnTo>
                <a:lnTo>
                  <a:pt x="6348" y="661"/>
                </a:lnTo>
                <a:lnTo>
                  <a:pt x="0" y="0"/>
                </a:lnTo>
                <a:lnTo>
                  <a:pt x="34020" y="0"/>
                </a:lnTo>
                <a:lnTo>
                  <a:pt x="68397" y="0"/>
                </a:lnTo>
                <a:lnTo>
                  <a:pt x="102533" y="0"/>
                </a:lnTo>
                <a:lnTo>
                  <a:pt x="137365" y="0"/>
                </a:lnTo>
                <a:lnTo>
                  <a:pt x="145981" y="793"/>
                </a:lnTo>
                <a:lnTo>
                  <a:pt x="168983" y="6481"/>
                </a:lnTo>
                <a:lnTo>
                  <a:pt x="202274" y="7104"/>
                </a:lnTo>
                <a:lnTo>
                  <a:pt x="230335" y="7932"/>
                </a:lnTo>
                <a:lnTo>
                  <a:pt x="264278" y="13845"/>
                </a:lnTo>
                <a:lnTo>
                  <a:pt x="295004" y="14248"/>
                </a:lnTo>
                <a:lnTo>
                  <a:pt x="328168" y="14284"/>
                </a:lnTo>
                <a:lnTo>
                  <a:pt x="337939" y="15079"/>
                </a:lnTo>
                <a:lnTo>
                  <a:pt x="371602" y="20769"/>
                </a:lnTo>
                <a:lnTo>
                  <a:pt x="402231" y="22166"/>
                </a:lnTo>
                <a:lnTo>
                  <a:pt x="435896" y="27907"/>
                </a:lnTo>
                <a:lnTo>
                  <a:pt x="471435" y="28516"/>
                </a:lnTo>
                <a:lnTo>
                  <a:pt x="503021" y="28569"/>
                </a:lnTo>
                <a:lnTo>
                  <a:pt x="533364" y="28574"/>
                </a:lnTo>
                <a:lnTo>
                  <a:pt x="566209" y="28575"/>
                </a:lnTo>
                <a:lnTo>
                  <a:pt x="596058" y="28575"/>
                </a:lnTo>
                <a:lnTo>
                  <a:pt x="630363" y="28575"/>
                </a:lnTo>
                <a:lnTo>
                  <a:pt x="664455" y="28575"/>
                </a:lnTo>
                <a:lnTo>
                  <a:pt x="699951" y="28575"/>
                </a:lnTo>
                <a:lnTo>
                  <a:pt x="729583" y="27781"/>
                </a:lnTo>
                <a:lnTo>
                  <a:pt x="760708" y="22424"/>
                </a:lnTo>
                <a:lnTo>
                  <a:pt x="793411" y="21561"/>
                </a:lnTo>
                <a:lnTo>
                  <a:pt x="823823" y="21448"/>
                </a:lnTo>
                <a:lnTo>
                  <a:pt x="853757" y="21433"/>
                </a:lnTo>
                <a:lnTo>
                  <a:pt x="886303" y="21431"/>
                </a:lnTo>
                <a:lnTo>
                  <a:pt x="920956" y="21431"/>
                </a:lnTo>
                <a:lnTo>
                  <a:pt x="953603" y="21431"/>
                </a:lnTo>
                <a:lnTo>
                  <a:pt x="986016" y="21431"/>
                </a:lnTo>
                <a:lnTo>
                  <a:pt x="1019537" y="21431"/>
                </a:lnTo>
                <a:lnTo>
                  <a:pt x="1044255" y="21431"/>
                </a:lnTo>
                <a:lnTo>
                  <a:pt x="1046213" y="22225"/>
                </a:lnTo>
                <a:lnTo>
                  <a:pt x="1047518" y="23547"/>
                </a:lnTo>
                <a:lnTo>
                  <a:pt x="1048389" y="25223"/>
                </a:lnTo>
                <a:lnTo>
                  <a:pt x="1049762" y="25546"/>
                </a:lnTo>
                <a:lnTo>
                  <a:pt x="1057303" y="21897"/>
                </a:lnTo>
                <a:lnTo>
                  <a:pt x="1064320" y="21436"/>
                </a:lnTo>
                <a:lnTo>
                  <a:pt x="1064416" y="28567"/>
                </a:lnTo>
                <a:lnTo>
                  <a:pt x="1057360" y="28575"/>
                </a:lnTo>
                <a:lnTo>
                  <a:pt x="1057275" y="41575"/>
                </a:lnTo>
                <a:lnTo>
                  <a:pt x="1062183" y="49105"/>
                </a:lnTo>
                <a:lnTo>
                  <a:pt x="1064377" y="84116"/>
                </a:lnTo>
                <a:lnTo>
                  <a:pt x="1064415" y="116897"/>
                </a:lnTo>
                <a:lnTo>
                  <a:pt x="1066533" y="152148"/>
                </a:lnTo>
                <a:lnTo>
                  <a:pt x="1073235" y="187414"/>
                </a:lnTo>
                <a:lnTo>
                  <a:pt x="1077984" y="220883"/>
                </a:lnTo>
                <a:lnTo>
                  <a:pt x="1078609" y="251053"/>
                </a:lnTo>
                <a:lnTo>
                  <a:pt x="1078691" y="280230"/>
                </a:lnTo>
                <a:lnTo>
                  <a:pt x="1079496" y="314538"/>
                </a:lnTo>
                <a:lnTo>
                  <a:pt x="1084855" y="350072"/>
                </a:lnTo>
                <a:lnTo>
                  <a:pt x="1085717" y="385765"/>
                </a:lnTo>
                <a:lnTo>
                  <a:pt x="1085830" y="421482"/>
                </a:lnTo>
                <a:lnTo>
                  <a:pt x="1085845" y="457200"/>
                </a:lnTo>
                <a:lnTo>
                  <a:pt x="1087964" y="492918"/>
                </a:lnTo>
                <a:lnTo>
                  <a:pt x="1092329" y="528637"/>
                </a:lnTo>
                <a:lnTo>
                  <a:pt x="1094977" y="559329"/>
                </a:lnTo>
                <a:lnTo>
                  <a:pt x="1099116" y="591938"/>
                </a:lnTo>
                <a:lnTo>
                  <a:pt x="1099934" y="622103"/>
                </a:lnTo>
                <a:lnTo>
                  <a:pt x="1100095" y="655696"/>
                </a:lnTo>
                <a:lnTo>
                  <a:pt x="1100127" y="685498"/>
                </a:lnTo>
                <a:lnTo>
                  <a:pt x="1100133" y="719224"/>
                </a:lnTo>
                <a:lnTo>
                  <a:pt x="1102251" y="751757"/>
                </a:lnTo>
                <a:lnTo>
                  <a:pt x="1106286" y="784730"/>
                </a:lnTo>
                <a:lnTo>
                  <a:pt x="1111992" y="819083"/>
                </a:lnTo>
                <a:lnTo>
                  <a:pt x="1113942" y="849622"/>
                </a:lnTo>
                <a:lnTo>
                  <a:pt x="1114328" y="882377"/>
                </a:lnTo>
                <a:lnTo>
                  <a:pt x="1114404" y="914512"/>
                </a:lnTo>
                <a:lnTo>
                  <a:pt x="1114419" y="948494"/>
                </a:lnTo>
                <a:lnTo>
                  <a:pt x="1116538" y="971069"/>
                </a:lnTo>
                <a:lnTo>
                  <a:pt x="1120573" y="1003822"/>
                </a:lnTo>
                <a:lnTo>
                  <a:pt x="1121370" y="1035163"/>
                </a:lnTo>
                <a:lnTo>
                  <a:pt x="1123644" y="1064284"/>
                </a:lnTo>
                <a:lnTo>
                  <a:pt x="1128837" y="1099325"/>
                </a:lnTo>
                <a:lnTo>
                  <a:pt x="1134773" y="1129703"/>
                </a:lnTo>
                <a:lnTo>
                  <a:pt x="1135711" y="1158907"/>
                </a:lnTo>
                <a:lnTo>
                  <a:pt x="1136585" y="1170707"/>
                </a:lnTo>
                <a:lnTo>
                  <a:pt x="1142330" y="1195040"/>
                </a:lnTo>
                <a:lnTo>
                  <a:pt x="1142998" y="1228725"/>
                </a:lnTo>
                <a:lnTo>
                  <a:pt x="1122206" y="1228725"/>
                </a:lnTo>
                <a:lnTo>
                  <a:pt x="1115765" y="1230841"/>
                </a:lnTo>
                <a:lnTo>
                  <a:pt x="1109463" y="1233634"/>
                </a:lnTo>
                <a:lnTo>
                  <a:pt x="1073840" y="1235781"/>
                </a:lnTo>
                <a:lnTo>
                  <a:pt x="1042345" y="1235857"/>
                </a:lnTo>
                <a:lnTo>
                  <a:pt x="1007182" y="1235867"/>
                </a:lnTo>
                <a:lnTo>
                  <a:pt x="971537" y="1235868"/>
                </a:lnTo>
                <a:lnTo>
                  <a:pt x="938060" y="1235868"/>
                </a:lnTo>
                <a:lnTo>
                  <a:pt x="907694" y="1235868"/>
                </a:lnTo>
                <a:lnTo>
                  <a:pt x="885953" y="1237985"/>
                </a:lnTo>
                <a:lnTo>
                  <a:pt x="853481" y="1242019"/>
                </a:lnTo>
                <a:lnTo>
                  <a:pt x="821402" y="1242816"/>
                </a:lnTo>
                <a:lnTo>
                  <a:pt x="787432" y="1242973"/>
                </a:lnTo>
                <a:lnTo>
                  <a:pt x="757555" y="1243004"/>
                </a:lnTo>
                <a:lnTo>
                  <a:pt x="727929" y="1243010"/>
                </a:lnTo>
                <a:lnTo>
                  <a:pt x="694443" y="1243011"/>
                </a:lnTo>
                <a:lnTo>
                  <a:pt x="664663" y="1243012"/>
                </a:lnTo>
                <a:lnTo>
                  <a:pt x="630940" y="1243012"/>
                </a:lnTo>
                <a:lnTo>
                  <a:pt x="598409" y="1243012"/>
                </a:lnTo>
                <a:lnTo>
                  <a:pt x="565436" y="1239220"/>
                </a:lnTo>
                <a:lnTo>
                  <a:pt x="535199" y="1236530"/>
                </a:lnTo>
                <a:lnTo>
                  <a:pt x="508708" y="1236064"/>
                </a:lnTo>
                <a:lnTo>
                  <a:pt x="473428" y="1235907"/>
                </a:lnTo>
                <a:lnTo>
                  <a:pt x="439502" y="1232084"/>
                </a:lnTo>
                <a:lnTo>
                  <a:pt x="407857" y="1229720"/>
                </a:lnTo>
                <a:lnTo>
                  <a:pt x="377138" y="1229019"/>
                </a:lnTo>
                <a:lnTo>
                  <a:pt x="347927" y="1228812"/>
                </a:lnTo>
                <a:lnTo>
                  <a:pt x="319164" y="1224958"/>
                </a:lnTo>
                <a:lnTo>
                  <a:pt x="285910" y="1221454"/>
                </a:lnTo>
                <a:lnTo>
                  <a:pt x="251707" y="1213942"/>
                </a:lnTo>
                <a:lnTo>
                  <a:pt x="221785" y="1208606"/>
                </a:lnTo>
                <a:lnTo>
                  <a:pt x="192945" y="1201849"/>
                </a:lnTo>
                <a:lnTo>
                  <a:pt x="160961" y="1194327"/>
                </a:lnTo>
                <a:lnTo>
                  <a:pt x="145675" y="1189605"/>
                </a:lnTo>
                <a:lnTo>
                  <a:pt x="140149" y="1185409"/>
                </a:lnTo>
                <a:lnTo>
                  <a:pt x="138676" y="1183178"/>
                </a:lnTo>
                <a:lnTo>
                  <a:pt x="136900" y="1181692"/>
                </a:lnTo>
                <a:lnTo>
                  <a:pt x="132810" y="1180040"/>
                </a:lnTo>
                <a:lnTo>
                  <a:pt x="114334" y="1178719"/>
                </a:lnTo>
                <a:lnTo>
                  <a:pt x="118421" y="1178718"/>
                </a:lnTo>
                <a:lnTo>
                  <a:pt x="116659" y="1178718"/>
                </a:lnTo>
                <a:lnTo>
                  <a:pt x="128585" y="11787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SMARTInkShape-Group36"/>
          <p:cNvGrpSpPr/>
          <p:nvPr/>
        </p:nvGrpSpPr>
        <p:grpSpPr>
          <a:xfrm>
            <a:off x="4651200" y="3271680"/>
            <a:ext cx="1121040" cy="357480"/>
            <a:chOff x="4651200" y="3271680"/>
            <a:chExt cx="1121040" cy="357480"/>
          </a:xfrm>
        </p:grpSpPr>
        <p:sp>
          <p:nvSpPr>
            <p:cNvPr id="200" name="SMARTInkShape-102"/>
            <p:cNvSpPr/>
            <p:nvPr/>
          </p:nvSpPr>
          <p:spPr>
            <a:xfrm>
              <a:off x="5658840" y="3493440"/>
              <a:ext cx="113400" cy="1357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13524" h="135638">
                  <a:moveTo>
                    <a:pt x="92869" y="14193"/>
                  </a:moveTo>
                  <a:lnTo>
                    <a:pt x="86718" y="14193"/>
                  </a:lnTo>
                  <a:lnTo>
                    <a:pt x="82227" y="10401"/>
                  </a:lnTo>
                  <a:lnTo>
                    <a:pt x="75968" y="8539"/>
                  </a:lnTo>
                  <a:lnTo>
                    <a:pt x="68689" y="6918"/>
                  </a:lnTo>
                  <a:lnTo>
                    <a:pt x="58541" y="2336"/>
                  </a:lnTo>
                  <a:lnTo>
                    <a:pt x="23839" y="48"/>
                  </a:lnTo>
                  <a:lnTo>
                    <a:pt x="20655" y="0"/>
                  </a:lnTo>
                  <a:lnTo>
                    <a:pt x="15001" y="2065"/>
                  </a:lnTo>
                  <a:lnTo>
                    <a:pt x="4903" y="9857"/>
                  </a:lnTo>
                  <a:lnTo>
                    <a:pt x="4063" y="12890"/>
                  </a:lnTo>
                  <a:lnTo>
                    <a:pt x="5245" y="20493"/>
                  </a:lnTo>
                  <a:lnTo>
                    <a:pt x="10533" y="27048"/>
                  </a:lnTo>
                  <a:lnTo>
                    <a:pt x="44472" y="55009"/>
                  </a:lnTo>
                  <a:lnTo>
                    <a:pt x="79715" y="83279"/>
                  </a:lnTo>
                  <a:lnTo>
                    <a:pt x="110367" y="113580"/>
                  </a:lnTo>
                  <a:lnTo>
                    <a:pt x="112552" y="118690"/>
                  </a:lnTo>
                  <a:lnTo>
                    <a:pt x="113523" y="123607"/>
                  </a:lnTo>
                  <a:lnTo>
                    <a:pt x="112194" y="125236"/>
                  </a:lnTo>
                  <a:lnTo>
                    <a:pt x="106485" y="127046"/>
                  </a:lnTo>
                  <a:lnTo>
                    <a:pt x="76902" y="128366"/>
                  </a:lnTo>
                  <a:lnTo>
                    <a:pt x="44765" y="133378"/>
                  </a:lnTo>
                  <a:lnTo>
                    <a:pt x="11187" y="135340"/>
                  </a:lnTo>
                  <a:lnTo>
                    <a:pt x="0" y="1356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SMARTInkShape-103"/>
            <p:cNvSpPr/>
            <p:nvPr/>
          </p:nvSpPr>
          <p:spPr>
            <a:xfrm>
              <a:off x="5573160" y="3450600"/>
              <a:ext cx="71280" cy="1461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71306" h="145962">
                  <a:moveTo>
                    <a:pt x="7136" y="64228"/>
                  </a:moveTo>
                  <a:lnTo>
                    <a:pt x="7136" y="60436"/>
                  </a:lnTo>
                  <a:lnTo>
                    <a:pt x="6342" y="60112"/>
                  </a:lnTo>
                  <a:lnTo>
                    <a:pt x="985" y="63529"/>
                  </a:lnTo>
                  <a:lnTo>
                    <a:pt x="433" y="66034"/>
                  </a:lnTo>
                  <a:lnTo>
                    <a:pt x="0" y="98713"/>
                  </a:lnTo>
                  <a:lnTo>
                    <a:pt x="787" y="116049"/>
                  </a:lnTo>
                  <a:lnTo>
                    <a:pt x="6143" y="130515"/>
                  </a:lnTo>
                  <a:lnTo>
                    <a:pt x="7078" y="145961"/>
                  </a:lnTo>
                  <a:lnTo>
                    <a:pt x="7136" y="115389"/>
                  </a:lnTo>
                  <a:lnTo>
                    <a:pt x="7136" y="81782"/>
                  </a:lnTo>
                  <a:lnTo>
                    <a:pt x="7136" y="46249"/>
                  </a:lnTo>
                  <a:lnTo>
                    <a:pt x="15955" y="12774"/>
                  </a:lnTo>
                  <a:lnTo>
                    <a:pt x="19787" y="5641"/>
                  </a:lnTo>
                  <a:lnTo>
                    <a:pt x="24135" y="2471"/>
                  </a:lnTo>
                  <a:lnTo>
                    <a:pt x="41409" y="268"/>
                  </a:lnTo>
                  <a:lnTo>
                    <a:pt x="52094" y="0"/>
                  </a:lnTo>
                  <a:lnTo>
                    <a:pt x="57015" y="2080"/>
                  </a:lnTo>
                  <a:lnTo>
                    <a:pt x="66642" y="9883"/>
                  </a:lnTo>
                  <a:lnTo>
                    <a:pt x="69302" y="14410"/>
                  </a:lnTo>
                  <a:lnTo>
                    <a:pt x="71009" y="23784"/>
                  </a:lnTo>
                  <a:lnTo>
                    <a:pt x="71305" y="30901"/>
                  </a:lnTo>
                  <a:lnTo>
                    <a:pt x="69258" y="35658"/>
                  </a:lnTo>
                  <a:lnTo>
                    <a:pt x="61475" y="45179"/>
                  </a:lnTo>
                  <a:lnTo>
                    <a:pt x="56951" y="47824"/>
                  </a:lnTo>
                  <a:lnTo>
                    <a:pt x="43787" y="53315"/>
                  </a:lnTo>
                  <a:lnTo>
                    <a:pt x="30809" y="61249"/>
                  </a:lnTo>
                  <a:lnTo>
                    <a:pt x="10237" y="64760"/>
                  </a:lnTo>
                  <a:lnTo>
                    <a:pt x="1498" y="70345"/>
                  </a:lnTo>
                  <a:lnTo>
                    <a:pt x="661" y="73032"/>
                  </a:lnTo>
                  <a:lnTo>
                    <a:pt x="32" y="78195"/>
                  </a:lnTo>
                  <a:lnTo>
                    <a:pt x="21423" y="7851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SMARTInkShape-104"/>
            <p:cNvSpPr/>
            <p:nvPr/>
          </p:nvSpPr>
          <p:spPr>
            <a:xfrm>
              <a:off x="5322600" y="3329640"/>
              <a:ext cx="192600" cy="2494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92453" h="249040">
                  <a:moveTo>
                    <a:pt x="7144" y="6151"/>
                  </a:moveTo>
                  <a:lnTo>
                    <a:pt x="7144" y="2359"/>
                  </a:lnTo>
                  <a:lnTo>
                    <a:pt x="6350" y="1242"/>
                  </a:lnTo>
                  <a:lnTo>
                    <a:pt x="5027" y="497"/>
                  </a:lnTo>
                  <a:lnTo>
                    <a:pt x="3351" y="0"/>
                  </a:lnTo>
                  <a:lnTo>
                    <a:pt x="2234" y="463"/>
                  </a:lnTo>
                  <a:lnTo>
                    <a:pt x="1489" y="1565"/>
                  </a:lnTo>
                  <a:lnTo>
                    <a:pt x="441" y="6909"/>
                  </a:lnTo>
                  <a:lnTo>
                    <a:pt x="25" y="36600"/>
                  </a:lnTo>
                  <a:lnTo>
                    <a:pt x="3" y="70691"/>
                  </a:lnTo>
                  <a:lnTo>
                    <a:pt x="1" y="102861"/>
                  </a:lnTo>
                  <a:lnTo>
                    <a:pt x="0" y="134880"/>
                  </a:lnTo>
                  <a:lnTo>
                    <a:pt x="1587" y="160886"/>
                  </a:lnTo>
                  <a:lnTo>
                    <a:pt x="16093" y="194920"/>
                  </a:lnTo>
                  <a:lnTo>
                    <a:pt x="33304" y="229094"/>
                  </a:lnTo>
                  <a:lnTo>
                    <a:pt x="45239" y="243845"/>
                  </a:lnTo>
                  <a:lnTo>
                    <a:pt x="50004" y="246730"/>
                  </a:lnTo>
                  <a:lnTo>
                    <a:pt x="59531" y="248583"/>
                  </a:lnTo>
                  <a:lnTo>
                    <a:pt x="61118" y="247941"/>
                  </a:lnTo>
                  <a:lnTo>
                    <a:pt x="62177" y="246720"/>
                  </a:lnTo>
                  <a:lnTo>
                    <a:pt x="64146" y="243245"/>
                  </a:lnTo>
                  <a:lnTo>
                    <a:pt x="68924" y="236827"/>
                  </a:lnTo>
                  <a:lnTo>
                    <a:pt x="70320" y="232234"/>
                  </a:lnTo>
                  <a:lnTo>
                    <a:pt x="71339" y="208128"/>
                  </a:lnTo>
                  <a:lnTo>
                    <a:pt x="69277" y="200958"/>
                  </a:lnTo>
                  <a:lnTo>
                    <a:pt x="66508" y="194332"/>
                  </a:lnTo>
                  <a:lnTo>
                    <a:pt x="63694" y="173576"/>
                  </a:lnTo>
                  <a:lnTo>
                    <a:pt x="58678" y="163459"/>
                  </a:lnTo>
                  <a:lnTo>
                    <a:pt x="58168" y="161029"/>
                  </a:lnTo>
                  <a:lnTo>
                    <a:pt x="57035" y="159410"/>
                  </a:lnTo>
                  <a:lnTo>
                    <a:pt x="55486" y="158330"/>
                  </a:lnTo>
                  <a:lnTo>
                    <a:pt x="50327" y="156296"/>
                  </a:lnTo>
                  <a:lnTo>
                    <a:pt x="73917" y="180081"/>
                  </a:lnTo>
                  <a:lnTo>
                    <a:pt x="88577" y="187155"/>
                  </a:lnTo>
                  <a:lnTo>
                    <a:pt x="114048" y="191266"/>
                  </a:lnTo>
                  <a:lnTo>
                    <a:pt x="138079" y="191013"/>
                  </a:lnTo>
                  <a:lnTo>
                    <a:pt x="169331" y="183065"/>
                  </a:lnTo>
                  <a:lnTo>
                    <a:pt x="180556" y="174888"/>
                  </a:lnTo>
                  <a:lnTo>
                    <a:pt x="187994" y="164185"/>
                  </a:lnTo>
                  <a:lnTo>
                    <a:pt x="191433" y="154753"/>
                  </a:lnTo>
                  <a:lnTo>
                    <a:pt x="192452" y="146930"/>
                  </a:lnTo>
                  <a:lnTo>
                    <a:pt x="190573" y="142009"/>
                  </a:lnTo>
                  <a:lnTo>
                    <a:pt x="187887" y="137177"/>
                  </a:lnTo>
                  <a:lnTo>
                    <a:pt x="185580" y="129993"/>
                  </a:lnTo>
                  <a:lnTo>
                    <a:pt x="182228" y="125222"/>
                  </a:lnTo>
                  <a:lnTo>
                    <a:pt x="178092" y="122571"/>
                  </a:lnTo>
                  <a:lnTo>
                    <a:pt x="169184" y="121080"/>
                  </a:lnTo>
                  <a:lnTo>
                    <a:pt x="165177" y="120870"/>
                  </a:lnTo>
                  <a:lnTo>
                    <a:pt x="158608" y="122754"/>
                  </a:lnTo>
                  <a:lnTo>
                    <a:pt x="145446" y="132661"/>
                  </a:lnTo>
                  <a:lnTo>
                    <a:pt x="140578" y="137255"/>
                  </a:lnTo>
                  <a:lnTo>
                    <a:pt x="137885" y="144059"/>
                  </a:lnTo>
                  <a:lnTo>
                    <a:pt x="135857" y="172989"/>
                  </a:lnTo>
                  <a:lnTo>
                    <a:pt x="139561" y="188846"/>
                  </a:lnTo>
                  <a:lnTo>
                    <a:pt x="148717" y="208427"/>
                  </a:lnTo>
                  <a:lnTo>
                    <a:pt x="178468" y="241707"/>
                  </a:lnTo>
                  <a:lnTo>
                    <a:pt x="185737" y="24903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SMARTInkShape-105"/>
            <p:cNvSpPr/>
            <p:nvPr/>
          </p:nvSpPr>
          <p:spPr>
            <a:xfrm>
              <a:off x="5151240" y="3437280"/>
              <a:ext cx="106560" cy="1274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106728" h="127471">
                  <a:moveTo>
                    <a:pt x="0" y="77464"/>
                  </a:moveTo>
                  <a:lnTo>
                    <a:pt x="3792" y="77464"/>
                  </a:lnTo>
                  <a:lnTo>
                    <a:pt x="38869" y="65607"/>
                  </a:lnTo>
                  <a:lnTo>
                    <a:pt x="62013" y="59704"/>
                  </a:lnTo>
                  <a:lnTo>
                    <a:pt x="83621" y="48745"/>
                  </a:lnTo>
                  <a:lnTo>
                    <a:pt x="102270" y="32212"/>
                  </a:lnTo>
                  <a:lnTo>
                    <a:pt x="104985" y="27454"/>
                  </a:lnTo>
                  <a:lnTo>
                    <a:pt x="106727" y="17932"/>
                  </a:lnTo>
                  <a:lnTo>
                    <a:pt x="104848" y="13170"/>
                  </a:lnTo>
                  <a:lnTo>
                    <a:pt x="103236" y="10789"/>
                  </a:lnTo>
                  <a:lnTo>
                    <a:pt x="101368" y="9202"/>
                  </a:lnTo>
                  <a:lnTo>
                    <a:pt x="78197" y="1396"/>
                  </a:lnTo>
                  <a:lnTo>
                    <a:pt x="71002" y="0"/>
                  </a:lnTo>
                  <a:lnTo>
                    <a:pt x="63042" y="1496"/>
                  </a:lnTo>
                  <a:lnTo>
                    <a:pt x="37034" y="9553"/>
                  </a:lnTo>
                  <a:lnTo>
                    <a:pt x="30218" y="15796"/>
                  </a:lnTo>
                  <a:lnTo>
                    <a:pt x="25336" y="23862"/>
                  </a:lnTo>
                  <a:lnTo>
                    <a:pt x="21945" y="42869"/>
                  </a:lnTo>
                  <a:lnTo>
                    <a:pt x="22326" y="59106"/>
                  </a:lnTo>
                  <a:lnTo>
                    <a:pt x="25269" y="68247"/>
                  </a:lnTo>
                  <a:lnTo>
                    <a:pt x="44238" y="96075"/>
                  </a:lnTo>
                  <a:lnTo>
                    <a:pt x="64095" y="111685"/>
                  </a:lnTo>
                  <a:lnTo>
                    <a:pt x="76406" y="117766"/>
                  </a:lnTo>
                  <a:lnTo>
                    <a:pt x="82377" y="119982"/>
                  </a:lnTo>
                  <a:lnTo>
                    <a:pt x="92869" y="12747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SMARTInkShape-106"/>
            <p:cNvSpPr/>
            <p:nvPr/>
          </p:nvSpPr>
          <p:spPr>
            <a:xfrm>
              <a:off x="4908960" y="3342960"/>
              <a:ext cx="195840" cy="20664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95700" h="206487">
                  <a:moveTo>
                    <a:pt x="13269" y="50006"/>
                  </a:moveTo>
                  <a:lnTo>
                    <a:pt x="9477" y="50006"/>
                  </a:lnTo>
                  <a:lnTo>
                    <a:pt x="8359" y="50800"/>
                  </a:lnTo>
                  <a:lnTo>
                    <a:pt x="7614" y="52123"/>
                  </a:lnTo>
                  <a:lnTo>
                    <a:pt x="0" y="83798"/>
                  </a:lnTo>
                  <a:lnTo>
                    <a:pt x="4770" y="114987"/>
                  </a:lnTo>
                  <a:lnTo>
                    <a:pt x="7840" y="133818"/>
                  </a:lnTo>
                  <a:lnTo>
                    <a:pt x="22894" y="168957"/>
                  </a:lnTo>
                  <a:lnTo>
                    <a:pt x="37090" y="193842"/>
                  </a:lnTo>
                  <a:lnTo>
                    <a:pt x="44227" y="201985"/>
                  </a:lnTo>
                  <a:lnTo>
                    <a:pt x="48989" y="204865"/>
                  </a:lnTo>
                  <a:lnTo>
                    <a:pt x="58248" y="206486"/>
                  </a:lnTo>
                  <a:lnTo>
                    <a:pt x="66597" y="206072"/>
                  </a:lnTo>
                  <a:lnTo>
                    <a:pt x="79429" y="201376"/>
                  </a:lnTo>
                  <a:lnTo>
                    <a:pt x="85800" y="197186"/>
                  </a:lnTo>
                  <a:lnTo>
                    <a:pt x="93850" y="186572"/>
                  </a:lnTo>
                  <a:lnTo>
                    <a:pt x="102887" y="163854"/>
                  </a:lnTo>
                  <a:lnTo>
                    <a:pt x="111602" y="128700"/>
                  </a:lnTo>
                  <a:lnTo>
                    <a:pt x="113238" y="93499"/>
                  </a:lnTo>
                  <a:lnTo>
                    <a:pt x="113281" y="85765"/>
                  </a:lnTo>
                  <a:lnTo>
                    <a:pt x="114075" y="110561"/>
                  </a:lnTo>
                  <a:lnTo>
                    <a:pt x="122100" y="140818"/>
                  </a:lnTo>
                  <a:lnTo>
                    <a:pt x="137192" y="165574"/>
                  </a:lnTo>
                  <a:lnTo>
                    <a:pt x="141900" y="168839"/>
                  </a:lnTo>
                  <a:lnTo>
                    <a:pt x="149013" y="170676"/>
                  </a:lnTo>
                  <a:lnTo>
                    <a:pt x="151390" y="170935"/>
                  </a:lnTo>
                  <a:lnTo>
                    <a:pt x="156148" y="169104"/>
                  </a:lnTo>
                  <a:lnTo>
                    <a:pt x="172813" y="154644"/>
                  </a:lnTo>
                  <a:lnTo>
                    <a:pt x="187100" y="130539"/>
                  </a:lnTo>
                  <a:lnTo>
                    <a:pt x="193352" y="99329"/>
                  </a:lnTo>
                  <a:lnTo>
                    <a:pt x="195699" y="86215"/>
                  </a:lnTo>
                  <a:lnTo>
                    <a:pt x="191510" y="55021"/>
                  </a:lnTo>
                  <a:lnTo>
                    <a:pt x="183069" y="21446"/>
                  </a:lnTo>
                  <a:lnTo>
                    <a:pt x="177086" y="9265"/>
                  </a:lnTo>
                  <a:lnTo>
                    <a:pt x="171746" y="1830"/>
                  </a:lnTo>
                  <a:lnTo>
                    <a:pt x="168899" y="814"/>
                  </a:lnTo>
                  <a:lnTo>
                    <a:pt x="163288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SMARTInkShape-107"/>
            <p:cNvSpPr/>
            <p:nvPr/>
          </p:nvSpPr>
          <p:spPr>
            <a:xfrm>
              <a:off x="4786560" y="3307320"/>
              <a:ext cx="21240" cy="2574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1432" h="257176">
                  <a:moveTo>
                    <a:pt x="14287" y="0"/>
                  </a:moveTo>
                  <a:lnTo>
                    <a:pt x="10495" y="0"/>
                  </a:lnTo>
                  <a:lnTo>
                    <a:pt x="9378" y="794"/>
                  </a:lnTo>
                  <a:lnTo>
                    <a:pt x="8633" y="2117"/>
                  </a:lnTo>
                  <a:lnTo>
                    <a:pt x="1018" y="33792"/>
                  </a:lnTo>
                  <a:lnTo>
                    <a:pt x="89" y="65745"/>
                  </a:lnTo>
                  <a:lnTo>
                    <a:pt x="8" y="101133"/>
                  </a:lnTo>
                  <a:lnTo>
                    <a:pt x="1" y="135879"/>
                  </a:lnTo>
                  <a:lnTo>
                    <a:pt x="0" y="171470"/>
                  </a:lnTo>
                  <a:lnTo>
                    <a:pt x="2116" y="197912"/>
                  </a:lnTo>
                  <a:lnTo>
                    <a:pt x="6150" y="218658"/>
                  </a:lnTo>
                  <a:lnTo>
                    <a:pt x="7741" y="237249"/>
                  </a:lnTo>
                  <a:lnTo>
                    <a:pt x="10848" y="243821"/>
                  </a:lnTo>
                  <a:lnTo>
                    <a:pt x="12788" y="245891"/>
                  </a:lnTo>
                  <a:lnTo>
                    <a:pt x="18517" y="249599"/>
                  </a:lnTo>
                  <a:lnTo>
                    <a:pt x="21431" y="2571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SMARTInkShape-108"/>
            <p:cNvSpPr/>
            <p:nvPr/>
          </p:nvSpPr>
          <p:spPr>
            <a:xfrm>
              <a:off x="4651200" y="3271680"/>
              <a:ext cx="92520" cy="1285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92541" h="128588">
                  <a:moveTo>
                    <a:pt x="35390" y="0"/>
                  </a:moveTo>
                  <a:lnTo>
                    <a:pt x="35390" y="3792"/>
                  </a:lnTo>
                  <a:lnTo>
                    <a:pt x="34596" y="4909"/>
                  </a:lnTo>
                  <a:lnTo>
                    <a:pt x="33273" y="5654"/>
                  </a:lnTo>
                  <a:lnTo>
                    <a:pt x="31598" y="6150"/>
                  </a:lnTo>
                  <a:lnTo>
                    <a:pt x="30481" y="7275"/>
                  </a:lnTo>
                  <a:lnTo>
                    <a:pt x="29239" y="10641"/>
                  </a:lnTo>
                  <a:lnTo>
                    <a:pt x="26168" y="37437"/>
                  </a:lnTo>
                  <a:lnTo>
                    <a:pt x="13463" y="69806"/>
                  </a:lnTo>
                  <a:lnTo>
                    <a:pt x="11247" y="72731"/>
                  </a:lnTo>
                  <a:lnTo>
                    <a:pt x="8785" y="80214"/>
                  </a:lnTo>
                  <a:lnTo>
                    <a:pt x="6897" y="88038"/>
                  </a:lnTo>
                  <a:lnTo>
                    <a:pt x="1334" y="99528"/>
                  </a:lnTo>
                  <a:lnTo>
                    <a:pt x="0" y="109441"/>
                  </a:lnTo>
                  <a:lnTo>
                    <a:pt x="684" y="111061"/>
                  </a:lnTo>
                  <a:lnTo>
                    <a:pt x="1934" y="112140"/>
                  </a:lnTo>
                  <a:lnTo>
                    <a:pt x="5440" y="114134"/>
                  </a:lnTo>
                  <a:lnTo>
                    <a:pt x="11876" y="118925"/>
                  </a:lnTo>
                  <a:lnTo>
                    <a:pt x="18810" y="121491"/>
                  </a:lnTo>
                  <a:lnTo>
                    <a:pt x="25891" y="126132"/>
                  </a:lnTo>
                  <a:lnTo>
                    <a:pt x="33810" y="127860"/>
                  </a:lnTo>
                  <a:lnTo>
                    <a:pt x="69372" y="128585"/>
                  </a:lnTo>
                  <a:lnTo>
                    <a:pt x="92540" y="12858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01:07:31Z</dcterms:created>
  <dc:creator>Michael Francesco</dc:creator>
  <dc:description/>
  <dc:language>en-US</dc:language>
  <cp:lastModifiedBy>"%username%"</cp:lastModifiedBy>
  <dcterms:modified xsi:type="dcterms:W3CDTF">2015-04-09T16:56:51Z</dcterms:modified>
  <cp:revision>38</cp:revision>
  <dc:subject/>
  <dc:title>PowerPoint Presentation</dc:title>
</cp:coreProperties>
</file>